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F6D-1259-4D31-B844-A07B285F3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0EA-C4C6-447A-8715-B7D51F6C8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B046-0830-4836-BB6C-E6D943B6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2F3-F3FB-4FAF-BEBD-2215273C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9D32-D6C7-4C19-8FA2-8477B10F2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4589-6A76-4384-9FC1-D522A954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DA44-E661-4646-973A-F595C836B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9875-B204-4D89-850E-CAC15321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AAA1-D5A9-4DCF-9E53-AD1825F4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506A-742F-4531-99A3-26B390DC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1FB0-2C34-4A88-9846-D6DF053B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3EE-28A8-4D0B-A99D-9487497C3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C3E5-8FBE-462D-A4F1-BB535119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A516-5DB9-48B2-8A50-6F1C878C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2A4F-320C-4D31-BE10-657D987E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D2CD-0D25-4F56-9D5F-468A69D1E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19466-F704-4673-BE6D-62A4BD658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E4C-9BFF-4489-AAC7-FD3801A02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D2E6-EF7D-4854-929F-0EFEC3763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0F4B-FA33-4E53-A4EE-0004ABB2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B35C-AFD8-4DED-A17C-CA4E501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DAF7-34F1-40D9-93F3-4E6D7D1B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B7B7-2002-4ECD-B8C7-6B8235F6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EDF7-530C-45D7-8FB4-57A6BBFA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95F4-2DA8-4BB5-A4C2-E552A4A09D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19F6B-90DD-416C-A388-7EBDB20D78F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orisliebkind.livejournal.com/41526.html" TargetMode="External"/><Relationship Id="rId2" Type="http://schemas.openxmlformats.org/officeDocument/2006/relationships/hyperlink" Target="http://borisliebkind.livejournal.com/41526.html" TargetMode="External"/><Relationship Id="rId3" Type="http://schemas.openxmlformats.org/officeDocument/2006/relationships/hyperlink" Target="http://borisliebkind.livejournal.com/41526.html" TargetMode="External"/><Relationship Id="rId4" Type="http://schemas.openxmlformats.org/officeDocument/2006/relationships/hyperlink" Target="http://borisliebkind.livejournal.com/41526.html" TargetMode="External"/><Relationship Id="rId5" Type="http://schemas.openxmlformats.org/officeDocument/2006/relationships/hyperlink" Target="http://bookmix.ru/book.phtml?id=487118" TargetMode="External"/><Relationship Id="rId6" Type="http://schemas.openxmlformats.org/officeDocument/2006/relationships/hyperlink" Target="http://bookmix.ru/book.phtml?id=487118" TargetMode="External"/><Relationship Id="rId7" Type="http://schemas.openxmlformats.org/officeDocument/2006/relationships/hyperlink" Target="http://bookmix.ru/book.phtml?id=487118" TargetMode="External"/><Relationship Id="rId8" Type="http://schemas.openxmlformats.org/officeDocument/2006/relationships/hyperlink" Target="http://bookmix.ru/book.phtml?id=487118" TargetMode="External"/><Relationship Id="rId9" Type="http://schemas.openxmlformats.org/officeDocument/2006/relationships/hyperlink" Target="http://www.edu.yar.ru/russian/tvorch/garnov/school48/xix/jadtref.html" TargetMode="External"/><Relationship Id="rId10" Type="http://schemas.openxmlformats.org/officeDocument/2006/relationships/hyperlink" Target="http://www.edu.yar.ru/russian/tvorch/garnov/school48/xix/jadtref.html" TargetMode="External"/><Relationship Id="rId11" Type="http://schemas.openxmlformats.org/officeDocument/2006/relationships/hyperlink" Target="http://www.edu.yar.ru/russian/tvorch/garnov/school48/xix/jadtref.html" TargetMode="External"/><Relationship Id="rId12" Type="http://schemas.openxmlformats.org/officeDocument/2006/relationships/hyperlink" Target="http://www.edu.yar.ru/russian/tvorch/garnov/school48/xix/jadtref.html" TargetMode="External"/><Relationship Id="rId13" Type="http://schemas.openxmlformats.org/officeDocument/2006/relationships/hyperlink" Target="http://www.edu.yar.ru/russian/tvorch/garnov/school48/xix/jadtref.html" TargetMode="External"/><Relationship Id="rId14" Type="http://schemas.openxmlformats.org/officeDocument/2006/relationships/hyperlink" Target="http://www.edu.yar.ru/russian/tvorch/garnov/school48/xix/jadtref.html" TargetMode="External"/><Relationship Id="rId15" Type="http://schemas.openxmlformats.org/officeDocument/2006/relationships/hyperlink" Target="http://www.edu.yar.ru/russian/tvorch/garnov/school48/xix/jadtref.html" TargetMode="External"/><Relationship Id="rId16" Type="http://schemas.openxmlformats.org/officeDocument/2006/relationships/hyperlink" Target="http://www.edu.yar.ru/russian/tvorch/garnov/school48/xix/jadtref.html" TargetMode="External"/><Relationship Id="rId17" Type="http://schemas.openxmlformats.org/officeDocument/2006/relationships/hyperlink" Target="http://www.edu.yar.ru/russian/tvorch/garnov/school48/xix/jadtref.html" TargetMode="External"/><Relationship Id="rId18" Type="http://schemas.openxmlformats.org/officeDocument/2006/relationships/hyperlink" Target="http://www.edu.yar.ru/russian/tvorch/garnov/school48/xix/jadtref.html" TargetMode="External"/><Relationship Id="rId19" Type="http://schemas.openxmlformats.org/officeDocument/2006/relationships/hyperlink" Target="http://www.edu.yar.ru/russian/tvorch/garnov/school48/xix/jadtref.html" TargetMode="External"/><Relationship Id="rId20" Type="http://schemas.openxmlformats.org/officeDocument/2006/relationships/hyperlink" Target="http://www.edu.yar.ru/russian/tvorch/garnov/school48/xix/jadtref.html" TargetMode="External"/><Relationship Id="rId21" Type="http://schemas.openxmlformats.org/officeDocument/2006/relationships/hyperlink" Target="http://www.edu.yar.ru/russian/tvorch/garnov/school48/xix/jadtref.html" TargetMode="External"/><Relationship Id="rId22" Type="http://schemas.openxmlformats.org/officeDocument/2006/relationships/hyperlink" Target="http://www.tunnel.ru/view/post:176054" TargetMode="External"/><Relationship Id="rId23" Type="http://schemas.openxmlformats.org/officeDocument/2006/relationships/hyperlink" Target="http://www.likebook.ru/books/view/138966/" TargetMode="External"/><Relationship Id="rId24" Type="http://schemas.openxmlformats.org/officeDocument/2006/relationships/hyperlink" Target="http://www.likebook.ru/books/view/138966/" TargetMode="External"/><Relationship Id="rId25" Type="http://schemas.openxmlformats.org/officeDocument/2006/relationships/hyperlink" Target="http://www.likebook.ru/books/view/138966/" TargetMode="External"/><Relationship Id="rId26" Type="http://schemas.openxmlformats.org/officeDocument/2006/relationships/hyperlink" Target="http://www.likebook.ru/books/view/138966/" TargetMode="External"/><Relationship Id="rId27" Type="http://schemas.openxmlformats.org/officeDocument/2006/relationships/hyperlink" Target="http://www.likebook.ru/books/view/138966/" TargetMode="External"/><Relationship Id="rId28" Type="http://schemas.openxmlformats.org/officeDocument/2006/relationships/hyperlink" Target="http://www.likebook.ru/books/view/138966/" TargetMode="External"/><Relationship Id="rId29" Type="http://schemas.openxmlformats.org/officeDocument/2006/relationships/hyperlink" Target="http://www.likebook.ru/books/view/138966/" TargetMode="External"/><Relationship Id="rId30" Type="http://schemas.openxmlformats.org/officeDocument/2006/relationships/hyperlink" Target="http://www.likebook.ru/books/view/138966/" TargetMode="External"/><Relationship Id="rId3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76464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ahoma"/>
              </a:rPr>
              <a:t>«…Пойду своим путем, хоть горестно, но честно»</a:t>
            </a:r>
            <a:r>
              <a:rPr b="0" lang="ru-RU" sz="3600" spc="-1" strike="noStrike">
                <a:solidFill>
                  <a:srgbClr val="330033"/>
                </a:solidFill>
                <a:latin typeface="Tahoma"/>
              </a:rPr>
              <a:t>: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Трагическая судьба ярославской поэтессы Юлии Жадовской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-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У Открытая (сменная) школа № 94 г. Яросла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Левина Елена Дмитр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Образ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ихи Ю.В. Жадовской, в которых она даёт свой образ России, близки стихам о Родине            М.Ю. Лермонтова, А.Н. Плещеева, Ф.И. Тютчева,    Н.А. Некрасова. Чувства поэтессы сливаются здесь с народным, а поэтика этих стихов напоминает поэтику народных песе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Ю.В. Жадовская призывает поэта служить народу: она провозглашает принципы гражданской поэзии и приветствуют главу революционно - демократического поэтического направления, своего земляка Н.А.Некра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311720" cy="290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5445000"/>
          <a:ext cx="2665440" cy="57636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треты Ю. В. Жадовской и Л.Н. Трефо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    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Гражданские мотивы лири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897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снулась грозная и мстительная ка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поднял голову подавленный нар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вежество последнего уда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леднея и дрожа, в томленье смертном ж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 благу торная проложится доро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никому по ней идти заказа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ластитель! Не робей! Решительной ру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мненья призраки скорее отго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к счастью дверь свободой золот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оду Твоему отважно распахн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03280" y="2204640"/>
            <a:ext cx="3961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эзии Ю.В. Жадовской все сильнее звучат гражданские мотив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евно - разоблачительный протест против «ветрен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бялюбивой знати», любовь к Родине, глубокое сочувств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у, ненависть к миру угне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Песенные интона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. 1850-х в поэзии Жадовской расширяется тематический диапазон, появляется социальная тема, в лирику входит народная жизнь, фольклорные песенные интонации. Лучшие ее стихи «Нива» (1857; положена на музыку А. Т. Гречаниновым), «Грустная картина!» (1848) вошли в классику русской поэзии и постоянно включались в детские хрестоматии. Замеченные М. И. Глинкой и А. С. Даргомыжским стихотворения Жадовской «Ты скоро меня позабудешь» (1844) и «Я все еще его, безумная, люблю!» (1846) стали классическими русскими роман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Проз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981000"/>
            <a:ext cx="6875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ое место в творчестве Ю.В. Жадовской занимают малоизученные прозаические произведения. Хотя проза её была слабее поэзии и критики почти ничего о ней не писали, за исключением А. Скабичевского, повести и романы пользовались большой популярностью среди читателей. Проза Ю.В. Жадовской носит автобиографический характер. В основе ранних произведений трагическая любовь, определяющаяся сословным неравен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ующих прозаических произведениях Жадовская став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убокие социальные проблемы, создает образы нов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овых людей, которые не покоряются судьбе, 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таивают свои права на независимость и на борьбу з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легчение участи трудов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Отсталая (Жадовская Юлия)"/>
          <p:cNvPicPr/>
          <p:nvPr/>
        </p:nvPicPr>
        <p:blipFill>
          <a:blip r:embed="rId1"/>
          <a:stretch/>
        </p:blipFill>
        <p:spPr>
          <a:xfrm>
            <a:off x="324000" y="2421000"/>
            <a:ext cx="1904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Последние годы жизн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51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Ю.В. Жадовская отошла от активной творчес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тельности.   Когда у друга их семьи ярославского докто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рла жена, Жадовская пожертвовала собой рад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лагополучия других, вышла за него замуж, чтобы воспит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иротевших детей и окружить заботой и вниманием старо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ктора. Кроме того, в течение пяти лет она ухаживала з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яжело больным отцом. Вскоре после смерти отца заболел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р муж, оставив на её попечение большую семью. А 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дние годы значительно ухудшилось её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30012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«Пойду своим путем, хоть горестно, но честно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дние годы своей жизни Ю.В.Жадовская прожила в небольшой усадьбе Толстиково Буйского уезда Костромской губернии. Умерла она в 59 лет, 23 июля 1883 го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воем поэтическом «памятнике» стихотворении «Нет, никогда поклонничеством низким...» - поэтесса гордо заявля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9240" y="1600200"/>
            <a:ext cx="3400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Её муза, простая и скромная,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была правдивой и искренней.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 тем, что я всегда глубоко презир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 чем, порой, дрожат достойные- у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 знатью гордой, пред роскошью нах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Я не склоню свободной гол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йду своим путем, хоть горестно, но чест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юбя свою страну, любя родной нар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, может быть, к моей могиле неизвест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дняк иль друг со вздохом подойде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то, что скажет он, на то, о чем помысл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Я, верно, отзовусь бессмертно душо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т, верьте, лживый свет не знает и не смысл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кое счастье быть всегда самим собой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343240" cy="2857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7810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Список использованных источни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лагово В.А. Поэзия и личность Ю.В. Жадовской. – Саратов, 19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бедев Ю.В. Ю.В.Жадовская. – Ярославль, 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рмолин Е. Песня последней встречи... // Ярославская Старина, 1996, N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. 1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3"/>
              </a:rPr>
              <a:t>borisliebkind.livejournal.com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4"/>
              </a:rPr>
              <a:t>/4152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. 6 Сборник стихотворений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7"/>
              </a:rPr>
              <a:t>bookmix.ru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8"/>
              </a:rPr>
              <a:t>/book.phtml?id=48711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. 9 Портреты Ю. В. Жадовской и Л.Н. Трефолев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1"/>
              </a:rPr>
              <a:t>www.edu.yar.ru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3"/>
              </a:rPr>
              <a:t>russian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4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5"/>
              </a:rPr>
              <a:t>tvorch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7"/>
              </a:rPr>
              <a:t>garnov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8"/>
              </a:rPr>
              <a:t>/school48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9"/>
              </a:rPr>
              <a:t>xix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20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21"/>
              </a:rPr>
              <a:t>jadtref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. 11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2"/>
              </a:rPr>
              <a:t>http://www.tunnel.ru/view/post:1760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. 12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5"/>
              </a:rPr>
              <a:t>www.likebook.ru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7"/>
              </a:rPr>
              <a:t>books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9"/>
              </a:rPr>
              <a:t>view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0"/>
              </a:rPr>
              <a:t>/138966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00"/>
                </a:solidFill>
                <a:latin typeface="Tahoma"/>
              </a:rPr>
              <a:t>Юлия Валериановна Жадовская (1824 - 188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896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леяде одарённых художников слова середин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ка есть свой голос и у поэтессы Ю.В. Жадовской, жизнь и творчество которой неотделимы от Ярославско-Костром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Ярославле поэтесса, которую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е знала вся Россия, прожила 30 лет. Между тем на литературной да и никакой другой карте нашего города имя Юлии Жадовской не обозначено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53040" y="1989000"/>
            <a:ext cx="39909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8920" y="141264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Ю.В.Жадовской писали великие критики: В. Белинский, Н.Добролюбов, Д. Писарев. Её стихи включали в школьные хрестоматии, заучивались наизусть. На стихи поэтессы были написаны популярные романсы А. Даргомыжским,     М. Глинк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1712880" cy="21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1673280" cy="217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2708280"/>
            <a:ext cx="1627200" cy="2182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835280" y="2421000"/>
            <a:ext cx="3178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92360" y="4221000"/>
            <a:ext cx="69120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Юлия Валериановна Жадовская родилас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9 июня 1824 год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еле Субботине Любимского уезда Ярославской губернии в семье чиновника особых поручений при ярославском губерна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0356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00"/>
                </a:solidFill>
                <a:latin typeface="Tahoma"/>
              </a:rPr>
              <a:t>Детств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вочка родилась с плохим зрением, без левой руки, на короткой правой было всего три пальца. На четвертом году она осталось ещё и сиротой. Овдовевший отец отдал её на воспитание в село Панфилова Буйского уезда Костромской губернии к бабушке - Нине Павловне Готовцевой, которая очень полюбила внучку и создала хорошие условия для её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трёх лет девочка научилась читать, а с пяти лет книги стали постоянным ее увлечением. «Она поглощала все то, что заключала в себя набольшая библиотека бабушки». Так росла она, пользуясь деревенской полной свободой, под благотворным влиянием которой складывался характер девушки, мечтательный, вдумчивый, терпел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получения образования тринадцатилетнюю Юлию отправили в Кострому к тетке, которая сама писала стихи и печатала их в газетах и журна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en-US" sz="3800" spc="-1" strike="noStrike">
                <a:solidFill>
                  <a:srgbClr val="333300"/>
                </a:solidFill>
                <a:latin typeface="Tahoma"/>
              </a:rPr>
              <a:t>Первые творческие успех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859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первые опубликовалась в 1841 в журнале «Москвитянин» (№ 7) — «Письмо из Ярославля о посещении государя император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тех пор вошла в число постоянных авторов журнала московских славянофилов: в 1843 публикует этнографический очерк «Проводы масленицы в уездах Буйском и Солигалицком» («Москвитянин», № 3) и первые стихи — «Много капель светлых…» и «Лучший перл таится…» («Москвитянин», № 12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797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28640"/>
            <a:ext cx="76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1268280"/>
            <a:ext cx="59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1840—50-х часто посещает Москву и Петербург, заводит знакомство с литераторами П. А. Вяземским, И. С. Тургеневым, А. С. Хомяковым, М. Н. Загоскиным, Ф. Н. Глинкой и др., с художником К. П. Брюлловым. Помимо «Москвитянина» печатается в «Библиотеке для чтения», «Сыне Отечества» и др. изда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ем ее стихи выходят в свет в сборнике «Стихотворения» (СПб., 1846), а потом, в обновленном и расширенном виде, в сборнике «Стихотворения» (СПб., 18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Юлия Валериановна Жадовская. Стихотворения, Юлия Валериановна Жадовская"/>
          <p:cNvPicPr/>
          <p:nvPr/>
        </p:nvPicPr>
        <p:blipFill>
          <a:blip r:embed="rId1"/>
          <a:stretch/>
        </p:blipFill>
        <p:spPr>
          <a:xfrm>
            <a:off x="395280" y="2133720"/>
            <a:ext cx="21369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Любовная лир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80000" y="1484280"/>
            <a:ext cx="52560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поэзии Ю. Жадовской 1840-х — исповедь женской души, любовное чувство передается в драматических взлетах и спадах, в трагической безысходности, в одиночестве и воспоминаниях, иногда в упованиях на загробную встречу. Ее первый поэтический сборник напоминает лирический дневник, в котором отражена история возникновения, расцвета и увядания любовного чув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м лирики Ю. Жадовской являются глубокий психологический анализ, поэтические проникновения в тайны влюблённой женской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6925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Тема природы,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тема жизни и труда наро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90560" y="3429000"/>
            <a:ext cx="475308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той же задушевностью, искренностью рисовала Жадовская картины нашей северной природы, которую она самозабвенно любила. Часто описание природы соединяются с раздумьями о жизни,положении трудового народа. Она написала прекрасное стихотворение «Нива, моя ни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99360" y="0"/>
            <a:ext cx="2744640" cy="357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1484280"/>
            <a:ext cx="4249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ва, моя ни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ва золот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реешь ты на 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лос нали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 тебе от ветру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ловно в синем море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олны так и ход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одят на прос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д тобою с пес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Жаворонок вьё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д тобой и т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розно пронес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реешь ты и спе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лос налива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 людских забо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чего не 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неси ты, ве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учу градов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береги нам, б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ву трудовую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3:04:04Z</dcterms:created>
  <dc:creator>www.PHILka.RU</dc:creator>
  <dc:description/>
  <dc:language>en-US</dc:language>
  <cp:lastModifiedBy>SE7EN USER</cp:lastModifiedBy>
  <dcterms:modified xsi:type="dcterms:W3CDTF">2018-08-12T15:49:50Z</dcterms:modified>
  <cp:revision>25</cp:revision>
  <dc:subject/>
  <dc:title>Юлия Валериановна Жадовская (18)</dc:title>
</cp:coreProperties>
</file>