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77C8-2B60-4363-BC7D-38FE9CC16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4501-DAB3-488E-BA89-FB6559A4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28C7-AABA-4760-ABB3-87980007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4A6A-277E-4973-9244-8BADF4DC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2FAFB-1863-463C-A5F7-356D4B1A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86805-475E-49D7-83BD-40EA768B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9F031-1A88-4E9E-8B21-B02322D9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1D09F-4A45-4898-AD19-59D824847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6E455-0698-4A91-AF3B-19D28ADE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C23E-26F4-413B-8DA1-A1AE4A66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688E-5A8F-4431-B816-7C029D02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D662-FE9A-4017-BEDE-339F8394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BD0E-E247-4CEF-8745-989DF8B66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4526-3079-4258-8E68-B2B92BB5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FA00-F83B-4D8E-8021-AA029F2B3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BBE8-B256-4B8D-9878-BCF01E2A2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7828-D335-4227-86C3-D3D6DC5F9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8843-11E2-40DC-A0A2-A98497910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D7F6-7AD7-47C7-8C97-74F8CCD96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6C8-68B2-4F33-A88B-48B34C64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16C-CCFE-4181-9DD4-58FC9522A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41B-C55B-4165-A238-3C97BF25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84AA-692B-43F9-9478-666F2946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8D9A-3690-4ED6-BDC1-78E3EB6BA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D2FAC-3FA4-4FB6-B086-2D3ED051D7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81E0-28DF-483E-BE9D-B27920245D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borisliebkind.livejournal.com/41526.html" TargetMode="External"/><Relationship Id="rId2" Type="http://schemas.openxmlformats.org/officeDocument/2006/relationships/hyperlink" Target="http://borisliebkind.livejournal.com/41526.html" TargetMode="External"/><Relationship Id="rId3" Type="http://schemas.openxmlformats.org/officeDocument/2006/relationships/hyperlink" Target="http://borisliebkind.livejournal.com/41526.html" TargetMode="External"/><Relationship Id="rId4" Type="http://schemas.openxmlformats.org/officeDocument/2006/relationships/hyperlink" Target="http://borisliebkind.livejournal.com/41526.html" TargetMode="External"/><Relationship Id="rId5" Type="http://schemas.openxmlformats.org/officeDocument/2006/relationships/hyperlink" Target="http://bookmix.ru/book.phtml?id=487118" TargetMode="External"/><Relationship Id="rId6" Type="http://schemas.openxmlformats.org/officeDocument/2006/relationships/hyperlink" Target="http://bookmix.ru/book.phtml?id=487118" TargetMode="External"/><Relationship Id="rId7" Type="http://schemas.openxmlformats.org/officeDocument/2006/relationships/hyperlink" Target="http://bookmix.ru/book.phtml?id=487118" TargetMode="External"/><Relationship Id="rId8" Type="http://schemas.openxmlformats.org/officeDocument/2006/relationships/hyperlink" Target="http://bookmix.ru/book.phtml?id=487118" TargetMode="External"/><Relationship Id="rId9" Type="http://schemas.openxmlformats.org/officeDocument/2006/relationships/hyperlink" Target="http://www.edu.yar.ru/russian/tvorch/garnov/school48/xix/jadtref.html" TargetMode="External"/><Relationship Id="rId10" Type="http://schemas.openxmlformats.org/officeDocument/2006/relationships/hyperlink" Target="http://www.edu.yar.ru/russian/tvorch/garnov/school48/xix/jadtref.html" TargetMode="External"/><Relationship Id="rId11" Type="http://schemas.openxmlformats.org/officeDocument/2006/relationships/hyperlink" Target="http://www.edu.yar.ru/russian/tvorch/garnov/school48/xix/jadtref.html" TargetMode="External"/><Relationship Id="rId12" Type="http://schemas.openxmlformats.org/officeDocument/2006/relationships/hyperlink" Target="http://www.edu.yar.ru/russian/tvorch/garnov/school48/xix/jadtref.html" TargetMode="External"/><Relationship Id="rId13" Type="http://schemas.openxmlformats.org/officeDocument/2006/relationships/hyperlink" Target="http://www.edu.yar.ru/russian/tvorch/garnov/school48/xix/jadtref.html" TargetMode="External"/><Relationship Id="rId14" Type="http://schemas.openxmlformats.org/officeDocument/2006/relationships/hyperlink" Target="http://www.edu.yar.ru/russian/tvorch/garnov/school48/xix/jadtref.html" TargetMode="External"/><Relationship Id="rId15" Type="http://schemas.openxmlformats.org/officeDocument/2006/relationships/hyperlink" Target="http://www.edu.yar.ru/russian/tvorch/garnov/school48/xix/jadtref.html" TargetMode="External"/><Relationship Id="rId16" Type="http://schemas.openxmlformats.org/officeDocument/2006/relationships/hyperlink" Target="http://www.edu.yar.ru/russian/tvorch/garnov/school48/xix/jadtref.html" TargetMode="External"/><Relationship Id="rId17" Type="http://schemas.openxmlformats.org/officeDocument/2006/relationships/hyperlink" Target="http://www.edu.yar.ru/russian/tvorch/garnov/school48/xix/jadtref.html" TargetMode="External"/><Relationship Id="rId18" Type="http://schemas.openxmlformats.org/officeDocument/2006/relationships/hyperlink" Target="http://www.edu.yar.ru/russian/tvorch/garnov/school48/xix/jadtref.html" TargetMode="External"/><Relationship Id="rId19" Type="http://schemas.openxmlformats.org/officeDocument/2006/relationships/hyperlink" Target="http://www.edu.yar.ru/russian/tvorch/garnov/school48/xix/jadtref.html" TargetMode="External"/><Relationship Id="rId20" Type="http://schemas.openxmlformats.org/officeDocument/2006/relationships/hyperlink" Target="http://www.edu.yar.ru/russian/tvorch/garnov/school48/xix/jadtref.html" TargetMode="External"/><Relationship Id="rId21" Type="http://schemas.openxmlformats.org/officeDocument/2006/relationships/hyperlink" Target="http://www.edu.yar.ru/russian/tvorch/garnov/school48/xix/jadtref.html" TargetMode="External"/><Relationship Id="rId22" Type="http://schemas.openxmlformats.org/officeDocument/2006/relationships/hyperlink" Target="http://www.tunnel.ru/view/post:176054" TargetMode="External"/><Relationship Id="rId23" Type="http://schemas.openxmlformats.org/officeDocument/2006/relationships/hyperlink" Target="http://www.likebook.ru/books/view/138966/" TargetMode="External"/><Relationship Id="rId24" Type="http://schemas.openxmlformats.org/officeDocument/2006/relationships/hyperlink" Target="http://www.likebook.ru/books/view/138966/" TargetMode="External"/><Relationship Id="rId25" Type="http://schemas.openxmlformats.org/officeDocument/2006/relationships/hyperlink" Target="http://www.likebook.ru/books/view/138966/" TargetMode="External"/><Relationship Id="rId26" Type="http://schemas.openxmlformats.org/officeDocument/2006/relationships/hyperlink" Target="http://www.likebook.ru/books/view/138966/" TargetMode="External"/><Relationship Id="rId27" Type="http://schemas.openxmlformats.org/officeDocument/2006/relationships/hyperlink" Target="http://www.likebook.ru/books/view/138966/" TargetMode="External"/><Relationship Id="rId28" Type="http://schemas.openxmlformats.org/officeDocument/2006/relationships/hyperlink" Target="http://www.likebook.ru/books/view/138966/" TargetMode="External"/><Relationship Id="rId29" Type="http://schemas.openxmlformats.org/officeDocument/2006/relationships/hyperlink" Target="http://www.likebook.ru/books/view/138966/" TargetMode="External"/><Relationship Id="rId30" Type="http://schemas.openxmlformats.org/officeDocument/2006/relationships/hyperlink" Target="http://www.likebook.ru/books/view/138966/" TargetMode="External"/><Relationship Id="rId3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4920" y="764640"/>
            <a:ext cx="66294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ahoma"/>
              </a:rPr>
              <a:t>«…Пойду своим путем, хоть горестно, но честно»</a:t>
            </a:r>
            <a:r>
              <a:rPr b="0" lang="ru-RU" sz="3600" spc="-1" strike="noStrike">
                <a:solidFill>
                  <a:srgbClr val="330033"/>
                </a:solidFill>
                <a:latin typeface="Tahoma"/>
              </a:rPr>
              <a:t>:</a:t>
            </a: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Трагическая судьба ярославской поэтессы Юлии Жадовской</a:t>
            </a:r>
            <a:r>
              <a:rPr b="0" lang="ru-RU" sz="4400" spc="-1" strike="noStrike">
                <a:solidFill>
                  <a:srgbClr val="330033"/>
                </a:solidFill>
                <a:latin typeface="Times New Roman"/>
              </a:rPr>
              <a:t> -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ыполни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читель русского языка и литератур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ОУ Открытая (сменная) школа № 94 г. Ярослав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Левина Елена Дмитри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Образ Росс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84720" y="1196640"/>
            <a:ext cx="4859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ихи Ю.В. Жадовской, в которых она даёт свой образ России, близки стихам о Родине            М.Ю. Лермонтова, А.Н. Плещеева, Ф.И. Тютчева,    Н.А. Некрасова. Чувства поэтессы сливаются здесь с народным, а поэтика этих стихов напоминает поэтику народных песен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Ю.В. Жадовская призывает поэта служить народу: она провозглашает принципы гражданской поэзии и приветствуют главу революционно - демократического поэтического направления, своего земляка Н.А.Некрас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311720" cy="290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250920" y="5445000"/>
          <a:ext cx="2665440" cy="576360"/>
        </p:xfrm>
        <a:graphic>
          <a:graphicData uri="http://schemas.openxmlformats.org/drawingml/2006/table">
            <a:tbl>
              <a:tblPr/>
              <a:tblGrid>
                <a:gridCol w="266544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ртреты Ю. В. Жадовской и Л.Н. Трефол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    </a:t>
            </a: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Гражданские мотивы лирик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489744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оснулась грозная и мстительная кар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иподнял голову подавленный нар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вежество последнего удар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леднея и дрожа, в томленье смертном жд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 благу торная проложится дорог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никому по ней идти заказа нет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ластитель! Не робей! Решительной рук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омненья призраки скорее отгон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 к счастью дверь свободой золот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ароду Твоему отважно распахни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03280" y="2204640"/>
            <a:ext cx="396108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эзии Ю.В. Жадовской все сильнее звучат гражданские мотивы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невно - разоблачительный протест против «ветрен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ебялюбивой знати», любовь к Родине, глубокое сочувстви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оду, ненависть к миру угнет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Песенные интона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н. 1850-х в поэзии Жадовской расширяется тематический диапазон, появляется социальная тема, в лирику входит народная жизнь, фольклорные песенные интонации. Лучшие ее стихи «Нива» (1857; положена на музыку А. Т. Гречаниновым), «Грустная картина!» (1848) вошли в классику русской поэзии и постоянно включались в детские хрестоматии. Замеченные М. И. Глинкой и А. С. Даргомыжским стихотворения Жадовской «Ты скоро меня позабудешь» (1844) и «Я все еще его, безумная, люблю!» (1846) стали классическими русскими романс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Проз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68000" y="981000"/>
            <a:ext cx="687564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обое место в творчестве Ю.В. Жадовской занимают малоизученные прозаические произведения. Хотя проза её была слабее поэзии и критики почти ничего о ней не писали, за исключением А. Скабичевского, повести и романы пользовались большой популярностью среди читателей. Проза Ю.В. Жадовской носит автобиографический характер. В основе ранних произведений трагическая любовь, определяющаяся сословным неравенст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оследующих прозаических произведениях Жадовская стави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убокие социальные проблемы, создает образы новых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довых людей, которые не покоряются судьбе, 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стаивают свои права на независимость и на борьбу з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легчение участи трудового нар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Отсталая (Жадовская Юлия)"/>
          <p:cNvPicPr/>
          <p:nvPr/>
        </p:nvPicPr>
        <p:blipFill>
          <a:blip r:embed="rId1"/>
          <a:stretch/>
        </p:blipFill>
        <p:spPr>
          <a:xfrm>
            <a:off x="324000" y="2421000"/>
            <a:ext cx="19047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Последние годы жизн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95280" y="1599840"/>
            <a:ext cx="51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оследние годы Ю.В. Жадовская отошла от активной творческ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ятельности.   Когда у друга их семьи ярославского доктор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мерла жена, Жадовская пожертвовала собой рад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лагополучия других, вышла за него замуж, чтобы воспитать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иротевших детей и окружить заботой и вниманием старог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октора. Кроме того, в течение пяти лет она ухаживала з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яжело больным отцом. Вскоре после смерти отца заболел 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мер муж, оставив на её попечение большую семью. А в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следние годы значительно ухудшилось её здоров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3300120" cy="36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«Пойду своим путем, хоть горестно, но честно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ледние годы своей жизни Ю.В.Жадовская прожила в небольшой усадьбе Толстиково Буйского уезда Костромской губернии. Умерла она в 59 лет, 23 июля 1883 год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своем поэтическом «памятнике» стихотворении «Нет, никогда поклонничеством низким...» - поэтесса гордо заявля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9240" y="1600200"/>
            <a:ext cx="34002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33"/>
                </a:solidFill>
                <a:latin typeface="Tahoma"/>
              </a:rPr>
              <a:t>Её муза, простая и скромная, </a:t>
            </a:r>
            <a:br>
              <a:rPr sz="3600"/>
            </a:br>
            <a:r>
              <a:rPr b="0" lang="en-US" sz="3600" spc="-1" strike="noStrike">
                <a:solidFill>
                  <a:srgbClr val="330033"/>
                </a:solidFill>
                <a:latin typeface="Tahoma"/>
              </a:rPr>
              <a:t>была правдивой и искренней.</a:t>
            </a:r>
            <a:r>
              <a:rPr b="0" lang="en-US" sz="36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92000" y="1699920"/>
            <a:ext cx="5651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д тем, что я всегда глубоко презира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д чем, порой, дрожат достойные- увы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д знатью гордой, пред роскошью наха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Я не склоню свободной гол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йду своим путем, хоть горестно, но честно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Любя свою страну, любя родной народ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, может быть, к моей могиле неизвест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Бедняк иль друг со вздохом подойдет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а то, что скажет он, на то, о чем помысл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Я, верно, отзовусь бессмертно душой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т, верьте, лживый свет не знает и не смысли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акое счастье быть всегда самим собой!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2343240" cy="28573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78100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Список использованных источник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лагово В.А. Поэзия и личность Ю.В. Жадовской. – Саратов, 198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Лебедев Ю.В. Ю.В.Жадовская. – Ярославль, 198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Ермолин Е. Песня последней встречи... // Ярославская Старина, 1996, N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л. 1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2"/>
              </a:rPr>
              <a:t>:/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3"/>
              </a:rPr>
              <a:t>borisliebkind.livejournal.com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4"/>
              </a:rPr>
              <a:t>/41526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л. 6 Сборник стихотворений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5"/>
              </a:rPr>
              <a:t>http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6"/>
              </a:rPr>
              <a:t>:/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7"/>
              </a:rPr>
              <a:t>bookmix.ru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8"/>
              </a:rPr>
              <a:t>/book.phtml?id=487118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л. 9 Портреты Ю. В. Жадовской и Л.Н. Трефолева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9"/>
              </a:rPr>
              <a:t>http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10"/>
              </a:rPr>
              <a:t>:/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11"/>
              </a:rPr>
              <a:t>www.edu.yar.ru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12"/>
              </a:rPr>
              <a:t>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13"/>
              </a:rPr>
              <a:t>russian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14"/>
              </a:rPr>
              <a:t>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15"/>
              </a:rPr>
              <a:t>tvorch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16"/>
              </a:rPr>
              <a:t>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17"/>
              </a:rPr>
              <a:t>garnov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18"/>
              </a:rPr>
              <a:t>/school48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19"/>
              </a:rPr>
              <a:t>xix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20"/>
              </a:rPr>
              <a:t>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Tahoma"/>
                <a:hlinkClick r:id="rId21"/>
              </a:rPr>
              <a:t>jadtref.html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. 11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2"/>
              </a:rPr>
              <a:t>http://www.tunnel.ru/view/post:1760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. 12 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3"/>
              </a:rPr>
              <a:t>http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4"/>
              </a:rPr>
              <a:t>:/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5"/>
              </a:rPr>
              <a:t>www.likebook.ru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6"/>
              </a:rPr>
              <a:t>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7"/>
              </a:rPr>
              <a:t>books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8"/>
              </a:rPr>
              <a:t>/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29"/>
              </a:rPr>
              <a:t>view</a:t>
            </a:r>
            <a:r>
              <a:rPr b="0" lang="ru-RU" sz="2400" spc="-1" strike="noStrike" u="sng">
                <a:solidFill>
                  <a:srgbClr val="990033"/>
                </a:solidFill>
                <a:uFillTx/>
                <a:latin typeface="Arial"/>
                <a:hlinkClick r:id="rId30"/>
              </a:rPr>
              <a:t>/138966/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3300"/>
                </a:solidFill>
                <a:latin typeface="Tahoma"/>
              </a:rPr>
              <a:t>Юлия Валериановна Жадовская (1824 - 188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4896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леяде одарённых художников слова середины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ка есть свой голос и у поэтессы Ю.В. Жадовской, жизнь и творчество которой неотделимы от Ярославско-Костромского к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Ярославле поэтесса, которую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еке знала вся Россия, прожила 30 лет. Между тем на литературной да и никакой другой карте нашего города имя Юлии Жадовской не обозначено.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153040" y="1989000"/>
            <a:ext cx="399096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                  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58920" y="1412640"/>
            <a:ext cx="38098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 Ю.В.Жадовской писали великие критики: В. Белинский, Н.Добролюбов, Д. Писарев. Её стихи включали в школьные хрестоматии, заучивались наизусть. На стихи поэтессы были написаны популярные романсы А. Даргомыжским,     М. Глинкой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1712880" cy="21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124000" y="404640"/>
            <a:ext cx="1673280" cy="2178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79280" y="2708280"/>
            <a:ext cx="1627200" cy="2182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1835280" y="2421000"/>
            <a:ext cx="3178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692360" y="4221000"/>
            <a:ext cx="6912000" cy="22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Юлия Валериановна Жадовская родилас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9 июня 1824 год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селе Субботине Любимского уезда Ярославской губернии в семье чиновника особых поручений при ярославском губернат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03280" y="260280"/>
            <a:ext cx="5035680" cy="37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00"/>
                </a:solidFill>
                <a:latin typeface="Tahoma"/>
              </a:rPr>
              <a:t>Детство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1268280"/>
            <a:ext cx="8497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евочка родилась с плохим зрением, без левой руки, на короткой правой было всего три пальца. На четвертом году она осталось ещё и сиротой. Овдовевший отец отдал её на воспитание в село Панфилова Буйского уезда Костромской губернии к бабушке - Нине Павловне Готовцевой, которая очень полюбила внучку и создала хорошие условия для её развит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трёх лет девочка научилась читать, а с пяти лет книги стали постоянным ее увлечением. «Она поглощала все то, что заключала в себя набольшая библиотека бабушки». Так росла она, пользуясь деревенской полной свободой, под благотворным влиянием которой складывался характер девушки, мечтательный, вдумчивый, терпели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получения образования тринадцатилетнюю Юлию отправили в Кострому к тетке, которая сама писала стихи и печатала их в газетах и журнал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00"/>
                </a:solidFill>
                <a:latin typeface="Tahoma"/>
              </a:rPr>
              <a:t>  </a:t>
            </a:r>
            <a:r>
              <a:rPr b="0" lang="en-US" sz="3800" spc="-1" strike="noStrike">
                <a:solidFill>
                  <a:srgbClr val="333300"/>
                </a:solidFill>
                <a:latin typeface="Tahoma"/>
              </a:rPr>
              <a:t>Первые творческие успех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485928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первые опубликовалась в 1841 в журнале «Москвитянин» (№ 7) — «Письмо из Ярославля о посещении государя император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тех пор вошла в число постоянных авторов журнала московских славянофилов: в 1843 публикует этнографический очерк «Проводы масленицы в уездах Буйском и Солигалицком» («Москвитянин», № 3) и первые стихи — «Много капель светлых…» и «Лучший перл таится…» («Москвитянин», № 12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148360" y="2276640"/>
            <a:ext cx="379728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628640"/>
            <a:ext cx="76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1268280"/>
            <a:ext cx="5977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1840—50-х часто посещает Москву и Петербург, заводит знакомство с литераторами П. А. Вяземским, И. С. Тургеневым, А. С. Хомяковым, М. Н. Загоскиным, Ф. Н. Глинкой и др., с художником К. П. Брюлловым. Помимо «Москвитянина» печатается в «Библиотеке для чтения», «Сыне Отечества» и др. издан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тем ее стихи выходят в свет в сборнике «Стихотворения» (СПб., 1846), а потом, в обновленном и расширенном виде, в сборнике «Стихотворения» (СПб., 1858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Юлия Валериановна Жадовская. Стихотворения, Юлия Валериановна Жадовская"/>
          <p:cNvPicPr/>
          <p:nvPr/>
        </p:nvPicPr>
        <p:blipFill>
          <a:blip r:embed="rId1"/>
          <a:stretch/>
        </p:blipFill>
        <p:spPr>
          <a:xfrm>
            <a:off x="395280" y="2133720"/>
            <a:ext cx="21369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Любовная лирик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780000" y="1484280"/>
            <a:ext cx="52560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ентре поэзии Ю. Жадовской 1840-х — исповедь женской души, любовное чувство передается в драматических взлетах и спадах, в трагической безысходности, в одиночестве и воспоминаниях, иногда в упованиях на загробную встречу. Ее первый поэтический сборник напоминает лирический дневник, в котором отражена история возникновения, расцвета и увядания любовного чув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инством лирики Ю. Жадовской являются глубокий психологический анализ, поэтические проникновения в тайны влюблённой женской душ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8000" y="1484280"/>
            <a:ext cx="369252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   </a:t>
            </a: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Тема природы, </a:t>
            </a:r>
            <a:br>
              <a:rPr sz="3800"/>
            </a:br>
            <a:r>
              <a:rPr b="0" lang="en-US" sz="3800" spc="-1" strike="noStrike">
                <a:solidFill>
                  <a:srgbClr val="330033"/>
                </a:solidFill>
                <a:latin typeface="Tahoma"/>
              </a:rPr>
              <a:t>тема жизни и труда народ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390560" y="3429000"/>
            <a:ext cx="4753080" cy="32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7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той же задушевностью, искренностью рисовала Жадовская картины нашей северной природы, которую она самозабвенно любила. Часто описание природы соединяются с раздумьями о жизни,положении трудового народа. Она написала прекрасное стихотворение «Нива, моя нив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99360" y="0"/>
            <a:ext cx="2744640" cy="3573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1484280"/>
            <a:ext cx="42498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ива, моя ни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ива золота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Зреешь ты на солнц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олос налив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 тебе от ветру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ловно в синем море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Волны так и ход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Ходят на прост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ад тобою с пес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Жаворонок вьёт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ад тобой и ту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Грозно пронес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Зреешь ты и спее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Колос наливая,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О людских забо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ичего не з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Унеси ты, вете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учу градову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Сбереги нам, бо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Ниву трудовую!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9T13:04:04Z</dcterms:created>
  <dc:creator>www.PHILka.RU</dc:creator>
  <dc:description/>
  <dc:language>en-US</dc:language>
  <cp:lastModifiedBy>SE7EN USER</cp:lastModifiedBy>
  <dcterms:modified xsi:type="dcterms:W3CDTF">2018-08-12T15:49:50Z</dcterms:modified>
  <cp:revision>25</cp:revision>
  <dc:subject/>
  <dc:title>Юлия Валериановна Жадовская (18)</dc:title>
</cp:coreProperties>
</file>