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D4FF-5141-48B6-A6ED-1238377E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2280-8A62-4455-A8C7-9AC5786D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B0A-B0D7-41E0-90FB-5508E6A5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904C-7725-4623-901F-66B38886F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739C-1F4A-4D7C-96CF-0FD0D5E54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DEC82-B018-4612-96E8-0F7D8AB1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A605-A1BA-4DCF-8E7E-F6EA184AC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EFC1-3E55-4DEF-B646-7D4A0D53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258AC-3C7D-4ADA-B69A-7CD7316EF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0A08-F41C-49D4-95A8-E7A333A07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09A6-BA9F-45DA-88D0-70FA547A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6F33-CEC3-4030-AA0B-21937B0D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8D0A9-3983-48DC-9F08-483C38288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387D-0A7E-48C2-BEBC-E3AF098A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488FB-20CB-49A8-BEFB-14B19358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4729C-0C49-4E61-96EC-5D925C20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02D5-6621-4113-AD2C-20823FB16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8E4E-0667-439C-8B35-D4480095E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7CCB-D87C-408A-9133-B78A7E031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5741-32E2-4583-A8BE-ED51803E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52AE-C0C1-45B8-A337-C49D99AD2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DAFF-FA84-49C4-ABA9-813B28881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DBA4-E6AC-4C48-8C08-57F5335C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281E-EC68-4970-ABD4-EA3874C3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9518-CD17-4E6D-BE70-850F5D1C160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3C9D-B308-4AB5-8C6C-1990F6F81D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160" y="2590920"/>
            <a:ext cx="7924680" cy="2133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омплекс ФУ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для профилактики плоскостопия 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на начальном этап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TextBox 1"/>
          <p:cNvSpPr/>
          <p:nvPr/>
        </p:nvSpPr>
        <p:spPr>
          <a:xfrm>
            <a:off x="1219320" y="762120"/>
            <a:ext cx="632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Муниципальное автономное дошкольное образовательное учреждение «Детский сад «Радуг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4"/>
          <p:cNvSpPr/>
          <p:nvPr/>
        </p:nvSpPr>
        <p:spPr>
          <a:xfrm>
            <a:off x="2438280" y="52387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Автор: педагог дополнительного образования: Киселева Н.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886200" y="63244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г. Совет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441972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переменно стоять на правой и левой ноге, руки на поясе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-1,5 мин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Picture 7" descr="4"/>
          <p:cNvPicPr/>
          <p:nvPr/>
        </p:nvPicPr>
        <p:blipFill>
          <a:blip r:embed="rId1"/>
          <a:stretch/>
        </p:blipFill>
        <p:spPr>
          <a:xfrm>
            <a:off x="5029200" y="1523880"/>
            <a:ext cx="37339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Ноги вместе, руки на поя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ыжки с «пластины» на «пластину»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8-10 раз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7" descr="5"/>
          <p:cNvPicPr/>
          <p:nvPr/>
        </p:nvPicPr>
        <p:blipFill>
          <a:blip r:embed="rId1"/>
          <a:stretch/>
        </p:blipFill>
        <p:spPr>
          <a:xfrm>
            <a:off x="5257800" y="1523880"/>
            <a:ext cx="358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я 6 и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рыжки боком на одной ноге, чередуя ногу через «пласти-ну»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8-10 ра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Бег на коврике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5" name="Picture 7" descr="6-7"/>
          <p:cNvPicPr/>
          <p:nvPr/>
        </p:nvPicPr>
        <p:blipFill>
          <a:blip r:embed="rId1"/>
          <a:stretch/>
        </p:blipFill>
        <p:spPr>
          <a:xfrm>
            <a:off x="4876920" y="1523880"/>
            <a:ext cx="39621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36417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Укрепляющий комплекс для коррекции плоскостопия</a:t>
            </a:r>
            <a:br>
              <a:rPr sz="4800"/>
            </a:b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одьба по коврику руки на пояс, спина прямая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9" name="Picture 7" descr="1"/>
          <p:cNvPicPr/>
          <p:nvPr/>
        </p:nvPicPr>
        <p:blipFill>
          <a:blip r:embed="rId1"/>
          <a:stretch/>
        </p:blipFill>
        <p:spPr>
          <a:xfrm>
            <a:off x="4572000" y="1523880"/>
            <a:ext cx="43434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Упражнения 2 и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дскоки на двух ногах с опорой на носок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8-10 раз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дскок на одной ноге с опорой на носок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8-10 раз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7" descr="2-3"/>
          <p:cNvPicPr/>
          <p:nvPr/>
        </p:nvPicPr>
        <p:blipFill>
          <a:blip r:embed="rId1"/>
          <a:stretch/>
        </p:blipFill>
        <p:spPr>
          <a:xfrm>
            <a:off x="4876920" y="1600200"/>
            <a:ext cx="3962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403848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одьба по прямой линии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5" name="Picture 7" descr="4"/>
          <p:cNvPicPr/>
          <p:nvPr/>
        </p:nvPicPr>
        <p:blipFill>
          <a:blip r:embed="rId1"/>
          <a:stretch/>
        </p:blipFill>
        <p:spPr>
          <a:xfrm>
            <a:off x="4876920" y="1447920"/>
            <a:ext cx="3962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одьба на носках перекрестным шагом на внешней стороне стопы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7" descr="5"/>
          <p:cNvPicPr/>
          <p:nvPr/>
        </p:nvPicPr>
        <p:blipFill>
          <a:blip r:embed="rId1"/>
          <a:stretch/>
        </p:blipFill>
        <p:spPr>
          <a:xfrm>
            <a:off x="4952880" y="1447920"/>
            <a:ext cx="396252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я 6 и 7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Ходьба перекрестным шагом на внешней поверхности стопы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озировка 1 мин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Ходьба приставным шагом на внешней поверхности стопы </a:t>
            </a:r>
            <a:br>
              <a:rPr sz="2800"/>
            </a:b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7" descr="6-7"/>
          <p:cNvPicPr/>
          <p:nvPr/>
        </p:nvPicPr>
        <p:blipFill>
          <a:blip r:embed="rId1"/>
          <a:stretch/>
        </p:blipFill>
        <p:spPr>
          <a:xfrm>
            <a:off x="4952880" y="1447920"/>
            <a:ext cx="38862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4956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Ходьба по коври-ку руки на пояс, спина прямая. </a:t>
            </a:r>
            <a:br>
              <a:rPr sz="4000"/>
            </a:b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7" descr="1"/>
          <p:cNvPicPr/>
          <p:nvPr/>
        </p:nvPicPr>
        <p:blipFill>
          <a:blip r:embed="rId1"/>
          <a:stretch/>
        </p:blipFill>
        <p:spPr>
          <a:xfrm>
            <a:off x="5029200" y="137160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Упражнение 2 и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2670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Ходьба на внешней стороне стопы руки на пояс, спина пря-мая </a:t>
            </a:r>
            <a:br>
              <a:rPr sz="3000"/>
            </a:b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Дозировка 1 мин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Ходьба на внутренней стороне стопы руки на пояс, спина прямая. </a:t>
            </a:r>
            <a:br>
              <a:rPr sz="3000"/>
            </a:br>
            <a:r>
              <a:rPr b="1" i="1" lang="ru-RU" sz="30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1" lang="ru-RU" sz="3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7" descr="2-3"/>
          <p:cNvPicPr/>
          <p:nvPr/>
        </p:nvPicPr>
        <p:blipFill>
          <a:blip r:embed="rId1"/>
          <a:stretch/>
        </p:blipFill>
        <p:spPr>
          <a:xfrm>
            <a:off x="4952880" y="1371600"/>
            <a:ext cx="381024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4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44956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ru-RU" sz="3400" spc="-1" strike="noStrike">
                <a:solidFill>
                  <a:srgbClr val="ffffff"/>
                </a:solidFill>
                <a:latin typeface="Times New Roman"/>
              </a:rPr>
              <a:t>Перекаты с пятки на носок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ff"/>
                </a:solidFill>
                <a:latin typeface="Times New Roman"/>
              </a:rPr>
              <a:t>Дозировка 1-1,5 мин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7" descr="4"/>
          <p:cNvPicPr/>
          <p:nvPr/>
        </p:nvPicPr>
        <p:blipFill>
          <a:blip r:embed="rId1"/>
          <a:stretch/>
        </p:blipFill>
        <p:spPr>
          <a:xfrm>
            <a:off x="5105520" y="1752480"/>
            <a:ext cx="3657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5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2437920"/>
            <a:ext cx="426708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одьба спиной вперед руки на пояс, спина пряма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 мин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7" descr="5"/>
          <p:cNvPicPr/>
          <p:nvPr/>
        </p:nvPicPr>
        <p:blipFill>
          <a:blip r:embed="rId1"/>
          <a:stretch/>
        </p:blipFill>
        <p:spPr>
          <a:xfrm>
            <a:off x="4952880" y="1523880"/>
            <a:ext cx="38862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6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4267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одьба на носках руки на пояс, спина прям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7" descr="6"/>
          <p:cNvPicPr/>
          <p:nvPr/>
        </p:nvPicPr>
        <p:blipFill>
          <a:blip r:embed="rId1"/>
          <a:stretch/>
        </p:blipFill>
        <p:spPr>
          <a:xfrm>
            <a:off x="5105520" y="1752480"/>
            <a:ext cx="36576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3531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Комплекс  ФУ</a:t>
            </a:r>
            <a:br>
              <a:rPr sz="4800"/>
            </a:b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 для лечения плоскостопия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е 1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41972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одьба по коврику руки на пояс, спина пряма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 мин.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7" descr="1"/>
          <p:cNvPicPr/>
          <p:nvPr/>
        </p:nvPicPr>
        <p:blipFill>
          <a:blip r:embed="rId1"/>
          <a:stretch/>
        </p:blipFill>
        <p:spPr>
          <a:xfrm>
            <a:off x="5105520" y="1523880"/>
            <a:ext cx="3733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Упражнения 2 и 3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тягивания стоя на коврике, вставая на носки.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Дозировка 1 ми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одьба в полуприседе,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«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по-утиному», руки на коленях </a:t>
            </a:r>
            <a:br>
              <a:rPr sz="3200"/>
            </a:b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 Дозировка 1 мин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7" descr="2-3"/>
          <p:cNvPicPr/>
          <p:nvPr/>
        </p:nvPicPr>
        <p:blipFill>
          <a:blip r:embed="rId1"/>
          <a:stretch/>
        </p:blipFill>
        <p:spPr>
          <a:xfrm>
            <a:off x="5257800" y="1600200"/>
            <a:ext cx="3657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Бассейн</cp:lastModifiedBy>
  <dcterms:modified xsi:type="dcterms:W3CDTF">2017-02-13T07:29:09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