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A6D-296C-4852-AD9B-66E6CDB5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2DA6-5272-45E7-B6EC-1C803686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36EB-70E4-4091-AD68-57BFA2E98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14C2-B44D-4D82-B426-41606783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AD0E-C589-45C6-A431-FE9E0D28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2434-C673-4111-B1D1-04D1613DA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409C-2771-4CC6-B21E-0B847303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F26F0-20CF-40E6-BFF1-C0847AD60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490A1-9697-4442-A135-506CEB3E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C3AD-D928-4609-AA2E-FA2C96C3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9CA6-C20D-4E39-8800-505DD49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A439-EBFF-432F-B071-97A33E72C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ABB4-76F0-4DC6-8D10-BD48AB1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A061-58F0-4AC2-9AF5-C859A923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92D8-BE38-4E4F-B7DF-C4242D70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6247-BB4D-4ABC-A856-38359BBB1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5CE8-8F97-4EED-8D19-8C859FB9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F7BA-A422-4178-9C71-EB269B2DF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7B2E-BDBF-4FEA-89F4-C610FC7E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488B-A165-47C7-AF1E-D596C36D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0105-9001-4C68-BC34-5E5A1EE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D653-2266-49EB-A624-6E1A03D8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463B-2A67-44AD-BBD4-6438FE1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7D12-CED3-45EB-BEE6-AFAFC5AB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6DB2-BED5-4F09-94B9-48A3124C0E1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2468-1744-42EA-AA7C-5713FBDB32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мплекс ФУ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ля профилактики плоскостопия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а начальном этап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219320" y="7621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ниципальное автономное дошкольное образовательное учреждение «Детский сад «Раду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438280" y="52387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втор: педагог дополнительного образования: Киселева Н.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86200" y="6324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. Совет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4197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переменно стоять на правой и левой ноге, руки на поясе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-1,5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4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оги вместе, руки на поя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ыжки с «пластины» на «пластину»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5"/>
          <p:cNvPicPr/>
          <p:nvPr/>
        </p:nvPicPr>
        <p:blipFill>
          <a:blip r:embed="rId1"/>
          <a:stretch/>
        </p:blipFill>
        <p:spPr>
          <a:xfrm>
            <a:off x="5257800" y="152388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я 6 и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ыжки боком на одной ноге, чередуя ногу через «пласти-ну»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ег на коврике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6-7"/>
          <p:cNvPicPr/>
          <p:nvPr/>
        </p:nvPicPr>
        <p:blipFill>
          <a:blip r:embed="rId1"/>
          <a:stretch/>
        </p:blipFill>
        <p:spPr>
          <a:xfrm>
            <a:off x="4876920" y="15238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4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Укрепляющий комплекс для коррекции плоскостопи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по коврику руки на пояс, спина прямая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7" descr="1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Упражнения 2 и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дскоки на двух ногах с опорой на носок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дскок на одной ноге с опорой на носок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7" descr="2-3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по прямой лини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4"/>
          <p:cNvPicPr/>
          <p:nvPr/>
        </p:nvPicPr>
        <p:blipFill>
          <a:blip r:embed="rId1"/>
          <a:stretch/>
        </p:blipFill>
        <p:spPr>
          <a:xfrm>
            <a:off x="4876920" y="144792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на носках перекрестным шагом на внешней стороне стопы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7" descr="5"/>
          <p:cNvPicPr/>
          <p:nvPr/>
        </p:nvPicPr>
        <p:blipFill>
          <a:blip r:embed="rId1"/>
          <a:stretch/>
        </p:blipFill>
        <p:spPr>
          <a:xfrm>
            <a:off x="4952880" y="1447920"/>
            <a:ext cx="396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я 6 и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Ходьба перекрестным шагом на внешней поверхности стоп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Ходьба приставным шагом на внешней поверхности стоп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6-7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одьба по коври-ку руки на пояс, спина прямая.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1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пражнение 2 и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267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Ходьба на внешней стороне стопы руки на пояс, спина пря-мая 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Ходьба на внутренней стороне стопы руки на пояс, спина прямая. 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2-3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400" spc="-1" strike="noStrike">
                <a:solidFill>
                  <a:srgbClr val="ffffff"/>
                </a:solidFill>
                <a:latin typeface="Times New Roman"/>
              </a:rPr>
              <a:t>Перекаты с пятки на носок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</a:rPr>
              <a:t>Дозировка 1-1,5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4"/>
          <p:cNvPicPr/>
          <p:nvPr/>
        </p:nvPicPr>
        <p:blipFill>
          <a:blip r:embed="rId1"/>
          <a:stretch/>
        </p:blipFill>
        <p:spPr>
          <a:xfrm>
            <a:off x="5105520" y="1752480"/>
            <a:ext cx="365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спиной вперед руки на пояс, спина прям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5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на носках руки на пояс, спина пря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6"/>
          <p:cNvPicPr/>
          <p:nvPr/>
        </p:nvPicPr>
        <p:blipFill>
          <a:blip r:embed="rId1"/>
          <a:stretch/>
        </p:blipFill>
        <p:spPr>
          <a:xfrm>
            <a:off x="510552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353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мплекс  ФУ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для лечения плоскостоп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419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по коврику руки на пояс, спина пря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1"/>
          <a:stretch/>
        </p:blipFill>
        <p:spPr>
          <a:xfrm>
            <a:off x="5105520" y="152388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я 2 и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тягивания стоя на коврике, вставая на носки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в полуприседе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-утиному», руки на коленях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Дозировка 1 м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7" descr="2-3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ссейн</cp:lastModifiedBy>
  <dcterms:modified xsi:type="dcterms:W3CDTF">2017-02-13T07:29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