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6.jpeg" ContentType="image/jpeg"/>
  <Override PartName="/ppt/media/image4.jpeg" ContentType="image/jpeg"/>
  <Override PartName="/ppt/media/image31.jpeg" ContentType="image/jpeg"/>
  <Override PartName="/ppt/media/image29.png" ContentType="image/png"/>
  <Override PartName="/ppt/media/image6.png" ContentType="image/png"/>
  <Override PartName="/ppt/media/image5.png" ContentType="image/png"/>
  <Override PartName="/ppt/media/image8.jpeg" ContentType="image/jpeg"/>
  <Override PartName="/ppt/media/image10.jpeg" ContentType="image/jpeg"/>
  <Override PartName="/ppt/media/image28.png" ContentType="image/png"/>
  <Override PartName="/ppt/media/image7.jpeg" ContentType="image/jpeg"/>
  <Override PartName="/ppt/media/image12.jpeg" ContentType="image/jpeg"/>
  <Override PartName="/ppt/media/image13.jpeg" ContentType="image/jpeg"/>
  <Override PartName="/ppt/media/image11.jpeg" ContentType="image/jpeg"/>
  <Override PartName="/ppt/media/image30.jpeg" ContentType="image/jpeg"/>
  <Override PartName="/ppt/media/image24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9.png" ContentType="image/png"/>
  <Override PartName="/ppt/media/image14.jpeg" ContentType="image/jpeg"/>
  <Override PartName="/ppt/media/image15.jpeg" ContentType="image/jpeg"/>
  <Override PartName="/ppt/media/image16.png" ContentType="image/png"/>
  <Override PartName="/ppt/media/image18.jpeg" ContentType="image/jpeg"/>
  <Override PartName="/ppt/media/image25.png" ContentType="image/png"/>
  <Override PartName="/ppt/media/image19.jpeg" ContentType="image/jpeg"/>
  <Override PartName="/ppt/media/image20.jpeg" ContentType="image/jpeg"/>
  <Override PartName="/ppt/media/image2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574A-B431-4D1F-9F2B-D12A7065A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A88A-5D4F-4A65-9C61-D1038B4EB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82CB-2B70-47C0-8C2E-BD9E92636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EC8F-2593-49F5-9784-F7915ACF7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2CEB-7382-410E-ADAA-0C2693CD8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12B6-316C-4067-9397-1F4F25CA0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5E87-58BD-4206-BFD2-82C479264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BE2E-6434-4372-A219-7A5F6E902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E3AE-FC85-4664-8172-4AA7EAFD3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B709-F7F9-49B3-A500-E15FAB1A1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202E-1F0F-40F8-ADC4-C2905974C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17AE-E434-42C2-9070-8932E9646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17721-D23F-409F-A0AD-8F93F40AD0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828800" y="1295280"/>
            <a:ext cx="5105520" cy="171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борник   детских  стихов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99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      </a:t>
            </a: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 природе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99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"/>
          <p:cNvSpPr/>
          <p:nvPr/>
        </p:nvSpPr>
        <p:spPr>
          <a:xfrm>
            <a:off x="3962520" y="4114800"/>
            <a:ext cx="46479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800000"/>
                </a:solidFill>
                <a:latin typeface="Times New Roman"/>
              </a:rPr>
              <a:t>МБДОУ детский сад № 18 «Ручеёк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Times New Roman"/>
              </a:rPr>
              <a:t>группа  компенсирующей  направлен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800000"/>
                </a:solidFill>
                <a:latin typeface="Times New Roman"/>
              </a:rPr>
              <a:t>«Пчёлка»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Times New Roman"/>
              </a:rPr>
              <a:t>Воспитатель Дворяшина Елена Леонидо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447920" y="3048120"/>
            <a:ext cx="2133360" cy="28605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1371600" y="2971800"/>
            <a:ext cx="22860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>
            <a:lum contrast="4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57200" y="1066680"/>
            <a:ext cx="4038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Листья  падают к  нам  с  ветк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ети  думали  конфет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Захотел  их  Митя  взят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  они  летать, летать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ллективное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33520" y="3200400"/>
            <a:ext cx="3886200" cy="26668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4191120" y="457200"/>
            <a:ext cx="3809880" cy="25909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1219320" y="380880"/>
            <a:ext cx="14763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ЛИСТЬЯ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5486400" y="3429000"/>
            <a:ext cx="1447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ЧЕЛА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2" name=""/>
          <p:cNvSpPr/>
          <p:nvPr/>
        </p:nvSpPr>
        <p:spPr>
          <a:xfrm>
            <a:off x="4495680" y="403848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Летела пчела за  пыльц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ы  закричали: «Ой, ой!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том к  нам  в гости  приш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 мёду детям  принес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ллективное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1447920" y="2590920"/>
            <a:ext cx="1295280" cy="6094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521240" y="3059280"/>
            <a:ext cx="234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Художник  Шмакова Ви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21800" y="5791320"/>
            <a:ext cx="266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Художник  Малышкина Ага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685800" y="3276720"/>
            <a:ext cx="3581280" cy="25146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6"/>
          <a:stretch/>
        </p:blipFill>
        <p:spPr>
          <a:xfrm>
            <a:off x="4419720" y="533520"/>
            <a:ext cx="344952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>
            <a:lum contrast="3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09480" y="1974960"/>
            <a:ext cx="33530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914400" y="533520"/>
            <a:ext cx="29336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33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ЫЖАЯ  КОШКА</a:t>
            </a:r>
            <a:endParaRPr b="0" lang="en-US" sz="1800" spc="1" strike="noStrike">
              <a:ln w="19080">
                <a:solidFill>
                  <a:srgbClr val="9933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1" name=""/>
          <p:cNvSpPr/>
          <p:nvPr/>
        </p:nvSpPr>
        <p:spPr>
          <a:xfrm>
            <a:off x="838080" y="1143000"/>
            <a:ext cx="3429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ыжая  кош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идит у  окош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Может  быть кошк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Грустно  немножко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  кошкой  пойдём погулять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Можем  мы с ней поиграть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Можно ей  мышку пойма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И  дать  молочка  полака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Коллективное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876920" y="4888080"/>
            <a:ext cx="37335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191120" y="1981080"/>
            <a:ext cx="838080" cy="12956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5105520" y="990720"/>
            <a:ext cx="3504960" cy="2286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5105520" y="990720"/>
            <a:ext cx="3581280" cy="23619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2133720" y="3429000"/>
            <a:ext cx="2590560" cy="29718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5867280" y="3733920"/>
            <a:ext cx="20574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800000"/>
                  </a:solidFill>
                  <a:miter/>
                </a:ln>
                <a:solidFill>
                  <a:srgbClr val="cc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ИШКА</a:t>
            </a:r>
            <a:endParaRPr b="0" lang="en-US" sz="1800" spc="1" strike="noStrike">
              <a:ln w="19080">
                <a:solidFill>
                  <a:srgbClr val="800000"/>
                </a:solidFill>
                <a:miter/>
              </a:ln>
              <a:solidFill>
                <a:srgbClr val="cc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4343400"/>
            <a:ext cx="3962520" cy="14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Добрый  мишка-Торопыж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 лес густой  бежал за  шишк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Большую  шишку  он нашёл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И  в  берлогу  спать  пошё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Коллективное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327280" y="3287880"/>
            <a:ext cx="259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Художник Назаров  Андр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6"/>
          <a:stretch/>
        </p:blipFill>
        <p:spPr>
          <a:xfrm>
            <a:off x="2286000" y="3505320"/>
            <a:ext cx="2438280" cy="28191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457200" y="4648320"/>
            <a:ext cx="1752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Художни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Нацибули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Али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7"/>
          <a:stretch/>
        </p:blipFill>
        <p:spPr>
          <a:xfrm>
            <a:off x="533520" y="3429000"/>
            <a:ext cx="144756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 txBox="1"/>
          <p:nvPr/>
        </p:nvSpPr>
        <p:spPr>
          <a:xfrm>
            <a:off x="838080" y="380880"/>
            <a:ext cx="19814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8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ИНИЧКА</a:t>
            </a:r>
            <a:endParaRPr b="0" lang="en-US" sz="1800" spc="1" strike="noStrike">
              <a:ln w="19080">
                <a:solidFill>
                  <a:srgbClr val="00008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5" name=""/>
          <p:cNvSpPr/>
          <p:nvPr/>
        </p:nvSpPr>
        <p:spPr>
          <a:xfrm>
            <a:off x="457200" y="914400"/>
            <a:ext cx="3124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иничка-невелич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  веточке сиди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рутит  головою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  солнышко гляди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аленькой  бедняж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Голодно  зим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ы её  покорм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  пойдём  дом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Коллективное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4419720" y="685800"/>
            <a:ext cx="4114800" cy="24382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 txBox="1"/>
          <p:nvPr/>
        </p:nvSpPr>
        <p:spPr>
          <a:xfrm>
            <a:off x="5410080" y="3657600"/>
            <a:ext cx="2286000" cy="49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0c0c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ороны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c0c0c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8" name=""/>
          <p:cNvSpPr/>
          <p:nvPr/>
        </p:nvSpPr>
        <p:spPr>
          <a:xfrm>
            <a:off x="5334120" y="4267080"/>
            <a:ext cx="3581280" cy="23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илетели две воро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чень важные  персо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тали прыгать  и  скак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а ребят забавля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играли, порезвилис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 куда-то удалилис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Коллективное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762120" y="3733920"/>
            <a:ext cx="3962160" cy="24382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533520" y="3505320"/>
            <a:ext cx="4419360" cy="26668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5"/>
          <a:stretch/>
        </p:blipFill>
        <p:spPr>
          <a:xfrm>
            <a:off x="4419720" y="457200"/>
            <a:ext cx="4190760" cy="27432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555480" y="6259680"/>
            <a:ext cx="332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Художник Малышкина Ага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399920" y="3135240"/>
            <a:ext cx="307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Художник  Бочкова Поли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6"/>
          <a:stretch/>
        </p:blipFill>
        <p:spPr>
          <a:xfrm>
            <a:off x="7772400" y="3276720"/>
            <a:ext cx="96192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762120" y="609480"/>
            <a:ext cx="2286000" cy="49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99cc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О  ГРАЧА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99cc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9" name=""/>
          <p:cNvSpPr/>
          <p:nvPr/>
        </p:nvSpPr>
        <p:spPr>
          <a:xfrm>
            <a:off x="533520" y="1219320"/>
            <a:ext cx="457200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Я-  вра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илетел  ко  мне грач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не тихонько  говори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«У  меня  крыло  болит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Я  крыло  ему  полеч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  на  волю  отпущ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Коллективное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4495680" y="685800"/>
            <a:ext cx="3657600" cy="21337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838080" y="3733920"/>
            <a:ext cx="3581640" cy="21333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5867280" y="3352680"/>
            <a:ext cx="1905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ЙЧИК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3" name=""/>
          <p:cNvSpPr/>
          <p:nvPr/>
        </p:nvSpPr>
        <p:spPr>
          <a:xfrm>
            <a:off x="5029200" y="4038480"/>
            <a:ext cx="36576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Зайчик  был наш  сереньки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  теперь  стал беленьк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Зайчик  бегает, резвитс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Ему  на  месте  не сиди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т  лисы  он  убегае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  нею  в  прятки он  игра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Коллективное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4267080" y="533520"/>
            <a:ext cx="4114800" cy="23619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5"/>
          <a:stretch/>
        </p:blipFill>
        <p:spPr>
          <a:xfrm>
            <a:off x="762120" y="3505320"/>
            <a:ext cx="3657600" cy="25146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4327920" y="2906640"/>
            <a:ext cx="325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Художник Нацибулина Али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93520" y="6031080"/>
            <a:ext cx="272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Художник Бочкова Поли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6"/>
          <a:stretch/>
        </p:blipFill>
        <p:spPr>
          <a:xfrm>
            <a:off x="7848720" y="3200400"/>
            <a:ext cx="990360" cy="9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685800" y="533520"/>
            <a:ext cx="20289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НЕЖИНКА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1" name=""/>
          <p:cNvSpPr/>
          <p:nvPr/>
        </p:nvSpPr>
        <p:spPr>
          <a:xfrm>
            <a:off x="609480" y="1143000"/>
            <a:ext cx="28958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елая  снежинка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ёгкая  пуши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небе закружилас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ловно  балерин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 потом упа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ямо на  дорож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дохни  нем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ленькая  крош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Коллективно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876920" y="533520"/>
            <a:ext cx="33051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есёлый  снеговик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1295280"/>
            <a:ext cx="365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обрый милый снегов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н не  мал  и  не вели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ш  любимый снегов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Зимы весёлый почтови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о дворе с  метлой  стои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шу  горку  сторожи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Коллективное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486400" y="3505320"/>
            <a:ext cx="243828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cc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неговик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cc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5" name=""/>
          <p:cNvSpPr/>
          <p:nvPr/>
        </p:nvSpPr>
        <p:spPr>
          <a:xfrm>
            <a:off x="4952880" y="4267080"/>
            <a:ext cx="3886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неговик стоит на  гор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ос морковкой, глазки, бров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н  мороза  не  боитс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месте  с нами   весели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Коллективное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609480" y="3733920"/>
            <a:ext cx="4267440" cy="24382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762120" y="3809880"/>
            <a:ext cx="3962160" cy="2286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712800" y="618336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Художник  Шмакова Ви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3200400" y="1143000"/>
            <a:ext cx="190512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609480" y="1295280"/>
            <a:ext cx="2819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от лошадка Иго-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качет по  лугу легк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дбежала  к  речк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пила  немног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бежала  даль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ямо  по  дорог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Коллективное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533520"/>
            <a:ext cx="18954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ЛОШАДКА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3" name=""/>
          <p:cNvSpPr/>
          <p:nvPr/>
        </p:nvSpPr>
        <p:spPr>
          <a:xfrm>
            <a:off x="6019920" y="4495680"/>
            <a:ext cx="3124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Лошадка, лошадк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делай к  нам  прыжок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ы  тебя  поглад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  дадим пирожо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Вика Шмаков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019920" y="3657600"/>
            <a:ext cx="21524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О  ЛОШАДКУ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99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3886200" y="609480"/>
            <a:ext cx="4419720" cy="25909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1600200" y="3733920"/>
            <a:ext cx="4267080" cy="25905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3962520" y="685800"/>
            <a:ext cx="4287600" cy="24382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4170600" y="3211560"/>
            <a:ext cx="294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Художник Бочкова Поли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809000" y="6335640"/>
            <a:ext cx="292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Художник Потылицина Сон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1676520" y="3809880"/>
            <a:ext cx="41148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 txBox="1"/>
          <p:nvPr/>
        </p:nvSpPr>
        <p:spPr>
          <a:xfrm>
            <a:off x="1523880" y="457200"/>
            <a:ext cx="189576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ерёза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3" name=""/>
          <p:cNvSpPr/>
          <p:nvPr/>
        </p:nvSpPr>
        <p:spPr>
          <a:xfrm>
            <a:off x="380880" y="1219320"/>
            <a:ext cx="3962520" cy="23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Белая  берёза  растёт у нас  в  сад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Белую берёзу  очень  я  люблю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К  нам пришла  весна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одросла  он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еточками  маш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Как  будто  она  пляше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Коллективное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638680" y="3429000"/>
            <a:ext cx="25909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cc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ервый  цветок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cc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5" name=""/>
          <p:cNvSpPr/>
          <p:nvPr/>
        </p:nvSpPr>
        <p:spPr>
          <a:xfrm>
            <a:off x="4724280" y="4343400"/>
            <a:ext cx="4114800" cy="15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ервый  цветок появился  весн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чень  он хрупкий и  нежный  так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На  поляне подснежник растё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И  очень  красиво  цветёт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Коллективное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5715000" y="228600"/>
            <a:ext cx="2438280" cy="30099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1219320" y="3124080"/>
            <a:ext cx="3581280" cy="26672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4952880" y="3124080"/>
            <a:ext cx="388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Художник Шмакова Ви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219320" y="5791320"/>
            <a:ext cx="380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Художник Назаров Андр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5943600" y="457200"/>
            <a:ext cx="1981080" cy="25146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5"/>
          <a:stretch/>
        </p:blipFill>
        <p:spPr>
          <a:xfrm>
            <a:off x="1523880" y="3429000"/>
            <a:ext cx="29718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17T15:46:45Z</dcterms:created>
  <dc:creator>Admin</dc:creator>
  <dc:description/>
  <dc:language>en-US</dc:language>
  <cp:lastModifiedBy>Илюня</cp:lastModifiedBy>
  <dcterms:modified xsi:type="dcterms:W3CDTF">2018-08-16T21:16:56Z</dcterms:modified>
  <cp:revision>4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