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4.jpeg" ContentType="image/jpeg"/>
  <Override PartName="/ppt/media/image31.jpeg" ContentType="image/jpeg"/>
  <Override PartName="/ppt/media/image29.png" ContentType="image/png"/>
  <Override PartName="/ppt/media/image6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49B-A69C-444E-9AE2-4B96395A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269C-4F95-4B12-9785-15295D43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3A1-687C-472A-82C2-622A4558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D55-D66D-482A-A9EC-CC301E5A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AF29-10B4-4A6D-BCE1-151FE382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74D3-8275-4728-BC0E-7474EF09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B75D-5E0B-4F7A-B241-3D201823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6FD-2FD9-47B3-8335-DA55147D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855D-F96F-4EF9-953E-8EF798A3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6DE6-3DF0-44E1-A7E2-C6750DDC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39EF-4890-4875-B983-AF1C8BB2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81B1-BE85-47EB-8543-3A06BEE1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A667-93F2-43F9-B1C6-4A35F37F4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28800" y="1295280"/>
            <a:ext cx="51055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борник   детских  стихов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 природ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3962520" y="4114800"/>
            <a:ext cx="4647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imes New Roman"/>
              </a:rPr>
              <a:t>МБДОУ детский сад № 18 «Ручеё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imes New Roman"/>
              </a:rPr>
              <a:t>группа  компенсирующей  направл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imes New Roman"/>
              </a:rPr>
              <a:t>«Пчёлка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imes New Roman"/>
              </a:rPr>
              <a:t>Воспитатель Дворяшина Елена Леонид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47920" y="3048120"/>
            <a:ext cx="2133360" cy="2860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371600" y="2971800"/>
            <a:ext cx="2286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1066680"/>
            <a:ext cx="403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стья  падают к  нам  с  вет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ти  думали  конфе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хотел  их  Митя  взя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 они  летать, лета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лектив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3886200" cy="2666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191120" y="457200"/>
            <a:ext cx="3809880" cy="2590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219320" y="380880"/>
            <a:ext cx="1476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СТЬЯ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486400" y="342900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ЧЕЛ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403848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тела пчела за  пыльц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ы  закричали: «Ой, ой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том к  нам  в гости  приш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мёду детям  прине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лектив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447920" y="2590920"/>
            <a:ext cx="1295280" cy="609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21240" y="305928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Художник  Шмакова В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1800" y="5791320"/>
            <a:ext cx="26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Художник  Малышкина Аг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85800" y="3276720"/>
            <a:ext cx="358128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419720" y="533520"/>
            <a:ext cx="3449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contras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1974960"/>
            <a:ext cx="3353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400" y="533520"/>
            <a:ext cx="2933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ЫЖАЯ  КОШКА</a:t>
            </a:r>
            <a:endParaRPr b="0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1143000"/>
            <a:ext cx="3429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ыжая  ко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идит у  окош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жет  быть кош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устно  немножк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  кошкой  пойдём погуля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жем  мы с ней поигр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жно ей  мышку пойм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 дать  молочка  полак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лективно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4888080"/>
            <a:ext cx="3733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191120" y="1981080"/>
            <a:ext cx="838080" cy="129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105520" y="990720"/>
            <a:ext cx="350496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105520" y="990720"/>
            <a:ext cx="3581280" cy="2361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133720" y="3429000"/>
            <a:ext cx="259056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5867280" y="3733920"/>
            <a:ext cx="2057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ШКА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4343400"/>
            <a:ext cx="39625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брый  мишка-Торопыж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лес густой  бежал за  шиш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ольшую  шишку  он нашё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 в  берлогу  спать  пошё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Коллективно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27280" y="3287880"/>
            <a:ext cx="259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Художник Назаров  Андр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286000" y="3505320"/>
            <a:ext cx="2438280" cy="2819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464832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удож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цибу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33520" y="3429000"/>
            <a:ext cx="14475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838080" y="380880"/>
            <a:ext cx="1981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НИЧКА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914400"/>
            <a:ext cx="3124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ничка-невели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 веточке сид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тит  голово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 солнышко гляд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ленькой  бедняж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лодно  зи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ы её  покорм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 пойдём 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Коллектив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4114800" cy="2438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410080" y="3657600"/>
            <a:ext cx="228600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роны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4267080"/>
            <a:ext cx="358128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летели две во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чень важные  перс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ли прыгать  и  скак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 ребят забавл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играли, порезви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куда-то удал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лективно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3962160" cy="2438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33520" y="3505320"/>
            <a:ext cx="441936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4419720" y="457200"/>
            <a:ext cx="4190760" cy="2743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55480" y="6259680"/>
            <a:ext cx="332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Художник Малышкина Аг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99920" y="3135240"/>
            <a:ext cx="30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Художник  Бочкова По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7772400" y="3276720"/>
            <a:ext cx="961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762120" y="609480"/>
            <a:ext cx="228600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  ГРАЧ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219320"/>
            <a:ext cx="4572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-  вр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летел  ко  мне гр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не тихонько  говор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У  меня  крыло  бол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 крыло  ему  полеч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 на  волю  отпущ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Коллектив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95680" y="685800"/>
            <a:ext cx="3657600" cy="2133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38080" y="3733920"/>
            <a:ext cx="3581640" cy="2133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867280" y="335268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ЙЧИК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4038480"/>
            <a:ext cx="365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йчик  был наш  серень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 теперь  стал белень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йчик  бегает, резви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му  на  месте  не сид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  лисы  он  убег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 нею  в  прятки он  игр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Коллектив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267080" y="533520"/>
            <a:ext cx="4114800" cy="2361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762120" y="350532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327920" y="2906640"/>
            <a:ext cx="325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удожник Нацибулина А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93520" y="6031080"/>
            <a:ext cx="27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Художник Бочкова По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848720" y="3200400"/>
            <a:ext cx="99036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685800" y="533520"/>
            <a:ext cx="2028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НЕЖИНК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143000"/>
            <a:ext cx="2895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ая  снежинк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ёгкая  пуш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ебе закружил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вно  балери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потом уп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 на  дорож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дохни  нем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енькая  кро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оллектив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876920" y="533520"/>
            <a:ext cx="3305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сёлый  снеговик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129528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брый милый снег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н не  мал  и  не вел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ш  любимый снег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имы весёлый почтов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 дворе с  метлой  сто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шу  горку  сторож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Коллектив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486400" y="3505320"/>
            <a:ext cx="2438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неговик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4267080"/>
            <a:ext cx="38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неговик стоит на  гор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с морковкой, глазки, бр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н  мороза  не  бои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месте  с нами   весел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Коллектив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9480" y="3733920"/>
            <a:ext cx="426744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3962160" cy="2286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12800" y="618336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Художник  Шмакова В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200400" y="1143000"/>
            <a:ext cx="1905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09480" y="12952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т лошадка Иго-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ачет по  лугу лег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бежала  к  реч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пила  немно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бежала  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ямо  по  доро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Коллектив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533520"/>
            <a:ext cx="1895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ОШАДК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4495680"/>
            <a:ext cx="312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ошадка, лошад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делай к  нам  прыжо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ы  тебя  поглад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 дадим пирож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ика Шмако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19920" y="3657600"/>
            <a:ext cx="2152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  ЛОШАДКУ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886200" y="609480"/>
            <a:ext cx="4419720" cy="2590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600200" y="3733920"/>
            <a:ext cx="4267080" cy="2590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962520" y="685800"/>
            <a:ext cx="4287600" cy="2438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170600" y="3211560"/>
            <a:ext cx="294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Художник Бочкова По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09000" y="6335640"/>
            <a:ext cx="292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Художник Потылицина Со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676520" y="3809880"/>
            <a:ext cx="4114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523880" y="457200"/>
            <a:ext cx="1895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рёз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219320"/>
            <a:ext cx="39625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елая  берёза  растёт у нас  в  са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елую берёзу  очень  я  люб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  нам пришла  вес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росла  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еточками  маш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ак  будто  она  пляш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лективно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638680" y="3429000"/>
            <a:ext cx="2590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ый  цветок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4343400"/>
            <a:ext cx="41148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вый  цветок появился  вес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чень  он хрупкий и  нежный  та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 поляне подснежник растё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 очень  красиво  цветёт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лективно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715000" y="228600"/>
            <a:ext cx="2438280" cy="3009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219320" y="3124080"/>
            <a:ext cx="3581280" cy="2667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952880" y="312408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Художник Шмакова В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579132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Художник Назаров Андр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943600" y="457200"/>
            <a:ext cx="1981080" cy="2514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523880" y="3429000"/>
            <a:ext cx="2971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7T15:46:45Z</dcterms:created>
  <dc:creator>Admin</dc:creator>
  <dc:description/>
  <dc:language>en-US</dc:language>
  <cp:lastModifiedBy>Илюня</cp:lastModifiedBy>
  <dcterms:modified xsi:type="dcterms:W3CDTF">2018-08-16T21:16:56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