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AA8-CB06-4547-9A9B-946DDDCA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04B8-DF26-4B37-8B04-164E13BD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CE46-B7A0-4867-B458-74819131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31C-0C1E-4D61-A38B-BF0B7078C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A96F-6D86-4DFC-9A74-7215D321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91A9-3D49-42F8-91E3-8B9CD2C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0020-9A6B-4F16-A54D-6B3A3F17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6562-C0C5-411F-A89C-A724BD205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98F3-5EB4-40C3-A3E9-F3F14B085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1AA3-29B8-47AC-8EAC-90FDCACE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3E8-43C2-40EB-8229-56D5A73E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BB3-3499-46F5-B714-7BB7D1C8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F6A5-EC27-4F30-8BF9-085619CB9E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0824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16002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ОРНИК   ДЕТСКИХ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ТОГОВОРО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486400"/>
            <a:ext cx="487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МБДОУ детский сад № 18 «Руче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группа  компенсирующе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направленности   «Пчёлк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оспитатель Дворяшина Еле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981080" y="685800"/>
            <a:ext cx="5029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ШОК  ПРО  НАС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3720" y="137160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 весёлые  ребят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ые  и  ловк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чиняем  на  ходу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  чистоговорки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1019200">
            <a:off x="684360" y="373176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031800">
            <a:off x="838080" y="3809520"/>
            <a:ext cx="1981440" cy="197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00400" y="28954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918600">
            <a:off x="6014880" y="3885840"/>
            <a:ext cx="2362320" cy="2038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352680" y="3048120"/>
            <a:ext cx="2362320" cy="190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 rot="907200">
            <a:off x="6172200" y="3962520"/>
            <a:ext cx="20559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048040" cy="204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65440" y="87480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-ба-ба на доме есть тр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й-бей-бей прыгает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ы-бы-бы  собираю  я  гри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52880" y="2209680"/>
            <a:ext cx="3227400" cy="169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0600" y="2779560"/>
            <a:ext cx="30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-ва-ва зелёная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-ве-ве  я лежу в тра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-ву-ву вижу я  с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21932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41760" y="4191120"/>
            <a:ext cx="32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-га-га  у коровы р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-ги-ги испекли пи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-гу-гу  гуси  на  л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-уг-уг у  мамы есть  утю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09080" y="72216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-да-да горячая 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-ду-ду в  садик  я 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-ди-ди играть скорей  и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-ед-ед у меня  велоси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38680" y="2209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9560" y="2703600"/>
            <a:ext cx="355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-жа-жа иголки  у  е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-же-же жук на  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-жи-жи в  лесу  лежат  е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-уж-уж  много  у  нас  лу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ж-аж-аж на  улице  гар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01120" y="44560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-за-за  на  лугу  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-за-за у  мамы как у  меня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-зи-зи куклу  приве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ы-зы-зы рога  есть у  к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081160" cy="208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62120" y="457200"/>
            <a:ext cx="2361960" cy="220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96920" y="646200"/>
            <a:ext cx="389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-ак-ак на  корабле  моря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-ке-ке рыбки  плавают в  р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-ко-ко в  стакане 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-ок-ок траву  кушает  бы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-ук-ук  в углу п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1080" y="2855880"/>
            <a:ext cx="402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-ла-ла прилетела  к  нам пч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ы-лы-лы  убираем  мы  ст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-ло-ло  на  улице  теп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-лю-лю маму  я  люб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-ол-ол  у  врача у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32280" y="4724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-му-му мячик я  возь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-ом-ом я  играю в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-мой-мой папочка  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и-ими-ими стали  мы  больш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2819520"/>
            <a:ext cx="547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а-апа-апа у  мамы есть  шля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-пы-пы у  розы  есть  ши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-уп-уп  я  ем  с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9480" y="4572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33000" y="722160"/>
            <a:ext cx="38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-он-он у  меня  есть телеф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-но-но я  смотрю  к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-ну-ну  вижу  я  лу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ы-ны-ны у меня  шт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5520" y="4379760"/>
            <a:ext cx="380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-ра-ра у  дерева  к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-ор-ор  собираю  помид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ь-арь-арь на  улице  фон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-ры-ры  летают  ком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-ру-ру  скачет  кенг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93560"/>
            <a:ext cx="345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-са-са на  носу сидит 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-со-со у  машины  колес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-су-су медведь  живёт в 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-ис-ис  собираю я  ред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86200" y="4456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ц-ец-ец  зелёный  огу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о-цо-цо  бросаю мяч в  коль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о-цо-цо  у  курицы  яй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ы- цы-цы  на  грядке  огур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2666880"/>
            <a:ext cx="44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-ха-ха поймали  пет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- ох-ох  у  нас  растёт  гор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ха-уха-уха полетела  м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3962520"/>
            <a:ext cx="2666880" cy="241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638680" y="21337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33920" y="9507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-ча-ча горит  све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-чу-чу молотком сту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о- чо-чо  у  нас  болит  плеч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й-чей-чей дом  из  кирпи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32200" y="2703600"/>
            <a:ext cx="342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ш-аш-аш красный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-ши-ши  гуляют  мал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- шо-шо  в  группе  хорош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-шу-шу  майку  я  но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572000"/>
            <a:ext cx="39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а-ща-ща я  хочу  бор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и-щи-щи мама  варит  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щ-ащ-ащ  у  меня  есть  пла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5:46:45Z</dcterms:created>
  <dc:creator>Admin</dc:creator>
  <dc:description/>
  <dc:language>en-US</dc:language>
  <cp:lastModifiedBy>Илюня</cp:lastModifiedBy>
  <dcterms:modified xsi:type="dcterms:W3CDTF">2018-08-16T21:28:4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