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94A1-6E20-4034-9370-99DE21C4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4899-8D1E-4534-8728-83F2C678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3FE6-04B7-4384-BA24-9C509D2CA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76E-ED99-4021-9C1A-B135E1C5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5558-394D-487E-90E9-0BAE4E50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4829-D76F-4FB4-B29F-019A85EB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3661-A47C-4217-B449-26CD12A95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CC89-5B90-40AA-960F-22CBADAC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50C4-0FA0-4122-A360-F6DDD225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84FE-4C2A-4B7C-86F5-38A99E97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CC3-EF19-47AC-94DA-05DE440D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E88F-1DCA-4D26-A27C-AC763D21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5EA3-D9E9-42F9-9AD8-CE1C1F561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38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08240" y="125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828800" y="1600200"/>
            <a:ext cx="5943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БОРНИК   ДЕТСКИХ 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ИСТОГОВОРОК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5486400"/>
            <a:ext cx="4876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МБДОУ детский сад № 18 «Ручеёк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группа  компенсирующей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направленности   «Пчёлка»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Воспитатель Дворяшина Елена Леонидо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1981080" y="685800"/>
            <a:ext cx="50292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ИШОК  ПРО  НАС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66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133720" y="1371600"/>
            <a:ext cx="464796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  весёлые  ребята,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мные  и  ловкие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чиняем  на  ходу  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ы   чистоговорки.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 rot="21019200">
            <a:off x="684360" y="373176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 rot="21031800">
            <a:off x="838080" y="3809520"/>
            <a:ext cx="1981440" cy="1976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3200400" y="2895480"/>
            <a:ext cx="2666880" cy="22100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 rot="918600">
            <a:off x="6014880" y="3885840"/>
            <a:ext cx="2362320" cy="2038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3352680" y="3048120"/>
            <a:ext cx="2362320" cy="1909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 rot="907200">
            <a:off x="6172200" y="3962520"/>
            <a:ext cx="205596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2048040" cy="20476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65440" y="874800"/>
            <a:ext cx="4130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-ба-ба на доме есть тр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ей-бей-бей прыгает вороб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ы-бы-бы  собираю  я  гриб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952880" y="2209680"/>
            <a:ext cx="3227400" cy="169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50600" y="2779560"/>
            <a:ext cx="302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а-ва-ва зелёная тр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-ве-ве  я лежу в тра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у-ву-ву вижу я  со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219320" y="419112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641760" y="4191120"/>
            <a:ext cx="32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-га-га  у коровы ро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и-ги-ги испекли пирог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у-гу-гу  гуси  на  л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г-уг-уг у  мамы есть  утю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62120" y="609480"/>
            <a:ext cx="2057400" cy="1981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809080" y="722160"/>
            <a:ext cx="34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-да-да горячая  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у-ду-ду в  садик  я  и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-ди-ди играть скорей  ид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д-ед-ед у меня  велосипе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5638680" y="2209680"/>
            <a:ext cx="1905120" cy="19051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979560" y="2703600"/>
            <a:ext cx="3559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а-жа-жа иголки  у  еж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-же-же жук на  е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и-жи-жи в  лесу  лежат  е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ж-уж-уж  много  у  нас  лу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ж-аж-аж на  улице  гараж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066680" y="4419720"/>
            <a:ext cx="1828800" cy="1600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01120" y="4456080"/>
            <a:ext cx="4103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-за-за  на  лугу  ко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-за-за у  мамы как у  меня гла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и-зи-зи куклу  приве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ы-зы-зы рога  есть у  коз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943600" y="2133720"/>
            <a:ext cx="2081160" cy="20811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685800" y="4343400"/>
            <a:ext cx="2209680" cy="20574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762120" y="457200"/>
            <a:ext cx="2361960" cy="2209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796920" y="646200"/>
            <a:ext cx="389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к-ак-ак на  корабле  моря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е-ке-ке рыбки  плавают в  ре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-ко-ко в  стакане  моло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к-ок-ок траву  кушает  быч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к-ук-ук  в углу пау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1080" y="2855880"/>
            <a:ext cx="4027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-ла-ла прилетела  к  нам пче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ы-лы-лы  убираем  мы  сто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-ло-ло  на  улице  теп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-лю-лю маму  я  любл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л-ол-ол  у  врача ук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32280" y="4724280"/>
            <a:ext cx="432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у-му-му мячик я  возь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м-ом-ом я  играю в 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й-мой-мой папочка  род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ми-ими-ими стали  мы  больш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172200" y="2209680"/>
            <a:ext cx="1828800" cy="198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8080" y="4267080"/>
            <a:ext cx="1905120" cy="1676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143000" y="2819520"/>
            <a:ext cx="547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па-апа-апа у  мамы есть  шляп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ы-пы-пы у  розы  есть  шип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-уп-уп  я  ем  су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09480" y="457200"/>
            <a:ext cx="2095560" cy="2095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3033000" y="722160"/>
            <a:ext cx="38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-он-он у  меня  есть телефо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-но-но я  смотрю  ки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у-ну-ну  вижу  я  лу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ы-ны-ны у меня  шта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35520" y="4379760"/>
            <a:ext cx="3804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-ра-ра у  дерева  к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-ор-ор  собираю  помид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ь-арь-арь на  улице  фонар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ы-ры-ры  летают  кома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-ру-ру  скачет  кенгу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733920" y="493560"/>
            <a:ext cx="3454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-са-са на  носу сидит о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-со-со у  машины  колес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у-су-су медведь  живёт в  лес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-ис-ис  собираю я  реди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5715000" y="2286000"/>
            <a:ext cx="2133720" cy="1752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86200" y="44560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ц-ец-ец  зелёный  огуре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о-цо-цо  бросаю мяч в  кольц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о-цо-цо  у  курицы  яйц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ы- цы-цы  на  грядке  огур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676520" y="2666880"/>
            <a:ext cx="4402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Ха-ха-ха поймали  пет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х- ох-ох  у  нас  растёт  горо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ха-уха-уха полетела  мух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14400" y="533520"/>
            <a:ext cx="2438280" cy="1981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" y="3962520"/>
            <a:ext cx="2666880" cy="24127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5638680" y="2133720"/>
            <a:ext cx="2362320" cy="2209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733920" y="95076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-ча-ча горит  свеч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у-чу-чу молотком стуч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о- чо-чо  у  нас  болит  плеч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й-чей-чей дом  из  кирпич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32200" y="2703600"/>
            <a:ext cx="342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ш-аш-аш красный карандаш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-ши-ши  гуляют  малыш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о- шо-шо  в  группе  хорош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у-шу-шу  майку  я  нош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33920" y="4572000"/>
            <a:ext cx="392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а-ща-ща я  хочу  борщ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и-щи-щи мама  варит  щ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щ-ащ-ащ  у  меня  есть  плащ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7T15:46:45Z</dcterms:created>
  <dc:creator>Admin</dc:creator>
  <dc:description/>
  <dc:language>en-US</dc:language>
  <cp:lastModifiedBy>Илюня</cp:lastModifiedBy>
  <dcterms:modified xsi:type="dcterms:W3CDTF">2018-08-16T21:28:42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