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940-B3BD-4EDD-90BD-18AD8F4D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E11-E62F-4AEB-A173-1C7AED49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AB1-C464-46C0-97F5-6DA3FC54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A4B-5AEA-4FA4-A71C-794A2B45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57AA-50E3-48C9-859B-0F672734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4B30-AD87-463F-BD1B-155965D0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3C0B-93A4-4015-A094-4DDB81EB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292-3ED4-40BF-BDC1-CCDC6F5D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E5C1-5757-42D4-B335-B3C89813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7142-C38F-416C-AFB2-05B73CC2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AE14-B45C-4904-A14D-4E40DF7E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10E-92B8-4E30-A239-E9B5B9E2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D41E-8C88-419D-A40C-A11F2503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53AC-315C-4F5C-B359-191787DE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91D1-23E1-4354-A8E6-7E3B3FF7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FC3B-ED51-45A2-AF77-0B7E9157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1B8A-208E-4C6B-A6EB-848964D2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772-49F0-425F-883C-621E2335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491-A2E2-4736-9848-35A34B47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61D-58F2-48C3-8061-71BC4D13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6F5-68AE-45D3-9E9C-967AAECF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487-BECF-49DD-8A5F-6F1A6CAC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1B6-ABB2-421F-B537-1BD1698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52C-194E-4990-9269-52AAF8E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532C-6F47-4177-9019-856D6AD868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E814-18ED-4392-8FD2-B3F643D75A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133720"/>
            <a:ext cx="556272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39621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1:49:03Z</dcterms:created>
  <dc:creator>Дом</dc:creator>
  <dc:description/>
  <cp:keywords/>
  <dc:language>en-US</dc:language>
  <cp:lastModifiedBy>Дом</cp:lastModifiedBy>
  <dcterms:modified xsi:type="dcterms:W3CDTF">2009-08-10T11:50:31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51049</vt:lpwstr>
  </property>
</Properties>
</file>