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50A-8206-4AAD-A61C-683A22D5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F15-9771-47F9-BF4F-6651F3AD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E56-21D9-4A91-8FD6-796F51DC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1FC-09E8-43A9-A409-0FCD0008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3033-F765-415D-8A52-6BF47AFF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3AF-C132-41E9-9A8A-9F026C09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5E26-14AA-4211-A625-FC36A2C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36E5-53F2-443E-B2BC-1D801810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1E28-BA3D-4C22-AA38-AD69C65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E2A9-4C68-4656-B9F0-D458C4E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5CA8-F5AD-409A-AE36-764F0DC3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DC1-E511-4938-92B7-44C8523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49BF-AA41-404C-BFE1-47CD5FA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D39D-F062-404C-A835-E4AE7E6F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EF3-6381-467E-A1E8-9EA3F1EC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4E96-0B18-4D49-9343-C3840FD7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8274-BC63-4301-B993-27A79CA2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658-871D-4B1E-AA65-DD96C591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EB3-028D-43FB-9F27-406FEF7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237-1A20-4088-838C-91659AEC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AD7-DB0A-4DA8-BAF7-0779B45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450-7C00-41D5-BEDD-A550B742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B63-377B-44A4-BE3E-B907AAA4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0FB-BCA2-4568-AE55-FC14F919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FDB2-430F-46F9-B262-2DFE149B02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422A-D0FE-4E37-9351-77200C578E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133720"/>
            <a:ext cx="556272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39621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1:49:03Z</dcterms:created>
  <dc:creator>Дом</dc:creator>
  <dc:description/>
  <cp:keywords/>
  <dc:language>en-US</dc:language>
  <cp:lastModifiedBy>Дом</cp:lastModifiedBy>
  <dcterms:modified xsi:type="dcterms:W3CDTF">2009-08-10T11:50:31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51049</vt:lpwstr>
  </property>
</Properties>
</file>