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614-EFFB-4DFB-A179-76720C20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3DB-EBB5-4577-954A-1B99883F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77F-FC14-4049-9C42-94A56EFE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0B2-2921-4236-8295-3C726823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B48-CF15-40D2-A38C-5A877DE9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A12A-7A30-46F5-A55D-9170B0F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B7B4-5A1A-458A-8E61-1A390E8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30D3-3450-4F61-A419-B9BA8083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4242-39A2-41E2-8BF9-2D08584C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9B5-02CC-4484-87C1-3BD96532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E7E-6610-4C23-87B9-E188BC94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F72-19D4-4017-9A07-DBE05961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673-CA89-42EC-B91C-5B7EF0F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B0C-7511-4986-849A-FBE195F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F15E-5FD4-4DC4-AB7D-5A07E36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C4DF-132B-43D8-9860-D2F28B68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341-824E-4A6A-BFD5-EEF4C91A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DC34-6E72-46B7-87A5-41F308F3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2C60-58DC-47B0-BA7D-1B31928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1228-FA67-4B09-9E75-92BB11C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60A2-A654-461B-A427-E9CE6035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015D-B545-4CFF-8D1C-D38C7F8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076-F33A-4DBA-8404-E957F99D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2ABE-2E20-4C80-A3D9-467E3B3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C1A0-ECA2-4D2E-A302-E0789319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29DB-5C9E-4F48-943A-71A48F9D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71B8-EF93-4E0E-99CD-5380B4D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3635-3FF3-4EB8-B50C-1BBA7D5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8A6C-AFB2-41D4-81B3-410076C7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F56C-284B-4FA4-8421-630B21D3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F279-D883-4238-8BF3-60357DD5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17A3-883C-43D0-BA44-EE3A197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061A4-A651-4D23-80DD-4FB5AF1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13A-7BE2-4D61-B89B-E07B8B2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3146-D9B7-49A5-AACB-2F8D7830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91D5-E38D-49D8-9D26-FCB215AD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B136-DEBA-4365-98DB-2024517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FB11-187A-4FC8-90E1-95242A9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72AB-DE08-4E31-91C3-556408A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0B5F-C583-4B75-BE42-52DF865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EA54-110B-4C9A-A16D-2686CD1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542D-9BF2-4DE1-81AE-7BFC3C95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ED69-18A2-47C1-A686-3779BEAD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3227-EBF5-44D7-98AB-71FF93F1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736-BB52-49AE-8D4F-CF0636A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CC0C-5BBB-41B5-8FE2-FE98373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81E4-A608-4D56-8DE4-50AFB83E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0756-57E1-42A2-BAEC-0A12D4C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FD21-04CB-461E-8270-D81C6C2B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EED9-20C8-4069-8FFE-72252B7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B0E1-ECDF-4F0B-AA22-0A49A0F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50CD-244D-4289-B539-1D4A387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18106-46C6-4DAB-81FB-9A1A72D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DB80-AC77-40CA-B434-BA191FA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6DBB-3E6E-4C2E-9B89-641BB2EE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4AA-E162-488C-A9A8-6412C72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43FD-60FE-4A7F-954B-10C35DE5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747A-F20B-4F4A-AAF0-190F3BB6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B434-6243-4C1F-B025-C3736082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A4DE-4FCC-4C7C-8D47-EDDAEEEE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B1C5-8543-4F2F-9371-AA93A844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22600-299D-428C-A811-60046C8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0BD1C-8F9C-4982-BD37-95CF11A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BB80-C54A-4F68-8156-B9DE633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C9DA-556B-469B-9B38-8F12980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6C57E-06B8-404F-A83F-30B07DC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1CA-4BB0-44B4-80F2-CDA25ED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F7FB-AC61-40D4-9BC2-0887138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EE8B-55C0-49A8-9409-A684C4CB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70B95-EAA6-4AAC-9C11-C4684581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D741F-F719-402B-887E-DA43A3FB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F02C-9208-490E-ACE6-CC06E4E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9703-5F04-4041-908C-A4E3EB8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CAF07-01EF-47EB-A2AA-A5BECA0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D5809-76C8-407D-A3F1-C056FF8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AD27-B9B1-49CD-B128-E61E408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32AA3-90FD-49EE-B7CE-16CBE63A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EA9-8601-4B01-8612-2179D4D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02B1-D643-41B0-9D3D-ECD3572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FC6B-6015-459C-959D-3918BB7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39B0-FE47-4EA7-BA1B-44013AE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29CA0-B074-4F96-BE41-763FD317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F82E1-7186-498D-9FD6-AF7B3CEB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593-D614-4FEC-9AF3-F03FF47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279-C827-420D-9786-9D9A5FC81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Штриховая стрелка вправо 16"/>
          <p:cNvGrpSpPr/>
          <p:nvPr/>
        </p:nvGrpSpPr>
        <p:grpSpPr>
          <a:xfrm>
            <a:off x="512640" y="1962000"/>
            <a:ext cx="8472600" cy="1981440"/>
            <a:chOff x="512640" y="1962000"/>
            <a:chExt cx="8472600" cy="1981440"/>
          </a:xfrm>
        </p:grpSpPr>
        <p:pic>
          <p:nvPicPr>
            <p:cNvPr id="52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512640" y="1962000"/>
              <a:ext cx="84726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2E50-F57F-4628-A866-A305919B8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Штриховая стрелка вправо 16"/>
          <p:cNvGrpSpPr/>
          <p:nvPr/>
        </p:nvGrpSpPr>
        <p:grpSpPr>
          <a:xfrm>
            <a:off x="298440" y="3895560"/>
            <a:ext cx="8686800" cy="2187720"/>
            <a:chOff x="298440" y="3895560"/>
            <a:chExt cx="8686800" cy="2187720"/>
          </a:xfrm>
        </p:grpSpPr>
        <p:pic>
          <p:nvPicPr>
            <p:cNvPr id="97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895560"/>
              <a:ext cx="8686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EEA1-944C-4657-B2E5-0ED730369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01605cc23a86.png"/>
          <p:cNvPicPr/>
          <p:nvPr/>
        </p:nvPicPr>
        <p:blipFill>
          <a:blip r:embed="rId3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9B7-438C-4366-87A4-7722D5C24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95120" y="341280"/>
            <a:ext cx="3462480" cy="131616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18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8120"/>
              <a:ext cx="4284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C40-2E68-49E8-B59A-591A78540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07960" y="4627440"/>
            <a:ext cx="6461280" cy="95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3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75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84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3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9FB-57AD-4A22-9A16-859D816D7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195120"/>
            <a:ext cx="2529000" cy="6461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EAA-CC32-42C3-B8BA-A5289ACA0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dd9c3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52:22Z</dcterms:created>
  <dc:creator>Дом</dc:creator>
  <dc:description/>
  <dc:language>en-US</dc:language>
  <cp:lastModifiedBy>Дом</cp:lastModifiedBy>
  <dcterms:modified xsi:type="dcterms:W3CDTF">2009-09-09T17:37:41Z</dcterms:modified>
  <cp:revision>2</cp:revision>
  <dc:subject/>
  <dc:title>Слайд 1</dc:title>
</cp:coreProperties>
</file>