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5B4-8D94-4F2A-B085-EDE9793D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586-1713-4F4D-83FD-61F242EE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43A-DA61-455F-A5AA-3FEAC2E4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B61-D468-4438-918B-F23582B1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0B63-5F4F-419C-9920-2BA6C297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C2EE-A62E-49AA-8B45-098694FD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20A8-4F9C-4814-8413-A4192EF7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D01F-D17D-4EBE-ACCC-707F0709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651F-612E-4A56-B350-04BDDE50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2B36-4D98-4B27-8464-9E9B55D3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DF95-4A1D-4332-B94B-682B3AF8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DF6-2C2D-4F4C-BDD5-3BE01F79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E8CD-5909-4DFD-AB5C-2D2F22F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9418-61E7-4CD0-B45F-AF03D90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C7D4-1A1C-4EF1-A28D-CB176E92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E5BC-4189-4B08-B8AE-4BA3E1D5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3C83-80CF-4CD0-B549-42B37D72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7E00-4A28-437C-B09D-5542288D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9E7A-D638-4833-903D-FDAA4DE6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13BE-0C39-41A3-ABD6-3C5A12BE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F6B1-5C07-41EF-92A4-D9912CF2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FFBC-D831-4D3E-80DD-D868C3A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313-6DD3-4494-8599-C2BC0BC2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960DC-A858-46FD-9758-060F2C7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E557-9ADD-48FF-BC23-E19380E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C85C-23F1-4F81-AD2B-F03D89D5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A8B9-7789-4A4A-8783-52628FD3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9FFF-F971-45DF-AE28-C219D99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00FB-8693-4C66-9163-C8477110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1533-7D2C-4900-8969-D5E64C3C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CF432-F60D-4090-A67C-298C428E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A0F8-CB2E-4A1B-AEDA-82B7EC3A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BADD-C07D-4DE4-928C-80589012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822-799A-4539-A5A1-6DD45FF9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6902-B756-482A-9835-C40E8777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25920-D369-4ABD-B4AE-432C0EFF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DD8C-74BE-4BC3-A703-DC736995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74B0-996F-44BE-8B61-C8FE5CD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B1FF-C67F-4521-9A2D-DD8D6A8E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589BC-1C7D-432F-8AEC-8B1F354C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A927-63B8-448C-95A3-72FC2830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87E7C-5699-43A0-AFB2-E7C05CD3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A1C2-179A-4A82-839B-15F89B2C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BD7C1-C094-4C5F-AF6A-6301AFE7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833-0CFE-42D4-B0C4-D6538D62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9CB47-94F8-4716-837E-6A4188BE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41AE3-5431-4FC1-A64A-A99BF4F4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47D09-939F-4A54-B1F8-15AE9D85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497BF-D8B0-4801-BA6F-05AEECCC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DA7DA-39A7-4A48-9E8A-EB6FC90E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05B60-167A-4112-9E2E-0B5631AD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A1C94-8FAB-4617-8E48-041B09EE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5D126-0E07-45CF-A53A-E9239E89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84992-E774-442B-AF4E-37A46DFD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AE3B-82B5-409D-AA99-8560EF55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E83-8FE9-4B0A-986C-56042459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12B8-8318-4F92-9D56-2B513C21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0ABD9-5B8B-46EB-9F47-62F9F39E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5F8EA-20AA-43B5-8009-192CD18C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FD489-42F6-47C8-B947-4F973C54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6F3F4-636E-4A7D-825B-FB5ADEC3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0472-1AE9-43F7-A858-6328E9D4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63C01-47F3-4FCB-A814-FC8833F0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BCB8-D0D8-4AF9-882C-269BA4B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E4190-99A9-41E7-A7DD-0B5BAEB8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DF1A8-606D-4B69-BE66-1BFD5966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CD6-ADD0-4032-84AB-4F70EBE3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CD582-A969-412A-99EB-D301F5BA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074DF-AF35-45A3-8496-1A1A3B6A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4C02F-F667-440D-88AA-D78FE9B7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60E6E-BD36-4247-B0F9-1DD24650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39C42-08E1-4193-BA06-9CDACF4F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24450-B2C8-4D9F-B7C0-FD904CB4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2FEEA-435A-400D-8544-505B384A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F4AFB-7885-4855-AFBD-86D77FE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329F6-B2ED-4250-A64B-2006B6E9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2AA1C-41C8-470C-A0B4-112850A9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D7F-3FA1-48B2-A300-1EBF5A03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38874-331C-4D09-B992-A562B739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5D8A7-0766-4FF4-AEC6-E020F01D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1834F-B7E4-4D4E-BE4D-4F2791BB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0C9FC-B5B8-4D26-ABB3-88568843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2C15-1F8B-4892-BB8B-297A38FD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68E-9D94-460E-8605-77C0136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5"/>
          <p:cNvGrpSpPr/>
          <p:nvPr/>
        </p:nvGrpSpPr>
        <p:grpSpPr>
          <a:xfrm>
            <a:off x="214200" y="1643040"/>
            <a:ext cx="714600" cy="5072040"/>
            <a:chOff x="214200" y="1643040"/>
            <a:chExt cx="714600" cy="5072040"/>
          </a:xfrm>
        </p:grpSpPr>
        <p:pic>
          <p:nvPicPr>
            <p:cNvPr id="1" name="Нашивка 8" descr=""/>
            <p:cNvPicPr/>
            <p:nvPr/>
          </p:nvPicPr>
          <p:blipFill>
            <a:blip r:embed="rId3"/>
            <a:stretch/>
          </p:blipFill>
          <p:spPr>
            <a:xfrm>
              <a:off x="214200" y="30610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Нашивка 9" descr=""/>
            <p:cNvPicPr/>
            <p:nvPr/>
          </p:nvPicPr>
          <p:blipFill>
            <a:blip r:embed="rId4"/>
            <a:stretch/>
          </p:blipFill>
          <p:spPr>
            <a:xfrm>
              <a:off x="214200" y="37699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Нашивка 10" descr=""/>
            <p:cNvPicPr/>
            <p:nvPr/>
          </p:nvPicPr>
          <p:blipFill>
            <a:blip r:embed="rId5"/>
            <a:stretch/>
          </p:blipFill>
          <p:spPr>
            <a:xfrm>
              <a:off x="214200" y="447912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Нашивка 11" descr=""/>
            <p:cNvPicPr/>
            <p:nvPr/>
          </p:nvPicPr>
          <p:blipFill>
            <a:blip r:embed="rId6"/>
            <a:stretch/>
          </p:blipFill>
          <p:spPr>
            <a:xfrm>
              <a:off x="214200" y="518796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Нашивка 12" descr=""/>
            <p:cNvPicPr/>
            <p:nvPr/>
          </p:nvPicPr>
          <p:blipFill>
            <a:blip r:embed="rId7"/>
            <a:stretch/>
          </p:blipFill>
          <p:spPr>
            <a:xfrm>
              <a:off x="214200" y="59032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Нашивка 13" descr=""/>
            <p:cNvPicPr/>
            <p:nvPr/>
          </p:nvPicPr>
          <p:blipFill>
            <a:blip r:embed="rId8"/>
            <a:stretch/>
          </p:blipFill>
          <p:spPr>
            <a:xfrm>
              <a:off x="214200" y="235188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Нашивка 14" descr=""/>
            <p:cNvPicPr/>
            <p:nvPr/>
          </p:nvPicPr>
          <p:blipFill>
            <a:blip r:embed="rId9"/>
            <a:stretch/>
          </p:blipFill>
          <p:spPr>
            <a:xfrm>
              <a:off x="214200" y="1643040"/>
              <a:ext cx="7146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Стрелка вправо с вырезом 6" descr=""/>
          <p:cNvPicPr/>
          <p:nvPr/>
        </p:nvPicPr>
        <p:blipFill>
          <a:blip r:embed="rId10"/>
          <a:stretch/>
        </p:blipFill>
        <p:spPr>
          <a:xfrm>
            <a:off x="341280" y="122400"/>
            <a:ext cx="8674200" cy="1603080"/>
          </a:xfrm>
          <a:prstGeom prst="rect">
            <a:avLst/>
          </a:prstGeom>
          <a:ln w="0">
            <a:noFill/>
          </a:ln>
        </p:spPr>
      </p:pic>
      <p:pic>
        <p:nvPicPr>
          <p:cNvPr id="9" name="Содержимое 3" descr="01605cc23a86.png"/>
          <p:cNvPicPr/>
          <p:nvPr/>
        </p:nvPicPr>
        <p:blipFill>
          <a:blip r:embed="rId11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6AFE-0908-4C8C-935E-E9DB79E3C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Штриховая стрелка вправо 16"/>
          <p:cNvGrpSpPr/>
          <p:nvPr/>
        </p:nvGrpSpPr>
        <p:grpSpPr>
          <a:xfrm>
            <a:off x="512640" y="1962000"/>
            <a:ext cx="8472600" cy="1981440"/>
            <a:chOff x="512640" y="1962000"/>
            <a:chExt cx="8472600" cy="1981440"/>
          </a:xfrm>
        </p:grpSpPr>
        <p:pic>
          <p:nvPicPr>
            <p:cNvPr id="52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512640" y="1962000"/>
              <a:ext cx="847260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1840" y="2359080"/>
              <a:ext cx="704376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3CA3-26D9-4FD3-B2D3-DFFDEF654A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Штриховая стрелка вправо 16"/>
          <p:cNvGrpSpPr/>
          <p:nvPr/>
        </p:nvGrpSpPr>
        <p:grpSpPr>
          <a:xfrm>
            <a:off x="298440" y="3895560"/>
            <a:ext cx="8686800" cy="2187720"/>
            <a:chOff x="298440" y="3895560"/>
            <a:chExt cx="8686800" cy="2187720"/>
          </a:xfrm>
        </p:grpSpPr>
        <p:pic>
          <p:nvPicPr>
            <p:cNvPr id="97" name="Штриховая стрелка вправо 16" descr=""/>
            <p:cNvPicPr/>
            <p:nvPr/>
          </p:nvPicPr>
          <p:blipFill>
            <a:blip r:embed="rId3"/>
            <a:stretch/>
          </p:blipFill>
          <p:spPr>
            <a:xfrm>
              <a:off x="298440" y="3895560"/>
              <a:ext cx="86868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81120" y="4330800"/>
              <a:ext cx="710568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Рисунок 17" descr="52b98b7f5e35.png"/>
          <p:cNvPicPr/>
          <p:nvPr/>
        </p:nvPicPr>
        <p:blipFill>
          <a:blip r:embed="rId4"/>
          <a:stretch/>
        </p:blipFill>
        <p:spPr>
          <a:xfrm>
            <a:off x="285840" y="0"/>
            <a:ext cx="2544840" cy="3000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B877-BA23-46AF-8DCB-4F176D4DA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01605cc23a86.png"/>
          <p:cNvPicPr/>
          <p:nvPr/>
        </p:nvPicPr>
        <p:blipFill>
          <a:blip r:embed="rId3"/>
          <a:stretch/>
        </p:blipFill>
        <p:spPr>
          <a:xfrm>
            <a:off x="214200" y="214200"/>
            <a:ext cx="1830600" cy="1778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D08E-C40E-4A0D-ABEF-3D0DD17F6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95120" y="341280"/>
            <a:ext cx="3462480" cy="131616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17"/>
          <p:cNvGrpSpPr/>
          <p:nvPr/>
        </p:nvGrpSpPr>
        <p:grpSpPr>
          <a:xfrm>
            <a:off x="285840" y="3714840"/>
            <a:ext cx="428400" cy="2857320"/>
            <a:chOff x="285840" y="3714840"/>
            <a:chExt cx="428400" cy="2857320"/>
          </a:xfrm>
        </p:grpSpPr>
        <p:pic>
          <p:nvPicPr>
            <p:cNvPr id="185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85840" y="45104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85840" y="49082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85840" y="53064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85840" y="570420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85840" y="6108120"/>
              <a:ext cx="428400" cy="46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85840" y="4112640"/>
              <a:ext cx="428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85840" y="3714840"/>
              <a:ext cx="4284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3623-DC39-45DF-8FF5-BE3E8E176B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1407960" y="4627440"/>
            <a:ext cx="6461280" cy="955800"/>
          </a:xfrm>
          <a:prstGeom prst="rect">
            <a:avLst/>
          </a:prstGeom>
          <a:ln w="0">
            <a:noFill/>
          </a:ln>
        </p:spPr>
      </p:pic>
      <p:grpSp>
        <p:nvGrpSpPr>
          <p:cNvPr id="234" name="Группа 17"/>
          <p:cNvGrpSpPr/>
          <p:nvPr/>
        </p:nvGrpSpPr>
        <p:grpSpPr>
          <a:xfrm>
            <a:off x="214200" y="857160"/>
            <a:ext cx="714600" cy="5072040"/>
            <a:chOff x="214200" y="857160"/>
            <a:chExt cx="714600" cy="5072040"/>
          </a:xfrm>
        </p:grpSpPr>
        <p:pic>
          <p:nvPicPr>
            <p:cNvPr id="235" name="Нашивка 18" descr=""/>
            <p:cNvPicPr/>
            <p:nvPr/>
          </p:nvPicPr>
          <p:blipFill>
            <a:blip r:embed="rId4"/>
            <a:stretch/>
          </p:blipFill>
          <p:spPr>
            <a:xfrm>
              <a:off x="214200" y="22752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Нашивка 19" descr=""/>
            <p:cNvPicPr/>
            <p:nvPr/>
          </p:nvPicPr>
          <p:blipFill>
            <a:blip r:embed="rId5"/>
            <a:stretch/>
          </p:blipFill>
          <p:spPr>
            <a:xfrm>
              <a:off x="214200" y="29840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Нашивка 20" descr=""/>
            <p:cNvPicPr/>
            <p:nvPr/>
          </p:nvPicPr>
          <p:blipFill>
            <a:blip r:embed="rId6"/>
            <a:stretch/>
          </p:blipFill>
          <p:spPr>
            <a:xfrm>
              <a:off x="214200" y="369324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Нашивка 21" descr=""/>
            <p:cNvPicPr/>
            <p:nvPr/>
          </p:nvPicPr>
          <p:blipFill>
            <a:blip r:embed="rId7"/>
            <a:stretch/>
          </p:blipFill>
          <p:spPr>
            <a:xfrm>
              <a:off x="214200" y="4408200"/>
              <a:ext cx="7146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Нашивка 22" descr=""/>
            <p:cNvPicPr/>
            <p:nvPr/>
          </p:nvPicPr>
          <p:blipFill>
            <a:blip r:embed="rId8"/>
            <a:stretch/>
          </p:blipFill>
          <p:spPr>
            <a:xfrm>
              <a:off x="214200" y="51174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Нашивка 23" descr=""/>
            <p:cNvPicPr/>
            <p:nvPr/>
          </p:nvPicPr>
          <p:blipFill>
            <a:blip r:embed="rId9"/>
            <a:stretch/>
          </p:blipFill>
          <p:spPr>
            <a:xfrm>
              <a:off x="214200" y="1566000"/>
              <a:ext cx="71460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Нашивка 24" descr=""/>
            <p:cNvPicPr/>
            <p:nvPr/>
          </p:nvPicPr>
          <p:blipFill>
            <a:blip r:embed="rId10"/>
            <a:stretch/>
          </p:blipFill>
          <p:spPr>
            <a:xfrm>
              <a:off x="214200" y="857160"/>
              <a:ext cx="714600" cy="81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D704-32F4-43AF-B4E2-5AA207592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Стрелка вправо с вырезом 16" descr=""/>
          <p:cNvPicPr/>
          <p:nvPr/>
        </p:nvPicPr>
        <p:blipFill>
          <a:blip r:embed="rId3"/>
          <a:stretch/>
        </p:blipFill>
        <p:spPr>
          <a:xfrm>
            <a:off x="6413400" y="195120"/>
            <a:ext cx="2529000" cy="64612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1e1c11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1e1c11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452a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57F4-715F-4AAB-80DA-2A1D883016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ddd9c3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a452a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7:52:22Z</dcterms:created>
  <dc:creator>Дом</dc:creator>
  <dc:description/>
  <dc:language>en-US</dc:language>
  <cp:lastModifiedBy>Дом</cp:lastModifiedBy>
  <dcterms:modified xsi:type="dcterms:W3CDTF">2009-09-09T17:37:41Z</dcterms:modified>
  <cp:revision>2</cp:revision>
  <dc:subject/>
  <dc:title>Слайд 1</dc:title>
</cp:coreProperties>
</file>