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14.png" ContentType="image/png"/>
  <Override PartName="/ppt/media/image1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B0FB-44B7-4D43-B2CD-61A95B5FF8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33C1-6433-4CFC-9996-30D3F48B12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3D0A-82BF-4C77-A59D-C00C71AF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20A-0F29-4BCF-BB78-E7095F28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F17B-3E9E-4C1C-8950-42BE837E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2A34-D59F-4E61-8CAB-03AD94B6E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554AD-C88D-4D4D-BF3F-E2536827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1D90-11B3-407C-90E9-0D957E78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7FDA2-8C45-45CB-ADD7-4DA218A38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14C4-68DB-4533-9B43-B86A0DFE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996E1-458B-4004-9843-104BEB7F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EC576-54AA-40ED-A649-CE18D6BA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C1B64-673F-44CD-98DA-FEBFF748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5294-DD60-4D5C-87CB-88461584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03E7-41A8-403A-960A-22F102B7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6A61-6CE6-494F-A02B-998A40A3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7AED-9B14-4B34-9882-73A454A4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FE65-E604-4689-A2A5-4FA3671CA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36F4-0B1D-4CE7-899B-3C02CBF9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2C3-3DAC-49DF-A690-7058D487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70E3-54FA-4D87-88A5-ABD0DE4B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5E3E-9B9B-437B-955A-10F78B6B0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F49-06E8-4855-A329-0C0951C0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7CB0-676C-4B37-B1C7-A4F53125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8910-E14C-4500-80CB-EAEF848B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A9FB-FC0D-4F37-9335-CCC2FCA3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C13F-80F9-4F98-B20B-393093F23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9B6FF-AC5F-4639-AC3E-5C139C800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vakhtangov.theatre.ru/performance/matrenindvor/photo12.html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yandex.ru/image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niga.ru/books/95952" TargetMode="External"/><Relationship Id="rId2" Type="http://schemas.openxmlformats.org/officeDocument/2006/relationships/hyperlink" Target="http://www.kniga.ru/books/95952" TargetMode="External"/><Relationship Id="rId3" Type="http://schemas.openxmlformats.org/officeDocument/2006/relationships/hyperlink" Target="http://www.kniga.ru/books/95952" TargetMode="External"/><Relationship Id="rId4" Type="http://schemas.openxmlformats.org/officeDocument/2006/relationships/hyperlink" Target="http://www.kniga.ru/books/95952" TargetMode="External"/><Relationship Id="rId5" Type="http://schemas.openxmlformats.org/officeDocument/2006/relationships/hyperlink" Target="http://www.kniga.ru/books/95952" TargetMode="External"/><Relationship Id="rId6" Type="http://schemas.openxmlformats.org/officeDocument/2006/relationships/hyperlink" Target="http://www.kniga.ru/books/95952" TargetMode="External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2920" y="620280"/>
            <a:ext cx="7239240" cy="6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4020"/>
                </a:solidFill>
                <a:latin typeface="Verdana"/>
              </a:rPr>
              <a:t>Урок литератур</a:t>
            </a:r>
            <a:r>
              <a:rPr b="0" lang="en-US" sz="3600" spc="-1" strike="noStrike">
                <a:solidFill>
                  <a:srgbClr val="614020"/>
                </a:solidFill>
                <a:latin typeface="Arial"/>
              </a:rPr>
              <a:t>ы</a:t>
            </a:r>
            <a:r>
              <a:rPr b="0" lang="en-US" sz="3600" spc="-1" strike="noStrike">
                <a:solidFill>
                  <a:srgbClr val="614020"/>
                </a:solidFill>
                <a:latin typeface="Verdan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4020"/>
                </a:solidFill>
                <a:latin typeface="Verdana"/>
              </a:rPr>
              <a:t>«Не стоит село без праведника: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4020"/>
                </a:solidFill>
                <a:latin typeface="Verdana"/>
              </a:rPr>
              <a:t>по рассказу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4020"/>
                </a:solidFill>
                <a:latin typeface="Verdana"/>
              </a:rPr>
              <a:t>А.И. Солженицына «Матренин двор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4020"/>
                </a:solidFill>
                <a:latin typeface="Verdana"/>
              </a:rPr>
              <a:t>Левина Е.Д., учитель русского языка и литературы МОУ ОСШ № 94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30252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4020"/>
                </a:solidFill>
                <a:latin typeface="Times New Roman"/>
              </a:rPr>
              <a:t>Матрёна и Фадде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51280" y="1828800"/>
            <a:ext cx="5292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14020"/>
                </a:solidFill>
                <a:latin typeface="Verdana"/>
              </a:rPr>
              <a:t>Жизненные мытарства истребили в Фаддее сердечность и человеческие чувства. Люди потрясены смертями на железнодорожном переезде, а Фаддея мучает только одна мысль - спасти брошенные брёвна. "Порубал-таки Фаддей свою любовь, но и душа его при этом погибла"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14020"/>
                </a:solidFill>
                <a:latin typeface="Verdana"/>
              </a:rPr>
              <a:t>Сравнивая жизненные пути героев, А.И. Солженицын даёт говорит читателям: жизненные невзгоды испытывают человека на прочность и его красоту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14020"/>
                </a:solidFill>
                <a:latin typeface="Verdana"/>
              </a:rPr>
              <a:t>"Идейно-художественные искания автора находятся в сфере христианско-православного мировоззрения. Разные стороны жизни русской деревни 50-х годов отражены в рассказе, но нравственно - духовное содержание является в нём доминирующим" </a:t>
            </a:r>
            <a:r>
              <a:rPr b="1" lang="en-US" sz="1600" spc="-1" strike="noStrike">
                <a:solidFill>
                  <a:srgbClr val="614020"/>
                </a:solidFill>
                <a:latin typeface="Verdana"/>
              </a:rPr>
              <a:t>[</a:t>
            </a:r>
            <a:r>
              <a:rPr b="1" lang="ru-RU" sz="1600" spc="-1" strike="noStrike">
                <a:solidFill>
                  <a:srgbClr val="614020"/>
                </a:solidFill>
                <a:latin typeface="Verdana"/>
              </a:rPr>
              <a:t>А.А. Симакова</a:t>
            </a:r>
            <a:r>
              <a:rPr b="1" lang="en-US" sz="1600" spc="-1" strike="noStrike">
                <a:solidFill>
                  <a:srgbClr val="614020"/>
                </a:solidFill>
                <a:latin typeface="Verdana"/>
              </a:rPr>
              <a:t>]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10761" b="0"/>
          <a:stretch/>
        </p:blipFill>
        <p:spPr>
          <a:xfrm>
            <a:off x="179280" y="1916280"/>
            <a:ext cx="39960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4020"/>
                </a:solidFill>
                <a:latin typeface="Times New Roman"/>
              </a:rPr>
              <a:t>Разрушение дома Матрёны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24360" y="1828800"/>
            <a:ext cx="4968720" cy="27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14020"/>
                </a:solidFill>
                <a:latin typeface="Verdana"/>
              </a:rPr>
              <a:t>Люди, разбиравшие горницу, не думали, что они разрушают дом. Гибель дома предрешила и смерть Матрёны. В изуродованном доме она бы уже не смогла жить. Автором осуждаются и алчность, жадность, стяжательство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4869000"/>
            <a:ext cx="35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оей воспитаннице Матрёна отдала самое дорогое, что было в её жизни - дом: "... не жалко ей было горницу, стоявшую без дела, как вообще ни труда, ни добра своего..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7594"/>
          <a:stretch/>
        </p:blipFill>
        <p:spPr>
          <a:xfrm>
            <a:off x="611280" y="1197000"/>
            <a:ext cx="2235240" cy="3321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rcRect l="0" t="0" r="0" b="12600"/>
          <a:stretch/>
        </p:blipFill>
        <p:spPr>
          <a:xfrm>
            <a:off x="4500720" y="3933720"/>
            <a:ext cx="408780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23888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4020"/>
                </a:solidFill>
                <a:latin typeface="Times New Roman"/>
              </a:rPr>
              <a:t>Трагизм судьбы героини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211640" y="1341000"/>
            <a:ext cx="47512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Трагизм  жизни Матрёны проявился тогда, когда она, отдав без жалости часть дома, становится жертвой человеческой жадности, стяжательства, пьянства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Трагизм и в том, что односельчане не могли понять тех добрых чувств, которыми руководствовалась Матрёна в жизни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Внешней причиной гибели явились её самоотверженность, стремление помочь, а не отсидеться в стороне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Она становится и заложницей советского государства, в котором нельзя честно и открыто перевезти свою же избу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0" t="0" r="0" b="7457"/>
          <a:stretch/>
        </p:blipFill>
        <p:spPr>
          <a:xfrm>
            <a:off x="179280" y="981000"/>
            <a:ext cx="3598920" cy="2446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149720"/>
            <a:ext cx="39117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4020"/>
                </a:solidFill>
                <a:latin typeface="Times New Roman"/>
              </a:rPr>
              <a:t>Тема праведничества в рассказе</a:t>
            </a:r>
            <a:br>
              <a:rPr sz="3600"/>
            </a:br>
            <a:r>
              <a:rPr b="1" lang="ru-RU" sz="2000" spc="-1" strike="noStrike">
                <a:solidFill>
                  <a:srgbClr val="301800"/>
                </a:solidFill>
                <a:latin typeface="Arial Narrow"/>
              </a:rPr>
              <a:t>Долго и успешно избегая прямого слова, Солженицын пришёл к языку проповеди, что тот же час послужило поводом для зачисления писателя в диссиденты.</a:t>
            </a:r>
            <a:endParaRPr b="0" lang="en-US" sz="2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42560" y="5157720"/>
            <a:ext cx="42483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едник, - объясняет словарь С.И. Ожегова, - во-первых, человек, живущий в соответствии с религиозными правилами; во-вторых, человек, ни в чём не погрешающий против правил нравственности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03280" y="1828440"/>
            <a:ext cx="3605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14020"/>
                </a:solidFill>
                <a:latin typeface="Arial Narrow"/>
              </a:rPr>
              <a:t>К теме праведничества А.И. Солженицын подходит деликатно. Писатель переосмысливает образы праведников в русской литературе и изображает праведником не человека, который прошёл через множество грехов, раскаялся и стал жить по-божески. Он делает праведничество естественным образом жизни героини.</a:t>
            </a: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27589" t="0" r="0" b="8743"/>
          <a:stretch/>
        </p:blipFill>
        <p:spPr>
          <a:xfrm>
            <a:off x="755640" y="1557360"/>
            <a:ext cx="387180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35280" y="115920"/>
            <a:ext cx="5329440" cy="13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4020"/>
                </a:solidFill>
                <a:latin typeface="Times New Roman"/>
              </a:rPr>
              <a:t>Матрёнин дом – матрёнин мир – особый мир праведника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708000" y="1412640"/>
            <a:ext cx="525636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 algn="just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60640" indent="-260640" algn="just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Название рассказа А.И. Солженицына "Матренин двор" можно истолковать по-разному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60640" indent="-260640" algn="just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В первом случае, "двор" - уклад жизни Матрёны, её хозяйство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60640" indent="-260640" algn="just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Во втором случае слово "двор" акцентирует внимание читателя на судьбе самого матрёниного хозяйственного двора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60640" indent="-260640" algn="just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В третьем случае - "двор" символизирует тот круг людей, которые были так или иначе заинтересованы в Матрене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60640" indent="-260640" algn="just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В третьем значении трагизм наиболее велик, так как речь идет о том, что даже смерть не может заставить людей задуматься однажды о справедливости и должном отношении к достоинствам человека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1280" y="5084640"/>
            <a:ext cx="8532720" cy="166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"Все мы жили рядом с ней и не поняли, что есть она тот самый праведник, без которого, по пословице, не стоит село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и город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и вся земля наша"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следние фразы рассказа расширяют границы "матрёниного двора" (как личного мира героини) до масштабов человечества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4724" t="0" r="17763" b="9514"/>
          <a:stretch/>
        </p:blipFill>
        <p:spPr>
          <a:xfrm>
            <a:off x="0" y="1413000"/>
            <a:ext cx="365292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435280" y="304560"/>
            <a:ext cx="352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18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614020"/>
                </a:solidFill>
                <a:latin typeface="Times New Roman"/>
              </a:rPr>
              <a:t>Разрушение мира деревни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4000" y="5229360"/>
            <a:ext cx="82803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А.И. Солженицын написал рассказ, как будто переставив акценты в пословице: важнее всего – что село «не стоит», именно потому, что не на ком, не на чем держаться, ибо ныне праведника не ценят - и он погибает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-288000"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24000" y="1341360"/>
            <a:ext cx="3240360" cy="37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4020"/>
                </a:solidFill>
                <a:latin typeface="Arial Narrow"/>
              </a:rPr>
              <a:t>«Не стоит село без праведника» – народная мудрость. Смысловой акцент пословицы такой: если есть село, то есть и праведник, и на нем ведь мир крестьянский держится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4961" t="0" r="4489" b="10353"/>
          <a:stretch/>
        </p:blipFill>
        <p:spPr>
          <a:xfrm>
            <a:off x="0" y="692280"/>
            <a:ext cx="5796000" cy="3673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9280" y="4365720"/>
            <a:ext cx="374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ба М.В. Захаровой в деревне Мильцево Владимирской области, где Солженицын жил и учительствовал с августа 1956 по июнь 1957. 1956 г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4020"/>
                </a:solidFill>
                <a:latin typeface="Times New Roman"/>
              </a:rPr>
              <a:t>Художественное</a:t>
            </a:r>
            <a:r>
              <a:rPr b="0" lang="en-US" sz="2800" spc="-1" strike="noStrike">
                <a:solidFill>
                  <a:srgbClr val="3018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614020"/>
                </a:solidFill>
                <a:latin typeface="Times New Roman"/>
              </a:rPr>
              <a:t>своеобразие</a:t>
            </a:r>
            <a:r>
              <a:rPr b="0" lang="en-US" sz="2800" spc="-1" strike="noStrike">
                <a:solidFill>
                  <a:srgbClr val="3018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614020"/>
                </a:solidFill>
                <a:latin typeface="Times New Roman"/>
              </a:rPr>
              <a:t>рассказа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24360" y="1628280"/>
            <a:ext cx="49687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4020"/>
                </a:solidFill>
                <a:latin typeface="Arial"/>
              </a:rPr>
              <a:t>«Матрёнин двор» минимально включает пейзаж, а вот интерьеру автор уделяет больше внимания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4020"/>
                </a:solidFill>
                <a:latin typeface="Arial"/>
              </a:rPr>
              <a:t>Солженицын – отличный портретист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4020"/>
                </a:solidFill>
                <a:latin typeface="Arial"/>
              </a:rPr>
              <a:t>В самой тональности фразы, подборе «красок» чувствуется авторское  отношение к Матрене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4020"/>
                </a:solidFill>
                <a:latin typeface="Arial"/>
              </a:rPr>
              <a:t>Исследователи отмечают, что примерно 40% лексики, используемой автором, заимствованы из словаря Даля. Автор использует настоящие русские слова, которые давно уже не употребляются.</a:t>
            </a:r>
            <a:r>
              <a:rPr b="0" lang="en-US" sz="1800" spc="-1" strike="noStrike">
                <a:solidFill>
                  <a:srgbClr val="61402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4020"/>
                </a:solidFill>
                <a:latin typeface="Arial"/>
              </a:rPr>
              <a:t>В первой части произведения всё повествование о Матрёне дано через восприятие автора, во второй героиня рассказывает о себе сама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2828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239240" cy="14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614020"/>
                </a:solidFill>
                <a:latin typeface="Arial"/>
                <a:ea typeface="Times New Roman"/>
              </a:rPr>
              <a:t>Рассказ А.И. Солженицына «Матренин двор» в русской литературе ХХ века</a:t>
            </a:r>
            <a:endParaRPr b="0" lang="en-US" sz="32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31708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Рассказ“Матрёнин двор” находится у истоков русской деревенской прозы второй половины XX века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rcRect l="0" t="17434" r="0" b="0"/>
          <a:stretch/>
        </p:blipFill>
        <p:spPr>
          <a:xfrm>
            <a:off x="468360" y="2170080"/>
            <a:ext cx="80042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14020"/>
                </a:solidFill>
                <a:latin typeface="Arial"/>
                <a:ea typeface="Times New Roman"/>
              </a:rPr>
              <a:t>Выводы:</a:t>
            </a:r>
            <a:endParaRPr b="0" lang="en-US" sz="3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1828440"/>
            <a:ext cx="756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4020"/>
                </a:solidFill>
                <a:latin typeface="Arial Narrow"/>
              </a:rPr>
              <a:t>Словосочетание «Матрёнин двор», заменившее первоначальное название рассказа «Не стоит село без праведника» подарило произведению дополнительную многозначность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Матрёна - героиня рассказа, не смотря ни на что,  «просветленная, всем довольная, со своей доброй улыбкой». Она, по мысли автора,   «прирожденный ангел» – праведник. О праведности героини писали и пишут литературоведы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4020"/>
                </a:solidFill>
                <a:latin typeface="Arial Narrow"/>
              </a:rPr>
              <a:t>Матрёна - неканоническая святая. В центре рассказа - житие праведницы и великомученицы эпохи "сплошной коллективизации" и трагического социального эксперимента над целой страной. В том, что этот вечный тип праведника не перевелся на Руси, вся надежда автора на духовное выживание народа.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Нравоучительный, притчевый смысл рассказа в том, что нельзя жить только для себя, быть стяжателем и накопителем. Смысл человеческого существования в доброте, бескорыстии и том сиянии, который человек может излучать, освещая судьбы других людей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1905120" cy="3438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7020000" y="620640"/>
            <a:ext cx="1877760" cy="2573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68520" cy="2562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2627280" y="4695840"/>
            <a:ext cx="2857680" cy="2162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150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539640" y="1916280"/>
            <a:ext cx="1957320" cy="2438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2484360" y="115920"/>
            <a:ext cx="4572000" cy="25779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2556000" y="2492280"/>
            <a:ext cx="1662120" cy="23716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8"/>
          <a:srcRect l="0" t="0" r="0" b="29274"/>
          <a:stretch/>
        </p:blipFill>
        <p:spPr>
          <a:xfrm>
            <a:off x="0" y="4302000"/>
            <a:ext cx="2451240" cy="2556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>
            <a:off x="6232680" y="297648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60520" y="0"/>
            <a:ext cx="86263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31640" y="333360"/>
            <a:ext cx="7383240" cy="6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14020"/>
                </a:solidFill>
                <a:latin typeface="Arial"/>
                <a:ea typeface="Times New Roman"/>
              </a:rPr>
              <a:t>Список</a:t>
            </a:r>
            <a:r>
              <a:rPr b="0" lang="en-US" sz="3600" spc="-1" strike="noStrike">
                <a:solidFill>
                  <a:srgbClr val="3018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614020"/>
                </a:solidFill>
                <a:latin typeface="Arial"/>
                <a:ea typeface="Times New Roman"/>
              </a:rPr>
              <a:t>использованных</a:t>
            </a:r>
            <a:r>
              <a:rPr b="0" lang="en-US" sz="3600" spc="-1" strike="noStrike">
                <a:solidFill>
                  <a:srgbClr val="3018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614020"/>
                </a:solidFill>
                <a:latin typeface="Arial"/>
                <a:ea typeface="Times New Roman"/>
              </a:rPr>
              <a:t>источников</a:t>
            </a:r>
            <a:br>
              <a:rPr sz="4400"/>
            </a:br>
            <a:endParaRPr b="0" lang="en-US" sz="3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Все цитаты приводятся по изданию: Солженицын, А.И. Матрёнин двор /Хрестоматия по литературе для учащихся. - М, 1997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Беляева, Н. Уроки Солженицына Читаем «Матрёнин двор» / Литература. – 2008 . - № 2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Гурьев, В. Восхождение к Нагорной проповеди.../ [http://www.solzhenicyn.ru]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Еремина, Т. Рассказ А.И. Солженицына «Матренин двор в 11 классе»/ [http://gramma.ru/EDU/ портала "РУССКОЕ СЛОВО"]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Литвинова, В.И. «Жить не по лжи»: Методические рекомендации по изучению творчества А.И. Солженицына. - /[Хакасский государственный университет им. Н.Ф. Катанова. -  Абакан, 1997]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Сараскина, Л. Дом для Матрёны / Литературная газета, [30.04.2008]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Тюрганова И.К Анализ рассказа “Матрёнин двор”  / [http://festival.1september.ru/authors/100-862-463/]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Чалмаев, В.А. Жизнь и творчество. М., 1989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d9c81"/>
                </a:solidFill>
                <a:uFillTx/>
                <a:latin typeface="Arial Narrow"/>
                <a:hlinkClick r:id="rId1"/>
              </a:rPr>
              <a:t>https://yandex.ru/imag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Фото // «Матренин двор»: спектакль театра им. Е. Вахтангова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32000" y="3284280"/>
            <a:ext cx="6012000" cy="7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60" name="" descr="А.И. Солженицын на пороге дома Матрёны. 1994 год. Фото из книги Николая Ледовских «Возвращение в Матрёнин двор, или Один день Александра Исаевича» (Рязань: Поверенный, 2003)."/>
          <p:cNvPicPr/>
          <p:nvPr/>
        </p:nvPicPr>
        <p:blipFill>
          <a:blip r:embed="rId1"/>
          <a:stretch/>
        </p:blipFill>
        <p:spPr>
          <a:xfrm>
            <a:off x="3995640" y="3986280"/>
            <a:ext cx="1849680" cy="2871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059280" y="0"/>
            <a:ext cx="57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4020"/>
                </a:solidFill>
                <a:latin typeface="Cooper Black"/>
              </a:rPr>
              <a:t>Александр Иса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4020"/>
                </a:solidFill>
                <a:latin typeface="Cooper Black"/>
              </a:rPr>
              <a:t>Солженицын</a:t>
            </a:r>
            <a:br>
              <a:rPr sz="3200"/>
            </a:br>
            <a:r>
              <a:rPr b="1" lang="en-US" sz="3200" spc="-1" strike="noStrike">
                <a:solidFill>
                  <a:srgbClr val="614020"/>
                </a:solidFill>
                <a:latin typeface="Cooper Black"/>
              </a:rPr>
              <a:t>(1918 – 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916360" y="1557360"/>
            <a:ext cx="1892160" cy="2803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116000" y="3844800"/>
            <a:ext cx="2036880" cy="3013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5477040" y="1700280"/>
            <a:ext cx="3666960" cy="2444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156360" y="4449600"/>
            <a:ext cx="2774880" cy="2408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8256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24000" y="115560"/>
            <a:ext cx="5219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4020"/>
                </a:solidFill>
                <a:latin typeface="Verdana"/>
              </a:rPr>
              <a:t>А.И. Солженицын - новеллист</a:t>
            </a:r>
            <a:endParaRPr b="0" lang="en-US" sz="32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716000" y="1628280"/>
            <a:ext cx="442764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14020"/>
                </a:solidFill>
                <a:latin typeface="Arial Narrow"/>
              </a:rPr>
              <a:t>           </a:t>
            </a:r>
            <a:r>
              <a:rPr b="1" lang="ru-RU" sz="1800" spc="-1" strike="noStrike">
                <a:solidFill>
                  <a:srgbClr val="614020"/>
                </a:solidFill>
                <a:latin typeface="Verdana"/>
              </a:rPr>
              <a:t>В своих рассказах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614020"/>
                </a:solidFill>
                <a:latin typeface="Verdana"/>
              </a:rPr>
              <a:t>А.И. Солженицын  размышляет над вечными вопросами, один из которых - сохранение человеческой души в условиях тяжелой жизни простых деревенских людей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614020"/>
                </a:solidFill>
                <a:latin typeface="Verdana"/>
              </a:rPr>
              <a:t>Рассказ “Матренин двор” дает яркое представление о выдающемся художественном таланте писателя, его верности правде в литературе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d9c81"/>
                </a:solidFill>
                <a:uFillTx/>
                <a:latin typeface="Arial Narrow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9d9c81"/>
                </a:solidFill>
                <a:uFillTx/>
                <a:latin typeface="Arial Narrow"/>
                <a:hlinkClick r:id="rId2"/>
              </a:rPr>
              <a:t>://</a:t>
            </a:r>
            <a:r>
              <a:rPr b="0" lang="ru-RU" sz="1600" spc="-1" strike="noStrike" u="sng">
                <a:solidFill>
                  <a:srgbClr val="9d9c81"/>
                </a:solidFill>
                <a:uFillTx/>
                <a:latin typeface="Arial Narrow"/>
                <a:hlinkClick r:id="rId3"/>
              </a:rPr>
              <a:t>www.kniga.ru</a:t>
            </a:r>
            <a:r>
              <a:rPr b="0" lang="ru-RU" sz="1600" spc="-1" strike="noStrike" u="sng">
                <a:solidFill>
                  <a:srgbClr val="9d9c81"/>
                </a:solidFill>
                <a:uFillTx/>
                <a:latin typeface="Arial Narrow"/>
                <a:hlinkClick r:id="rId4"/>
              </a:rPr>
              <a:t>/</a:t>
            </a:r>
            <a:r>
              <a:rPr b="0" lang="ru-RU" sz="1600" spc="-1" strike="noStrike" u="sng">
                <a:solidFill>
                  <a:srgbClr val="9d9c81"/>
                </a:solidFill>
                <a:uFillTx/>
                <a:latin typeface="Arial Narrow"/>
                <a:hlinkClick r:id="rId5"/>
              </a:rPr>
              <a:t>books</a:t>
            </a:r>
            <a:r>
              <a:rPr b="0" lang="ru-RU" sz="1600" spc="-1" strike="noStrike" u="sng">
                <a:solidFill>
                  <a:srgbClr val="9d9c81"/>
                </a:solidFill>
                <a:uFillTx/>
                <a:latin typeface="Arial Narrow"/>
                <a:hlinkClick r:id="rId6"/>
              </a:rPr>
              <a:t>/95952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.П. Астафьев назвал «Матренин двор» «вершиной русской новеллистики».</a:t>
            </a: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0" y="-54000"/>
            <a:ext cx="3828960" cy="2878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Александр Солженицын. Рассказы"/>
          <p:cNvPicPr/>
          <p:nvPr/>
        </p:nvPicPr>
        <p:blipFill>
          <a:blip r:embed="rId8"/>
          <a:stretch/>
        </p:blipFill>
        <p:spPr>
          <a:xfrm>
            <a:off x="1900080" y="2708280"/>
            <a:ext cx="2668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4020"/>
                </a:solidFill>
                <a:latin typeface="Cooper Black"/>
              </a:rPr>
              <a:t>Рассказ А.И. Солженицына "Матренин двор"</a:t>
            </a:r>
            <a:endParaRPr b="0" lang="en-US" sz="32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634920" y="1828800"/>
            <a:ext cx="525780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14020"/>
                </a:solidFill>
                <a:latin typeface="Arial Narrow"/>
              </a:rPr>
              <a:t>"</a:t>
            </a:r>
            <a:r>
              <a:rPr b="1" lang="ru-RU" sz="2400" spc="-1" strike="noStrike">
                <a:solidFill>
                  <a:srgbClr val="614020"/>
                </a:solidFill>
                <a:latin typeface="Arial Narrow"/>
              </a:rPr>
              <a:t>Не стоит село без праведника</a:t>
            </a:r>
            <a:r>
              <a:rPr b="1" lang="ru-RU" sz="2000" spc="-1" strike="noStrike">
                <a:solidFill>
                  <a:srgbClr val="614020"/>
                </a:solidFill>
                <a:latin typeface="Arial Narrow"/>
              </a:rPr>
              <a:t>" – первоначальное название рассказа (изменено по настоянию главного редактора журнала "Новый мир" А.Т. Твардовского, который понимал, что цензура не допустит к печати произведение с таким названием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14020"/>
                </a:solidFill>
                <a:latin typeface="Arial Narrow"/>
              </a:rPr>
              <a:t>1959 г. – идея рассказа;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14020"/>
                </a:solidFill>
                <a:latin typeface="Arial Narrow"/>
              </a:rPr>
              <a:t>1956 г. - события, отраженные в рассказе, происходят в этом году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14020"/>
                </a:solidFill>
                <a:latin typeface="Arial Narrow"/>
              </a:rPr>
              <a:t>1953 год – для первой публикации рассказа события перенесены (по настоятельной просьбе А.Т. Твардовского) в дохрущёвское время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14020"/>
                </a:solidFill>
                <a:latin typeface="Arial Narrow"/>
              </a:rPr>
              <a:t>1963г. – написание рассказа, первая публикация в журнале "Новый мир"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14020"/>
                </a:solidFill>
                <a:latin typeface="Arial Narrow"/>
              </a:rPr>
              <a:t>1974г. – изъятие произведений писателя из библиотек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4002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Verdana"/>
              </a:rPr>
              <a:t>Цель и задачи: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560" y="1828440"/>
            <a:ext cx="8101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4020"/>
                </a:solidFill>
                <a:latin typeface="Verdana"/>
              </a:rPr>
              <a:t>Цель: показать, как в судьбе главной героини рассказа - Матрёны - сконцентрирована трагедия деревенской русской женщины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402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614020"/>
                </a:solidFill>
                <a:latin typeface="Verdana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4020"/>
                </a:solidFill>
                <a:latin typeface="Verdana"/>
              </a:rPr>
              <a:t>Установить связь между двумя названиями рассказа («Матрёнин двор» и первоначальным – «Не стоит село без праведника»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4020"/>
                </a:solidFill>
                <a:latin typeface="Verdana"/>
              </a:rPr>
              <a:t>Дать осмысление образа главной героини как праведницы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4020"/>
                </a:solidFill>
                <a:latin typeface="Verdana"/>
              </a:rPr>
              <a:t>Показать общечеловеческое значение рассказа.</a:t>
            </a:r>
            <a:r>
              <a:rPr b="1" lang="en-US" sz="2400" spc="-1" strike="noStrike">
                <a:solidFill>
                  <a:srgbClr val="61402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4020"/>
                </a:solidFill>
                <a:latin typeface="Times New Roman"/>
              </a:rPr>
              <a:t>Повествователь - Игнатьич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40000" y="1773000"/>
            <a:ext cx="4679640" cy="44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14020"/>
                </a:solidFill>
                <a:latin typeface="Verdana"/>
              </a:rPr>
              <a:t>Образ рассказчика автобиографичен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924000" y="5986080"/>
            <a:ext cx="468468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.И. Солженицын в деревенской избе за рабочим столом, 1955 год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8256" t="20695" r="0" b="0"/>
          <a:stretch/>
        </p:blipFill>
        <p:spPr>
          <a:xfrm>
            <a:off x="179280" y="1125360"/>
            <a:ext cx="3584520" cy="4569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50920" y="5734080"/>
            <a:ext cx="34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ександр Исаевич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лженицын в деревне Мильцево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22 октября 195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738600" y="2276640"/>
            <a:ext cx="540540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24000" y="304560"/>
            <a:ext cx="64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14020"/>
                </a:solidFill>
                <a:latin typeface="Arial"/>
                <a:ea typeface="Times New Roman"/>
              </a:rPr>
              <a:t>Главная героиня рассказа – Матрёна</a:t>
            </a:r>
            <a:r>
              <a:rPr b="0" lang="en-US" sz="4400" spc="-1" strike="noStrike">
                <a:solidFill>
                  <a:srgbClr val="3018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614020"/>
                </a:solidFill>
                <a:latin typeface="Arial"/>
                <a:ea typeface="Times New Roman"/>
              </a:rPr>
              <a:t>Васильевна</a:t>
            </a:r>
            <a:endParaRPr b="0" lang="en-US" sz="36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195280" y="1828440"/>
            <a:ext cx="2679480" cy="2095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027760" y="1828440"/>
            <a:ext cx="3581280" cy="2095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2411280" y="1844280"/>
            <a:ext cx="309744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4020"/>
                </a:solidFill>
                <a:latin typeface="Verdana"/>
              </a:rPr>
              <a:t>Много горя и несправедливости пришлось хлебнуть героине на своем веку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4020"/>
                </a:solidFill>
                <a:latin typeface="Verdana"/>
              </a:rPr>
              <a:t>В судьбе одной  Матрены сконцентрирована трагедия деревенской русской женщины. Но – удивительное дело! – не обозлилась на этот мир Матрена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027760" y="4076280"/>
            <a:ext cx="3581280" cy="20955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64000" y="1828440"/>
            <a:ext cx="3780000" cy="209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8" name="jzl-048" descr=""/>
          <p:cNvPicPr/>
          <p:nvPr/>
        </p:nvPicPr>
        <p:blipFill>
          <a:blip r:embed="rId4"/>
          <a:srcRect l="4808" t="7323" r="4808" b="1654"/>
          <a:stretch/>
        </p:blipFill>
        <p:spPr>
          <a:xfrm>
            <a:off x="0" y="0"/>
            <a:ext cx="2354400" cy="6889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411280" y="5805000"/>
            <a:ext cx="24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трёна Васильевна Захарова у своей избы. 1956 го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5724360" y="1793880"/>
            <a:ext cx="31957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68000" y="0"/>
            <a:ext cx="6342120" cy="82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14020"/>
                </a:solidFill>
                <a:latin typeface="Arial"/>
                <a:ea typeface="Times New Roman"/>
              </a:rPr>
              <a:t>Матрена и Игнатьич</a:t>
            </a:r>
            <a:endParaRPr b="0" lang="en-US" sz="3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148360" y="3789360"/>
            <a:ext cx="34574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000" spc="-1" strike="noStrike">
                <a:solidFill>
                  <a:srgbClr val="614020"/>
                </a:solidFill>
                <a:latin typeface="Verdana"/>
              </a:rPr>
              <a:t>В рассказе обнаруживается общее в героине и рассказчике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26920" y="5157360"/>
            <a:ext cx="7885440" cy="159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614020"/>
                </a:solidFill>
                <a:latin typeface="Arial Narrow"/>
              </a:rPr>
              <a:t>В первой части произведения всё повествование о Матрёне дано через восприятие автора, во второй героиня рассказывает о себе сама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70120" cy="3892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619280" y="2565360"/>
            <a:ext cx="3333600" cy="2543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645080" y="765000"/>
            <a:ext cx="44989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09:54:16Z</dcterms:created>
  <dc:creator>Пользователь</dc:creator>
  <dc:description/>
  <dc:language>en-US</dc:language>
  <cp:lastModifiedBy>SE7EN USER</cp:lastModifiedBy>
  <dcterms:modified xsi:type="dcterms:W3CDTF">2018-08-17T16:03:50Z</dcterms:modified>
  <cp:revision>48</cp:revision>
  <dc:subject/>
  <dc:title>Александр Исаевич Солженицын (1918 – 2008) </dc:title>
</cp:coreProperties>
</file>