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8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4.png" ContentType="image/png"/>
  <Override PartName="/ppt/media/image10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7.jpeg" ContentType="image/jpeg"/>
  <Override PartName="/ppt/media/image3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move the slide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4F922-4914-49D4-AB3C-AE172BD022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0832-0DD2-40EA-BE4D-707DCB8359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A07-849C-4302-865C-5BC7F617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4CFB-BA82-4DC6-A080-5FFC5B5E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094-8D5E-41C9-924B-AF8C8038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9FC-AF5B-40D1-9CAC-6F24AE69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A9756-DEB9-4DB0-8CD5-F0B284300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8657-F6D0-4171-ABB6-8D865F916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CE1A-B10A-48A0-A8B7-7427FA6F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70FE5-2DCC-4463-A41D-C845BF1D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308A6-6099-475F-A8D1-59BF5263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E86B5-7D59-4ABE-9939-9DE530C1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093C-5103-4EFD-8DFB-2348D1849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67A3-9114-40F1-A47B-0F661AC1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593AD-C50B-4A9D-9A49-0CF2D7C1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46B61-A7F1-4EA8-B068-31CC2141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5B01-776B-40ED-A2EF-72CA94CCD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25149-7C1B-464C-83E2-069DB901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02840-28C2-4F37-91A0-C1E73A4BD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5BE8-D1D6-4F42-953E-B52245EB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9BE87-6238-46D1-A74F-4196DACA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8F5E-F307-4687-B0D6-B9DE56C71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7CA3-96EB-4576-9AA5-B7027DF5C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36E-07CD-4D63-9BC0-3F739D31B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32F5-8B9F-45C0-824D-DC1E5872C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DA5E-C3BE-4E13-8385-CCF1D728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B492-7E9A-4B06-B92A-B5EB910ED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5540-738A-409C-BDD2-ED1CED8764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hyperlink" Target="http://vakhtangov.theatre.ru/performance/matrenindvor/photo12.html" TargetMode="External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0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yandex.ru/images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kniga.ru/books/95952" TargetMode="External"/><Relationship Id="rId2" Type="http://schemas.openxmlformats.org/officeDocument/2006/relationships/hyperlink" Target="http://www.kniga.ru/books/95952" TargetMode="External"/><Relationship Id="rId3" Type="http://schemas.openxmlformats.org/officeDocument/2006/relationships/hyperlink" Target="http://www.kniga.ru/books/95952" TargetMode="External"/><Relationship Id="rId4" Type="http://schemas.openxmlformats.org/officeDocument/2006/relationships/hyperlink" Target="http://www.kniga.ru/books/95952" TargetMode="External"/><Relationship Id="rId5" Type="http://schemas.openxmlformats.org/officeDocument/2006/relationships/hyperlink" Target="http://www.kniga.ru/books/95952" TargetMode="External"/><Relationship Id="rId6" Type="http://schemas.openxmlformats.org/officeDocument/2006/relationships/hyperlink" Target="http://www.kniga.ru/books/95952" TargetMode="External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620280"/>
            <a:ext cx="7239240" cy="67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14020"/>
                </a:solidFill>
                <a:latin typeface="Verdana"/>
              </a:rPr>
              <a:t>Урок литератур</a:t>
            </a:r>
            <a:r>
              <a:rPr b="0" lang="en-US" sz="3600" spc="-1" strike="noStrike">
                <a:solidFill>
                  <a:srgbClr val="614020"/>
                </a:solidFill>
                <a:latin typeface="Arial"/>
              </a:rPr>
              <a:t>ы</a:t>
            </a:r>
            <a:r>
              <a:rPr b="0" lang="en-US" sz="3600" spc="-1" strike="noStrike">
                <a:solidFill>
                  <a:srgbClr val="614020"/>
                </a:solidFill>
                <a:latin typeface="Verdana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«Не стоит село без праведника: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по рассказу 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Verdana"/>
              </a:rPr>
              <a:t>А.И. Солженицына «Матренин двор»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Левина Е.Д., учитель русского языка и литературы МОУ ОСШ № 94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68000" y="259920"/>
            <a:ext cx="630252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4020"/>
                </a:solidFill>
                <a:latin typeface="Times New Roman"/>
              </a:rPr>
              <a:t>Матрёна и Фаддей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851280" y="1828800"/>
            <a:ext cx="52927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Жизненные мытарства истребили в Фаддее сердечность и человеческие чувства. Люди потрясены смертями на железнодорожном переезде, а Фаддея мучает только одна мысль - спасти брошенные брёвна. "Порубал-таки Фаддей свою любовь, но и душа его при этом погибла"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Сравнивая жизненные пути героев, А.И. Солженицын даёт говорит читателям: жизненные невзгоды испытывают человека на прочность и его красоту.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"Идейно-художественные искания автора находятся в сфере христианско-православного мировоззрения. Разные стороны жизни русской деревни 50-х годов отражены в рассказе, но нравственно - духовное содержание является в нём доминирующим" </a:t>
            </a: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[</a:t>
            </a: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А.А. Симакова</a:t>
            </a: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]</a:t>
            </a:r>
            <a:r>
              <a:rPr b="0" lang="ru-RU" sz="12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rcRect l="0" t="0" r="10761" b="0"/>
          <a:stretch/>
        </p:blipFill>
        <p:spPr>
          <a:xfrm>
            <a:off x="179280" y="1916280"/>
            <a:ext cx="399600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Times New Roman"/>
              </a:rPr>
              <a:t>Разрушение дома Матрёны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924360" y="1828800"/>
            <a:ext cx="4968720" cy="27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14020"/>
                </a:solidFill>
                <a:latin typeface="Verdana"/>
              </a:rPr>
              <a:t>Люди, разбиравшие горницу, не думали, что они разрушают дом. Гибель дома предрешила и смерть Матрёны. В изуродованном доме она бы уже не смогла жить. Автором осуждаются и алчность, жадность, стяжательств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4869000"/>
            <a:ext cx="352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воей воспитаннице Матрёна отдала самое дорогое, что было в её жизни - дом: "... не жалко ей было горницу, стоявшую без дела, как вообще ни труда, ни добра своего...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7594"/>
          <a:stretch/>
        </p:blipFill>
        <p:spPr>
          <a:xfrm>
            <a:off x="611280" y="1197000"/>
            <a:ext cx="2235240" cy="3321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rcRect l="0" t="0" r="0" b="12600"/>
          <a:stretch/>
        </p:blipFill>
        <p:spPr>
          <a:xfrm>
            <a:off x="4500720" y="3933720"/>
            <a:ext cx="408780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32000" y="-360"/>
            <a:ext cx="7238880" cy="80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14020"/>
                </a:solidFill>
                <a:latin typeface="Times New Roman"/>
              </a:rPr>
              <a:t>Трагизм судьбы героини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211640" y="1341000"/>
            <a:ext cx="47512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Трагизм  жизни Матрёны проявился тогда, когда она, отдав без жалости часть дома, становится жертвой человеческой жадности, стяжательства, пьянства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Трагизм и в том, что односельчане не могли понять тех добрых чувств, которыми руководствовалась Матрёна в жизни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Внешней причиной гибели явились её самоотверженность, стремление помочь, а не отсидеться в сторон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Она становится и заложницей советского государства, в котором нельзя честно и открыто перевезти свою же изб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rcRect l="0" t="0" r="0" b="7457"/>
          <a:stretch/>
        </p:blipFill>
        <p:spPr>
          <a:xfrm>
            <a:off x="179280" y="981000"/>
            <a:ext cx="3598920" cy="24465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4149720"/>
            <a:ext cx="391176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020"/>
                </a:solidFill>
                <a:latin typeface="Times New Roman"/>
              </a:rPr>
              <a:t>Тема праведничества в рассказе</a:t>
            </a:r>
            <a:br>
              <a:rPr sz="3600"/>
            </a:br>
            <a:r>
              <a:rPr b="1" lang="ru-RU" sz="2000" spc="-1" strike="noStrike">
                <a:solidFill>
                  <a:srgbClr val="301800"/>
                </a:solidFill>
                <a:latin typeface="Arial Narrow"/>
              </a:rPr>
              <a:t>Долго и успешно избегая прямого слова, Солженицын пришёл к языку проповеди, что тот же час послужило поводом для зачисления писателя в диссиденты.</a:t>
            </a:r>
            <a:endParaRPr b="0" lang="en-US" sz="2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042560" y="5157720"/>
            <a:ext cx="424836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едник, - объясняет словарь С.И. Ожегова, - во-первых, человек, живущий в соответствии с религиозными правилами; во-вторых, человек, ни в чём не погрешающий против правил нравственности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03280" y="1828440"/>
            <a:ext cx="3605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614020"/>
                </a:solidFill>
                <a:latin typeface="Arial Narrow"/>
              </a:rPr>
              <a:t>К теме праведничества А.И. Солженицын подходит деликатно. Писатель переосмысливает образы праведников в русской литературе и изображает праведником не человека, который прошёл через множество грехов, раскаялся и стал жить по-божески. Он делает праведничество естественным образом жизни героини.</a:t>
            </a: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27589" t="0" r="0" b="8743"/>
          <a:stretch/>
        </p:blipFill>
        <p:spPr>
          <a:xfrm>
            <a:off x="755640" y="1557360"/>
            <a:ext cx="3871800" cy="35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635280" y="115920"/>
            <a:ext cx="5329440" cy="133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14020"/>
                </a:solidFill>
                <a:latin typeface="Times New Roman"/>
              </a:rPr>
              <a:t>Матрёнин дом – матрёнин мир – особый мир праведник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708000" y="1412640"/>
            <a:ext cx="525636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Название рассказа А.И. Солженицына "Матренин двор" можно истолковать по-разному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первом случае, "двор" - уклад жизни Матрёны, её хозяйство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о втором случае слово "двор" акцентирует внимание читателя на судьбе самого матрёниного хозяйственного двора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третьем случае - "двор" символизирует тот круг людей, которые были так или иначе заинтересованы в Матрен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60640" indent="-260640" algn="just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 третьем значении трагизм наиболее велик, так как речь идет о том, что даже смерть не может заставить людей задуматься однажды о справедливости и должном отношении к достоинствам человека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1280" y="5084640"/>
            <a:ext cx="8532720" cy="166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"Все мы жили рядом с ней и не поняли, что есть она тот самый праведник, без которого, по пословице, не стоит село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 город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Ни вся земля наша".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Narrow"/>
              </a:rPr>
              <a:t>Последние фразы рассказа расширяют границы "матрёниного двора" (как личного мира героини) до масштабов человечеств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4724" t="0" r="17763" b="9514"/>
          <a:stretch/>
        </p:blipFill>
        <p:spPr>
          <a:xfrm>
            <a:off x="0" y="1413000"/>
            <a:ext cx="3652920" cy="31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435280" y="304560"/>
            <a:ext cx="3529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18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Разрушение мира деревни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84000" y="5229360"/>
            <a:ext cx="828036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А.И. Солженицын написал рассказ, как будто переставив акценты в пословице: важнее всего – что село «не стоит», именно потому, что не на ком, не на чем держаться, ибо ныне праведника не ценят - и он погибает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88000" indent="-288000"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724000" y="1341360"/>
            <a:ext cx="3240360" cy="374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Arial Narrow"/>
              </a:rPr>
              <a:t>«Не стоит село без праведника» – народная мудрость. Смысловой акцент пословицы такой: если есть село, то есть и праведник, и на нем ведь мир крестьянский держится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4961" t="0" r="4489" b="10353"/>
          <a:stretch/>
        </p:blipFill>
        <p:spPr>
          <a:xfrm>
            <a:off x="0" y="692280"/>
            <a:ext cx="5796000" cy="3673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4365720"/>
            <a:ext cx="374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зба М.В. Захаровой в деревне Мильцево Владимирской области, где Солженицын жил и учительствовал с августа 1956 по июнь 1957. 1956 год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Художественное</a:t>
            </a:r>
            <a:r>
              <a:rPr b="0" lang="en-US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своеобразие</a:t>
            </a:r>
            <a:r>
              <a:rPr b="0" lang="en-US" sz="28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614020"/>
                </a:solidFill>
                <a:latin typeface="Times New Roman"/>
              </a:rPr>
              <a:t>рассказа</a:t>
            </a:r>
            <a:endParaRPr b="0" lang="en-US" sz="2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924360" y="1628280"/>
            <a:ext cx="4968720" cy="504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«Матрёнин двор» минимально включает пейзаж, а вот интерьеру автор уделяет больше внимания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Солженицын – отличный портретист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В самой тональности фразы, подборе «красок» чувствуется авторское  отношение к Матрен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Исследователи отмечают, что примерно 40% лексики, используемой автором, заимствованы из словаря Даля. Автор использует настоящие русские слова, которые давно уже не употребляются.</a:t>
            </a:r>
            <a:r>
              <a:rPr b="0" lang="en-US" sz="1800" spc="-1" strike="noStrike">
                <a:solidFill>
                  <a:srgbClr val="61402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14020"/>
                </a:solidFill>
                <a:latin typeface="Arial"/>
              </a:rPr>
              <a:t>В первой части произведения всё повествование о Матрёне дано через восприятие автора, во второй героиня рассказывает о себе сама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258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3282840" cy="52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7239240" cy="14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3200" spc="-1" strike="noStrike">
                <a:solidFill>
                  <a:srgbClr val="614020"/>
                </a:solidFill>
                <a:latin typeface="Arial"/>
                <a:ea typeface="Times New Roman"/>
              </a:rPr>
              <a:t>Рассказ А.И. Солженицына «Матренин двор» в русской литературе ХХ века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6560" y="1484280"/>
            <a:ext cx="831708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Рассказ“Матрёнин двор” находится у истоков русской деревенской прозы второй половины XX века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rcRect l="0" t="17434" r="0" b="0"/>
          <a:stretch/>
        </p:blipFill>
        <p:spPr>
          <a:xfrm>
            <a:off x="468360" y="2170080"/>
            <a:ext cx="800424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Выводы: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1828440"/>
            <a:ext cx="756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Arial Narrow"/>
              </a:rPr>
              <a:t>Словосочетание «Матрёнин двор», заменившее первоначальное название рассказа «Не стоит село без праведника» подарило произведению дополнительную многозначность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Матрёна - героиня рассказа, не смотря ни на что,  «просветленная, всем довольная, со своей доброй улыбкой». Она, по мысли автора,   «прирожденный ангел» – праведник. О праведности героини писали и пишут литературоведы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Arial Narrow"/>
              </a:rPr>
              <a:t>Матрёна - неканоническая святая. В центре рассказа - житие праведницы и великомученицы эпохи "сплошной коллективизации" и трагического социального эксперимента над целой страной. В том, что этот вечный тип праведника не перевелся на Руси, вся надежда автора на духовное выживание народа.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Нравоучительный, притчевый смысл рассказа в том, что нельзя жить только для себя, быть стяжателем и накопителем. Смысл человеческого существования в доброте, бескорыстии и том сиянии, который человек может излучать, освещая судьбы других людей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284720" y="2565360"/>
            <a:ext cx="1905120" cy="343872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7020000" y="620640"/>
            <a:ext cx="1877760" cy="25732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568520" cy="25621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2627280" y="4695840"/>
            <a:ext cx="2857680" cy="216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0" y="1508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539640" y="1916280"/>
            <a:ext cx="1957320" cy="2438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2484360" y="115920"/>
            <a:ext cx="4572000" cy="257796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2556000" y="2492280"/>
            <a:ext cx="1662120" cy="237168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8"/>
          <a:srcRect l="0" t="0" r="0" b="29274"/>
          <a:stretch/>
        </p:blipFill>
        <p:spPr>
          <a:xfrm>
            <a:off x="0" y="4302000"/>
            <a:ext cx="2451240" cy="25560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9"/>
          <a:stretch/>
        </p:blipFill>
        <p:spPr>
          <a:xfrm>
            <a:off x="6232680" y="297648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60520" y="0"/>
            <a:ext cx="86263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31640" y="333360"/>
            <a:ext cx="7383240" cy="60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Список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использованных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источников</a:t>
            </a:r>
            <a:br>
              <a:rPr sz="4400"/>
            </a:b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Все цитаты приводятся по изданию: Солженицын, А.И. Матрёнин двор /Хрестоматия по литературе для учащихся. - М, 1997.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Беляева, Н. Уроки Солженицына Читаем «Матрёнин двор» / Литература. – 2008 . - № 22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Гурьев, В. Восхождение к Нагорной проповеди.../ [http://www.solzhenicyn.ru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Еремина, Т. Рассказ А.И. Солженицына «Матренин двор в 11 классе»/ [http://gramma.ru/EDU/ портала "РУССКОЕ СЛОВО"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Литвинова, В.И. «Жить не по лжи»: Методические рекомендации по изучению творчества А.И. Солженицына. - /[Хакасский государственный университет им. Н.Ф. Катанова. -  Абакан, 1997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Сараскина, Л. Дом для Матрёны / Литературная газета, [30.04.2008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Тюрганова И.К Анализ рассказа “Матрёнин двор”  / [http://festival.1september.ru/authors/100-862-463/]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Чалмаев, В.А. Жизнь и творчество. М., 1989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9d9c81"/>
                </a:solidFill>
                <a:uFillTx/>
                <a:latin typeface="Arial Narrow"/>
                <a:hlinkClick r:id="rId1"/>
              </a:rPr>
              <a:t>https://yandex.ru/images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Arial Narrow"/>
              </a:rPr>
              <a:t>Фото // «Матренин двор»: спектакль театра им. Е. Вахтангова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132000" y="3284280"/>
            <a:ext cx="6012000" cy="7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0" name="" descr="А.И. Солженицын на пороге дома Матрёны. 1994 год. Фото из книги Николая Ледовских «Возвращение в Матрёнин двор, или Один день Александра Исаевича» (Рязань: Поверенный, 2003)."/>
          <p:cNvPicPr/>
          <p:nvPr/>
        </p:nvPicPr>
        <p:blipFill>
          <a:blip r:embed="rId1"/>
          <a:stretch/>
        </p:blipFill>
        <p:spPr>
          <a:xfrm>
            <a:off x="3995640" y="3986280"/>
            <a:ext cx="1849680" cy="2871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059280" y="0"/>
            <a:ext cx="579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Александр Исаеви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Солженицын</a:t>
            </a:r>
            <a:br>
              <a:rPr sz="3200"/>
            </a:b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(1918 – 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916360" y="1557360"/>
            <a:ext cx="1892160" cy="28036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116000" y="3844800"/>
            <a:ext cx="2036880" cy="30132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477040" y="1700280"/>
            <a:ext cx="3666960" cy="2444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156360" y="4449600"/>
            <a:ext cx="2774880" cy="2408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6"/>
          <a:stretch/>
        </p:blipFill>
        <p:spPr>
          <a:xfrm>
            <a:off x="0" y="0"/>
            <a:ext cx="2825640" cy="37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24000" y="115560"/>
            <a:ext cx="5219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Verdana"/>
              </a:rPr>
              <a:t>А.И. Солженицын - новеллист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716000" y="1628280"/>
            <a:ext cx="4427640" cy="566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Arial Narrow"/>
              </a:rPr>
              <a:t>      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В своих рассказах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А.И. Солженицын  размышляет над вечными вопросами, один из которых - сохранение человеческой души в условиях тяжелой жизни простых деревенских людей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      </a:t>
            </a:r>
            <a:r>
              <a:rPr b="1" lang="ru-RU" sz="1800" spc="-1" strike="noStrike">
                <a:solidFill>
                  <a:srgbClr val="614020"/>
                </a:solidFill>
                <a:latin typeface="Verdana"/>
              </a:rPr>
              <a:t>Рассказ “Матренин двор” дает яркое представление о выдающемся художественном таланте писателя, его верности правде в литературе.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1"/>
              </a:rPr>
              <a:t>http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2"/>
              </a:rPr>
              <a:t>://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3"/>
              </a:rPr>
              <a:t>www.kniga.ru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4"/>
              </a:rPr>
              <a:t>/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5"/>
              </a:rPr>
              <a:t>books</a:t>
            </a:r>
            <a:r>
              <a:rPr b="0" lang="ru-RU" sz="1600" spc="-1" strike="noStrike" u="sng">
                <a:solidFill>
                  <a:srgbClr val="9d9c81"/>
                </a:solidFill>
                <a:uFillTx/>
                <a:latin typeface="Arial Narrow"/>
                <a:hlinkClick r:id="rId6"/>
              </a:rPr>
              <a:t>/95952</a:t>
            </a:r>
            <a:r>
              <a:rPr b="0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В.П. Астафьев назвал «Матренин двор» «вершиной русской новеллистики».</a:t>
            </a:r>
            <a:r>
              <a:rPr b="1" lang="ru-RU" sz="1600" spc="-1" strike="noStrike">
                <a:solidFill>
                  <a:srgbClr val="000000"/>
                </a:solidFill>
                <a:latin typeface="Book Antiqu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7"/>
          <a:stretch/>
        </p:blipFill>
        <p:spPr>
          <a:xfrm>
            <a:off x="0" y="-54000"/>
            <a:ext cx="3828960" cy="2878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Александр Солженицын. Рассказы"/>
          <p:cNvPicPr/>
          <p:nvPr/>
        </p:nvPicPr>
        <p:blipFill>
          <a:blip r:embed="rId8"/>
          <a:stretch/>
        </p:blipFill>
        <p:spPr>
          <a:xfrm>
            <a:off x="1900080" y="2708280"/>
            <a:ext cx="266868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14020"/>
                </a:solidFill>
                <a:latin typeface="Cooper Black"/>
              </a:rPr>
              <a:t>Рассказ А.И. Солженицына "Матренин двор"</a:t>
            </a:r>
            <a:endParaRPr b="0" lang="en-US" sz="32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34920" y="1828800"/>
            <a:ext cx="52578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"</a:t>
            </a:r>
            <a:r>
              <a:rPr b="1" lang="ru-RU" sz="2400" spc="-1" strike="noStrike">
                <a:solidFill>
                  <a:srgbClr val="614020"/>
                </a:solidFill>
                <a:latin typeface="Arial Narrow"/>
              </a:rPr>
              <a:t>Не стоит село без праведника</a:t>
            </a: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" – первоначальное название рассказа (изменено по настоянию главного редактора журнала "Новый мир" А.Т. Твардовского, который понимал, что цензура не допустит к печати произведение с таким названием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9 г. – идея рассказа;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6 г. - события, отраженные в рассказе, происходят в этом году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53 год – для первой публикации рассказа события перенесены (по настоятельной просьбе А.Т. Твардовского) в дохрущёвское время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63г. – написание рассказа, первая публикация в журнале "Новый мир"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14020"/>
                </a:solidFill>
                <a:latin typeface="Arial Narrow"/>
              </a:rPr>
              <a:t>1974г. – изъятие произведений писателя из библиотек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400200" cy="46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Verdana"/>
              </a:rPr>
              <a:t>Цель и задачи: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42560" y="1828440"/>
            <a:ext cx="8101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Цель: показать, как в судьбе главной героини рассказа - Матрёны - сконцентрирована трагедия деревенской русской женщины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Установить связь между двумя названиями рассказа («Матрёнин двор» и первоначальным – «Не стоит село без праведника»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Дать осмысление образа главной героини как праведницы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14020"/>
                </a:solidFill>
                <a:latin typeface="Verdana"/>
              </a:rPr>
              <a:t>Показать общечеловеческое значение рассказа.</a:t>
            </a:r>
            <a:r>
              <a:rPr b="1" lang="en-US" sz="2400" spc="-1" strike="noStrike">
                <a:solidFill>
                  <a:srgbClr val="61402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155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14020"/>
                </a:solidFill>
                <a:latin typeface="Times New Roman"/>
              </a:rPr>
              <a:t>Повествователь - Игнатьич</a:t>
            </a:r>
            <a:endParaRPr b="0" lang="en-US" sz="40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140000" y="1773000"/>
            <a:ext cx="4679640" cy="44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14020"/>
                </a:solidFill>
                <a:latin typeface="Verdana"/>
              </a:rPr>
              <a:t>Образ рассказчика автобиографичен</a:t>
            </a:r>
            <a:r>
              <a:rPr b="0" lang="ru-RU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924000" y="5986080"/>
            <a:ext cx="468468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А.И. Солженицын в деревенской избе за рабочим столом, 1955 год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8256" t="20695" r="0" b="0"/>
          <a:stretch/>
        </p:blipFill>
        <p:spPr>
          <a:xfrm>
            <a:off x="179280" y="1125360"/>
            <a:ext cx="3584520" cy="45691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50920" y="5734080"/>
            <a:ext cx="340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Александр Исаевич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олженицын в деревне Мильцево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22 октября 1956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738600" y="2276640"/>
            <a:ext cx="540540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24000" y="304560"/>
            <a:ext cx="6486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Главная героиня рассказа – Матрёна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Васильевна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195280" y="1828440"/>
            <a:ext cx="2679480" cy="2095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027760" y="1828440"/>
            <a:ext cx="3581280" cy="2095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2411280" y="1844280"/>
            <a:ext cx="3097440" cy="432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Много горя и несправедливости пришлось хлебнуть героине на своем веку.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 algn="just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В судьбе одной  Матрены сконцентрирована трагедия деревенской русской женщины. Но – удивительное дело! – не обозлилась на этот мир Матрена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5027760" y="4076280"/>
            <a:ext cx="3581280" cy="20955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64000" y="1828440"/>
            <a:ext cx="3780000" cy="209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88" name="jzl-048" descr=""/>
          <p:cNvPicPr/>
          <p:nvPr/>
        </p:nvPicPr>
        <p:blipFill>
          <a:blip r:embed="rId4"/>
          <a:srcRect l="4808" t="7323" r="4808" b="1654"/>
          <a:stretch/>
        </p:blipFill>
        <p:spPr>
          <a:xfrm>
            <a:off x="0" y="0"/>
            <a:ext cx="2354400" cy="6889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11280" y="5805000"/>
            <a:ext cx="24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Матрёна Васильевна Захарова у своей избы. 1956 го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5724360" y="1793880"/>
            <a:ext cx="319572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68000" y="0"/>
            <a:ext cx="6342120" cy="82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14020"/>
                </a:solidFill>
                <a:latin typeface="Arial"/>
                <a:ea typeface="Times New Roman"/>
              </a:rPr>
              <a:t>Матрена и Игнатьич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5148360" y="3789360"/>
            <a:ext cx="345744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000" spc="-1" strike="noStrike">
                <a:solidFill>
                  <a:srgbClr val="614020"/>
                </a:solidFill>
                <a:latin typeface="Verdana"/>
              </a:rPr>
              <a:t>В рассказе обнаруживается общее в героине и рассказчике.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826920" y="5157360"/>
            <a:ext cx="7885440" cy="15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614020"/>
                </a:solidFill>
                <a:latin typeface="Arial Narrow"/>
              </a:rPr>
              <a:t>В первой части произведения всё повествование о Матрёне дано через восприятие автора, во второй героиня рассказывает о себе сама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670120" cy="389268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3333600" cy="25430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645080" y="765000"/>
            <a:ext cx="4498920" cy="29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09:54:16Z</dcterms:created>
  <dc:creator>Пользователь</dc:creator>
  <dc:description/>
  <dc:language>en-US</dc:language>
  <cp:lastModifiedBy>SE7EN USER</cp:lastModifiedBy>
  <dcterms:modified xsi:type="dcterms:W3CDTF">2018-08-17T16:03:50Z</dcterms:modified>
  <cp:revision>48</cp:revision>
  <dc:subject/>
  <dc:title>Александр Исаевич Солженицын (1918 – 2008) </dc:title>
</cp:coreProperties>
</file>