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6.jpeg" ContentType="image/jpeg"/>
  <Override PartName="/ppt/media/image23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png" ContentType="image/png"/>
  <Override PartName="/ppt/media/image12.jpeg" ContentType="image/jpeg"/>
  <Override PartName="/ppt/media/image33.jpeg" ContentType="image/jpeg"/>
  <Override PartName="/ppt/media/image6.jpeg" ContentType="image/jpeg"/>
  <Override PartName="/ppt/media/image36.jpeg" ContentType="image/jpeg"/>
  <Override PartName="/ppt/media/image11.jpeg" ContentType="image/jpeg"/>
  <Override PartName="/ppt/media/image38.jpeg" ContentType="image/jpeg"/>
  <Override PartName="/ppt/media/image40.jpeg" ContentType="image/jpeg"/>
  <Override PartName="/ppt/media/image45.png" ContentType="image/png"/>
  <Override PartName="/ppt/media/image44.jpeg" ContentType="image/jpeg"/>
  <Override PartName="/ppt/media/image3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1.png" ContentType="image/png"/>
  <Override PartName="/ppt/media/image53.jpeg" ContentType="image/jpeg"/>
  <Override PartName="/ppt/media/image54.jpeg" ContentType="image/jpeg"/>
  <Override PartName="/ppt/media/image13.png" ContentType="image/png"/>
  <Override PartName="/ppt/media/image9.jpeg" ContentType="image/jpeg"/>
  <Override PartName="/ppt/media/image48.png" ContentType="image/png"/>
  <Override PartName="/ppt/media/image27.jpeg" ContentType="image/jpeg"/>
  <Override PartName="/ppt/media/image50.jpeg" ContentType="image/jpeg"/>
  <Override PartName="/ppt/media/image5.png" ContentType="image/png"/>
  <Override PartName="/ppt/media/image43.jpeg" ContentType="image/jpeg"/>
  <Override PartName="/ppt/media/image8.jpeg" ContentType="image/jpeg"/>
  <Override PartName="/ppt/media/image39.jpeg" ContentType="image/jpeg"/>
  <Override PartName="/ppt/media/image29.jpeg" ContentType="image/jpeg"/>
  <Override PartName="/ppt/media/image52.jpeg" ContentType="image/jpeg"/>
  <Override PartName="/ppt/media/image34.jpeg" ContentType="image/jpe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BA7BC-6081-4E81-B544-3DC6E66CE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617E8-609E-4658-AFE5-ADF47697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8CE0D-ED80-4524-ABE8-91355217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55606-05EE-40EC-9609-8079A472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C15187-4737-4568-BCBF-F19AD9F9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8EE6A-A3EE-47C6-9CE4-CD883FC2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03AF58-A26C-4FCB-B273-FB94CF04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3C46F8-4531-41BB-85D2-4BD52717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5AA436-ADD6-42E7-8B3B-3AD620BD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9D5C5D-98C6-4BB3-8F5B-9956CC4E2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45D17F-3EBB-4682-B3C6-F9466497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537FD-323E-4E1E-8315-60211F59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73C6E-C4BA-4E8A-9EC0-F7E248B7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80AB35-3A20-446E-96A2-1E414AA2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05FB04-A0C8-456B-8AE7-F73DC46F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0EBBB1-C641-49E1-A573-C592B366A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D29A1-6478-4D1F-9173-A691ECE8D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D3D0B-12AC-4295-BCFB-656592AF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9F381-8353-4415-A9E2-A9E5A37E7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036DB-83F9-4455-8B30-92CA1F89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D04064-483A-45A6-A1D5-E4BF2FBA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5B43E-EBB6-4842-98E7-8CCFA977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C9BE9-F4CB-4784-9349-518E9FFD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6B408-6D77-4272-9696-C1A08E23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697A-AC2D-45F2-8076-95F33BBA121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DF5A-C335-4AC1-A75E-DDFBB55CF9C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igor-tambov.narod.ru/museum/gpw/gpw-1943/img/1943_67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hyperlink" Target="http://top100.rambler.ru/top100/" TargetMode="External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8.jpe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6494876.ru/images/fotowall/kids_%20067.jpg" TargetMode="External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ra-ura.ru/pictures/baryshna/buzina/702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05704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cc66"/>
                </a:solidFill>
                <a:latin typeface="Garamond"/>
              </a:rPr>
              <a:t>Мой день рожденья 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Garamond"/>
              </a:rPr>
              <a:t> Знает вся страна…</a:t>
            </a:r>
            <a:r>
              <a:rPr b="0" lang="en-US" sz="3200" spc="-1" strike="noStrike">
                <a:solidFill>
                  <a:srgbClr val="ffcc66"/>
                </a:solidFill>
                <a:latin typeface="Garamond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Garamond"/>
              </a:rPr>
              <a:t>В мой день рожденья</a:t>
            </a:r>
            <a:br>
              <a:rPr sz="3200"/>
            </a:br>
            <a:r>
              <a:rPr b="1" i="1" lang="en-US" sz="3200" spc="-1" strike="noStrike">
                <a:solidFill>
                  <a:srgbClr val="ffcc66"/>
                </a:solidFill>
                <a:latin typeface="Garamond"/>
              </a:rPr>
              <a:t>Началась война…</a:t>
            </a: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Ярославский поэт-фронтовик </a:t>
            </a:r>
            <a:br>
              <a:rPr sz="4000"/>
            </a:br>
            <a:r>
              <a:rPr b="1" lang="en-US" sz="5400" spc="-1" strike="noStrike">
                <a:solidFill>
                  <a:srgbClr val="ffcc66"/>
                </a:solidFill>
                <a:latin typeface="Garamond"/>
              </a:rPr>
              <a:t>Павел Голосов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(1921 – 1988)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480060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Garamond"/>
              </a:rPr>
              <a:t>Выполнил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Garamond"/>
              </a:rPr>
              <a:t>учитель русского языка и литератур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Garamond"/>
              </a:rPr>
              <a:t>МОУ Открытая (сменная) школа № 94 г. Ярославл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66"/>
                </a:solidFill>
                <a:latin typeface="Garamond"/>
              </a:rPr>
              <a:t>Левина Елена Дмитри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-304920"/>
            <a:ext cx="83250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Защитник Ленинграда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1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авел Голосов участвовал в боях под Красногвардейском, Пушкином, Невской Дубровкой, у Синявинских болот, под Вороньей Горой (Пулков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09480" y="5562720"/>
          <a:ext cx="2819520" cy="944280"/>
        </p:xfrm>
        <a:graphic>
          <a:graphicData uri="http://schemas.openxmlformats.org/drawingml/2006/table">
            <a:tbl>
              <a:tblPr/>
              <a:tblGrid>
                <a:gridCol w="2819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Непокоренный Ленинград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657600" y="2914560"/>
            <a:ext cx="5334120" cy="394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25000" cy="80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        </a:t>
            </a: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Ранение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42640" y="1790640"/>
            <a:ext cx="3809880" cy="2114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4343400" y="6095880"/>
            <a:ext cx="35812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Ленинград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66"/>
                </a:solidFill>
                <a:latin typeface="Arial"/>
              </a:rPr>
              <a:t>Район Вороньей Го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105160" y="1790280"/>
            <a:ext cx="38098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В январе 1944 года  на Вороньей Горе под Ленинградом 23-летнему Павлу Голосову перебило  обе но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Оперировали его при свечах, без наркоза, после  чего отправили долечиваться в ты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Картинка 10 из 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762120"/>
            <a:ext cx="392760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819520" cy="2709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2438280" y="152280"/>
            <a:ext cx="5238720" cy="5144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1541520" y="127080"/>
            <a:ext cx="9360" cy="19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541520" y="127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541520" y="127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1541520" y="12708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541520" y="127080"/>
            <a:ext cx="392904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1520" y="-9360"/>
            <a:ext cx="63360" cy="27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32320" y="762120"/>
          <a:ext cx="3811680" cy="639720"/>
        </p:xfrm>
        <a:graphic>
          <a:graphicData uri="http://schemas.openxmlformats.org/drawingml/2006/table">
            <a:tbl>
              <a:tblPr/>
              <a:tblGrid>
                <a:gridCol w="381168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6666"/>
                          </a:solidFill>
                          <a:latin typeface="Arial"/>
                        </a:rPr>
                        <a:t>ВЕЧНАЯ СЛАВА ГЕРОЯМ, ЗАЩИТИВШИМ ЛЕНИНГРАД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1878120" y="3830760"/>
            <a:ext cx="19080" cy="9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1604880" y="-9360"/>
            <a:ext cx="9720" cy="187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629400" y="1679040"/>
            <a:ext cx="2514600" cy="25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2920" rIns="142920" tIns="6660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Павел Голо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Стих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Взятие выс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Как побеждают смер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Разговор о серд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</a:rPr>
              <a:t>В прифронтовом лес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80720" y="1917720"/>
            <a:ext cx="42696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…</a:t>
            </a: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Уж Ленинград </a:t>
            </a:r>
            <a:br>
              <a:rPr sz="2000"/>
            </a:b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окольцован заревом, </a:t>
            </a:r>
            <a:br>
              <a:rPr sz="2000"/>
            </a:b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И довелось под Дубровкой мне </a:t>
            </a:r>
            <a:br>
              <a:rPr sz="2000"/>
            </a:b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Призрачный жир </a:t>
            </a:r>
            <a:br>
              <a:rPr sz="2000"/>
            </a:b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из копыта вываривать, </a:t>
            </a:r>
            <a:br>
              <a:rPr sz="2000"/>
            </a:b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Черный картофель </a:t>
            </a:r>
            <a:br>
              <a:rPr sz="2000"/>
            </a:b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печь по весне. </a:t>
            </a:r>
            <a:br>
              <a:rPr sz="2000"/>
            </a:b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Не доконала блокада адова. </a:t>
            </a:r>
            <a:br>
              <a:rPr sz="2000"/>
            </a:b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То ль не пыталась </a:t>
            </a:r>
            <a:br>
              <a:rPr sz="2000"/>
            </a:b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вышибить жизнь: </a:t>
            </a:r>
            <a:br>
              <a:rPr sz="2000"/>
            </a:b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Ребра солдату </a:t>
            </a:r>
            <a:br>
              <a:rPr sz="2000"/>
            </a:b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голод обгладывал </a:t>
            </a:r>
            <a:br>
              <a:rPr sz="2000"/>
            </a:b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И по-за ребрами </a:t>
            </a:r>
            <a:br>
              <a:rPr sz="2000"/>
            </a:b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сердце грыз…</a:t>
            </a:r>
            <a:r>
              <a:rPr b="1" lang="en-US" sz="2000" spc="-1" strike="noStrike">
                <a:solidFill>
                  <a:srgbClr val="ffcc66"/>
                </a:solidFill>
                <a:latin typeface="Monotype Corsiva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97280" y="1600200"/>
            <a:ext cx="236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Разговор о сердц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0"/>
          <a:stretch/>
        </p:blipFill>
        <p:spPr>
          <a:xfrm>
            <a:off x="7238880" y="4343400"/>
            <a:ext cx="129564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    </a:t>
            </a: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Из учителей в собкоры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9880" y="1790640"/>
            <a:ext cx="510552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Домой кавалер ордена Славы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III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степени и многих медалей Павел Голосов вернулся калекой и поначалу снова стал учительствовать в Некоузской  семилетней школ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В 1945 году его приглашают на работу в Некоузский райисполком для редакторской работы в местной газе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1846440" cy="396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240" y="-22896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Послевоенные профессии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51818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учител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редактор районной газе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собкор газеты «Северный рабочий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инженер Б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секретарь партбюро Всесоюзного научно-исследовательского института маслодельной и сыродельной промышленности (Углич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старший редактор издательства «Верхняя Волга» по поэзии и детской литератур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профессиональный поэ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521320" y="1295280"/>
            <a:ext cx="361008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4419360" cy="72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       </a:t>
            </a: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Стихи детворе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142640" y="1790640"/>
            <a:ext cx="3809880" cy="21146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5333760" y="1523880"/>
            <a:ext cx="3809880" cy="211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Работая в редакции газеты, Голосов начинает писать свои первые стихи, для той поры весьма незатейливые и понятные, которые адресует детворе. Их названия говорят сами за себя - «Река»,   «Змей»,  «Кошка», «Птичий дом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5334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В 1951 году в Ярославском,  книжном издательстве у тридцатилетнего поэта выходит  первая книжка стихов для детей «Солнечное утро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В 1954 году выходит вторая  книга Павла Голосова, и снова адресованная детво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Картинка 4 из 3047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295280"/>
            <a:ext cx="5638680" cy="393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4013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Поэт-лирик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68" name=""/>
          <p:cNvSpPr/>
          <p:nvPr/>
        </p:nvSpPr>
        <p:spPr>
          <a:xfrm>
            <a:off x="-1800000" y="3245760"/>
            <a:ext cx="5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».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29200" y="1218960"/>
            <a:ext cx="3657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Возможно, Павел Голосов так бы  и остался детским поэ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В 1963 году в книге «Озаренная солнцем» он показал себя поэтом-лирик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После этой книги 21 апреля 1964 года Павла Голосова приняли в Союз писателей  СССР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30477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15328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       </a:t>
            </a: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Сборник «Озарённая солнцем»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038120" y="1676160"/>
            <a:ext cx="4800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Половина книжки «Озарённая солнцем», предоставлена запоминающимся стихам, насыщенным гражданской и интимной лирико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В стихотворении, давшем название книжке,речь идет о будничном, повседневном,  которое при ближайшем</a:t>
            </a:r>
            <a:br>
              <a:rPr sz="2400"/>
            </a:b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рассмотрении оказывается достойным восхищения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373392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229600" cy="38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Стихотворение «Озаренная солнцем»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426744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Горячей волной по холодно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лу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С отлогого берега солнц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скатилос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И Волга ему улыбнулись, ка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другу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Отрадна ты, ле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Прощальная милость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Да что это раньше не мо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увидать 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Ни  баржи, ни той  босоного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плутовк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Стоящей в просвече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розовом плать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Под сахарно- белым бельё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                       </a:t>
            </a: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на верёв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876920" y="1523520"/>
            <a:ext cx="40384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Откинулась, руки сцепив 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                              </a:t>
            </a: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затыл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А лёгкое, ввыс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устремлённое те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Светилось и пело м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                      </a:t>
            </a: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каждую жилк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Но  схлынуло солнце, и всё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потемнело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И Волга, и баржа, и девушк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                                    </a:t>
            </a: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э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Что вдруг передёрну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зябко плеча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Ах, сколько в тени остаёт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                             </a:t>
            </a: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на све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Простой красоты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не замеченной нам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278400" y="2743200"/>
            <a:ext cx="2865600" cy="41148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Поэтические сборники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52280" y="1295280"/>
            <a:ext cx="2859120" cy="43815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648320" y="1447920"/>
            <a:ext cx="2792160" cy="35049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2590920" y="3124080"/>
            <a:ext cx="225108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Garamond"/>
              </a:rPr>
              <a:t>Ярославский поэт–фронтовик 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Павел Павлович Голосов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09480" y="1523880"/>
            <a:ext cx="3551400" cy="51818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038480" y="1600200"/>
            <a:ext cx="5105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752640" y="324576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495680" y="1828800"/>
            <a:ext cx="4267440" cy="45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«Стихи Павла Павловича  Голосова подкупают своей буйной свежестью,  точностью интонации, сочностью языка, серьезностью взгляда поэта на окружающий мир, эмоциональной окрашенностью и еще чем-то неуловимо трепетным, с чего и начинается поэзия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00"/>
                </a:solidFill>
                <a:latin typeface="Arial"/>
              </a:rPr>
              <a:t>Поэт-фронтовик Владимир Жу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Темы поэзии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3349800" cy="5410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4038480" y="1523880"/>
          <a:ext cx="4876920" cy="5448600"/>
        </p:xfrm>
        <a:graphic>
          <a:graphicData uri="http://schemas.openxmlformats.org/drawingml/2006/table">
            <a:tbl>
              <a:tblPr/>
              <a:tblGrid>
                <a:gridCol w="4876920"/>
              </a:tblGrid>
              <a:tr h="547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война и блокада;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красота родной природы и деревни;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тема исторического прошлого нашего края;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красота обыденных событий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>
                        <a:spcBef>
                          <a:spcPts val="799"/>
                        </a:spcBef>
                        <a:buClr>
                          <a:srgbClr val="ffcc66"/>
                        </a:buClr>
                        <a:buSzPct val="9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Война, блокада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05160" y="1790280"/>
            <a:ext cx="38098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Тема войны была для него свя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Личная память поэта и память истории взаимосвязаны. Стихи о войне он начал писать ещё на фронте . Он воевал на одном из тяжелейших участков войны, под Ленинградо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28600" y="2057400"/>
            <a:ext cx="4724280" cy="41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1676160" y="0"/>
            <a:ext cx="3429000" cy="586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Взятие высо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Как было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А было всё буднично просто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Рванула пехот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согнувшись вполрост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И криком «ура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распечатало рты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И по снегу – зеленью 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враг с высо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Сорвал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Скатил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И тотчас же мины зачавкал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снег проедая до глины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И снова фашис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На гребне земли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А серым по белому 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Мы оползл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То мы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то он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А и вся высота-то –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Ну разве на четвер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повыше солда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Но утром увидел 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с той высот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Над площадью Крас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cc66"/>
                </a:solidFill>
                <a:latin typeface="Arial"/>
              </a:rPr>
              <a:t>салюта цвет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105520" y="228600"/>
            <a:ext cx="3368520" cy="495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0" name=""/>
          <p:cNvGraphicFramePr/>
          <p:nvPr/>
        </p:nvGraphicFramePr>
        <p:xfrm>
          <a:off x="5715000" y="5006880"/>
          <a:ext cx="3429000" cy="185112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185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Сборник Верхне-Волжского книжного издательства со стихами поэтов-фронтовиков Ярославской и соседних областей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В этот сборник включены стихи П. Голосо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105520" y="685440"/>
            <a:ext cx="40384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Автор стремится воспроизвести   взятие высоты, занятой врагом, рассказывает о смерти труса, вспоминает то время, когда «Ленинград окольцован заревом». Стихи и тревожные, и гневные, и патриотичные,  многие из них наполнены болью о трагической судьбе сверстни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Картинка 1 из 1"/>
          <p:cNvPicPr/>
          <p:nvPr/>
        </p:nvPicPr>
        <p:blipFill>
          <a:blip r:embed="rId1"/>
          <a:stretch/>
        </p:blipFill>
        <p:spPr>
          <a:xfrm>
            <a:off x="0" y="2209680"/>
            <a:ext cx="5457960" cy="37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18640" y="-360"/>
            <a:ext cx="8325000" cy="800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Солдатское сердце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562360" y="837720"/>
            <a:ext cx="335268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Times New Roman"/>
              </a:rPr>
              <a:t>Голосов пишет о приближающемся снаряде, звук которого «нарастал прижимисто и туго». Об этом вспоминает поэт в «Первой бомбёжке»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142640" y="1790280"/>
            <a:ext cx="3809880" cy="438156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0" y="2890800"/>
            <a:ext cx="5616720" cy="396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                    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190760" y="1600200"/>
            <a:ext cx="46479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Есть строчки, точно передающие ощущение солдата, впервые попавшего под бомбёжк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«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Не думал я, что свет увижу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Как, сердце визгом леденя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Взвинтились бомбы                     Ниж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Ниже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И все—  в меня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И все—  в меня».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28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Картинка 9 из 12069"/>
          <p:cNvPicPr/>
          <p:nvPr/>
        </p:nvPicPr>
        <p:blipFill>
          <a:blip r:embed="rId1"/>
          <a:stretch/>
        </p:blipFill>
        <p:spPr>
          <a:xfrm>
            <a:off x="380880" y="380880"/>
            <a:ext cx="3697560" cy="586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Тяготы войны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4120" y="1599840"/>
            <a:ext cx="35812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Сколько невзгод пришлось испытать молодому солдату!     « Меня измотала блокада,» — с горечью напишет он. Но только ли блокада? Изматывали жесточайшие бои, бесчисленные утраты друзей, стылые окопы. И каждый день смерть и кров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«Меня  зовут издалека моё родное по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И  колокольчики вьюнка на звонком                                                                                                    </a:t>
            </a: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частоколе…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Картинка 85 из 530"/>
          <p:cNvPicPr/>
          <p:nvPr/>
        </p:nvPicPr>
        <p:blipFill>
          <a:blip r:embed="rId1"/>
          <a:stretch/>
        </p:blipFill>
        <p:spPr>
          <a:xfrm>
            <a:off x="457200" y="1981080"/>
            <a:ext cx="4572000" cy="37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79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Родная природа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41936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Одна из главных тем лири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П. Голосо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Стихи Голосова покоряют своей подлинностью, своей совершенной естественностью. С большим упоением и знанием дела живописует поэт родную природу. Отличительная черта пейзажей П. Голосова— их неразрывная связь с трудовой деятельностью люд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Картинка 16 из 2995"/>
          <p:cNvPicPr/>
          <p:nvPr/>
        </p:nvPicPr>
        <p:blipFill>
          <a:blip r:embed="rId1"/>
          <a:stretch/>
        </p:blipFill>
        <p:spPr>
          <a:xfrm>
            <a:off x="4495680" y="1905120"/>
            <a:ext cx="4648320" cy="309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3250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«Добрая красота»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419720" y="1752480"/>
            <a:ext cx="441936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Десятой книгой ярославского поэта является книга «Добрая красота». Книга о красоте природы и людей… Темы, характерные для всего периода творчества. Открывается сборник стихотворением «Берёза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3298680" cy="563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-199440"/>
            <a:ext cx="8325000" cy="57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213" name="Рисунок 4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5295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229360" y="1448280"/>
            <a:ext cx="3914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9900"/>
                </a:solidFill>
                <a:latin typeface="Arial"/>
              </a:rPr>
              <a:t>А на Руси </a:t>
            </a: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берез не </a:t>
            </a:r>
            <a:r>
              <a:rPr b="0" i="1" lang="en-US" sz="1800" spc="-1" strike="noStrike">
                <a:solidFill>
                  <a:srgbClr val="cc9900"/>
                </a:solidFill>
                <a:latin typeface="Arial"/>
              </a:rPr>
              <a:t>перечест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9900"/>
                </a:solidFill>
                <a:latin typeface="Arial"/>
              </a:rPr>
              <a:t>Куда-куда не забредут березк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9900"/>
                </a:solidFill>
                <a:latin typeface="Arial"/>
              </a:rPr>
              <a:t>Им всюду рады, и у каждой е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9900"/>
                </a:solidFill>
                <a:latin typeface="Arial"/>
              </a:rPr>
              <a:t>Кого пригреть на горьком перекрестк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9900"/>
                </a:solidFill>
                <a:latin typeface="Arial"/>
              </a:rPr>
              <a:t>И, в </a:t>
            </a:r>
            <a:r>
              <a:rPr b="0" lang="en-US" sz="1800" spc="-1" strike="noStrike">
                <a:solidFill>
                  <a:srgbClr val="cc9900"/>
                </a:solidFill>
                <a:latin typeface="Arial"/>
              </a:rPr>
              <a:t>отчий край </a:t>
            </a:r>
            <a:r>
              <a:rPr b="0" i="1" lang="en-US" sz="1800" spc="-1" strike="noStrike">
                <a:solidFill>
                  <a:srgbClr val="cc9900"/>
                </a:solidFill>
                <a:latin typeface="Arial"/>
              </a:rPr>
              <a:t>придя издале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9900"/>
                </a:solidFill>
                <a:latin typeface="Arial"/>
              </a:rPr>
              <a:t>Стоишь и плачешь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9900"/>
                </a:solidFill>
                <a:latin typeface="Arial"/>
              </a:rPr>
              <a:t>Бросив шапку   озем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9900"/>
                </a:solidFill>
                <a:latin typeface="Arial"/>
              </a:rPr>
              <a:t>И над тобой качает обла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9900"/>
                </a:solidFill>
                <a:latin typeface="Arial"/>
              </a:rPr>
              <a:t>Улыбчивое дерево - берез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" descr="Картинка 1 из 507"/>
          <p:cNvPicPr/>
          <p:nvPr/>
        </p:nvPicPr>
        <p:blipFill>
          <a:blip r:embed="rId2"/>
          <a:stretch/>
        </p:blipFill>
        <p:spPr>
          <a:xfrm>
            <a:off x="2438280" y="2743200"/>
            <a:ext cx="27990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Мой день рожденья знает вся страна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42640" y="1790640"/>
            <a:ext cx="3809880" cy="2114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105160" y="1790640"/>
            <a:ext cx="3809880" cy="2114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Картинка 3 из 2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0600" y="1752480"/>
            <a:ext cx="4162320" cy="2772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3520" y="1637640"/>
            <a:ext cx="3886200" cy="26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Павел Голосов родился 22 июня 1921 года в селе Некоуз Мологского уезда в   семье крестьянина-середняка.</a:t>
            </a:r>
            <a:r>
              <a:rPr b="1" lang="ru-RU" sz="2400" spc="-1" strike="noStrike">
                <a:solidFill>
                  <a:srgbClr val="cc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80880" y="4343400"/>
            <a:ext cx="739152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Как он сам потом напишет в одном из своих стихотворени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« Мой день рождень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Знает вся стра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Не красная, не праздничная дата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В мой день рождень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66"/>
                </a:solidFill>
                <a:latin typeface="Arial"/>
              </a:rPr>
              <a:t>Началась войн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61722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Тема исторической прошлого родного края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19560" y="1790280"/>
            <a:ext cx="28954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Темы природы и исторического прошлого тесно переплетают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На странице одного из сборников П.Голосов  приглашает  нас на реку Сить, в свой родной Некоузский райо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Рисунок 25" descr=""/>
          <p:cNvPicPr/>
          <p:nvPr/>
        </p:nvPicPr>
        <p:blipFill>
          <a:blip r:embed="rId1"/>
          <a:stretch/>
        </p:blipFill>
        <p:spPr>
          <a:xfrm>
            <a:off x="3048120" y="2743200"/>
            <a:ext cx="2971800" cy="243828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8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3048120" cy="23526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64" descr=""/>
          <p:cNvPicPr/>
          <p:nvPr/>
        </p:nvPicPr>
        <p:blipFill>
          <a:blip r:embed="rId3"/>
          <a:stretch/>
        </p:blipFill>
        <p:spPr>
          <a:xfrm>
            <a:off x="533520" y="3962520"/>
            <a:ext cx="3124080" cy="229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3250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Приглашение на Сить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410080" y="1447920"/>
            <a:ext cx="3733920" cy="400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cc66"/>
                </a:solidFill>
                <a:latin typeface="Arial"/>
              </a:rPr>
              <a:t>Всякий, изучающий прошлое Ярославского края, заглянув в историю, узнает, что на Сить 4 марта 1238 г. произошло сражение русских воинов с татаро-монгола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133720" y="1066680"/>
            <a:ext cx="3549600" cy="44197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Файл:Стела. д. Лопатино.jpg"/>
          <p:cNvPicPr/>
          <p:nvPr/>
        </p:nvPicPr>
        <p:blipFill>
          <a:blip r:embed="rId2"/>
          <a:stretch/>
        </p:blipFill>
        <p:spPr>
          <a:xfrm>
            <a:off x="144360" y="3124080"/>
            <a:ext cx="2065320" cy="3203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5" name=""/>
          <p:cNvGraphicFramePr/>
          <p:nvPr/>
        </p:nvGraphicFramePr>
        <p:xfrm>
          <a:off x="0" y="6324480"/>
          <a:ext cx="3429000" cy="53352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Памятник битве на реке Си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90040" y="-59760"/>
            <a:ext cx="8325000" cy="57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495320" y="4191120"/>
            <a:ext cx="38862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3668760"/>
          </a:xfrm>
          <a:prstGeom prst="rect">
            <a:avLst/>
          </a:prstGeom>
          <a:ln w="0">
            <a:noFill/>
          </a:ln>
        </p:spPr>
      </p:pic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151920" y="761760"/>
            <a:ext cx="40388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Если не был 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на Сити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Этим летом её посе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Посвяти ей хотя бы ночку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Разожги над ней костерок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Сядь и вслушайся в неумолчный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В перекатный её говоро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Без докучливого сосе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(Ты итак от речей устал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Сколько может река поведать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Отпечатав твои уст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419720" y="3809880"/>
          <a:ext cx="441936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19720" y="3809880"/>
                    <a:ext cx="441936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325000" cy="102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Ссыльный колокол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23920" y="1600200"/>
            <a:ext cx="403884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 Black"/>
              </a:rPr>
              <a:t>Историческое прошлое постоянно влечёт Голосова. И чем настойчивей Голосов проникает в героическое прошлое родного края, тем всё больше и больше волнуют его мысли и тех русских бунтарей, что в далёкие времена поднялись против царя и бояр, нищеты и бесправия.  В итоге зарождается замысел большой исторической поэмы « Ссыльный колокол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95360" y="1371600"/>
            <a:ext cx="38480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723920" y="137160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Знание истории и поэтическое чутьё позволило автору в тысяче стихотворных строчек ёмко и зримо отобразить горькое для Руси время «Смуты». Образно, сочно и интересно поэту удалось поведать читателям об одной важной странице в истории русского государства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4360680" cy="541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680" y="266760"/>
            <a:ext cx="7848720" cy="79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   </a:t>
            </a: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Его звали ПП</a:t>
            </a: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038120" y="1790280"/>
            <a:ext cx="487692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ПП- так звали иногда Павла Павловича Голосова. Он всегда умел сочинять язвительные афоризмы, колючие эпиграммы и бесподобные частушки, которые он любил читать в компаниях. У него в стихах вообще что ни строчка, то афоризм! Наприме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«Поэтами рождаются в деревне, а город производит в мастера»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«А женщина, она всегда права. И жизнь идёт не по её ли воле? »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«У памяти мучительная власть - Нам повторять всю горечь прожитого…».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23800" y="1752480"/>
          <a:ext cx="31021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3800" y="1752480"/>
                    <a:ext cx="31021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657600" y="1523880"/>
            <a:ext cx="5486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н был горячим оптимистом и жизнелюбом и, несмотря на слабое здоровье, расшатанное двумя фронтовыми ранениями и контузией, любил повторять крылатую тургеневскую фразу: «Мы ещё повоюем».Неизлечимая болезнь вырвала его из жизни, ещё полного творческих сил и замыслов</a:t>
            </a: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80880" y="3809880"/>
            <a:ext cx="2925720" cy="25146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52280" y="380880"/>
            <a:ext cx="3353040" cy="304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5105160" y="380520"/>
            <a:ext cx="380988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66"/>
                </a:solidFill>
                <a:latin typeface="Arial"/>
              </a:rPr>
              <a:t>«Здесь учился поэт П. П. Голосов».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Мемориальная  доска   с такой  гравировкой висит на  фасаде  деревянной  двухэтажной школы в Старом Некоузе, его родном сел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В доме культуры проходят Голосовские веч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Рисунок 73" descr=""/>
          <p:cNvPicPr/>
          <p:nvPr/>
        </p:nvPicPr>
        <p:blipFill>
          <a:blip r:embed="rId1"/>
          <a:stretch/>
        </p:blipFill>
        <p:spPr>
          <a:xfrm>
            <a:off x="0" y="609480"/>
            <a:ext cx="5181480" cy="448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9" name=""/>
          <p:cNvGraphicFramePr/>
          <p:nvPr/>
        </p:nvGraphicFramePr>
        <p:xfrm>
          <a:off x="0" y="5410080"/>
          <a:ext cx="5029200" cy="1243080"/>
        </p:xfrm>
        <a:graphic>
          <a:graphicData uri="http://schemas.openxmlformats.org/drawingml/2006/table">
            <a:tbl>
              <a:tblPr/>
              <a:tblGrid>
                <a:gridCol w="5029200"/>
              </a:tblGrid>
              <a:tr h="1245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cc66"/>
                          </a:solidFill>
                          <a:latin typeface="Arial"/>
                        </a:rPr>
                        <a:t>Дом культуры, в котором проводятся Голосовские вечер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Наш земляк Павел Голосов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3446640" cy="35053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1447920"/>
            <a:ext cx="2768760" cy="34290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20007" t="22583" r="60009" b="38709"/>
          <a:stretch/>
        </p:blipFill>
        <p:spPr>
          <a:xfrm>
            <a:off x="0" y="1447920"/>
            <a:ext cx="1930320" cy="2895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"/>
          <a:srcRect l="857" t="1887" r="0" b="3774"/>
          <a:stretch/>
        </p:blipFill>
        <p:spPr>
          <a:xfrm>
            <a:off x="6400800" y="3048120"/>
            <a:ext cx="274320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240" y="228600"/>
            <a:ext cx="8325000" cy="87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Особенности поэзии П. Голосова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51920" y="1523880"/>
            <a:ext cx="8991720" cy="468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все поэтические сборники отличает разнообразие тематики. Главные темы стихов: война, природа и деревня, историческое прошлое родного кра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в поэзии П. Голосова ярко выражено чувство Родин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в стихах - точность деталей, яркость образ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поэт умеет увидеть в повседневности красоту, необычность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стих Павла Голосова прост, лишен затейливых пустопорожних фраз и всевозможных словесных выверт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Arial"/>
              </a:rPr>
              <a:t>стихи Голосова покоряют своей подлинностью, своей совершенной естественностью.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0040" y="266760"/>
            <a:ext cx="8325000" cy="79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       </a:t>
            </a: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Гитара за стихи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4120" y="1790640"/>
            <a:ext cx="3581280" cy="468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Первое стихотворение Павла Голосова было опубликовано в пионерской газете «Всегда готов» (Иваново, 1936 год, «Сталинская смена (Ярославль, 1938)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В 1937 году на школьной олимпиаде, посвящённой 100-летию со дня смерти А.С. Пушкина, его стихи заняли 1-е место, за что автор был премирован гитар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0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281240" y="1981080"/>
          <a:ext cx="343512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1240" y="1981080"/>
                    <a:ext cx="343512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266400"/>
            <a:ext cx="8610480" cy="64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Список использованных источников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790280"/>
            <a:ext cx="86104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. Голосов http://www.stihi.ru/avtor/golosovp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Гонозов О. Поэтами рождаются в деревне // Золотое кольцо. — 20 января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Гусев Е. «В мой день рожденья началась война» // Северный край. — 22 июня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Голосов П. П. // http://demetra.yar.ru/index.php/nekouzskij-rajon/istoricheskie-persony/411-golosov-pavel-pavlovich-1921-1988-poet-zhurna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Arial"/>
              </a:rPr>
              <a:t>Павел Голосов // https://yarwiki.ru/article/1447/golosov-pavel-pavlovi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4253040" y="0"/>
            <a:ext cx="489096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0" name=""/>
          <p:cNvGraphicFramePr/>
          <p:nvPr/>
        </p:nvGraphicFramePr>
        <p:xfrm>
          <a:off x="685800" y="2666880"/>
          <a:ext cx="3276720" cy="1431720"/>
        </p:xfrm>
        <a:graphic>
          <a:graphicData uri="http://schemas.openxmlformats.org/drawingml/2006/table">
            <a:tbl>
              <a:tblPr/>
              <a:tblGrid>
                <a:gridCol w="3276720"/>
              </a:tblGrid>
              <a:tr h="204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Спасибо 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ffcc66"/>
                          </a:solidFill>
                          <a:latin typeface="Garamond"/>
                        </a:rPr>
                        <a:t>за внимание!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    </a:t>
            </a: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Выбрал профессию учитель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419076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66"/>
                </a:solidFill>
                <a:latin typeface="Arial"/>
              </a:rPr>
              <a:t>После школы будущий поэт поехал учиться в Московский горный институт, но вскоре понял, что эта профессия не для него, и вернулся  дом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В 1939 г. поступил слушателем на десятимесячные педагогические  курсы при Ленинградском областном отделе народного образования и стал работать учителе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20007" t="22583" r="60009" b="38709"/>
          <a:stretch/>
        </p:blipFill>
        <p:spPr>
          <a:xfrm>
            <a:off x="5867280" y="2057400"/>
            <a:ext cx="19306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320040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                        </a:t>
            </a: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Учитель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381024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Павел Павлович Голосов стал учительствовать  в Исаковской и Николо-Замошной начальных школах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Работал учителем русского языка и литературы, завучем, а с марта 1941 года директором Ровенской семилетней  школы. Параллельно заочно учился на третьем курсе Ленинградского областного пединститу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105160" y="1790640"/>
            <a:ext cx="3809880" cy="2114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5105160" y="594324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Arial"/>
              </a:rPr>
              <a:t>Исаковкая шко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191120" y="1981080"/>
            <a:ext cx="4952880" cy="33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04920"/>
            <a:ext cx="4724640" cy="1105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Garamond"/>
              </a:rPr>
              <a:t>         </a:t>
            </a:r>
            <a:r>
              <a:rPr b="1" lang="en-US" sz="4000" spc="-1" strike="noStrike">
                <a:solidFill>
                  <a:srgbClr val="ffcc66"/>
                </a:solidFill>
                <a:latin typeface="Garamond"/>
              </a:rPr>
              <a:t>Начало войны</a:t>
            </a:r>
            <a:endParaRPr b="0" lang="en-US" sz="40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051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В июне 1941 года Павел Голосов поехал на сессию в Ленингра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22 июня 1941года по радио объявили о начале войны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142640" y="1790280"/>
            <a:ext cx="3809880" cy="4381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Картинка 11 из 776"/>
          <p:cNvPicPr/>
          <p:nvPr/>
        </p:nvPicPr>
        <p:blipFill>
          <a:blip r:embed="rId2"/>
          <a:stretch/>
        </p:blipFill>
        <p:spPr>
          <a:xfrm>
            <a:off x="685800" y="762120"/>
            <a:ext cx="4267080" cy="60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609480" y="380880"/>
            <a:ext cx="7772400" cy="648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          </a:t>
            </a: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Добровольцем на фронт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05520" y="18288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По состоянию здоровья Павел Голосов не подлежал призыву в арм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3 июля 1941 года он написал заявление с просьбой отравить его на фронт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953240" cy="45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66"/>
            </a:gs>
            <a:gs pos="100000">
              <a:srgbClr val="00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32464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Garamond"/>
              </a:rPr>
              <a:t>В шинели рядового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42640" y="1790280"/>
            <a:ext cx="380988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В 1943 году вступил в КПСС, был парторгом пулеметной ро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38680" y="1790640"/>
            <a:ext cx="3276720" cy="179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5000"/>
          </a:bodyPr>
          <a:p>
            <a:pPr marL="222840" indent="-222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В начале июля зачислен во 2-ю дивизию народного ополчения г. Ленингра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Три тяжких года войны недавний учитель прошёл  в шинели рядовог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2840" indent="-222840">
              <a:spcBef>
                <a:spcPts val="700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5334120" cy="34815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80880" y="50292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Был артиллеристом-зенитчиком, связистом,  пулеметчик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7EN USER</cp:lastModifiedBy>
  <dcterms:modified xsi:type="dcterms:W3CDTF">2018-08-17T18:06:38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