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38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3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53.jpeg" ContentType="image/jpeg"/>
  <Override PartName="/ppt/media/image54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F0F8C-C9AD-4172-8762-1EC361F5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D1782-67C9-4DAB-8FD4-9192EAB0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BF969-2FC7-4342-94F3-EAD760FCA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9A85C-B767-4DBC-81E3-DA7771ECD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7F1F3-0FD5-440F-BCEC-78CDE31F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05C93-E6F3-45AF-A276-7E7DF0AE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C1CD8-AADF-4374-B8C9-5C734D6F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9141F-4FC7-4B57-901D-DDC3DBF7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E69E-70F8-4891-A903-559B8EDF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BBE1A2-BC39-4C6B-B013-5AE3D470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E7A9D5-477D-40CB-A26C-96CD07EB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7D416-0C80-47B7-9503-57891DC6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909B6-A1E0-479A-A7E2-CCB56CBA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5C645-FA53-4D20-8554-5ECF79A6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2B66F-8E16-4CCA-AAB6-6DC83179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01B41-12F5-4809-AEF4-9690BA8C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60EC1-8FD5-47E2-97DC-47C1ADCE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8F9D0-9AD5-47B7-A2AC-1A970046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43638-EDB6-425E-A54B-23782A701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0AFF7-8680-4CCD-9565-8708DB29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441A-158A-44F3-937A-03346242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0F4C7-53DD-42B7-AB9F-957E6B14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682EF-4CA3-4E7C-AC53-DC401740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0769-0E07-433F-BAB3-540A7AE6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3D66-DDF8-4D66-B996-BBF67E8CD0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BE8-6FF3-4F2B-A512-9CC9B3964A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gor-tambov.narod.ru/museum/gpw/gpw-1943/img/1943_67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top100.rambler.ru/top100/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6494876.ru/images/fotowall/kids_%2006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ra-ura.ru/pictures/baryshna/buzina/702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Мой день рожденья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 Знает вся страна…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В мой день рожденья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Началась война…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Ярославский поэт-фронтовик </a:t>
            </a:r>
            <a:br>
              <a:rPr sz="4000"/>
            </a:br>
            <a:r>
              <a:rPr b="1" lang="en-US" sz="5400" spc="-1" strike="noStrike">
                <a:solidFill>
                  <a:srgbClr val="ffcc66"/>
                </a:solidFill>
                <a:latin typeface="Garamond"/>
              </a:rPr>
              <a:t>Павел Голосов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(1921 – 1988)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8006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Выполни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МОУ Открытая (сменная) школа № 94 г. Ярослав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Левина Елена Дмитри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-30492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Защитник Ленингра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авел Голосов участвовал в боях под Красногвардейском, Пушкином, Невской Дубровкой, у Синявинских болот, под Вороньей Горой (Пулко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5562720"/>
          <a:ext cx="2819520" cy="94428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Непокоренный Ленингр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57600" y="2914560"/>
            <a:ext cx="53341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Ранение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343400" y="60958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Ленингра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Район Вороньей Г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январе 1944 года  на Вороньей Горе под Ленинградом 23-летнему Павлу Голосову перебило  обе н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перировали его при свечах, без наркоза, после  чего отправили долечиваться в ты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10 из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762120"/>
            <a:ext cx="39276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709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523872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1520" y="127080"/>
            <a:ext cx="9360" cy="19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41520" y="127080"/>
            <a:ext cx="39290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1520" y="-9360"/>
            <a:ext cx="63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2320" y="762120"/>
          <a:ext cx="3811680" cy="639720"/>
        </p:xfrm>
        <a:graphic>
          <a:graphicData uri="http://schemas.openxmlformats.org/drawingml/2006/table">
            <a:tbl>
              <a:tblPr/>
              <a:tblGrid>
                <a:gridCol w="3811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Arial"/>
                        </a:rPr>
                        <a:t>ВЕЧНАЯ СЛАВА ГЕРОЯМ, ЗАЩИТИВШИМ ЛЕНИНГРАД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878120" y="3830760"/>
            <a:ext cx="19080" cy="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604880" y="-9360"/>
            <a:ext cx="9720" cy="1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29400" y="1679040"/>
            <a:ext cx="251460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920" rIns="142920" tIns="66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авел Голо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тих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Взятие выс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Как побеждают 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Разговор о 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В прифронтовом лес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0720" y="1917720"/>
            <a:ext cx="42696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Уж Ленинград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окольцован заревом,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довелось под Дубровкой мне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Призрачный жир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з копыта вываривать,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Черный картофель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печь по весне.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е доконала блокада адова.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То ль не пыталась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вышибить жизнь: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Ребра солдату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голод обгладывал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по-за ребрами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сердце грыз…</a:t>
            </a:r>
            <a:r>
              <a:rPr b="1" lang="en-US" sz="2000" spc="-1" strike="noStrike">
                <a:solidFill>
                  <a:srgbClr val="ffcc66"/>
                </a:solidFill>
                <a:latin typeface="Monotype Corsiv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7280" y="160020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азговор о сердц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238880" y="4343400"/>
            <a:ext cx="1295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Из учителей в собкор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9880" y="1790640"/>
            <a:ext cx="510552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омой кавалер ордена Славы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тепени и многих медалей Павел Голосов вернулся калекой и поначалу снова стал учительствовать в Некоузской  семилетне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1945 году его приглашают на работу в Некоузский райисполком для редакторской работы в местной газ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8464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слевоенные професси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818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уч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редактор районной газ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обкор газеты «Северный рабочи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инженер Б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екретарь партбюро Всесоюзного научно-исследовательского института маслодельной и сыродельной промышленности (Углич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тарший редактор издательства «Верхняя Волга» по поэзии и детской литер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профессиональный поэ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21320" y="1295280"/>
            <a:ext cx="3610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41936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тихи детворе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333760" y="1523880"/>
            <a:ext cx="380988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Работая в редакции газеты, Голосов начинает писать свои первые стихи, для той поры весьма незатейливые и понятные, которые адресует детворе. Их названия говорят сами за себя - «Река»,   «Змей»,  «Кошка», «Птичий дом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В 1951 году в Ярославском,  книжном издательстве у тридцатилетнего поэта выходит  первая книжка стихов для детей «Солнечное утр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В 1954 году выходит вторая  книга Павла Голосова, и снова адресованная детво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 из 304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95280"/>
            <a:ext cx="563868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4013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эт-лирик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-1800000" y="324576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».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0" y="12189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озможно, Павел Голосов так бы  и остался детским поэ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1963 году в книге «Озаренная солнцем» он показал себя поэтом-лир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После этой книги 21 апреля 1964 года Павла Голосова приняли в Союз писателей  ССС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47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борник «Озарённая солнцем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38120" y="1676160"/>
            <a:ext cx="4800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Половина книжки «Озарённая солнцем», предоставлена запоминающимся стихам, насыщенным гражданской и интимной лири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В стихотворении, давшем название книжке,речь идет о будничном, повседневном,  которое при ближайшем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рассмотрении оказывается достойным восхище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733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Стихотворение «Озаренная солнцем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Горячей волной по холод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лу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 отлогого берега 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катилос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И Волга ему улыбнулись,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дру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радна ты, ле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щальная милост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Да что это раньше не м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увидать 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и  баржи, ни той  босоног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лутов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тоящей в просвеч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розовом пла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д сахарно- белым бельё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верёв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кинулась, руки сцепив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заты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А лёгкое, ввы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устремлённое т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ветилось и пело м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каждую жил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о  схлынуло солнце, и вс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темне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И Волга, и баржа, и девуш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э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Что вдруг передёрну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зябко плеч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Ах, сколько в тени остаё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с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стой красо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е замеченной на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78400" y="2743200"/>
            <a:ext cx="286560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этические сборни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59120" cy="438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2792160" cy="3504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590920" y="3124080"/>
            <a:ext cx="2251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Garamond"/>
              </a:rPr>
              <a:t>Ярославский поэт–фронтовик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Павел Павлович Голос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51400" cy="518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264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828800"/>
            <a:ext cx="4267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«Стихи Павла Павловича  Голосова подкупают своей буйной свежестью,  точностью интонации, сочностью языка, серьезностью взгляда поэта на окружающий мир, эмоциональной окрашенностью и еще чем-то неуловимо трепетным, с чего и начинается поэз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Поэт-фронтовик Владимир Жу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Темы поэзи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49800" cy="541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038480" y="1523880"/>
          <a:ext cx="4876920" cy="544860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47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йна и блокада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красота родной природы и деревни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тема исторического прошлого нашего края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красота обыденных событи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ойна, блока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Тема войны была для него свя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Личная память поэта и память истории взаимосвязаны. Стихи о войне он начал писать ещё на фронте . Он воевал на одном из тяжелейших участков войны, под Ленингра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76160" y="0"/>
            <a:ext cx="3429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зятие выс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Как был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было всё буднично прост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Рванула пехот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огнувшись вполрос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криком «ур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распечатало рт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по снегу – зеленью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враг с выс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орвал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катил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тотчас же мины зачавкал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нег проедая до глин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снова фашис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а гребне земл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серым по белому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Мы ополз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То м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то о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и вся высота-то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у разве на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повыше солда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о утром увидел 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 той выс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ад площадью Кра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алюта цв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68520" cy="49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5715000" y="5006880"/>
          <a:ext cx="3429000" cy="1851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Сборник Верхне-Волжского книжного издательства со стихами поэтов-фронтовиков Ярославской и соседних облас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 этот сборник включены стихи П. Голос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05520" y="6854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Автор стремится воспроизвести   взятие высоты, занятой врагом, рассказывает о смерти труса, вспоминает то время, когда «Ленинград окольцован заревом». Стихи и тревожные, и гневные, и патриотичные,  многие из них наполнены болью о трагической судьбе свер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Картинка 1 из 1"/>
          <p:cNvPicPr/>
          <p:nvPr/>
        </p:nvPicPr>
        <p:blipFill>
          <a:blip r:embed="rId1"/>
          <a:stretch/>
        </p:blipFill>
        <p:spPr>
          <a:xfrm>
            <a:off x="0" y="2209680"/>
            <a:ext cx="545796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Солдатское сердце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562360" y="837720"/>
            <a:ext cx="3352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Голосов пишет о приближающемся снаряде, звук которого «нарастал прижимисто и туго». Об этом вспоминает поэт в «Первой бомбёжке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2640" y="179028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890800"/>
            <a:ext cx="561672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           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Есть строчки, точно передающие ощущение солдата, впервые попавшего под бомбёж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Не думал я, что свет увиж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Как, сердце визгом леде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Взвинтились бомбы                     Ниж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Ниж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 все—  в меня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 все—  в меня»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Картинка 9 из 12069"/>
          <p:cNvPicPr/>
          <p:nvPr/>
        </p:nvPicPr>
        <p:blipFill>
          <a:blip r:embed="rId1"/>
          <a:stretch/>
        </p:blipFill>
        <p:spPr>
          <a:xfrm>
            <a:off x="380880" y="380880"/>
            <a:ext cx="369756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Тяготы войны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4120" y="15998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Сколько невзгод пришлось испытать молодому солдату!     « Меня измотала блокада,» — с горечью напишет он. Но только ли блокада? Изматывали жесточайшие бои, бесчисленные утраты друзей, стылые окопы. И каждый день смерть и кров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«Меня  зовут издалека моё родное п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 колокольчики вьюнка на звонком            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частокол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Картинка 85 из 530"/>
          <p:cNvPicPr/>
          <p:nvPr/>
        </p:nvPicPr>
        <p:blipFill>
          <a:blip r:embed="rId1"/>
          <a:stretch/>
        </p:blipFill>
        <p:spPr>
          <a:xfrm>
            <a:off x="457200" y="1981080"/>
            <a:ext cx="457200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Родная приро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Одна из главных тем ли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П. Голос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тихи Голосова покоряют своей подлинностью, своей совершенной естественностью. С большим упоением и знанием дела живописует поэт родную природу. Отличительная черта пейзажей П. Голосова— их неразрывная связь с трудовой деятельностью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Картинка 16 из 2995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«Добрая красота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419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Десятой книгой ярославского поэта является книга «Добрая красота». Книга о красоте природы и людей… Темы, характерные для всего периода творчества. Открывается сборник стихотворением «Берёз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29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19944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21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529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29360" y="1448280"/>
            <a:ext cx="391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А на Руси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берез не 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перече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Куда-куда не забредут берез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м всюду рады, и у каждой 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Кого пригреть на горьком перекрест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, в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отчий край 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придя издале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Стоишь и плач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Бросив шапку   озем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 над тобой качает 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Улыбчивое дерево - бере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Картинка 1 из 507"/>
          <p:cNvPicPr/>
          <p:nvPr/>
        </p:nvPicPr>
        <p:blipFill>
          <a:blip r:embed="rId2"/>
          <a:stretch/>
        </p:blipFill>
        <p:spPr>
          <a:xfrm>
            <a:off x="2438280" y="2743200"/>
            <a:ext cx="2799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Мой день рожденья знает вся стран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160" y="1790640"/>
            <a:ext cx="3809880" cy="211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3 из 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752480"/>
            <a:ext cx="4162320" cy="27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637640"/>
            <a:ext cx="38862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авел Голосов родился 22 июня 1921 года в селе Некоуз Мологского уезда в   семье крестьянина-середняка.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43434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Как он сам потом напишет в одном из своих стихотворен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« Мой день рожден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Знает вся стр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е красная, не праздничная дат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В мой день рожден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ачалась вой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Тема исторической прошлого родного кра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19560" y="1790280"/>
            <a:ext cx="2895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Темы природы и исторического прошлого тесно переплет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На странице одного из сборников П.Голосов  приглашает  нас на реку Сить, в свой родной Некоузский рай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25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8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4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12408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25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Приглашение на Сит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7339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сякий, изучающий прошлое Ярославского края, заглянув в историю, узнает, что на Сить 4 марта 1238 г. произошло сражение русских воинов с татаро-монго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3549600" cy="4419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Файл:Стела. д. Лопатино.jpg"/>
          <p:cNvPicPr/>
          <p:nvPr/>
        </p:nvPicPr>
        <p:blipFill>
          <a:blip r:embed="rId2"/>
          <a:stretch/>
        </p:blipFill>
        <p:spPr>
          <a:xfrm>
            <a:off x="144360" y="3124080"/>
            <a:ext cx="2065320" cy="32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6324480"/>
          <a:ext cx="3429000" cy="5335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Памятник битве на реке С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0040" y="-5976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95320" y="41911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6687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519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Если не был 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Си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Этим летом её по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святи ей хотя бы ноч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Разожги над ней костер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ядь и вслушайся в неумолч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В перекатный её говор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Без докучливого сос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(Ты итак от речей уста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колько может река повед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печатав твои уст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419720" y="3809880"/>
          <a:ext cx="441936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809880"/>
                    <a:ext cx="4419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25000" cy="102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сыльный колоко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 Black"/>
              </a:rPr>
              <a:t>Историческое прошлое постоянно влечёт Голосова. И чем настойчивей Голосов проникает в героическое прошлое родного края, тем всё больше и больше волнуют его мысли и тех русских бунтарей, что в далёкие времена поднялись против царя и бояр, нищеты и бесправия.  В итоге зарождается замысел большой исторической поэмы « Ссыльный колокол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360" y="1371600"/>
            <a:ext cx="3848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Знание истории и поэтическое чутьё позволило автору в тысяче стихотворных строчек ёмко и зримо отобразить горькое для Руси время «Смуты». Образно, сочно и интересно поэту удалось поведать читателям об одной важной странице в истории русского государств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360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66760"/>
            <a:ext cx="784872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Его звали ПП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38120" y="1790280"/>
            <a:ext cx="4876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П- так звали иногда Павла Павловича Голосова. Он всегда умел сочинять язвительные афоризмы, колючие эпиграммы и бесподобные частушки, которые он любил читать в компаниях. У него в стихах вообще что ни строчка, то афоризм! 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Поэтами рождаются в деревне, а город производит в мастера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А женщина, она всегда права. И жизнь идёт не по её ли воле? 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У памяти мучительная власть - Нам повторять всю горечь прожитого…».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23800" y="1752480"/>
          <a:ext cx="3102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752480"/>
                    <a:ext cx="3102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65760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 был горячим оптимистом и жизнелюбом и, несмотря на слабое здоровье, расшатанное двумя фронтовыми ранениями и контузией, любил повторять крылатую тургеневскую фразу: «Мы ещё повоюем».Неизлечимая болезнь вырвала его из жизни, ещё полного творческих сил и замыслов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92572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3353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105160" y="38052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«Здесь учился поэт П. П. Голосов».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Мемориальная  доска   с такой  гравировкой висит на  фасаде  деревянной  двухэтажной школы в Старом Некоузе, его родном се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доме культуры проходят Голосовские веч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Рисунок 73" descr=""/>
          <p:cNvPicPr/>
          <p:nvPr/>
        </p:nvPicPr>
        <p:blipFill>
          <a:blip r:embed="rId1"/>
          <a:stretch/>
        </p:blipFill>
        <p:spPr>
          <a:xfrm>
            <a:off x="0" y="609480"/>
            <a:ext cx="5181480" cy="44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5410080"/>
          <a:ext cx="5029200" cy="12430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Дом культуры, в котором проводятся Голосовские вече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Наш земляк Павел Голос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46640" cy="3505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276876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20007" t="22583" r="60009" b="38709"/>
          <a:stretch/>
        </p:blipFill>
        <p:spPr>
          <a:xfrm>
            <a:off x="0" y="14479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57" t="1887" r="0" b="3774"/>
          <a:stretch/>
        </p:blipFill>
        <p:spPr>
          <a:xfrm>
            <a:off x="6400800" y="30481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250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Особенности поэзии П. Голосо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1920" y="1523880"/>
            <a:ext cx="89917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се поэтические сборники отличает разнообразие тематики. Главные темы стихов: война, природа и деревня, историческое прошлое родного кр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 поэзии П. Голосова ярко выражено чувство Род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 стихах - точность деталей, яркость образ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поэт умеет увидеть в повседневности красоту, необыч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стих Павла Голосова прост, лишен затейливых пустопорожних фраз и всевозможных словесных выве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стихи Голосова покоряют своей подлинностью, своей совершенной естественностью.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Гитара за стих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4120" y="1790640"/>
            <a:ext cx="358128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ервое стихотворение Павла Голосова было опубликовано в пионерской газете «Всегда готов» (Иваново, 1936 год, «Сталинская смена (Ярославль, 1938)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В 1937 году на школьной олимпиаде, посвящённой 100-летию со дня смерти А.С. Пушкина, его стихи заняли 1-е место, за что автор был премирован гита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81240" y="1981080"/>
          <a:ext cx="34351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981080"/>
                    <a:ext cx="34351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266400"/>
            <a:ext cx="86104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писок использованных источник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790280"/>
            <a:ext cx="8610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. Голосов http://www.stihi.ru/avtor/golosovp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онозов О. Поэтами рождаются в деревне // Золотое кольцо. — 20 января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усев Е. «В мой день рожденья началась война» // Северный край. — 22 июня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олосов П. П. // http://demetra.yar.ru/index.php/nekouzskij-rajon/istoricheskie-persony/411-golosov-pavel-pavlovich-1921-1988-poet-zhurn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авел Голосов // https://yarwiki.ru/article/1447/golosov-pavel-pavlov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53040" y="0"/>
            <a:ext cx="48909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685800" y="2666880"/>
          <a:ext cx="3276720" cy="143172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Спасибо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за внимание!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ыбрал профессию учител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осле школы будущий поэт поехал учиться в Московский горный институт, но вскоре понял, что эта профессия не для него, и вернулся 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В 1939 г. поступил слушателем на десятимесячные педагогические  курсы при Ленинградском областном отделе народного образования и стал работать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07" t="22583" r="60009" b="38709"/>
          <a:stretch/>
        </p:blipFill>
        <p:spPr>
          <a:xfrm>
            <a:off x="5867280" y="2057400"/>
            <a:ext cx="1930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32004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       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Учител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3810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Павел Павлович Голосов стал учительствовать  в Исаковской и Николо-Замошной начальных школах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Работал учителем русского языка и литературы, завучем, а с марта 1941 года директором Ровенской семилетней  школы. Параллельно заочно учился на третьем курсе Ленинградского областного пединститу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0516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105160" y="59432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Исаков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9528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472464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Начало вой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июне 1941 года Павел Голосов поехал на сессию в Ленингр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2 июня 1941года по радио объявили о начале вой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2640" y="179028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11 из 776"/>
          <p:cNvPicPr/>
          <p:nvPr/>
        </p:nvPicPr>
        <p:blipFill>
          <a:blip r:embed="rId2"/>
          <a:stretch/>
        </p:blipFill>
        <p:spPr>
          <a:xfrm>
            <a:off x="685800" y="76212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09480" y="380880"/>
            <a:ext cx="777240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Добровольцем на фронт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о состоянию здоровья Павел Голосов не подлежал призыву в арм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3 июля 1941 года он написал заявление с просьбой отравить его на фронт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953240" cy="45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 шинели рядового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1943 году вступил в КПСС, был парторгом пулеметной р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790640"/>
            <a:ext cx="327672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начале июля зачислен во 2-ю дивизию народного ополчения г. Ленингр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Три тяжких года войны недавний учитель прошёл  в шинели рядов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5334120" cy="348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5029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Был артиллеристом-зенитчиком, связистом,  пулеметч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7EN USER</cp:lastModifiedBy>
  <dcterms:modified xsi:type="dcterms:W3CDTF">2018-08-17T18:06:38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