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287-CB1F-4AF3-B239-1F5209E6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52E-6093-4F4E-8523-F19CA1DC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37C-97DE-4C7B-99BB-EF1B19B0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7AF-7CB6-442C-AFDF-DC5097B9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501-A452-45FF-837F-E6DA6969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29F-EFE5-4C81-B226-3339CD6C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114-ADD1-4AD5-9A97-E5CC9A5C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80C-6493-4F8F-BB0F-05C760A8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10A-3C2D-45FF-A312-D19D2C42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135-BF63-4F69-97A3-D5C734D5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52F-8707-4FF6-B4BE-7DD200BD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FA9-7BEF-4BEC-815A-B64C5FC5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6FD8-46CE-486A-8A94-6B98CFE97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69800" y="1530360"/>
            <a:ext cx="8131320" cy="179244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2236680" y="3591000"/>
            <a:ext cx="4383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1"/>
          <a:stretch/>
        </p:blipFill>
        <p:spPr>
          <a:xfrm>
            <a:off x="523800" y="390600"/>
            <a:ext cx="8175600" cy="8287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425880" y="1844640"/>
            <a:ext cx="793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Р…ботать, ж…ла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…беждать, б…седова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ш…л, св…ркать, р…сова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уж…н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903240" y="1844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050360" y="1844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843120" y="24955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4395960" y="24955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884160" y="31989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847240" y="31989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5654880" y="3178080"/>
            <a:ext cx="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1228680" y="3876840"/>
            <a:ext cx="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50920" y="98100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нулся, прищурился, сел, улыбну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дёрнул, зажмурился, встал, потяну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зглянул, причесался, намылил, умы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евнул, улыбнулся, почистил, побр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229440" y="3286080"/>
            <a:ext cx="21762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ая соединительная линия 4"/>
          <p:cNvSpPr/>
          <p:nvPr/>
        </p:nvSpPr>
        <p:spPr>
          <a:xfrm>
            <a:off x="1187280" y="3454560"/>
            <a:ext cx="9716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Дуга 7"/>
          <p:cNvSpPr/>
          <p:nvPr/>
        </p:nvSpPr>
        <p:spPr>
          <a:xfrm>
            <a:off x="2340000" y="3290760"/>
            <a:ext cx="2409840" cy="1111320"/>
          </a:xfrm>
          <a:custGeom>
            <a:avLst/>
            <a:gdLst/>
            <a:ahLst/>
            <a:rect l="l" t="t" r="r" b="b"/>
            <a:pathLst>
              <a:path stroke="0" w="2409679" h="1111068">
                <a:moveTo>
                  <a:pt x="24207" y="444734"/>
                </a:moveTo>
                <a:cubicBezTo>
                  <a:pt x="137619" y="187814"/>
                  <a:pt x="625167" y="2431"/>
                  <a:pt x="1193775" y="23"/>
                </a:cubicBezTo>
                <a:cubicBezTo>
                  <a:pt x="1733587" y="-2263"/>
                  <a:pt x="2210810" y="161289"/>
                  <a:pt x="2361675" y="400281"/>
                </a:cubicBezTo>
                <a:lnTo>
                  <a:pt x="1204840" y="555534"/>
                </a:lnTo>
                <a:lnTo>
                  <a:pt x="24207" y="444734"/>
                </a:lnTo>
                <a:close/>
              </a:path>
              <a:path fill="none" w="2409679" h="1111068">
                <a:moveTo>
                  <a:pt x="24207" y="444734"/>
                </a:moveTo>
                <a:cubicBezTo>
                  <a:pt x="137619" y="187814"/>
                  <a:pt x="625167" y="2431"/>
                  <a:pt x="1193775" y="23"/>
                </a:cubicBezTo>
                <a:cubicBezTo>
                  <a:pt x="1733587" y="-2263"/>
                  <a:pt x="2210810" y="161289"/>
                  <a:pt x="2361675" y="400281"/>
                </a:cubicBezTo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0"/>
          <p:cNvSpPr/>
          <p:nvPr/>
        </p:nvSpPr>
        <p:spPr>
          <a:xfrm flipV="1">
            <a:off x="4867200" y="3279600"/>
            <a:ext cx="360360" cy="4543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4"/>
          <p:cNvSpPr/>
          <p:nvPr/>
        </p:nvSpPr>
        <p:spPr>
          <a:xfrm>
            <a:off x="5227560" y="3290760"/>
            <a:ext cx="339840" cy="4525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8"/>
          <p:cNvSpPr/>
          <p:nvPr/>
        </p:nvSpPr>
        <p:spPr>
          <a:xfrm flipH="1" flipV="1">
            <a:off x="1019160" y="980640"/>
            <a:ext cx="2376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1"/>
          <p:cNvSpPr/>
          <p:nvPr/>
        </p:nvSpPr>
        <p:spPr>
          <a:xfrm>
            <a:off x="2195640" y="3454560"/>
            <a:ext cx="0" cy="215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2"/>
          <p:cNvSpPr/>
          <p:nvPr/>
        </p:nvSpPr>
        <p:spPr>
          <a:xfrm>
            <a:off x="6035760" y="3208320"/>
            <a:ext cx="431640" cy="5047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3"/>
          <p:cNvSpPr/>
          <p:nvPr/>
        </p:nvSpPr>
        <p:spPr>
          <a:xfrm flipH="1">
            <a:off x="5715000" y="3228840"/>
            <a:ext cx="317520" cy="503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7"/>
          <p:cNvSpPr/>
          <p:nvPr/>
        </p:nvSpPr>
        <p:spPr>
          <a:xfrm>
            <a:off x="7524720" y="3500280"/>
            <a:ext cx="0" cy="8589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9"/>
          <p:cNvSpPr/>
          <p:nvPr/>
        </p:nvSpPr>
        <p:spPr>
          <a:xfrm>
            <a:off x="6659640" y="4359240"/>
            <a:ext cx="865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0"/>
          <p:cNvSpPr/>
          <p:nvPr/>
        </p:nvSpPr>
        <p:spPr>
          <a:xfrm>
            <a:off x="6659640" y="3500280"/>
            <a:ext cx="865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2"/>
          <p:cNvSpPr/>
          <p:nvPr/>
        </p:nvSpPr>
        <p:spPr>
          <a:xfrm>
            <a:off x="6659640" y="3500280"/>
            <a:ext cx="0" cy="8589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5"/>
          <p:cNvSpPr/>
          <p:nvPr/>
        </p:nvSpPr>
        <p:spPr>
          <a:xfrm>
            <a:off x="1187280" y="4384800"/>
            <a:ext cx="4392720" cy="111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8"/>
          <p:cNvSpPr/>
          <p:nvPr/>
        </p:nvSpPr>
        <p:spPr>
          <a:xfrm flipV="1">
            <a:off x="1187280" y="4061880"/>
            <a:ext cx="0" cy="3337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9"/>
          <p:cNvSpPr/>
          <p:nvPr/>
        </p:nvSpPr>
        <p:spPr>
          <a:xfrm>
            <a:off x="5580000" y="4071960"/>
            <a:ext cx="0" cy="3301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279"/>
          <p:cNvSpPr/>
          <p:nvPr/>
        </p:nvSpPr>
        <p:spPr>
          <a:xfrm>
            <a:off x="5940360" y="3621240"/>
            <a:ext cx="50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280"/>
          <p:cNvSpPr/>
          <p:nvPr/>
        </p:nvSpPr>
        <p:spPr>
          <a:xfrm>
            <a:off x="4937040" y="3614760"/>
            <a:ext cx="46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extBox 1" descr=""/>
          <p:cNvPicPr/>
          <p:nvPr/>
        </p:nvPicPr>
        <p:blipFill>
          <a:blip r:embed="rId1"/>
          <a:stretch/>
        </p:blipFill>
        <p:spPr>
          <a:xfrm>
            <a:off x="1085760" y="378000"/>
            <a:ext cx="6972480" cy="85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FaNtoM\Рабочий стол\Картинки\Детские рамки\5.jpg"/>
          <p:cNvPicPr/>
          <p:nvPr/>
        </p:nvPicPr>
        <p:blipFill>
          <a:blip r:embed="rId2"/>
          <a:stretch/>
        </p:blipFill>
        <p:spPr>
          <a:xfrm>
            <a:off x="900000" y="1268280"/>
            <a:ext cx="7344000" cy="5040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 rot="21213000">
            <a:off x="2185560" y="2964960"/>
            <a:ext cx="470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Т. с. 64 упр. 1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extBox 1" descr=""/>
          <p:cNvPicPr/>
          <p:nvPr/>
        </p:nvPicPr>
        <p:blipFill>
          <a:blip r:embed="rId1"/>
          <a:stretch/>
        </p:blipFill>
        <p:spPr>
          <a:xfrm>
            <a:off x="469800" y="2176560"/>
            <a:ext cx="81439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1:00:57Z</dcterms:created>
  <dc:creator>FaNtoM</dc:creator>
  <dc:description/>
  <dc:language>en-US</dc:language>
  <cp:lastModifiedBy>Кабинет303</cp:lastModifiedBy>
  <dcterms:modified xsi:type="dcterms:W3CDTF">2015-04-23T14:59:29Z</dcterms:modified>
  <cp:revision>18</cp:revision>
  <dc:subject/>
  <dc:title>Русский язык</dc:title>
</cp:coreProperties>
</file>