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D7D-ADCC-4403-A413-4CB2D0C6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9D1-B628-4310-A352-80756C03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BC7-51E1-4313-8DA9-44CF1077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0AE-6389-4AE5-A214-B114604F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893A-B83B-4F36-9183-0575C837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526-A763-49BA-AD87-B2584B37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DDD-A9B4-4724-9BC4-D824431A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0BB-BA9A-4A12-8000-79A190D8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395-BF81-41CE-9DB3-03A67FB1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12D-BCEE-4BFC-81E1-B510D2A0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FCA-A34C-4818-8CC0-DE930C79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EA5-F21C-4699-A7D7-9B935568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2E99-4E49-4E85-8FE0-E73C3BECC6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69800" y="1530360"/>
            <a:ext cx="8131320" cy="179244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2236680" y="3591000"/>
            <a:ext cx="43833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1" descr=""/>
          <p:cNvPicPr/>
          <p:nvPr/>
        </p:nvPicPr>
        <p:blipFill>
          <a:blip r:embed="rId1"/>
          <a:stretch/>
        </p:blipFill>
        <p:spPr>
          <a:xfrm>
            <a:off x="523800" y="390600"/>
            <a:ext cx="8175600" cy="82872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425880" y="1844640"/>
            <a:ext cx="793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Р…ботать, ж…ла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п…беждать, б…седова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ш…л, св…ркать, р…сова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уж…н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903240" y="1844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050360" y="1844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843120" y="249552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4395960" y="24955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884160" y="31989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2847240" y="31989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5654880" y="3178080"/>
            <a:ext cx="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1228680" y="3876840"/>
            <a:ext cx="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50920" y="98100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нулся, прищурился, сел, улыбну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дёрнул, зажмурился, встал, потяну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зглянул, причесался, намылил, умы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евнул, улыбнулся, почистил, побр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229440" y="3286080"/>
            <a:ext cx="21762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ая соединительная линия 4"/>
          <p:cNvSpPr/>
          <p:nvPr/>
        </p:nvSpPr>
        <p:spPr>
          <a:xfrm>
            <a:off x="1187280" y="3454560"/>
            <a:ext cx="97164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Дуга 7"/>
          <p:cNvSpPr/>
          <p:nvPr/>
        </p:nvSpPr>
        <p:spPr>
          <a:xfrm>
            <a:off x="2340000" y="3290760"/>
            <a:ext cx="2409840" cy="1111320"/>
          </a:xfrm>
          <a:custGeom>
            <a:avLst/>
            <a:gdLst/>
            <a:ahLst/>
            <a:rect l="l" t="t" r="r" b="b"/>
            <a:pathLst>
              <a:path stroke="0" w="2409679" h="1111068">
                <a:moveTo>
                  <a:pt x="24207" y="444734"/>
                </a:moveTo>
                <a:cubicBezTo>
                  <a:pt x="137619" y="187814"/>
                  <a:pt x="625167" y="2431"/>
                  <a:pt x="1193775" y="23"/>
                </a:cubicBezTo>
                <a:cubicBezTo>
                  <a:pt x="1733587" y="-2263"/>
                  <a:pt x="2210810" y="161289"/>
                  <a:pt x="2361675" y="400281"/>
                </a:cubicBezTo>
                <a:lnTo>
                  <a:pt x="1204840" y="555534"/>
                </a:lnTo>
                <a:lnTo>
                  <a:pt x="24207" y="444734"/>
                </a:lnTo>
                <a:close/>
              </a:path>
              <a:path fill="none" w="2409679" h="1111068">
                <a:moveTo>
                  <a:pt x="24207" y="444734"/>
                </a:moveTo>
                <a:cubicBezTo>
                  <a:pt x="137619" y="187814"/>
                  <a:pt x="625167" y="2431"/>
                  <a:pt x="1193775" y="23"/>
                </a:cubicBezTo>
                <a:cubicBezTo>
                  <a:pt x="1733587" y="-2263"/>
                  <a:pt x="2210810" y="161289"/>
                  <a:pt x="2361675" y="400281"/>
                </a:cubicBezTo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0"/>
          <p:cNvSpPr/>
          <p:nvPr/>
        </p:nvSpPr>
        <p:spPr>
          <a:xfrm flipV="1">
            <a:off x="4867200" y="3279600"/>
            <a:ext cx="360360" cy="4543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4"/>
          <p:cNvSpPr/>
          <p:nvPr/>
        </p:nvSpPr>
        <p:spPr>
          <a:xfrm>
            <a:off x="5227560" y="3290760"/>
            <a:ext cx="339840" cy="4525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18"/>
          <p:cNvSpPr/>
          <p:nvPr/>
        </p:nvSpPr>
        <p:spPr>
          <a:xfrm flipH="1" flipV="1">
            <a:off x="1019160" y="980640"/>
            <a:ext cx="2376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1"/>
          <p:cNvSpPr/>
          <p:nvPr/>
        </p:nvSpPr>
        <p:spPr>
          <a:xfrm>
            <a:off x="2195640" y="3454560"/>
            <a:ext cx="0" cy="2156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2"/>
          <p:cNvSpPr/>
          <p:nvPr/>
        </p:nvSpPr>
        <p:spPr>
          <a:xfrm>
            <a:off x="6035760" y="3208320"/>
            <a:ext cx="431640" cy="5047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3"/>
          <p:cNvSpPr/>
          <p:nvPr/>
        </p:nvSpPr>
        <p:spPr>
          <a:xfrm flipH="1">
            <a:off x="5715000" y="3228840"/>
            <a:ext cx="317520" cy="5032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7"/>
          <p:cNvSpPr/>
          <p:nvPr/>
        </p:nvSpPr>
        <p:spPr>
          <a:xfrm>
            <a:off x="7524720" y="3500280"/>
            <a:ext cx="0" cy="8589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9"/>
          <p:cNvSpPr/>
          <p:nvPr/>
        </p:nvSpPr>
        <p:spPr>
          <a:xfrm>
            <a:off x="6659640" y="4359240"/>
            <a:ext cx="865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20"/>
          <p:cNvSpPr/>
          <p:nvPr/>
        </p:nvSpPr>
        <p:spPr>
          <a:xfrm>
            <a:off x="6659640" y="3500280"/>
            <a:ext cx="865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22"/>
          <p:cNvSpPr/>
          <p:nvPr/>
        </p:nvSpPr>
        <p:spPr>
          <a:xfrm>
            <a:off x="6659640" y="3500280"/>
            <a:ext cx="0" cy="8589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5"/>
          <p:cNvSpPr/>
          <p:nvPr/>
        </p:nvSpPr>
        <p:spPr>
          <a:xfrm>
            <a:off x="1187280" y="4384800"/>
            <a:ext cx="4392720" cy="111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38"/>
          <p:cNvSpPr/>
          <p:nvPr/>
        </p:nvSpPr>
        <p:spPr>
          <a:xfrm flipV="1">
            <a:off x="1187280" y="4061880"/>
            <a:ext cx="0" cy="3337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39"/>
          <p:cNvSpPr/>
          <p:nvPr/>
        </p:nvSpPr>
        <p:spPr>
          <a:xfrm>
            <a:off x="5580000" y="4071960"/>
            <a:ext cx="0" cy="3301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1279"/>
          <p:cNvSpPr/>
          <p:nvPr/>
        </p:nvSpPr>
        <p:spPr>
          <a:xfrm>
            <a:off x="5940360" y="3621240"/>
            <a:ext cx="50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1280"/>
          <p:cNvSpPr/>
          <p:nvPr/>
        </p:nvSpPr>
        <p:spPr>
          <a:xfrm>
            <a:off x="4937040" y="3614760"/>
            <a:ext cx="46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extBox 1" descr=""/>
          <p:cNvPicPr/>
          <p:nvPr/>
        </p:nvPicPr>
        <p:blipFill>
          <a:blip r:embed="rId1"/>
          <a:stretch/>
        </p:blipFill>
        <p:spPr>
          <a:xfrm>
            <a:off x="1085760" y="378000"/>
            <a:ext cx="6972480" cy="85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Documents and Settings\FaNtoM\Рабочий стол\Картинки\Детские рамки\5.jpg"/>
          <p:cNvPicPr/>
          <p:nvPr/>
        </p:nvPicPr>
        <p:blipFill>
          <a:blip r:embed="rId2"/>
          <a:stretch/>
        </p:blipFill>
        <p:spPr>
          <a:xfrm>
            <a:off x="900000" y="1268280"/>
            <a:ext cx="7344000" cy="5040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 rot="21213000">
            <a:off x="2185560" y="2964960"/>
            <a:ext cx="470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Т. с. 64 упр. 1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extBox 1" descr=""/>
          <p:cNvPicPr/>
          <p:nvPr/>
        </p:nvPicPr>
        <p:blipFill>
          <a:blip r:embed="rId1"/>
          <a:stretch/>
        </p:blipFill>
        <p:spPr>
          <a:xfrm>
            <a:off x="469800" y="2176560"/>
            <a:ext cx="81439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1:00:57Z</dcterms:created>
  <dc:creator>FaNtoM</dc:creator>
  <dc:description/>
  <dc:language>en-US</dc:language>
  <cp:lastModifiedBy>Кабинет303</cp:lastModifiedBy>
  <dcterms:modified xsi:type="dcterms:W3CDTF">2015-04-23T14:59:29Z</dcterms:modified>
  <cp:revision>18</cp:revision>
  <dc:subject/>
  <dc:title>Русский язык</dc:title>
</cp:coreProperties>
</file>