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8635-5F87-462D-9DB4-182583872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5B01-DC67-4F29-9672-C8D5FC647D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F31-9C6B-4E78-A896-C683A54D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29B-25E3-44B5-8ACA-6FE89DD5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DE6-5864-4A9A-A53F-1F966ECD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EEF-40F4-4626-A0AA-8AAF5A08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5E5-29F0-4486-9389-9B1F29FB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B5F-2700-4DB6-BED0-B297E64A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928-B451-421D-8532-0E9F41F3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E03-91CA-4F48-AF04-3503E686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844-4279-4B9C-AF3D-30321F96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1FC-6479-4C30-83D6-A504CD4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8DD-B926-4F06-9AF4-9488423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365-7FD3-448C-85A3-2BAEF061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EC36-7EAE-4A74-A420-D40854883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2819520" y="510552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Игра составлена преподавателем МБУДО «Сафоновская ДШИ №2»Трубаевой Т.В. на основе методического пособ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      </a:t>
            </a: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И.Д. Агеевой «Занимательные материалы по изобразительному искусств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3886200" y="990720"/>
            <a:ext cx="5029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Викторина</a:t>
            </a:r>
            <a:endParaRPr b="1" lang="en-US" sz="1800" spc="1" strike="noStrike">
              <a:ln w="0">
                <a:noFill/>
              </a:ln>
              <a:solidFill>
                <a:srgbClr val="ffcc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с фрагментами</a:t>
            </a:r>
            <a:endParaRPr b="1" lang="en-US" sz="1800" spc="1" strike="noStrike">
              <a:ln w="0">
                <a:noFill/>
              </a:ln>
              <a:solidFill>
                <a:srgbClr val="ffcc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80880" y="533520"/>
            <a:ext cx="83822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Comic Sans MS"/>
                <a:ea typeface="BrowalliaUPC"/>
              </a:rPr>
              <a:t>Ребя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b6bcf"/>
                </a:solidFill>
                <a:latin typeface="Comic Sans MS"/>
                <a:ea typeface="BrowalliaUPC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Для игры «Викторина с фрагментами» разделитесь на две команды. Играют поочерёдно по одному представителю от коман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Comic Sans MS"/>
                <a:ea typeface="BrowalliaUPC"/>
              </a:rPr>
              <a:t>Задание</a:t>
            </a:r>
            <a:r>
              <a:rPr b="1" lang="ru-RU" sz="2000" spc="-1" strike="noStrike">
                <a:solidFill>
                  <a:srgbClr val="ffcc66"/>
                </a:solidFill>
                <a:latin typeface="Comic Sans MS"/>
                <a:ea typeface="BrowalliaUPC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угадать по фрагменту название карт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Если  игрок угадывает с первого фрагмента, то получает 3 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Угадывает со второго – 2 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с третьего -1 оч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Называет  автора- получает ещё 2 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Примеч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Comic Sans MS"/>
                <a:ea typeface="BrowalliaUPC"/>
              </a:rPr>
              <a:t>за подсказку команды игроку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BrowalliaUPC"/>
              </a:rPr>
              <a:t>снижается 1 оч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Максимально каждый игрок может принести в копилку команды 5 о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  <a:ea typeface="Dotum"/>
              </a:rPr>
              <a:t>Какая команда набрала большее количество баллов, та и выигрывает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Comic Sans MS"/>
              </a:rPr>
              <a:t>Желаю 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Рисунок91.gif"/>
          <p:cNvPicPr/>
          <p:nvPr/>
        </p:nvPicPr>
        <p:blipFill>
          <a:blip r:embed="rId2"/>
          <a:stretch/>
        </p:blipFill>
        <p:spPr>
          <a:xfrm>
            <a:off x="7543800" y="5867280"/>
            <a:ext cx="847800" cy="5907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1486080" cy="144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1600200" cy="117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362240" cy="819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457200" y="9716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«Джокон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385920" y="16574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мпо\Рабочий стол\мама\ИЗО\vinchi.bmp"/>
          <p:cNvPicPr/>
          <p:nvPr/>
        </p:nvPicPr>
        <p:blipFill>
          <a:blip r:embed="rId5"/>
          <a:stretch/>
        </p:blipFill>
        <p:spPr>
          <a:xfrm>
            <a:off x="4191120" y="762120"/>
            <a:ext cx="3805200" cy="5562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push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7543800" y="1905120"/>
            <a:ext cx="847800" cy="75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6400800" y="1219320"/>
            <a:ext cx="103824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4419720" y="1143000"/>
            <a:ext cx="1466640" cy="1247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95120" y="76212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«Купание красного кон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3352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етров- Вод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мпо\Рабочий стол\мама\ИЗО\собрание музеев\Из собрания Третьяковской галереи\Петров Водкин_Купание красного коня.jpg"/>
          <p:cNvPicPr/>
          <p:nvPr/>
        </p:nvPicPr>
        <p:blipFill>
          <a:blip r:embed="rId5"/>
          <a:stretch/>
        </p:blipFill>
        <p:spPr>
          <a:xfrm>
            <a:off x="3581280" y="762120"/>
            <a:ext cx="4997520" cy="4359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push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743200" y="3276720"/>
            <a:ext cx="1305000" cy="81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5410080" y="29718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3733920" y="1676520"/>
            <a:ext cx="1333440" cy="1609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200400" y="4419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«Рож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27672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. Шишкин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мпо\Рабочий стол\мама\ИЗО\собрание музеев\Из собрания Третьяковской галереи\Шишкин_Рожь.jpg"/>
          <p:cNvPicPr/>
          <p:nvPr/>
        </p:nvPicPr>
        <p:blipFill>
          <a:blip r:embed="rId5"/>
          <a:stretch/>
        </p:blipFill>
        <p:spPr>
          <a:xfrm>
            <a:off x="1523880" y="685800"/>
            <a:ext cx="6197760" cy="3462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push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1428840" cy="116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4495680" y="1295280"/>
            <a:ext cx="125748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2666880" y="914400"/>
            <a:ext cx="933480" cy="1447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1600200" y="4648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«Витязь на распут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3124080" y="5257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. Васнецов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мпо\Рабочий стол\мама\ИЗО\собрание музеев\Картины из Российских музеев\Васнецов_Витязь на распутье.jpg"/>
          <p:cNvPicPr/>
          <p:nvPr/>
        </p:nvPicPr>
        <p:blipFill>
          <a:blip r:embed="rId5"/>
          <a:stretch/>
        </p:blipFill>
        <p:spPr>
          <a:xfrm>
            <a:off x="1371600" y="609480"/>
            <a:ext cx="6637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push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152280" y="567216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Игра составлена преподавателем МБУДО «Сафоновская ДШИ №2»Трубаевой Т.В. на основе методического пособ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      </a:t>
            </a: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И.Д. Агеевой «Занимательные материалы по изобразительному искусств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Ноутбук</cp:lastModifiedBy>
  <dcterms:modified xsi:type="dcterms:W3CDTF">2018-08-17T14:27:1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