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12A-F7EF-4DE9-A05B-C797FFB24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042-2C01-4AE4-938A-70D262B50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C33-746B-4782-9AA6-68338BDC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795-A39A-4DBC-9A8B-FF7CB4A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D3E-5EFB-468E-9315-E1714E51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46A-6973-4AEC-BCDA-48CEB935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22E-3EFE-4135-A7E7-C2F9782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C70-145A-402E-A261-3FD63CD5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CC6-E442-4A13-9DFA-589D96E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6F3-43AF-477F-96A9-A26A230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869-58A8-49E6-A57C-32BF445D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C32-5E83-4D87-8EC4-3BF6105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B34-EB85-4A5C-9A83-CC8D1B5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9F3-EDE8-495D-BC7B-D8C859C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D3B1-E51E-4102-90DA-44F4144AB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2819520" y="510552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гра составлена преподавателем МБУДО «Сафоновская ДШИ №2»Трубаевой Т.В. на основе методического пособ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.Д. Агеевой «Занимательные материалы по изобразительному искусст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3886200" y="990720"/>
            <a:ext cx="5029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Викторина</a:t>
            </a:r>
            <a:endParaRPr b="1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с фрагментами</a:t>
            </a:r>
            <a:endParaRPr b="1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80880" y="533520"/>
            <a:ext cx="83822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Ребя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b6bcf"/>
                </a:solidFill>
                <a:latin typeface="Comic Sans MS"/>
                <a:ea typeface="BrowalliaUP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Для игры «Викторина с фрагментами» разделитесь на две команды. Играют поочерёдно по одному представителю от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Задание</a:t>
            </a: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угадать по фрагменту название кар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Если  игрок угадывает с первого фрагмента, то получает 3 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Угадывает со второго – 2 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с третьего -1 оч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Называет  автора- получает ещё 2 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Примеч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  <a:ea typeface="BrowalliaUPC"/>
              </a:rPr>
              <a:t>за подсказку команды игроку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BrowalliaUPC"/>
              </a:rPr>
              <a:t>снижается 1 оч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Максимально каждый игрок может принести в копилку команды 5 оч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Comic Sans MS"/>
                <a:ea typeface="Dotum"/>
              </a:rPr>
              <a:t>Какая команда набрала большее количество баллов, та и выигрывает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  <a:ea typeface="BrowalliaUP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Comic Sans MS"/>
              </a:rPr>
              <a:t>Желаю 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Рисунок91.gif"/>
          <p:cNvPicPr/>
          <p:nvPr/>
        </p:nvPicPr>
        <p:blipFill>
          <a:blip r:embed="rId2"/>
          <a:stretch/>
        </p:blipFill>
        <p:spPr>
          <a:xfrm>
            <a:off x="7543800" y="5867280"/>
            <a:ext cx="847800" cy="59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1486080" cy="144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1600200" cy="117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5181480" y="1066680"/>
            <a:ext cx="1362240" cy="819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457200" y="9716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Джокон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385920" y="16574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мпо\Рабочий стол\мама\ИЗО\vinchi.bmp"/>
          <p:cNvPicPr/>
          <p:nvPr/>
        </p:nvPicPr>
        <p:blipFill>
          <a:blip r:embed="rId5"/>
          <a:stretch/>
        </p:blipFill>
        <p:spPr>
          <a:xfrm>
            <a:off x="4191120" y="762120"/>
            <a:ext cx="3805200" cy="5562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847800" cy="75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400800" y="1219320"/>
            <a:ext cx="103824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4419720" y="1143000"/>
            <a:ext cx="1466640" cy="1247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195120" y="7621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Купание красного кон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335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етров- Вод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мпо\Рабочий стол\мама\ИЗО\собрание музеев\Из собрания Третьяковской галереи\Петров Водкин_Купание красного коня.jpg"/>
          <p:cNvPicPr/>
          <p:nvPr/>
        </p:nvPicPr>
        <p:blipFill>
          <a:blip r:embed="rId5"/>
          <a:stretch/>
        </p:blipFill>
        <p:spPr>
          <a:xfrm>
            <a:off x="3581280" y="762120"/>
            <a:ext cx="4997520" cy="4359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743200" y="3276720"/>
            <a:ext cx="1305000" cy="81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410080" y="29718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3733920" y="1676520"/>
            <a:ext cx="1333440" cy="1609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200400" y="4419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Рож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27672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. Шишкин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мпо\Рабочий стол\мама\ИЗО\собрание музеев\Из собрания Третьяковской галереи\Шишкин_Рожь.jpg"/>
          <p:cNvPicPr/>
          <p:nvPr/>
        </p:nvPicPr>
        <p:blipFill>
          <a:blip r:embed="rId5"/>
          <a:stretch/>
        </p:blipFill>
        <p:spPr>
          <a:xfrm>
            <a:off x="1523880" y="685800"/>
            <a:ext cx="6197760" cy="3462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1428840" cy="116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125748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2666880" y="914400"/>
            <a:ext cx="933480" cy="1447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1600200" y="4648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«Витязь на распут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124080" y="5257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. Васнецов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мпо\Рабочий стол\мама\ИЗО\собрание музеев\Картины из Российских музеев\Васнецов_Витязь на распутье.jpg"/>
          <p:cNvPicPr/>
          <p:nvPr/>
        </p:nvPicPr>
        <p:blipFill>
          <a:blip r:embed="rId5"/>
          <a:stretch/>
        </p:blipFill>
        <p:spPr>
          <a:xfrm>
            <a:off x="1371600" y="609480"/>
            <a:ext cx="6637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push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52280" y="567216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гра составлена преподавателем МБУДО «Сафоновская ДШИ №2»Трубаевой Т.В. на основе методического пособ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7575d1"/>
                </a:solidFill>
                <a:latin typeface="Comic Sans MS"/>
              </a:rPr>
              <a:t>И.Д. Агеевой «Занимательные материалы по изобразительному искусст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Ноутбук</cp:lastModifiedBy>
  <dcterms:modified xsi:type="dcterms:W3CDTF">2018-08-17T14:27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