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BB75-6E31-4DD4-98E8-052966D3D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77E2-B02D-46DD-A7DA-FA8C6290B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A18D-D1ED-4362-9BAC-51100EC69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5339-F828-4B00-A36E-017487DD9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6DD5A-707A-45CE-BB67-F43C0099F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203A4-3C7A-400E-B6F6-85AA98CBF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0DDFF-2249-41C0-A55F-0B56DCDD7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7451E-04E3-4ECA-A7B3-2513054BE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54CF7-82B2-4C8B-A03D-DDDACF0AE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2B1BD-2371-435A-8E6A-624093E3D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87126-00F2-4D3E-9CC9-B7EC8B95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770F-254C-4719-A0C0-5BE5902EE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67552-4B33-49A5-BAF3-C533B326F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9C260-5D11-4B40-9D00-E7500DE78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342F9-A21A-41D9-B52F-EC1A375D7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67B80-BAFC-4AC4-8347-E71C6CD63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B89FF-D203-447F-BE2B-4EFE4299E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ADD3D-E7E1-4500-9FC3-3546D3912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157F6-4292-4C7E-9A50-FF33418AD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337C2-F92C-465C-B155-2E68A6251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928B7-C38E-4961-92D0-3706289DE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B1A28-FBD1-4E63-A11D-AFF79EE89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B233-E4CE-42EA-901D-03D77BE34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03381-4A0C-4D96-9148-48D583AFE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CECC4-439D-4B72-9BDA-49C9C6C9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1553D-4F29-40AE-AF4E-10F5B2759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04799-AFD5-48B1-B0C8-29824A616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0D4B3-0D0C-40A5-A292-059FA97C8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572FC-2A38-48CE-9B15-D9914EB01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4FA7E-3D22-4E4A-A7F0-D19851C1D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2EF94-48A5-43F3-87D1-089FE7955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548DD-2BDC-46E9-B898-F1D85456D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338E7-6105-4966-B705-2350C0753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0CA2-7739-4F62-B3F5-2318C1187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FC8E9-97A2-478F-AF41-BBDED3FAC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A0359-3391-4A0E-B590-58187B313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30D78-6E42-4846-BF48-2F3C57548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EA40E-357D-4F3A-B8D7-AF0323509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4F6A0-68B5-44D8-961F-99CA0A60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3F0A8-3A39-4D6C-9060-EE26840F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9B38A-E735-4EBE-BF33-347E5AD84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3D88D-96AF-40B1-8637-D8E997306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7EB6B-132A-4AF0-BEB2-1B8B8C1E5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B04172-126C-48D7-AC66-91B79F9F4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184E-AB8B-43CF-ADB2-837018283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19E0C9-C414-407E-B2D6-D37A64382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40F8B-4BDC-4C41-95D2-F80E2216E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431AC8-678E-412A-9374-B776C1B61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2B2D94-DE30-4508-8DA3-BE2DA8845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0469A-4084-4070-A0F7-83F09E63A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41E6E-1BA6-426B-8B5D-F5FE0DB19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CA2295-9FDF-4B43-B03B-B6A3C561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16A4C-F0E7-4984-A473-BD0626ED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BA6B7-6D56-4330-939D-4E72EB51A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5FA07-DAB9-4C53-905E-F2E0DA0F8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DC34-A4DE-4631-A321-34877B7E8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6B217-A544-4DB3-BC8E-9A38D8CD8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7BC34E-6E02-421E-9544-AAA4DC8BD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048269-12BA-4D62-91F3-7A14C111E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D052B7-6210-482A-8EAB-BF9EDB4DC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8B4E8C-CEF1-4C5F-81C0-F5F1D2CCE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6732CB-7641-4D1E-AC9B-4416EFDF4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9056AA-3F2D-4BFC-BB3F-02CE49A62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E8658F-C9F8-4600-B618-6908CFBF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88ED34-840B-4174-B887-CF155A1F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22D80F-F59C-4CFF-8868-A77DB0FD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202C-BA65-41E2-B1B2-F9FB51B9B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2E53C7-4A17-4785-BB79-E351DE21C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0FDCAA-0952-4E2F-8EA6-688BE56EE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F79761-69E0-439A-985E-29B581880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5226A4-781A-426E-A585-13C477CCA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E45F8E-7EEB-499F-A66F-7A496B6D0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5EB7CE-8211-497C-AED8-DED7BE4A5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BFA334-31B6-42D5-8987-70C113EE9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79E627-6708-4D8F-B4D8-16137A5E7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CEF1B4-8B8F-4933-8FF5-471AA1B8E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BD5036-505A-44A4-AB44-0F460802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1448-213C-40B1-AF14-DB006F9FD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07A56D-6DC8-4008-89DE-80B36E0B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77A570-BA91-4834-ABCC-A59FD12CD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EBFCD6-E22C-4CB7-81F2-A3DFC3E9E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C34CF1-4C29-4BFF-B956-F414F04F4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6A31E4-A8F1-461C-A58E-E3F79A354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D494FA-5C02-4325-90C8-7B9BABEEA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9AD9AC-49B0-4930-8B9F-CE7AFADA2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8E9ABF-94E3-4DC3-84FF-5CDA4BA28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4376CE-5C73-4E72-9D13-6DABAA3CC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B080A6-DFE2-4AAA-B8F4-4B0E2D684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DC59-F722-44CB-9650-C046EE45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922D30-250B-453B-9E9B-E2B09E568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FFB834-C53D-45D2-9EBD-8D716E1D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9BDECE-6D24-4E25-81E5-E423ABEC1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881738-8F38-4CEF-B0D6-B31EB30BF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BFBCE5-6CD1-4595-9A05-DB6F9B016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F619DB-CE39-4441-9D68-67E054C76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E801C4-C376-4579-AEA3-9FD22849C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spcBef>
                <a:spcPts val="601"/>
              </a:spcBef>
              <a:buClr>
                <a:srgbClr val="ccb4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228600">
              <a:spcBef>
                <a:spcPts val="601"/>
              </a:spcBef>
              <a:buClr>
                <a:srgbClr val="b39e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46b8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46b8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46b8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1E27F-4057-4428-B3AE-1CE498421473}" type="slidenum">
              <a:rPr b="0" lang="ru-RU" sz="1400" spc="-1" strike="noStrike">
                <a:solidFill>
                  <a:srgbClr val="646b8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ccb4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ccb4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ccb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spcBef>
                <a:spcPts val="601"/>
              </a:spcBef>
              <a:buClr>
                <a:srgbClr val="ccb4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228600">
              <a:spcBef>
                <a:spcPts val="601"/>
              </a:spcBef>
              <a:buClr>
                <a:srgbClr val="b39e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46b8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46b8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46b8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5AECE-3FCC-4735-98C3-824B20E40E16}" type="slidenum">
              <a:rPr b="0" lang="ru-RU" sz="1400" spc="-1" strike="noStrike">
                <a:solidFill>
                  <a:srgbClr val="646b8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5d1d7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c5d1d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547560" indent="-272880">
              <a:spcBef>
                <a:spcPts val="601"/>
              </a:spcBef>
              <a:buClr>
                <a:srgbClr val="ccb4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096920" indent="-228600">
              <a:spcBef>
                <a:spcPts val="601"/>
              </a:spcBef>
              <a:buClr>
                <a:srgbClr val="b39e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5d1d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5d1d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5d1d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DD6D8-90C1-4A30-B5E6-64C799687F44}" type="slidenum">
              <a:rPr b="0" lang="ru-RU" sz="1400" spc="-1" strike="noStrike">
                <a:solidFill>
                  <a:srgbClr val="c5d1d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ccb4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ccb4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spcBef>
                <a:spcPts val="601"/>
              </a:spcBef>
              <a:buClr>
                <a:srgbClr val="ccb4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228600">
              <a:spcBef>
                <a:spcPts val="601"/>
              </a:spcBef>
              <a:buClr>
                <a:srgbClr val="b39e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46b8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46b8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46b8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0AB96-89F6-4EA8-8FF0-E78E5D07536D}" type="slidenum">
              <a:rPr b="0" lang="ru-RU" sz="1400" spc="-1" strike="noStrike">
                <a:solidFill>
                  <a:srgbClr val="646b8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ccb4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spcBef>
                <a:spcPts val="601"/>
              </a:spcBef>
              <a:buClr>
                <a:srgbClr val="ccb4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228600">
              <a:spcBef>
                <a:spcPts val="601"/>
              </a:spcBef>
              <a:buClr>
                <a:srgbClr val="b39e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46b8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46b8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46b8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F234B-3575-4DB4-A8B7-4EA4164662B7}" type="slidenum">
              <a:rPr b="0" lang="ru-RU" sz="1400" spc="-1" strike="noStrike">
                <a:solidFill>
                  <a:srgbClr val="646b8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ccb4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ccb4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Равнобедренный треугольник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spcBef>
                <a:spcPts val="601"/>
              </a:spcBef>
              <a:buClr>
                <a:srgbClr val="ccb4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228600">
              <a:spcBef>
                <a:spcPts val="601"/>
              </a:spcBef>
              <a:buClr>
                <a:srgbClr val="b39e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46b8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46b8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46b8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94C02-72C5-427A-B2AB-E17EBF317D77}" type="slidenum">
              <a:rPr b="0" lang="ru-RU" sz="1400" spc="-1" strike="noStrike">
                <a:solidFill>
                  <a:srgbClr val="646b8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ccb4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5d1d7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c5d1d7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547560" indent="-272880">
              <a:spcBef>
                <a:spcPts val="601"/>
              </a:spcBef>
              <a:buClr>
                <a:srgbClr val="ccb4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096920" indent="-228600">
              <a:spcBef>
                <a:spcPts val="601"/>
              </a:spcBef>
              <a:buClr>
                <a:srgbClr val="b39e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5d1d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5d1d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5d1d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0740E-9CD3-41B5-8D13-5716F43AC3A1}" type="slidenum">
              <a:rPr b="0" lang="ru-RU" sz="1400" spc="-1" strike="noStrike">
                <a:solidFill>
                  <a:srgbClr val="c5d1d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ccb4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ая соединительная линия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ccb4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spcBef>
                <a:spcPts val="601"/>
              </a:spcBef>
              <a:buClr>
                <a:srgbClr val="ccb4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228600">
              <a:spcBef>
                <a:spcPts val="601"/>
              </a:spcBef>
              <a:buClr>
                <a:srgbClr val="b39e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46b8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46b8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46b8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35F58-9054-4551-9D1C-E75B9D1BB722}" type="slidenum">
              <a:rPr b="0" lang="ru-RU" sz="1400" spc="-1" strike="noStrike">
                <a:solidFill>
                  <a:srgbClr val="646b8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a095"/>
            </a:gs>
            <a:gs pos="100000">
              <a:srgbClr val="fae2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чинение по серии картинок</a:t>
            </a: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46b86"/>
                </a:solidFill>
                <a:latin typeface="Arial"/>
              </a:rPr>
              <a:t>2 клас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a095"/>
            </a:gs>
            <a:gs pos="100000">
              <a:srgbClr val="fae2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Рисунок 2" descr=""/>
          <p:cNvPicPr/>
          <p:nvPr/>
        </p:nvPicPr>
        <p:blipFill>
          <a:blip r:embed="rId1"/>
          <a:stretch/>
        </p:blipFill>
        <p:spPr>
          <a:xfrm>
            <a:off x="1500120" y="0"/>
            <a:ext cx="642960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ВОПРОСЫ:</a:t>
            </a:r>
            <a:endParaRPr b="0" lang="en-US" sz="28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7200" y="1285560"/>
            <a:ext cx="8229600" cy="5072040"/>
          </a:xfrm>
          <a:prstGeom prst="rect">
            <a:avLst/>
          </a:prstGeom>
          <a:gradFill rotWithShape="0">
            <a:gsLst>
              <a:gs pos="0">
                <a:srgbClr val="f4a095"/>
              </a:gs>
              <a:gs pos="100000">
                <a:srgbClr val="fae2e0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акое время года изображено на картинке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о что играли ребята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уда побежал самый младший из ребят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Что с ним случилось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аким является поступок малыша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ак ребята спасли маленького друга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a095"/>
            </a:gs>
            <a:gs pos="100000">
              <a:srgbClr val="fae2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46b86"/>
                </a:solidFill>
                <a:latin typeface="Arial"/>
              </a:rPr>
              <a:t>Замени слова близкими по смыслу:</a:t>
            </a: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бята 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ти, мальчиш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грать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ниматься, увлекатьс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ежать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стись, лете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едяной 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олодн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0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20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200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2000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2000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3000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2000"/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3000"/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46b86"/>
                </a:solidFill>
                <a:latin typeface="Arial"/>
              </a:rPr>
              <a:t>Составь предложения:</a:t>
            </a: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7200" y="713880"/>
            <a:ext cx="8229600" cy="5442120"/>
          </a:xfrm>
          <a:prstGeom prst="rect">
            <a:avLst/>
          </a:prstGeom>
          <a:gradFill rotWithShape="0">
            <a:gsLst>
              <a:gs pos="0">
                <a:srgbClr val="f4a095"/>
              </a:gs>
              <a:gs pos="100000">
                <a:srgbClr val="fae2e0"/>
              </a:gs>
            </a:gsLst>
            <a:lin ang="5400000"/>
          </a:gradFill>
          <a:ln w="19080">
            <a:solidFill>
              <a:srgbClr val="ccb400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Times New Roman"/>
              </a:rPr>
              <a:t>По, скользить, малыш, гладкому, стал, льду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000000"/>
                </a:solidFill>
                <a:latin typeface="Times New Roman"/>
              </a:rPr>
              <a:t>Малыш стал скользить по гладкому льду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Times New Roman"/>
              </a:rPr>
              <a:t>Крепость, строила, снежную, детвора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000000"/>
                </a:solidFill>
                <a:latin typeface="Times New Roman"/>
              </a:rPr>
              <a:t>Детвора строила снежную крепость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Times New Roman"/>
              </a:rPr>
              <a:t>Длинную, протянул, мальчик, другу, палку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000000"/>
                </a:solidFill>
                <a:latin typeface="Times New Roman"/>
              </a:rPr>
              <a:t>Мальчик протянул другу длинную палку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Times New Roman"/>
              </a:rPr>
              <a:t>Воду, закричал, ледяную, малыш, в, упал, и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000000"/>
                </a:solidFill>
                <a:latin typeface="Times New Roman"/>
              </a:rPr>
              <a:t>Ребёнок упал в ледяную воду и закричал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3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3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30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8000"/>
                            </p:stCondLst>
                            <p:childTnLst>
                              <p:par>
                                <p:cTn id="65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30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0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3000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3000"/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3000"/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46b86"/>
                </a:solidFill>
                <a:latin typeface="Arial"/>
              </a:rPr>
              <a:t>Проверка:</a:t>
            </a: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785880"/>
            <a:ext cx="8229600" cy="5572080"/>
          </a:xfrm>
          <a:prstGeom prst="rect">
            <a:avLst/>
          </a:prstGeom>
          <a:gradFill rotWithShape="0">
            <a:gsLst>
              <a:gs pos="0">
                <a:srgbClr val="f4a095"/>
              </a:gs>
              <a:gs pos="100000">
                <a:srgbClr val="fae2e0"/>
              </a:gs>
            </a:gsLst>
            <a:lin ang="16200000"/>
          </a:gradFill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d1634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Детвора строила снежную крепость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601"/>
              </a:spcBef>
              <a:buClr>
                <a:srgbClr val="d1634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Малыш стал скользить по гладкому льду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601"/>
              </a:spcBef>
              <a:buClr>
                <a:srgbClr val="d1634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Ребёнок упал в ледяную воду и закричал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601"/>
              </a:spcBef>
              <a:buClr>
                <a:srgbClr val="d1634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Мальчик протянул другу длинную палку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46b86"/>
                </a:solidFill>
                <a:latin typeface="Arial"/>
              </a:rPr>
              <a:t>План</a:t>
            </a: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214200" y="714240"/>
            <a:ext cx="4284720" cy="6143760"/>
          </a:xfrm>
          <a:prstGeom prst="rect">
            <a:avLst/>
          </a:prstGeom>
          <a:gradFill rotWithShape="0">
            <a:gsLst>
              <a:gs pos="0">
                <a:srgbClr val="f4a095"/>
              </a:gs>
              <a:gs pos="100000">
                <a:srgbClr val="fae2e0"/>
              </a:gs>
            </a:gsLst>
            <a:lin ang="0"/>
          </a:gradFill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d1634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. Вступлени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Дети играют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-267120">
              <a:spcBef>
                <a:spcPts val="601"/>
              </a:spcBef>
              <a:buClr>
                <a:srgbClr val="d1634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2. Основная часть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Малыш побежал на пруд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Мальчик провалился под лёд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Ребята спасли своего маленького друга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-267120">
              <a:spcBef>
                <a:spcPts val="601"/>
              </a:spcBef>
              <a:buClr>
                <a:srgbClr val="d1634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3. Заключени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Друзья познаются в беде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-267120">
              <a:spcBef>
                <a:spcPts val="601"/>
              </a:spcBef>
              <a:buClr>
                <a:srgbClr val="d1634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632120" y="714240"/>
            <a:ext cx="4297320" cy="6143760"/>
          </a:xfrm>
          <a:prstGeom prst="rect">
            <a:avLst/>
          </a:prstGeom>
          <a:gradFill rotWithShape="0">
            <a:gsLst>
              <a:gs pos="0">
                <a:srgbClr val="f4a095"/>
              </a:gs>
              <a:gs pos="100000">
                <a:srgbClr val="fae2e0"/>
              </a:gs>
            </a:gsLst>
            <a:lin ang="10800000"/>
          </a:gradFill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зимний денёк, крепость из снег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кользить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ровалиться, оказаться в вод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омчаться, ухватиться, вытащи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46b86"/>
                </a:solidFill>
                <a:latin typeface="Arial"/>
              </a:rPr>
              <a:t>                                  </a:t>
            </a:r>
            <a:br>
              <a:rPr sz="3200"/>
            </a:br>
            <a:r>
              <a:rPr b="1" lang="ru-RU" sz="3200" spc="-1" strike="noStrike">
                <a:solidFill>
                  <a:srgbClr val="646b86"/>
                </a:solidFill>
                <a:latin typeface="Arial"/>
              </a:rPr>
              <a:t>                                  </a:t>
            </a:r>
            <a:br>
              <a:rPr sz="3200"/>
            </a:br>
            <a:r>
              <a:rPr b="1" lang="ru-RU" sz="3200" spc="-1" strike="noStrike">
                <a:solidFill>
                  <a:srgbClr val="646b86"/>
                </a:solidFill>
                <a:latin typeface="Arial"/>
              </a:rPr>
              <a:t>                                   </a:t>
            </a:r>
            <a:br>
              <a:rPr sz="3200"/>
            </a:br>
            <a:r>
              <a:rPr b="1" lang="ru-RU" sz="3600" spc="-1" strike="noStrike">
                <a:solidFill>
                  <a:srgbClr val="646b86"/>
                </a:solidFill>
                <a:latin typeface="Arial"/>
              </a:rPr>
              <a:t>                                     </a:t>
            </a:r>
            <a:br>
              <a:rPr sz="3600"/>
            </a:br>
            <a:r>
              <a:rPr b="1" lang="ru-RU" sz="3600" spc="-1" strike="noStrike">
                <a:solidFill>
                  <a:srgbClr val="646b86"/>
                </a:solidFill>
                <a:latin typeface="Arial"/>
              </a:rPr>
              <a:t>                                 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500040" y="1142640"/>
            <a:ext cx="8400960" cy="5429160"/>
          </a:xfrm>
          <a:prstGeom prst="rect">
            <a:avLst/>
          </a:prstGeom>
          <a:solidFill>
            <a:srgbClr val="f4a095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Прямоугольник 4"/>
          <p:cNvSpPr/>
          <p:nvPr/>
        </p:nvSpPr>
        <p:spPr>
          <a:xfrm>
            <a:off x="1071720" y="357120"/>
            <a:ext cx="707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46b86"/>
                </a:solidFill>
                <a:latin typeface="Arial"/>
              </a:rPr>
              <a:t>Оцени свое настро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25" descr="36_2_63"/>
          <p:cNvPicPr/>
          <p:nvPr/>
        </p:nvPicPr>
        <p:blipFill>
          <a:blip r:embed="rId1"/>
          <a:stretch/>
        </p:blipFill>
        <p:spPr>
          <a:xfrm>
            <a:off x="6643800" y="1785960"/>
            <a:ext cx="1643040" cy="142884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21" descr="36_2_35"/>
          <p:cNvPicPr/>
          <p:nvPr/>
        </p:nvPicPr>
        <p:blipFill>
          <a:blip r:embed="rId2"/>
          <a:stretch/>
        </p:blipFill>
        <p:spPr>
          <a:xfrm>
            <a:off x="3643200" y="2143080"/>
            <a:ext cx="1905120" cy="17146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9" descr="36_2_19"/>
          <p:cNvPicPr/>
          <p:nvPr/>
        </p:nvPicPr>
        <p:blipFill>
          <a:blip r:embed="rId3"/>
          <a:stretch/>
        </p:blipFill>
        <p:spPr>
          <a:xfrm>
            <a:off x="6715080" y="414324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24" descr="36_2_58"/>
          <p:cNvPicPr/>
          <p:nvPr/>
        </p:nvPicPr>
        <p:blipFill>
          <a:blip r:embed="rId4"/>
          <a:stretch/>
        </p:blipFill>
        <p:spPr>
          <a:xfrm>
            <a:off x="990720" y="3886200"/>
            <a:ext cx="19047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9" dur="2000" fill="hold"/>
                                        <p:tgtEl>
                                          <p:spTgt spid="3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8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990720"/>
          </a:xfrm>
          <a:prstGeom prst="rect">
            <a:avLst/>
          </a:prstGeom>
          <a:gradFill rotWithShape="0">
            <a:gsLst>
              <a:gs pos="0">
                <a:srgbClr val="f4a095"/>
              </a:gs>
              <a:gs pos="100000">
                <a:srgbClr val="fae2e0"/>
              </a:gs>
            </a:gsLst>
            <a:lin ang="0"/>
          </a:gra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46b86"/>
                </a:solidFill>
                <a:latin typeface="Arial"/>
              </a:rPr>
              <a:t>Молодцы!</a:t>
            </a:r>
            <a:endParaRPr b="0" lang="en-US" sz="4000" spc="-1" strike="noStrike">
              <a:solidFill>
                <a:srgbClr val="646b86"/>
              </a:solidFill>
              <a:latin typeface="Arial"/>
            </a:endParaRPr>
          </a:p>
        </p:txBody>
      </p:sp>
      <p:pic>
        <p:nvPicPr>
          <p:cNvPr id="374" name="Picture 4" descr="ПРаздник2"/>
          <p:cNvPicPr/>
          <p:nvPr/>
        </p:nvPicPr>
        <p:blipFill>
          <a:blip r:embed="rId1"/>
          <a:stretch/>
        </p:blipFill>
        <p:spPr>
          <a:xfrm>
            <a:off x="2571840" y="1428840"/>
            <a:ext cx="457200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5T18:30:32Z</dcterms:created>
  <dc:creator>Михаил</dc:creator>
  <dc:description/>
  <dc:language>en-US</dc:language>
  <cp:lastModifiedBy>Михаил</cp:lastModifiedBy>
  <dcterms:modified xsi:type="dcterms:W3CDTF">2012-03-26T20:18:27Z</dcterms:modified>
  <cp:revision>21</cp:revision>
  <dc:subject/>
  <dc:title>Сочинение по серии картинок</dc:title>
</cp:coreProperties>
</file>