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B08-347A-4CCF-A2CD-5B02E838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79B-1C5E-40C2-9229-B3CF1BB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60F-F70E-47D4-A5AA-E53F93CD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A4D-2B6B-46C4-B99A-C2B148E1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65C9-D2D0-408B-9F68-26C3740B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4DB9-F970-433C-891C-41EC8A3A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3E29-3A1A-4CA5-BD66-087D922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5F8B-101C-4F76-BBC8-187489B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92E7-ADEC-403F-A0E2-225FBBDE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9624-422F-4F00-B229-772981D5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542E-77F7-47F1-8FA3-866B6CD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065-9D8C-4909-B410-C7BF0AD6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FE9D-58E4-4FD3-82DE-86E1FD57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D2A8-7372-4BB7-9CE6-7354FDF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EE6C-BB9A-4909-9BCE-AF87C544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E77F-6DCF-4E91-80AD-7C4259EB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EC8-B1DE-46D1-862C-4DD8819E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8464-5E64-4009-8838-79398310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2A14-CAC9-4604-970E-8009EAB2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B2B5-D36F-401F-B4EA-7D49FC85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15BD-A9FB-4079-BC0F-D0DF841F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EFF4-5033-4FA8-847A-12D872E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42A-F30B-4471-8AAE-B41FAF9E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2829-8416-47A2-9A4F-B1A38A65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C53A-A565-452E-BF9E-64EBE7C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1E07-C659-4A7C-A890-E776A3B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2A1B-10DE-45A0-B016-E58E6D15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D843-CA3E-4815-BA60-1BB5B6EC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6447-463A-4062-AF50-E8421E77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FEF2-0C5C-45BF-B60E-92253ACE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02C6-1CC5-4314-9105-0CEDABB4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3A3B-28CB-4272-9E25-8DBD563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BD82D-A4E8-48D5-88D6-0EBDC5F2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0B5-B87C-41C6-A7AA-3BFE10B6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8E5A7-0FA2-4E95-B04D-6D8FA282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1AE3-7588-4F2C-B791-160F1B9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89AD-02B0-41D3-A7B4-3C629143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88C0-EE11-4D80-89F1-A8B0EDC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D06A-CA33-49BE-BC12-5573FAE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1AF2-7A28-4DDB-BD63-1388D0D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CAC8-AE64-4957-9F9F-CDB96CC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3152-D338-4572-84AD-24110086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D1E5B-E248-499A-BBF9-8ED0E73E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29FC-30B5-4D28-A1E5-276157B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7D0-6AFB-4DD4-9BBC-542543DA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7F63-5C3D-413C-870F-F3F0C407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6277-263B-46BE-A684-473C9F5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B98E9-0634-42E4-8A37-78C684C0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34D5D-D6CA-4289-AC85-8955F22C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485D-3447-4B5F-BF8B-68987DB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EB17D-D2DB-401D-B311-076293D1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EA31-79C1-4DDA-BE70-E24CFFE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422FA-9922-4F12-B908-09AE2EB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B2E5-D4F7-4CD9-AFCB-50A0EE45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50A7-E4B5-406D-A764-CE0AC493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D95-C81E-4ABA-A769-A253D92B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28EB-C4BE-41A0-873F-90C7321E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E3CEC-A90E-4C20-9786-FBD989AC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FC6A8-CC02-4533-A6F1-97E35058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1719-A317-46D6-B6DE-92313B4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FCA3-DB91-4B12-B068-3A457CD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E0E52-4A0F-444E-897F-B8492AA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2416F-9D1E-49D3-B7A2-918D9A63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B4508-C922-4C87-83BD-7782D8DF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BF37-B5FD-493D-A52C-2085908A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67F5-476C-401A-9999-47259E8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44F-B1E2-4981-A1E9-F7B86A3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D78ED-CC0D-4FA7-80AB-18E2913A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A694-19AB-4403-996E-895755C8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77935-BF7E-4DB6-B973-DCA47256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5B1D-D586-49A1-8AD2-B8DA3023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6D457-D5AA-4E04-97E8-96380E05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3F7D-2248-4A15-A6B2-7EFE36B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A56B9-0E47-4C30-9268-39140A54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78C6-FC1C-42F7-AA73-5EF49F1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76EE-D41B-45F0-9C96-A7CE86C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50B0D-B3D7-4F43-A6D4-78403389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74C-E875-44C8-8B43-F92D64C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594C1-B068-46DB-9EDC-FE811FD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6813-FC4A-4648-BE30-7E86F0B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783E5-D92B-414D-9B2A-226342D2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9ADA-FB9E-4CCC-8281-66A11C8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DAC83-0206-4F84-8AD9-23F08D74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5DAE-D415-4B3B-8D71-A27C51FC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81F9-3E47-49A3-B8F5-1D532E0F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09FDA-5829-4CD6-82AC-081EF71B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F81D3-0AD3-4725-B82A-11C4EEBA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849B9-F842-4871-8772-A335AF21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4A9-C303-423B-A974-C03B68E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6A47F-A664-4E94-B4EF-5D399A87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586AD-425B-45ED-9EC0-1EA54D8F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AB6FF-F8A4-4964-8AE2-4A52B1A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E1166-E6AA-4EAA-9D11-E6C7CA0D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1460-3DD6-4281-AFFC-DD7FEFC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F800-F344-4A19-A7F1-D6A2D0A2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8CB40-C10C-4633-908C-5727EB14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820-C260-45F0-B61B-A32EF2EAFE8A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8D4-80BC-459A-B903-D6B399046114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301-174F-4E9C-AE62-5FF2E5ECCFB5}" type="slidenum"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878-737B-4345-B2DD-5D686BD37986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58F-CB83-49B8-99FA-E73DA906BCC3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DF14-9607-43D6-A569-1AA1D1327B0B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1DCF-4A8A-4C9D-AB77-6315BCF5C292}" type="slidenum">
              <a:rPr b="0" lang="ru-RU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cb4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601"/>
              </a:spcBef>
              <a:buClr>
                <a:srgbClr val="b39e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C590-2ECD-4BA0-937C-E563932BD277}" type="slidenum"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чинение по серии картинок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6b86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4296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ое время года изображено на картинк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 что играли ребя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уда побежал самый младший из ребя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с ним случилос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 является поступок малыш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ребята спасли маленького друг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Замени слова близкими по смыслу: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ят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, мальчиш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ть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ниматься, увлекать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жать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тись, лет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дяной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лод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Составь предложения: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713880"/>
            <a:ext cx="8229600" cy="544212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5400000"/>
          </a:gradFill>
          <a:ln w="19080">
            <a:solidFill>
              <a:srgbClr val="ccb4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По, скользить, малыш, гладкому, стал, льд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Малыш стал скользить по гладкому льд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Крепость, строила, снежную, детвора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Детвора строила снежную крепост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Длинную, протянул, мальчик, другу, палк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Мальчик протянул другу длинную палк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Воду, закричал, ледяную, малыш, в, упал, и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Ребёнок упал в ледяную воду и закричал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Проверка: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785880"/>
            <a:ext cx="8229600" cy="557208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етвора строила снежную крепос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алыш стал скользить по гладкому льд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Ребёнок упал в ледяную воду и закрича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альчик протянул другу длинную палк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6b86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4200" y="714240"/>
            <a:ext cx="4284720" cy="614376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0"/>
          </a:gradFill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 Вступле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ети играют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. Основная ча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алыш побежал на пруд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альчик провалился под лёд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бята спасли своего маленького друг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. Заключени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рузья познаются в бед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32120" y="714240"/>
            <a:ext cx="4297320" cy="614376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имний денёк, крепость из сн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кользи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валиться, оказаться в 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мчаться, ухватиться, вытащ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b86"/>
                </a:solidFill>
                <a:latin typeface="Arial"/>
              </a:rPr>
              <a:t>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646b86"/>
                </a:solidFill>
                <a:latin typeface="Arial"/>
              </a:rPr>
              <a:t>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646b86"/>
                </a:solidFill>
                <a:latin typeface="Arial"/>
              </a:rPr>
              <a:t>                                   </a:t>
            </a:r>
            <a:br>
              <a:rPr sz="3200"/>
            </a:br>
            <a:r>
              <a:rPr b="1" lang="ru-RU" sz="3600" spc="-1" strike="noStrike">
                <a:solidFill>
                  <a:srgbClr val="646b86"/>
                </a:solidFill>
                <a:latin typeface="Arial"/>
              </a:rPr>
              <a:t>  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646b86"/>
                </a:solidFill>
                <a:latin typeface="Arial"/>
              </a:rPr>
              <a:t>              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0040" y="1142640"/>
            <a:ext cx="8400960" cy="5429160"/>
          </a:xfrm>
          <a:prstGeom prst="rect">
            <a:avLst/>
          </a:prstGeom>
          <a:solidFill>
            <a:srgbClr val="f4a095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1071720" y="35712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46b86"/>
                </a:solidFill>
                <a:latin typeface="Arial"/>
              </a:rPr>
              <a:t>Оцени свое на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5" descr="36_2_63"/>
          <p:cNvPicPr/>
          <p:nvPr/>
        </p:nvPicPr>
        <p:blipFill>
          <a:blip r:embed="rId1"/>
          <a:stretch/>
        </p:blipFill>
        <p:spPr>
          <a:xfrm>
            <a:off x="6643800" y="178596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1" descr="36_2_35"/>
          <p:cNvPicPr/>
          <p:nvPr/>
        </p:nvPicPr>
        <p:blipFill>
          <a:blip r:embed="rId2"/>
          <a:stretch/>
        </p:blipFill>
        <p:spPr>
          <a:xfrm>
            <a:off x="3643200" y="214308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36_2_19"/>
          <p:cNvPicPr/>
          <p:nvPr/>
        </p:nvPicPr>
        <p:blipFill>
          <a:blip r:embed="rId3"/>
          <a:stretch/>
        </p:blipFill>
        <p:spPr>
          <a:xfrm>
            <a:off x="6715080" y="41432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4" descr="36_2_58"/>
          <p:cNvPicPr/>
          <p:nvPr/>
        </p:nvPicPr>
        <p:blipFill>
          <a:blip r:embed="rId4"/>
          <a:stretch/>
        </p:blipFill>
        <p:spPr>
          <a:xfrm>
            <a:off x="990720" y="38862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gradFill rotWithShape="0">
            <a:gsLst>
              <a:gs pos="0">
                <a:srgbClr val="f4a095"/>
              </a:gs>
              <a:gs pos="100000">
                <a:srgbClr val="fae2e0"/>
              </a:gs>
            </a:gsLst>
            <a:lin ang="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374" name="Picture 4" descr="ПРаздник2"/>
          <p:cNvPicPr/>
          <p:nvPr/>
        </p:nvPicPr>
        <p:blipFill>
          <a:blip r:embed="rId1"/>
          <a:stretch/>
        </p:blipFill>
        <p:spPr>
          <a:xfrm>
            <a:off x="2571840" y="1428840"/>
            <a:ext cx="4572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8:30:32Z</dcterms:created>
  <dc:creator>Михаил</dc:creator>
  <dc:description/>
  <dc:language>en-US</dc:language>
  <cp:lastModifiedBy>Михаил</cp:lastModifiedBy>
  <dcterms:modified xsi:type="dcterms:W3CDTF">2012-03-26T20:18:27Z</dcterms:modified>
  <cp:revision>21</cp:revision>
  <dc:subject/>
  <dc:title>Сочинение по серии картинок</dc:title>
</cp:coreProperties>
</file>