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D8D2-F053-4427-AABC-1879B4029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315C-F136-415B-B106-69BF5F36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C26B-1EA5-4EA2-8353-CE8A9B2B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A05-4497-46D4-A87E-3987236F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BB4-A24E-45DD-B467-F37B9D2C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7D8E-0E20-42A2-9219-32B97E9F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AFD6-8D1D-4046-B4F9-095CE110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8F4B-0BDB-4CF1-9C19-B671B2BC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72A7-54EB-4979-B1F3-89E92E17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C2CB-4968-4455-9A3E-19F228903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A66-D12D-49A2-AD07-432EA664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37AC-40D1-4289-9D30-23EF913A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3DF9-502F-444C-A526-40951C854E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адовская средняя общеобразовательная школа №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ни Д.А.Маков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78596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приятие свет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енко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енко Тамар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5238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Голубо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Сини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асн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ранжев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Желт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Темные тона предпочитают люди, нуждающиеся в физическом отдыхе, эмоциональном по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Светлые тона выбирают люди,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нуждающиеся в отдаче энергии путем направленной вовне активности или интеллектуаль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Светлые тона больше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притягивают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взгл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мные тона меньше притягивают взгл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Arial"/>
              </a:rPr>
              <a:t>Светлые и теплые тона обладают более притягательной способ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826920" y="404640"/>
            <a:ext cx="7490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риятие цве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211640" y="1600200"/>
            <a:ext cx="4475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а есть раздражающие и успокаивающие, кричащие, спорящие друг с другом и живущие ласково один возле другого. В их борьбе или согласии и есть воздействие цвета на человека через чувство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ЕТРОВ-ВОД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8360" y="3789360"/>
            <a:ext cx="78487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ю моей работы стало определение физического и психического воздействия цвета, его роль в жизни человека, способность влиять на производительность труда, а также доказательства, что природные и созданные человеком объекты действительности породили в его сознании устойчивые образы, сопровождаемые определёнными эмо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25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45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Светлые, но чрезмерно ядовитые тона вызывают беспокойство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первые попытку систематизировать значения отдельных цветов предпринял И.-В. Гете, доказывая, что цвет оказывает известное воздействие на чувство зрения, а через него и на душ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Зеленый - доброта, умиротворение, способность успокоить глаз и ду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cc"/>
                </a:solidFill>
                <a:latin typeface="Arial"/>
              </a:rPr>
              <a:t>Синий - вызывает чувство хо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асный - действует устрашаю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.В. Кандинский предложил более сложный взгляд на данную пробле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Зеленый - болеутоляющий, влияет на нервную систему, снимая раздражите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Голубой - антисептический, эффективен при воспалениях и нагноен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ранжевый - имеет сильное стимулирующее действие, создаёт чувство благополучия и веселья, но может утомить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Arial"/>
              </a:rPr>
              <a:t>Желтый - оказывает стимулирующее воздействие на моз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bbe0e3"/>
                </a:solidFill>
                <a:latin typeface="Arial"/>
              </a:rPr>
              <a:t>Красный - обладает теплотой, эффективен при меланхолии, но в то же время легко оказывает раздражающее воздействие</a:t>
            </a:r>
            <a:r>
              <a:rPr b="0" lang="ru-RU" sz="4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Arial"/>
              </a:rPr>
              <a:t>Фиолетовый - увеличивает выносливость тка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сихическое воздействие цвета вызывает душевную вибр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539640" y="1197000"/>
            <a:ext cx="79804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физическое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сихическ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действие цвет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многом определяютс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остными характеристика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ющего человека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ндивидуальность восприятия цветовых композиций позднее была обоснована в работах немецкого психолога М. Люшера, который доказал, что состояние реципиента в момент контакта с объектом может влиять на его отношение к одному и тому же цв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274680"/>
          <a:ext cx="8229600" cy="610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, 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ятся к успеху, активность во всех сфе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чувство обиженности, нет смелости, агрессив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е школьники  (1-6 к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, желтый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тремятся к успеху, активность во всех сфе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желт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т смелости, не хватает самосто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е школьники              (7-11 к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имвол впечатлительности, стремление к успех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ый, зеле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бственная индивидуальность, не могут избавиться от апа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, 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знательно отгораживаются, не склонны афишировать свои чувств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нутреннее беспокойство и желание пере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ление к психическому равновесию, эмоциональные пережи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, крас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 хватает стаби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ученик года 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 искус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люди нашли свою профессию, наступило душевное равновесие, вокруг себя создают гармони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сер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не отказываются ни от ч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здражающие, но выражают жизненное стремление к успеху, стремление к независим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коричнев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звита собственная индивидуальность, ожидают от жизни слишком мн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часто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имвол власти, прямолинейны, стабильн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 отказываются ни от ч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сер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отребность в отдыхе, не отказываются ни от чег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нутреннее беспокойство, желание перем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ф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знательно отгораживаются от внешних раздражителей, не склонны афишировать свои чув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, желт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ощущают неприязнь, агресси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табильность, уверенность, прямолинейн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бессознательная внутреннее беспокойство, желание перем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ятся к психологическому равновесию, доброте, успокоен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крас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эмоциональные пережи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Цвет – один из признаков видимых нами предметов, осознанное зрительное ощу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Определенная палитра сочетающихся друг с другом красок соответствует каждому времен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Цвет оказывает эмоциональное, физическое и психическое воз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Физическое и психическое воздействие цвета определяются личностными характеристиками воспринимающ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Людей привлекают контрастные цвета, отличающиеся по насыщенности и яр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Отношение к цвету имеет биологическую основу и влияет на сложные эстетические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Велика роль многообразия цвета в обрядах и праздн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Для освоения цветовой культуры ребенок должен овладеть эталонами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1042920" y="692280"/>
            <a:ext cx="7129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ВЫВОД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3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5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6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14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8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894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94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Цвет – это один из признаков видимых нами предметов, осознанное зрительное ощущ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ученик года зима"/>
          <p:cNvPicPr/>
          <p:nvPr/>
        </p:nvPicPr>
        <p:blipFill>
          <a:blip r:embed="rId1"/>
          <a:stretch/>
        </p:blipFill>
        <p:spPr>
          <a:xfrm>
            <a:off x="468360" y="206064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ученик года весна"/>
          <p:cNvPicPr/>
          <p:nvPr/>
        </p:nvPicPr>
        <p:blipFill>
          <a:blip r:embed="rId2"/>
          <a:stretch/>
        </p:blipFill>
        <p:spPr>
          <a:xfrm>
            <a:off x="2700360" y="2060640"/>
            <a:ext cx="146196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ученик года лето"/>
          <p:cNvPicPr/>
          <p:nvPr/>
        </p:nvPicPr>
        <p:blipFill>
          <a:blip r:embed="rId3"/>
          <a:stretch/>
        </p:blipFill>
        <p:spPr>
          <a:xfrm>
            <a:off x="4932360" y="2060640"/>
            <a:ext cx="147492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ученик года осень"/>
          <p:cNvPicPr/>
          <p:nvPr/>
        </p:nvPicPr>
        <p:blipFill>
          <a:blip r:embed="rId4"/>
          <a:stretch/>
        </p:blipFill>
        <p:spPr>
          <a:xfrm>
            <a:off x="7164360" y="2060640"/>
            <a:ext cx="145116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1979640" y="260280"/>
            <a:ext cx="5476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4f9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зонная палитра красок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4f9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68360" y="4437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50920" y="4797360"/>
            <a:ext cx="20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ff"/>
                </a:solidFill>
                <a:latin typeface="Arial"/>
              </a:rPr>
              <a:t>Светло-голубой, фиолетовый, сияющие синеват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2627280" y="479736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Кремовый, розовый, абрикосовый, молодой зел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859280" y="4797360"/>
            <a:ext cx="18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лый, малиновый, темно-желтый, синий, оранже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7164360" y="4724280"/>
            <a:ext cx="180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Красный, желтый, красно-коричневый, бордовый, фиолетовый, светло-охр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24"/>
          <p:cNvSpPr txBox="1"/>
          <p:nvPr/>
        </p:nvSpPr>
        <p:spPr>
          <a:xfrm>
            <a:off x="755640" y="1557360"/>
            <a:ext cx="8888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28"/>
          <p:cNvSpPr txBox="1"/>
          <p:nvPr/>
        </p:nvSpPr>
        <p:spPr>
          <a:xfrm>
            <a:off x="2987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29"/>
          <p:cNvSpPr txBox="1"/>
          <p:nvPr/>
        </p:nvSpPr>
        <p:spPr>
          <a:xfrm>
            <a:off x="5219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30"/>
          <p:cNvSpPr txBox="1"/>
          <p:nvPr/>
        </p:nvSpPr>
        <p:spPr>
          <a:xfrm>
            <a:off x="7451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11280" y="1413000"/>
            <a:ext cx="82738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 оказывает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ое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ействие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Зелены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7:30:53Z</dcterms:created>
  <dc:creator>Алёна</dc:creator>
  <dc:description/>
  <dc:language>en-US</dc:language>
  <cp:lastModifiedBy>СВЕТЛАНА</cp:lastModifiedBy>
  <dcterms:modified xsi:type="dcterms:W3CDTF">2018-08-17T18:39:14Z</dcterms:modified>
  <cp:revision>19</cp:revision>
  <dc:subject/>
  <dc:title>Слайд 1</dc:title>
</cp:coreProperties>
</file>