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53A1-A5EF-46E4-9429-412574200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001-D846-49BB-BF78-38241FDE4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25F1-BAD1-4893-82B1-C0F3AA2D6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8A064-4C06-4972-AE7C-22AEC6F2E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DAA8-235F-481D-8311-9582DECA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CBD1-3E8B-46BC-A643-9EE84E69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4005-7163-43DE-A2B1-20820AE9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703C-4D89-4968-9FB6-0892C6424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FF0-F6BD-40BA-8D38-19312DFCE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B4A-219E-470A-BB96-2EBF403A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84B5-AC87-4C93-BD9E-3A94ECE2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E164-176C-45DA-AF18-24C73138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9EC8B-5D9E-4DF2-A09D-EF3454CA2DB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«Садовская средняя общеобразовательная школа №2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ни Д.А.Маковк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7120" y="1785960"/>
            <a:ext cx="8143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следователь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осприятие света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олн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ца 9 кл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маненко Со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ченко Тамар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468360" y="5238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Голубой - успокаивающее воздей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468360" y="5300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Синий - успокаивающее воздей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расный - раздражающее воз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4"/>
          <p:cNvSpPr/>
          <p:nvPr/>
        </p:nvSpPr>
        <p:spPr>
          <a:xfrm>
            <a:off x="46836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ранжевый - раздражающее воз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468360" y="53737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Желтый - раздражающее воздейств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99"/>
                </a:solidFill>
                <a:latin typeface="Arial"/>
              </a:rPr>
              <a:t>Темные тона предпочитают люди, нуждающиеся в физическом отдыхе, эмоциональном поко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cc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95280" y="3428640"/>
            <a:ext cx="82296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Светлые тона выбирают люди, </a:t>
            </a:r>
            <a:r>
              <a:rPr b="0" i="1" lang="ru-RU" sz="3600" spc="-1" strike="noStrike">
                <a:solidFill>
                  <a:srgbClr val="333399"/>
                </a:solidFill>
                <a:latin typeface="Arial"/>
              </a:rPr>
              <a:t>нуждающиеся в отдаче энергии путем направленной вовне активности или интеллектуального творчест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3399"/>
                </a:solidFill>
                <a:latin typeface="Arial"/>
              </a:rPr>
              <a:t>Светлые тона больше</a:t>
            </a: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3399"/>
                </a:solidFill>
                <a:latin typeface="Arial"/>
              </a:rPr>
              <a:t>притягивают</a:t>
            </a:r>
            <a:r>
              <a:rPr b="0" lang="ru-RU" sz="40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i="1" lang="ru-RU" sz="4000" spc="-1" strike="noStrike">
                <a:solidFill>
                  <a:srgbClr val="ff3399"/>
                </a:solidFill>
                <a:latin typeface="Arial"/>
              </a:rPr>
              <a:t>взгл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Темные тона меньше притягивают взгля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9900"/>
                </a:solidFill>
                <a:latin typeface="Arial"/>
              </a:rPr>
              <a:t>Светлые и теплые тона обладают более притягательной способност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7"/>
          <p:cNvSpPr txBox="1"/>
          <p:nvPr/>
        </p:nvSpPr>
        <p:spPr>
          <a:xfrm>
            <a:off x="826920" y="404640"/>
            <a:ext cx="74901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сприятие цвет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4211640" y="1600200"/>
            <a:ext cx="447516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Цвета есть раздражающие и успокаивающие, кричащие, спорящие друг с другом и живущие ласково один возле другого. В их борьбе или согласии и есть воздействие цвета на человека через чувство зр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. ПЕТРОВ-ВОДК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8360" y="3789360"/>
            <a:ext cx="784872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ю моей работы стало определение физического и психического воздействия цвета, его роль в жизни человека, способность влиять на производительность труда, а также доказательства, что природные и созданные человеком объекты действительности породили в его сознании устойчивые образы, сопровождаемые определёнными эмоци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9250"/>
                            </p:stCondLst>
                            <p:childTnLst>
                              <p:par>
                                <p:cTn id="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45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3399"/>
                </a:solidFill>
                <a:latin typeface="Arial"/>
              </a:rPr>
              <a:t>Светлые, но чрезмерно ядовитые тона вызывают беспокойство</a:t>
            </a: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3366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Monotype Corsiva"/>
              </a:rPr>
              <a:t>Впервые попытку систематизировать значения отдельных цветов предпринял И.-В. Гете, доказывая, что цвет оказывает известное воздействие на чувство зрения, а через него и на душ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537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Arial"/>
              </a:rPr>
              <a:t>Зеленый - доброта, умиротворение, способность успокоить глаз и душ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99cc"/>
                </a:solidFill>
                <a:latin typeface="Arial"/>
              </a:rPr>
              <a:t>Синий - вызывает чувство хол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1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522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Красный - действует устрашающ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2" dur="8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ff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Monotype Corsiva"/>
              </a:rPr>
              <a:t>В.В. Кандинский предложил более сложный взгляд на данную проблему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00"/>
                </a:solidFill>
                <a:latin typeface="Arial"/>
              </a:rPr>
              <a:t>Зеленый - болеутоляющий, влияет на нервную систему, снимая раздражительност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Голубой - антисептический, эффективен при воспалениях и нагноения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486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Оранжевый - имеет сильное стимулирующее действие, создаёт чувство благополучия и веселья, но может утомить.</a:t>
            </a: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66ff"/>
                </a:solidFill>
                <a:latin typeface="Arial"/>
              </a:rPr>
              <a:t>Желтый - оказывает стимулирующее воздействие на моз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bbe0e3"/>
                </a:solidFill>
                <a:latin typeface="Arial"/>
              </a:rPr>
              <a:t>Красный - обладает теплотой, эффективен при меланхолии, но в то же время легко оказывает раздражающее воздействие</a:t>
            </a:r>
            <a:r>
              <a:rPr b="0" lang="ru-RU" sz="40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00"/>
                </a:solidFill>
                <a:latin typeface="Arial"/>
              </a:rPr>
              <a:t>Фиолетовый - увеличивает выносливость ткан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Arial"/>
              </a:rPr>
              <a:t>Психическое воздействие цвета вызывает душевную вибраци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WordArt 4"/>
          <p:cNvSpPr txBox="1"/>
          <p:nvPr/>
        </p:nvSpPr>
        <p:spPr>
          <a:xfrm>
            <a:off x="539640" y="1197000"/>
            <a:ext cx="798048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физическое,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психическое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здействие цвета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 многом определяются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личностными характеристикам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оспринимающего человека.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100000">
              <a:srgbClr val="ff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3628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Индивидуальность восприятия цветовых композиций позднее была обоснована в работах немецкого психолога М. Люшера, который доказал, что состояние реципиента в момент контакта с объектом может влиять на его отношение к одному и тому же цвет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457200" y="274680"/>
          <a:ext cx="8229600" cy="6100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чт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тский са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иний, голуб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тремятся к успеху, активность во всех сфер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чувство обиженности, нет смелости, агрессивнос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ладшие школьники  (1-6 к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, желтый</a:t>
                      </a: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стремятся к успеху, активность во всех сферах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, желт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ет смелости, не хватает самостояте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аршие школьники              (7-11 кл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, красн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имвол впечатлительности, стремление к успеху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чневый, зелен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бственная индивидуальность, не могут избавиться от апат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его возрас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, голуб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знательно отгораживаются, не склонны афишировать свои чувства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нутреннее беспокойство и желание переме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сион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тремление к психическому равновесию, эмоциональные переживания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лтый, красны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е хватает стабиль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55440"/>
            <a:ext cx="9144000" cy="674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ученик года 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179280" y="189000"/>
          <a:ext cx="8785440" cy="6480000"/>
        </p:xfrm>
        <a:graphic>
          <a:graphicData uri="http://schemas.openxmlformats.org/drawingml/2006/table">
            <a:tbl>
              <a:tblPr/>
              <a:tblGrid>
                <a:gridCol w="2928960"/>
                <a:gridCol w="2927520"/>
                <a:gridCol w="2928960"/>
              </a:tblGrid>
              <a:tr h="39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зра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почт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риц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ди искус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, 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люди нашли свою профессию, наступило душевное равновесие, вокруг себя создают гармони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, серый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не отказываются ни от че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ител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, крас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раздражающие, но выражают жизненное стремление к успеху, стремление к независим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, коричнев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развита собственная индивидуальность, ожидают от жизни слишком мно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ач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, часто 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имвол власти, прямолинейны, стабильны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не отказываются ни от чего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авц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рный, сер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Потребность в отдыхе, не отказываются ни от чего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внутреннее беспокойство, желание перем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оф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ознательно отгораживаются от внешних раздражителей, не склонны афишировать свои чувства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асный, желт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ощущают неприязнь, агрессию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Экономис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 стабильность, уверенность, прямолинейность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летовый, 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бессознательная внутреннее беспокойство, желание переме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ва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еленый, голубо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стремятся к психологическому равновесию, доброте, успокоенности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олетовый, красный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эмоциональные пережи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0" y="1341000"/>
            <a:ext cx="91440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Цвет – один из признаков видимых нами предметов, осознанное зрительное ощущ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Определенная палитра сочетающихся друг с другом красок соответствует каждому времени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Цвет оказывает эмоциональное, физическое и психическое воз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Физическое и психическое воздействие цвета определяются личностными характеристиками воспринимающего челове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Людей привлекают контрастные цвета, отличающиеся по насыщенности и ярк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Отношение к цвету имеет биологическую основу и влияет на сложные эстетические 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Велика роль многообразия цвета в обрядах и празднеств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Monotype Corsiva"/>
              </a:rPr>
              <a:t>Для освоения цветовой культуры ребенок должен овладеть эталонами цве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7"/>
          <p:cNvSpPr txBox="1"/>
          <p:nvPr/>
        </p:nvSpPr>
        <p:spPr>
          <a:xfrm>
            <a:off x="1042920" y="692280"/>
            <a:ext cx="71294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cc0000"/>
                </a:solidFill>
                <a:latin typeface="Impact"/>
              </a:rPr>
              <a:t>ВЫВОД</a:t>
            </a:r>
            <a:endParaRPr b="0" lang="en-US" sz="1800" spc="1" strike="noStrike">
              <a:ln w="25560">
                <a:solidFill>
                  <a:srgbClr val="0000ff"/>
                </a:solidFill>
                <a:miter/>
              </a:ln>
              <a:solidFill>
                <a:srgbClr val="cc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3340"/>
                            </p:stCondLst>
                            <p:childTnLst>
                              <p:par>
                                <p:cTn id="3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6580"/>
                            </p:stCondLst>
                            <p:childTnLst>
                              <p:par>
                                <p:cTn id="3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906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140"/>
                            </p:stCondLst>
                            <p:childTnLst>
                              <p:par>
                                <p:cTn id="3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80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860"/>
                            </p:stCondLst>
                            <p:childTnLst>
                              <p:par>
                                <p:cTn id="3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8940"/>
                            </p:stCondLst>
                            <p:childTnLst>
                              <p:par>
                                <p:cTn id="3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2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4" dur="80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0940"/>
                            </p:stCondLst>
                            <p:childTnLst>
                              <p:par>
                                <p:cTn id="3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Водяные лили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64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66"/>
                </a:solidFill>
                <a:latin typeface="Arial"/>
              </a:rPr>
              <a:t>Цвет – это один из признаков видимых нами предметов, осознанное зрительное ощущени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b4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ученик года зима"/>
          <p:cNvPicPr/>
          <p:nvPr/>
        </p:nvPicPr>
        <p:blipFill>
          <a:blip r:embed="rId1"/>
          <a:stretch/>
        </p:blipFill>
        <p:spPr>
          <a:xfrm>
            <a:off x="468360" y="2060640"/>
            <a:ext cx="145728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3" descr="ученик года весна"/>
          <p:cNvPicPr/>
          <p:nvPr/>
        </p:nvPicPr>
        <p:blipFill>
          <a:blip r:embed="rId2"/>
          <a:stretch/>
        </p:blipFill>
        <p:spPr>
          <a:xfrm>
            <a:off x="2700360" y="2060640"/>
            <a:ext cx="146196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ученик года лето"/>
          <p:cNvPicPr/>
          <p:nvPr/>
        </p:nvPicPr>
        <p:blipFill>
          <a:blip r:embed="rId3"/>
          <a:stretch/>
        </p:blipFill>
        <p:spPr>
          <a:xfrm>
            <a:off x="4932360" y="2060640"/>
            <a:ext cx="1474920" cy="2187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ученик года осень"/>
          <p:cNvPicPr/>
          <p:nvPr/>
        </p:nvPicPr>
        <p:blipFill>
          <a:blip r:embed="rId4"/>
          <a:stretch/>
        </p:blipFill>
        <p:spPr>
          <a:xfrm>
            <a:off x="7164360" y="2060640"/>
            <a:ext cx="1451160" cy="2187360"/>
          </a:xfrm>
          <a:prstGeom prst="rect">
            <a:avLst/>
          </a:prstGeom>
          <a:ln w="0">
            <a:noFill/>
          </a:ln>
        </p:spPr>
      </p:pic>
      <p:sp>
        <p:nvSpPr>
          <p:cNvPr id="54" name="WordArt 16"/>
          <p:cNvSpPr txBox="1"/>
          <p:nvPr/>
        </p:nvSpPr>
        <p:spPr>
          <a:xfrm>
            <a:off x="1979640" y="260280"/>
            <a:ext cx="547668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3333ff"/>
                  </a:solidFill>
                  <a:miter/>
                </a:ln>
                <a:solidFill>
                  <a:srgbClr val="4f9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езонная палитра красок</a:t>
            </a:r>
            <a:endParaRPr b="0" lang="en-US" sz="1800" spc="1" strike="noStrike">
              <a:ln w="9360">
                <a:solidFill>
                  <a:srgbClr val="3333ff"/>
                </a:solidFill>
                <a:miter/>
              </a:ln>
              <a:solidFill>
                <a:srgbClr val="4f9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468360" y="4437000"/>
            <a:ext cx="151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0"/>
          <p:cNvSpPr/>
          <p:nvPr/>
        </p:nvSpPr>
        <p:spPr>
          <a:xfrm>
            <a:off x="250920" y="4797360"/>
            <a:ext cx="2087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9933ff"/>
                </a:solidFill>
                <a:latin typeface="Arial"/>
              </a:rPr>
              <a:t>Светло-голубой, фиолетовый, сияющие синеват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2627280" y="4797360"/>
            <a:ext cx="2232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ff3300"/>
                </a:solidFill>
                <a:latin typeface="Arial"/>
              </a:rPr>
              <a:t>Кремовый, розовый, абрикосовый, молодой зеле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2"/>
          <p:cNvSpPr/>
          <p:nvPr/>
        </p:nvSpPr>
        <p:spPr>
          <a:xfrm>
            <a:off x="4859280" y="4797360"/>
            <a:ext cx="18003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333399"/>
                </a:solidFill>
                <a:latin typeface="Arial"/>
              </a:rPr>
              <a:t>Алый, малиновый, темно-желтый, синий, оранжев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3"/>
          <p:cNvSpPr/>
          <p:nvPr/>
        </p:nvSpPr>
        <p:spPr>
          <a:xfrm>
            <a:off x="7164360" y="4724280"/>
            <a:ext cx="18003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33"/>
                </a:solidFill>
                <a:latin typeface="Arial"/>
              </a:rPr>
              <a:t>Красный, желтый, красно-коричневый, бордовый, фиолетовый, светло-охристы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24"/>
          <p:cNvSpPr txBox="1"/>
          <p:nvPr/>
        </p:nvSpPr>
        <p:spPr>
          <a:xfrm>
            <a:off x="755640" y="1557360"/>
            <a:ext cx="88884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Зим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1" name="WordArt 28"/>
          <p:cNvSpPr txBox="1"/>
          <p:nvPr/>
        </p:nvSpPr>
        <p:spPr>
          <a:xfrm>
            <a:off x="2987640" y="1557360"/>
            <a:ext cx="8892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Весн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2" name="WordArt 29"/>
          <p:cNvSpPr txBox="1"/>
          <p:nvPr/>
        </p:nvSpPr>
        <p:spPr>
          <a:xfrm>
            <a:off x="5219640" y="1557360"/>
            <a:ext cx="8892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Лет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" name="WordArt 30"/>
          <p:cNvSpPr txBox="1"/>
          <p:nvPr/>
        </p:nvSpPr>
        <p:spPr>
          <a:xfrm>
            <a:off x="7451640" y="1557360"/>
            <a:ext cx="88920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ен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7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611280" y="1413000"/>
            <a:ext cx="8273880" cy="21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Цвет оказывает 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моциональное 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оздействие.</a:t>
            </a:r>
            <a:endParaRPr b="0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66"/>
                </a:solidFill>
                <a:latin typeface="Arial"/>
              </a:rPr>
              <a:t>Зеленый - успокаивающее воздейств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7:30:53Z</dcterms:created>
  <dc:creator>Алёна</dc:creator>
  <dc:description/>
  <dc:language>en-US</dc:language>
  <cp:lastModifiedBy>СВЕТЛАНА</cp:lastModifiedBy>
  <dcterms:modified xsi:type="dcterms:W3CDTF">2018-08-17T18:39:14Z</dcterms:modified>
  <cp:revision>19</cp:revision>
  <dc:subject/>
  <dc:title>Слайд 1</dc:title>
</cp:coreProperties>
</file>