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gif" ContentType="image/gif"/>
  <Override PartName="/ppt/media/image10.gif" ContentType="image/gif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gif" ContentType="image/gif"/>
  <Override PartName="/ppt/media/image22.gif" ContentType="image/gif"/>
  <Override PartName="/ppt/media/image15.png" ContentType="image/png"/>
  <Override PartName="/ppt/media/image23.gif" ContentType="image/gif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E83-F8D1-4315-A113-732BE4BF1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1C7-6EA2-4282-A089-5E7C8E2B6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DC0-BBBB-4F8C-816D-C8790B6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DDD-61AF-4FD8-831D-2EADF91C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AC2-F99F-442B-9FCA-38691D30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FA5-33C2-43C9-81F5-6414CC52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A8C-5E42-406F-862C-8552375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2F4-E8FA-4133-A5F9-7EAFBE2B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09E-1090-403F-B8EA-42283457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773-828E-4501-8918-7E2065A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A70-FF2A-417A-A808-D4C5C9E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CC7-ECFA-415D-B99C-C476FCE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CA6-1E60-4A4F-82DC-4F9975D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F58-AB1A-4D49-92CB-C5F51F30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5D74-B52D-4E57-B60B-EA8B27F4C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gif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gif"/><Relationship Id="rId21" Type="http://schemas.openxmlformats.org/officeDocument/2006/relationships/image" Target="../media/image23.gif"/><Relationship Id="rId22" Type="http://schemas.openxmlformats.org/officeDocument/2006/relationships/image" Target="../media/image24.gif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21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785880" y="1785960"/>
            <a:ext cx="7643880" cy="25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Русский язык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2- класс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071800" y="642960"/>
            <a:ext cx="56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j0343363"/>
          <p:cNvPicPr/>
          <p:nvPr/>
        </p:nvPicPr>
        <p:blipFill>
          <a:blip r:embed="rId1"/>
          <a:stretch/>
        </p:blipFill>
        <p:spPr>
          <a:xfrm>
            <a:off x="2857680" y="2143080"/>
            <a:ext cx="3857400" cy="4213440"/>
          </a:xfrm>
          <a:prstGeom prst="rect">
            <a:avLst/>
          </a:prstGeom>
          <a:ln w="0">
            <a:noFill/>
          </a:ln>
        </p:spPr>
      </p:pic>
      <p:pic>
        <p:nvPicPr>
          <p:cNvPr id="103" name="ShockwaveFlash1" descr=""/>
          <p:cNvPicPr/>
          <p:nvPr/>
        </p:nvPicPr>
        <p:blipFill>
          <a:blip r:embed="rId2"/>
          <a:stretch/>
        </p:blipFill>
        <p:spPr>
          <a:xfrm>
            <a:off x="7524720" y="404640"/>
            <a:ext cx="1368360" cy="100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687096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пы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15600" cy="58579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Повествова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Что, когда, где                      С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случилось?                     кадров фи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писа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акой?                           Карт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акая?                      (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акое?                          «замерл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Рассужде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очему?                         Поиск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Зачем?                        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4"/>
          <p:cNvCxnSpPr/>
          <p:nvPr/>
        </p:nvCxnSpPr>
        <p:spPr>
          <a:xfrm flipH="1">
            <a:off x="3285720" y="1500120"/>
            <a:ext cx="929520" cy="2865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07" name="Прямая со стрелкой 5"/>
          <p:cNvCxnSpPr/>
          <p:nvPr/>
        </p:nvCxnSpPr>
        <p:spPr>
          <a:xfrm>
            <a:off x="4357800" y="1500120"/>
            <a:ext cx="1000800" cy="35784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08" name="Прямая со стрелкой 10"/>
          <p:cNvCxnSpPr/>
          <p:nvPr/>
        </p:nvCxnSpPr>
        <p:spPr>
          <a:xfrm flipH="1">
            <a:off x="3142440" y="3071880"/>
            <a:ext cx="1072440" cy="2865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09" name="Прямая со стрелкой 11"/>
          <p:cNvCxnSpPr/>
          <p:nvPr/>
        </p:nvCxnSpPr>
        <p:spPr>
          <a:xfrm>
            <a:off x="4357440" y="3071880"/>
            <a:ext cx="1215000" cy="2865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10" name="Прямая со стрелкой 17"/>
          <p:cNvCxnSpPr/>
          <p:nvPr/>
        </p:nvCxnSpPr>
        <p:spPr>
          <a:xfrm flipH="1">
            <a:off x="3214440" y="5072040"/>
            <a:ext cx="1000800" cy="35784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11" name="Прямая со стрелкой 18"/>
          <p:cNvCxnSpPr/>
          <p:nvPr/>
        </p:nvCxnSpPr>
        <p:spPr>
          <a:xfrm>
            <a:off x="4500360" y="5071680"/>
            <a:ext cx="929160" cy="42948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115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5768000"/>
            </a:gradFill>
            <a:ln w="9360">
              <a:solidFill>
                <a:srgbClr val="d5e8ea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9fb2b3"/>
                </a:gs>
                <a:gs pos="100000">
                  <a:srgbClr val="d1eaec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12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Облако 6"/>
            <p:cNvSpPr/>
            <p:nvPr/>
          </p:nvSpPr>
          <p:spPr>
            <a:xfrm>
              <a:off x="1584720" y="765000"/>
              <a:ext cx="133308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137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139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142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145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148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55" name="Группа 99"/>
          <p:cNvGrpSpPr/>
          <p:nvPr/>
        </p:nvGrpSpPr>
        <p:grpSpPr>
          <a:xfrm>
            <a:off x="2534400" y="4968360"/>
            <a:ext cx="1036080" cy="848160"/>
            <a:chOff x="2534400" y="4968360"/>
            <a:chExt cx="1036080" cy="848160"/>
          </a:xfrm>
        </p:grpSpPr>
        <p:grpSp>
          <p:nvGrpSpPr>
            <p:cNvPr id="156" name="Группа 86"/>
            <p:cNvGrpSpPr/>
            <p:nvPr/>
          </p:nvGrpSpPr>
          <p:grpSpPr>
            <a:xfrm>
              <a:off x="2534400" y="4968360"/>
              <a:ext cx="573120" cy="661320"/>
              <a:chOff x="2534400" y="4968360"/>
              <a:chExt cx="573120" cy="661320"/>
            </a:xfrm>
          </p:grpSpPr>
          <p:sp>
            <p:nvSpPr>
              <p:cNvPr id="157" name="Капля 111"/>
              <p:cNvSpPr/>
              <p:nvPr/>
            </p:nvSpPr>
            <p:spPr>
              <a:xfrm rot="2827800">
                <a:off x="2599920" y="5070600"/>
                <a:ext cx="441720" cy="371880"/>
              </a:xfrm>
              <a:custGeom>
                <a:avLst/>
                <a:gdLst>
                  <a:gd name="textAreaLeft" fmla="*/ 64440 w 441720"/>
                  <a:gd name="textAreaRight" fmla="*/ 377280 w 441720"/>
                  <a:gd name="textAreaTop" fmla="*/ 54360 h 371880"/>
                  <a:gd name="textAreaBottom" fmla="*/ 317520 h 37188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cubicBezTo>
                      <a:pt x="1516666" y="144605"/>
                      <a:pt x="1500226" y="322052"/>
                      <a:pt x="1500226" y="499499"/>
                    </a:cubicBez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Капля 112"/>
              <p:cNvSpPr/>
              <p:nvPr/>
            </p:nvSpPr>
            <p:spPr>
              <a:xfrm rot="154200">
                <a:off x="2671920" y="5368320"/>
                <a:ext cx="315720" cy="254160"/>
              </a:xfrm>
              <a:custGeom>
                <a:avLst/>
                <a:gdLst/>
                <a:ahLst/>
                <a:rect l="l" t="t" r="r" b="b"/>
                <a:pathLst>
                  <a:path w="1039462" h="697991">
                    <a:moveTo>
                      <a:pt x="0" y="348996"/>
                    </a:moveTo>
                    <a:cubicBezTo>
                      <a:pt x="0" y="156251"/>
                      <a:pt x="232691" y="0"/>
                      <a:pt x="519731" y="0"/>
                    </a:cubicBezTo>
                    <a:cubicBezTo>
                      <a:pt x="775224" y="0"/>
                      <a:pt x="1030716" y="-55230"/>
                      <a:pt x="1286209" y="-165689"/>
                    </a:cubicBezTo>
                    <a:cubicBezTo>
                      <a:pt x="1121711" y="5872"/>
                      <a:pt x="1039462" y="177434"/>
                      <a:pt x="1039462" y="348996"/>
                    </a:cubicBezTo>
                    <a:cubicBezTo>
                      <a:pt x="1039462" y="541741"/>
                      <a:pt x="806771" y="697992"/>
                      <a:pt x="519731" y="697992"/>
                    </a:cubicBezTo>
                    <a:cubicBezTo>
                      <a:pt x="232691" y="697992"/>
                      <a:pt x="0" y="541741"/>
                      <a:pt x="0" y="34899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724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Группа 87"/>
            <p:cNvGrpSpPr/>
            <p:nvPr/>
          </p:nvGrpSpPr>
          <p:grpSpPr>
            <a:xfrm>
              <a:off x="2965680" y="5231160"/>
              <a:ext cx="604800" cy="585360"/>
              <a:chOff x="2965680" y="5231160"/>
              <a:chExt cx="604800" cy="585360"/>
            </a:xfrm>
          </p:grpSpPr>
          <p:sp>
            <p:nvSpPr>
              <p:cNvPr id="160" name="Капля 109"/>
              <p:cNvSpPr/>
              <p:nvPr/>
            </p:nvSpPr>
            <p:spPr>
              <a:xfrm flipH="1" rot="21172200">
                <a:off x="3115800" y="5256360"/>
                <a:ext cx="433440" cy="361440"/>
              </a:xfrm>
              <a:custGeom>
                <a:avLst/>
                <a:gdLst/>
                <a:ahLst/>
                <a:rect l="l" t="t" r="r" b="b"/>
                <a:pathLst>
                  <a:path w="1437554" h="1016448">
                    <a:moveTo>
                      <a:pt x="0" y="508224"/>
                    </a:moveTo>
                    <a:cubicBezTo>
                      <a:pt x="0" y="227540"/>
                      <a:pt x="321807" y="0"/>
                      <a:pt x="718777" y="0"/>
                    </a:cubicBezTo>
                    <a:cubicBezTo>
                      <a:pt x="974122" y="0"/>
                      <a:pt x="1229468" y="-11139"/>
                      <a:pt x="1484814" y="-33416"/>
                    </a:cubicBezTo>
                    <a:cubicBezTo>
                      <a:pt x="1453307" y="147131"/>
                      <a:pt x="1437554" y="327677"/>
                      <a:pt x="1437554" y="508224"/>
                    </a:cubicBezTo>
                    <a:cubicBezTo>
                      <a:pt x="1437554" y="788908"/>
                      <a:pt x="1115747" y="1016448"/>
                      <a:pt x="718777" y="1016448"/>
                    </a:cubicBezTo>
                    <a:cubicBezTo>
                      <a:pt x="321807" y="1016448"/>
                      <a:pt x="0" y="788908"/>
                      <a:pt x="0" y="5082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457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Капля 110"/>
              <p:cNvSpPr/>
              <p:nvPr/>
            </p:nvSpPr>
            <p:spPr>
              <a:xfrm flipH="1" rot="2245800">
                <a:off x="3007440" y="5499000"/>
                <a:ext cx="318600" cy="245880"/>
              </a:xfrm>
              <a:custGeom>
                <a:avLst/>
                <a:gdLst/>
                <a:ahLst/>
                <a:rect l="l" t="t" r="r" b="b"/>
                <a:pathLst>
                  <a:path w="1056051" h="693627">
                    <a:moveTo>
                      <a:pt x="0" y="346814"/>
                    </a:moveTo>
                    <a:cubicBezTo>
                      <a:pt x="0" y="155274"/>
                      <a:pt x="236405" y="0"/>
                      <a:pt x="528026" y="0"/>
                    </a:cubicBezTo>
                    <a:cubicBezTo>
                      <a:pt x="787596" y="0"/>
                      <a:pt x="1047166" y="-54884"/>
                      <a:pt x="1306736" y="-164653"/>
                    </a:cubicBezTo>
                    <a:cubicBezTo>
                      <a:pt x="1139613" y="5836"/>
                      <a:pt x="1056051" y="176325"/>
                      <a:pt x="1056051" y="346814"/>
                    </a:cubicBezTo>
                    <a:cubicBezTo>
                      <a:pt x="1056051" y="538354"/>
                      <a:pt x="819646" y="693628"/>
                      <a:pt x="528025" y="693628"/>
                    </a:cubicBezTo>
                    <a:cubicBezTo>
                      <a:pt x="236404" y="693628"/>
                      <a:pt x="-1" y="538354"/>
                      <a:pt x="-1" y="346814"/>
                    </a:cubicBezTo>
                    <a:lnTo>
                      <a:pt x="0" y="3468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724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163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Овал 104"/>
            <p:cNvSpPr/>
            <p:nvPr/>
          </p:nvSpPr>
          <p:spPr>
            <a:xfrm rot="1200000">
              <a:off x="3362400" y="53287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Овал 105"/>
            <p:cNvSpPr/>
            <p:nvPr/>
          </p:nvSpPr>
          <p:spPr>
            <a:xfrm rot="1200000">
              <a:off x="2827080" y="52308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Овал 106"/>
            <p:cNvSpPr/>
            <p:nvPr/>
          </p:nvSpPr>
          <p:spPr>
            <a:xfrm rot="1200000">
              <a:off x="3238560" y="538632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Овал 108"/>
            <p:cNvSpPr/>
            <p:nvPr/>
          </p:nvSpPr>
          <p:spPr>
            <a:xfrm rot="1200000">
              <a:off x="3046320" y="55389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172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173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174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177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180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181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rmAutofit fontScale="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184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187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Овал 119"/>
            <p:cNvSpPr/>
            <p:nvPr/>
          </p:nvSpPr>
          <p:spPr>
            <a:xfrm rot="8140800">
              <a:off x="837720" y="51717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Овал 120"/>
            <p:cNvSpPr/>
            <p:nvPr/>
          </p:nvSpPr>
          <p:spPr>
            <a:xfrm rot="8140800">
              <a:off x="521640" y="54813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Овал 122"/>
            <p:cNvSpPr/>
            <p:nvPr/>
          </p:nvSpPr>
          <p:spPr>
            <a:xfrm rot="8140800">
              <a:off x="543960" y="53276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198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Облако 6"/>
            <p:cNvSpPr/>
            <p:nvPr/>
          </p:nvSpPr>
          <p:spPr>
            <a:xfrm>
              <a:off x="7812000" y="1125360"/>
              <a:ext cx="1428480" cy="16988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ransition advTm="33000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182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185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188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191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194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197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200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203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205" dur="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207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210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680" y="1214280"/>
            <a:ext cx="75722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Задание (буквенны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ослушайте текст и определ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его вид, записав начальной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 тетра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О – опис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Р – рассу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 – повеств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Например: р, о, п, р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G:\3871944139.jpg"/>
          <p:cNvPicPr/>
          <p:nvPr/>
        </p:nvPicPr>
        <p:blipFill>
          <a:blip r:embed="rId1"/>
          <a:stretch/>
        </p:blipFill>
        <p:spPr>
          <a:xfrm>
            <a:off x="5214960" y="543888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85480" y="1214280"/>
            <a:ext cx="86072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етя часто болел. Его товарищи играли во дворе, а Петя только смотрел в окно. Надоело мальчику болеть. Стал он делать зарядку, обливаться холодной водой. Скоро Петя окреп и перестал бол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57120" y="1643040"/>
            <a:ext cx="85010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о виду рысь на кошку похожа, только крупная. Она плоская с боков, в груди узкая, только лапы толстые, сильные. Мех густой с пят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285560"/>
            <a:ext cx="8643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 полях белой скатертью лежит снег. А почему он не тает? Почему его ветром не сдувает? Зимой температура понижается, вот снег и не тает , накапливается. Поэтому и ветер не может его сдуть, так много снега леж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42600" y="1428480"/>
            <a:ext cx="835812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колько разных цветов на земле! Гвоздика – красивый цветок. У неё узкие листья и тонкий, хрупкий стебель. И на тонкой, как соломинка, ножке полыхают яркие огонь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14240" y="1714680"/>
            <a:ext cx="814392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ступило лето. Яркое солнце греет землю. Всё кругом цветёт и зеленеет. На лугу уже скосили траву. Грызунам трудно стало прятаться от хищ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42960" y="78552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воробьи выбирают для ночлега самые освещённые места? А вот почему. К зиме филины, сычи переселяются из лесов на окраины городов и нападают на птиц. На голых деревьях в темноте они легко находят себе добычу. Это и заставляет птиц прятаться зимой от хищников в центре города. Хищники не прилетят сюда. Яркий                             свет ослепляе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3 сентяб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Класс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142560"/>
            <a:ext cx="68706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696080" cy="475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п, о, р, о, п, 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- «верно» или 1 невер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 - 3 неверных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-  4 - 5 неверных ответов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лыбающееся лицо 4"/>
          <p:cNvSpPr/>
          <p:nvPr/>
        </p:nvSpPr>
        <p:spPr>
          <a:xfrm>
            <a:off x="785880" y="3429000"/>
            <a:ext cx="857160" cy="785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лыбающееся лицо 7"/>
          <p:cNvSpPr/>
          <p:nvPr/>
        </p:nvSpPr>
        <p:spPr>
          <a:xfrm>
            <a:off x="785880" y="2428920"/>
            <a:ext cx="857160" cy="7858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лыбающееся лицо 6"/>
          <p:cNvSpPr/>
          <p:nvPr/>
        </p:nvSpPr>
        <p:spPr>
          <a:xfrm>
            <a:off x="785880" y="4500720"/>
            <a:ext cx="815760" cy="71424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2723040" y="642960"/>
            <a:ext cx="335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873000" y="171468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зовите цель сегодняшнего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09640" y="25002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 её достигли? Почему вы так счит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785880" y="3286080"/>
            <a:ext cx="72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цените свою работу на уроке с помощью сигнальных карт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G:\3871944139.jpg"/>
          <p:cNvPicPr/>
          <p:nvPr/>
        </p:nvPicPr>
        <p:blipFill>
          <a:blip r:embed="rId1"/>
          <a:stretch/>
        </p:blipFill>
        <p:spPr>
          <a:xfrm>
            <a:off x="0" y="4232160"/>
            <a:ext cx="2643120" cy="262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hilatelia.ru/pict/cat2/stamp/15978b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дом\Рабочий стол\незнайка\Russia_stamp_1992_№17.jpg"/>
          <p:cNvPicPr/>
          <p:nvPr/>
        </p:nvPicPr>
        <p:blipFill>
          <a:blip r:embed="rId2"/>
          <a:stretch/>
        </p:blipFill>
        <p:spPr>
          <a:xfrm>
            <a:off x="4857840" y="214200"/>
            <a:ext cx="4095720" cy="3178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928800" y="2858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Script"/>
              </a:rPr>
              <a:t>Незна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85880" y="7142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Script"/>
              </a:rPr>
              <a:t>Цветочны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214960" y="36432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egoe Script"/>
              </a:rPr>
              <a:t>2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238720" y="4143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школа № 61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381560" y="4500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Калининский рай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4643280" y="492912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Script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643280" y="535788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Script"/>
              </a:rPr>
              <a:t>1973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2571840" y="1143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3564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 flipV="1">
            <a:off x="1000080" y="55720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1285920" y="5573880"/>
            <a:ext cx="0" cy="64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1571760" y="5572080"/>
            <a:ext cx="28548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9"/>
          <p:cNvSpPr/>
          <p:nvPr/>
        </p:nvSpPr>
        <p:spPr>
          <a:xfrm flipH="1">
            <a:off x="1571400" y="5929200"/>
            <a:ext cx="28548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2"/>
          <p:cNvSpPr/>
          <p:nvPr/>
        </p:nvSpPr>
        <p:spPr>
          <a:xfrm>
            <a:off x="2143080" y="5572080"/>
            <a:ext cx="285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4"/>
          <p:cNvSpPr/>
          <p:nvPr/>
        </p:nvSpPr>
        <p:spPr>
          <a:xfrm flipH="1">
            <a:off x="2143080" y="55720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6"/>
          <p:cNvSpPr/>
          <p:nvPr/>
        </p:nvSpPr>
        <p:spPr>
          <a:xfrm flipH="1">
            <a:off x="2142720" y="5857920"/>
            <a:ext cx="18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8"/>
          <p:cNvSpPr/>
          <p:nvPr/>
        </p:nvSpPr>
        <p:spPr>
          <a:xfrm>
            <a:off x="2714760" y="5572080"/>
            <a:ext cx="285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0"/>
          <p:cNvSpPr/>
          <p:nvPr/>
        </p:nvSpPr>
        <p:spPr>
          <a:xfrm flipH="1">
            <a:off x="2714400" y="5572080"/>
            <a:ext cx="28548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3"/>
          <p:cNvSpPr/>
          <p:nvPr/>
        </p:nvSpPr>
        <p:spPr>
          <a:xfrm>
            <a:off x="2714760" y="5929200"/>
            <a:ext cx="285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5"/>
          <p:cNvSpPr/>
          <p:nvPr/>
        </p:nvSpPr>
        <p:spPr>
          <a:xfrm flipH="1">
            <a:off x="2714400" y="5929200"/>
            <a:ext cx="28548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7"/>
          <p:cNvSpPr/>
          <p:nvPr/>
        </p:nvSpPr>
        <p:spPr>
          <a:xfrm>
            <a:off x="3214800" y="5572080"/>
            <a:ext cx="357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9"/>
          <p:cNvSpPr/>
          <p:nvPr/>
        </p:nvSpPr>
        <p:spPr>
          <a:xfrm flipH="1">
            <a:off x="3286080" y="5572080"/>
            <a:ext cx="2858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1"/>
          <p:cNvSpPr/>
          <p:nvPr/>
        </p:nvSpPr>
        <p:spPr>
          <a:xfrm flipH="1">
            <a:off x="3284640" y="585936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4"/>
          <p:cNvSpPr/>
          <p:nvPr/>
        </p:nvSpPr>
        <p:spPr>
          <a:xfrm flipH="1">
            <a:off x="3784680" y="557388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6"/>
          <p:cNvSpPr/>
          <p:nvPr/>
        </p:nvSpPr>
        <p:spPr>
          <a:xfrm>
            <a:off x="3786120" y="5929200"/>
            <a:ext cx="357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9"/>
          <p:cNvSpPr/>
          <p:nvPr/>
        </p:nvSpPr>
        <p:spPr>
          <a:xfrm flipH="1">
            <a:off x="4141800" y="5573880"/>
            <a:ext cx="1440" cy="64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1"/>
          <p:cNvSpPr/>
          <p:nvPr/>
        </p:nvSpPr>
        <p:spPr>
          <a:xfrm>
            <a:off x="7929720" y="2714760"/>
            <a:ext cx="9284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714240" y="1946520"/>
            <a:ext cx="821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шет вам известнейший писатель и поэт – Незнайк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– Незнайка, великий поэт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ня знает весь белый све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еня вам всем –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 написал тексты. Помогите придумать к ним загол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авитесь с этим трудным зада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ликий писатель и поэт Незн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 rot="20385000">
            <a:off x="7345080" y="5059080"/>
            <a:ext cx="1709640" cy="185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дом\Рабочий стол\незнайка\Russia_stamp_1992_№17.jpg"/>
          <p:cNvPicPr/>
          <p:nvPr/>
        </p:nvPicPr>
        <p:blipFill>
          <a:blip r:embed="rId2"/>
          <a:stretch/>
        </p:blipFill>
        <p:spPr>
          <a:xfrm>
            <a:off x="5934240" y="0"/>
            <a:ext cx="320976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8358120" y="1857240"/>
            <a:ext cx="5716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G:\3871944139.jpg"/>
          <p:cNvPicPr/>
          <p:nvPr/>
        </p:nvPicPr>
        <p:blipFill>
          <a:blip r:embed="rId1"/>
          <a:stretch/>
        </p:blipFill>
        <p:spPr>
          <a:xfrm>
            <a:off x="0" y="4019400"/>
            <a:ext cx="2857680" cy="2838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000080" y="785880"/>
            <a:ext cx="674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Что такое тек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840960" y="1785960"/>
            <a:ext cx="67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Как озаглавить тек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816480" y="2857680"/>
            <a:ext cx="83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Как определить тип тек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68360" y="135324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упила в . сна.  Со . нце ярко светит на голубом небосклоне.  Кругом тает сне. .  Звонко стучит капель. Всюду журч . т  в . сёлые ручейк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. вились подснеж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1584000"/>
            <a:ext cx="828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упила в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на. Со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це яр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ит на голубом небосклоне. Кругом тает сне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. Звонко стучит капель. Всюду журч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 в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ёлые ручейки. По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лись подснеж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G:\4cd680689e40.png"/>
          <p:cNvPicPr/>
          <p:nvPr/>
        </p:nvPicPr>
        <p:blipFill>
          <a:blip r:embed="rId1"/>
          <a:stretch/>
        </p:blipFill>
        <p:spPr>
          <a:xfrm>
            <a:off x="7634160" y="4286160"/>
            <a:ext cx="1295640" cy="2346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5960" y="428400"/>
            <a:ext cx="585792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це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929720" cy="475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 «верно» или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  2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  3 - 5 ошибок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4"/>
          <p:cNvSpPr/>
          <p:nvPr/>
        </p:nvSpPr>
        <p:spPr>
          <a:xfrm>
            <a:off x="1214280" y="3571920"/>
            <a:ext cx="790560" cy="785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лыбающееся лицо 7"/>
          <p:cNvSpPr/>
          <p:nvPr/>
        </p:nvSpPr>
        <p:spPr>
          <a:xfrm>
            <a:off x="1214280" y="2500200"/>
            <a:ext cx="816120" cy="792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лыбающееся лицо 6"/>
          <p:cNvSpPr/>
          <p:nvPr/>
        </p:nvSpPr>
        <p:spPr>
          <a:xfrm>
            <a:off x="1214280" y="4643280"/>
            <a:ext cx="816120" cy="7765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71680" y="3571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чера я был в цирке и видел тигров. Что они только не выделывали! Сначала вставали на задние лапы, потом прыгали с тумбы на тумбу и даже через горящие кольца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2357280"/>
            <a:ext cx="8893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чера я был в цирке и видел тигров. Какие они красивые и сильные! Шкура у них полосатая, яркая, глаза горят зелёным огнём, лапы упругие. А когда тигры рычат, видны белые кл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8920" y="450072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чера я был в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цирке и видел тигров. Почему такие сильные звери слушаются дрессировщика? Может, потому что человек их не боится? Или потому что дрессировщик заботится о них? А как вы дум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219640" y="16430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в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286680" y="36432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ис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143760" y="6072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6:02:56Z</dcterms:created>
  <dc:creator>Элла</dc:creator>
  <dc:description/>
  <dc:language>en-US</dc:language>
  <cp:lastModifiedBy>User</cp:lastModifiedBy>
  <dcterms:modified xsi:type="dcterms:W3CDTF">2016-09-22T16:36:52Z</dcterms:modified>
  <cp:revision>103</cp:revision>
  <dc:subject/>
  <dc:title>Слайд 1</dc:title>
</cp:coreProperties>
</file>