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884-9162-4A06-ADD8-4C6021E4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B70-2DA9-4505-9AF8-EB0DC81F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B23-F7FD-44B9-BC07-6CD1B11B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52F-5AFB-437E-8950-13C865AF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479-BD5E-4D15-9C1E-31931ACA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8F4-3349-4C07-9384-30191426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92A-03AB-49FF-9706-80F352EF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C05-8359-420E-9DDC-FBA68BB3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F15-357C-4106-A311-BB860B84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8E5-44FD-4ADB-A9D2-41BDE393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BF9-CD9D-43BA-B64B-229D7299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91A-F6F0-40C0-8A87-084D5CC2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D75D-3053-427C-979F-B1AA47E3C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3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066680" y="609480"/>
            <a:ext cx="6934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говори словечк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8" descr="j0409455[1]"/>
          <p:cNvPicPr/>
          <p:nvPr/>
        </p:nvPicPr>
        <p:blipFill>
          <a:blip r:embed="rId2"/>
          <a:stretch/>
        </p:blipFill>
        <p:spPr>
          <a:xfrm>
            <a:off x="2362320" y="2971800"/>
            <a:ext cx="45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c9b33bbd9c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о к озеру напитьс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дит рыжая 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лисиц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924520" cy="44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4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тром смотрит нам в оконц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лучом щекочет 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лнц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4c84b9ae16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нь-дон. Динь-дон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ереулке ходит…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лон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4952880" cy="48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6f8e30428b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весною было пуст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ом выросла …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9e2e84e23fa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трая плутов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ыжая голов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шистый хвост – крас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всё …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ли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248520" y="1719360"/>
            <a:ext cx="253512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dbac0831b9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друг видят стоит у колё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громный взъерошенный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42148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cd247f2b865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у нас, а у нас в сумке вкусный 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нана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2590920" y="1523880"/>
            <a:ext cx="3581280" cy="426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6f8e30428bf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йку бросила хозяй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 дождём остался 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йк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478152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ccf1f74aeff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вьюгой, снегом к нам сам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декабре пришла…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им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638680" cy="45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5acee5465fc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итрый след плести стараясь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сугробам прыгал …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аяц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524040" cy="45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06:57:12Z</dcterms:created>
  <dc:creator>user</dc:creator>
  <dc:description/>
  <dc:language>en-US</dc:language>
  <cp:lastModifiedBy>связной</cp:lastModifiedBy>
  <dcterms:modified xsi:type="dcterms:W3CDTF">2012-12-06T13:19:28Z</dcterms:modified>
  <cp:revision>50</cp:revision>
  <dc:subject/>
  <dc:title>Загадки на звуки</dc:title>
</cp:coreProperties>
</file>