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2C2-C73F-4228-8C9F-6F6471B9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DB2-AFA9-4F13-A710-81C507BB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0A5-5FAC-4FB2-91BB-FE0A097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CD6-BF69-4753-8750-A6514814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263-5442-48B6-9FF1-7E88620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BC7-156F-4B8F-B463-13CE6DB0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603-469B-45E7-ABA9-4441A0F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706-DB74-48FD-96C5-935E95CF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32E-951B-4B6B-BE08-F58BB665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40C-F298-4477-8EDC-EE5C457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0C6-6979-46F2-A899-93C3BC4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9D3-F1D4-4C81-BA95-835A108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7099-D8D9-4D38-850A-3B6120FDA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3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066680" y="60948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говори словечк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8" descr="j0409455[1]"/>
          <p:cNvPicPr/>
          <p:nvPr/>
        </p:nvPicPr>
        <p:blipFill>
          <a:blip r:embed="rId2"/>
          <a:stretch/>
        </p:blipFill>
        <p:spPr>
          <a:xfrm>
            <a:off x="2362320" y="29718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c9b33bbd9c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о к озеру нап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дит рыжая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ис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924520" cy="44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4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тром смотрит нам в оконц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лучом щекочет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н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4c84b9ae16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нь-дон. Динь-до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реулке ходит…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л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952880" cy="48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весною было пуст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ыросла …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трая плутов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жая голов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шистый хвост – крас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сё …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и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48520" y="1719360"/>
            <a:ext cx="253512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dbac0831b9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друг видят стоит у колё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громный взъерошенный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214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d247f2b86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у нас, а у нас в сумке вкусный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нана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581280" cy="426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йку бросила хозяй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дождём остался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й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4781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ccf1f74aef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ьюгой, снегом к нам са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декабре пришла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и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638680" cy="45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5acee5465fc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итрый след плести стараяс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сугробам прыгал …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яц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524040" cy="45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6:57:12Z</dcterms:created>
  <dc:creator>user</dc:creator>
  <dc:description/>
  <dc:language>en-US</dc:language>
  <cp:lastModifiedBy>связной</cp:lastModifiedBy>
  <dcterms:modified xsi:type="dcterms:W3CDTF">2012-12-06T13:19:28Z</dcterms:modified>
  <cp:revision>50</cp:revision>
  <dc:subject/>
  <dc:title>Загадки на звуки</dc:title>
</cp:coreProperties>
</file>