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C287-A5C3-4A48-935E-C66E39AF11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0DE4-7769-46FE-8CEE-12E2053A8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A34-0257-4275-B40C-636859A6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4A3-0038-425D-9D12-0274F24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1A1-01EF-4592-9314-EF6D1508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FE4-8600-4A0F-AE59-0BA12F77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F468-A814-4B1A-9785-018DDE1A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FF1F-6B46-4E0D-ABC9-465B77A1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3F7B-AA74-4C6C-A330-A7A3C6EA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B8D-F1E3-45CA-B2E8-C9CBBD17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153D-CD66-459D-97E3-AFB79BC1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6003-31A1-4719-9935-E001ACB3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D0C9-8836-4420-BAAD-DC92042D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1A0-ED6A-4B59-91E2-76DEFC4B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7D18-4CA6-4CD9-A040-F2E4E53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060-7EB0-4881-8AE3-9D2A95A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9174-A821-4896-9769-7F93A659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EE25-2338-446E-94C6-2381CD42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D6B-FAD8-49CD-9637-CC0CACEC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BFC-BC59-491D-A3BF-FA097DD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FD9-DDDA-4F22-9129-C63C808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CDA-21D7-426E-8643-CCAC70F8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2A5-F63B-457F-9D2E-ECE00D6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40B-171F-4402-9424-70F99D48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050-3B47-40A9-BB93-DF3FD331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97E-075D-47CF-9CAC-D579BFD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B3C-FA24-4336-B3A4-EF0A41CC7B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C9CC-A2FE-435E-ABAB-828B4418561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3.xm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2646360" y="55440"/>
            <a:ext cx="6473880" cy="213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Фотография Петр I (Photo of Petr l)"/>
          <p:cNvPicPr/>
          <p:nvPr/>
        </p:nvPicPr>
        <p:blipFill>
          <a:blip r:embed="rId2"/>
          <a:stretch/>
        </p:blipFill>
        <p:spPr>
          <a:xfrm>
            <a:off x="4540320" y="3092400"/>
            <a:ext cx="4603680" cy="37656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3" descr=""/>
          <p:cNvPicPr/>
          <p:nvPr/>
        </p:nvPicPr>
        <p:blipFill>
          <a:blip r:embed="rId3"/>
          <a:stretch/>
        </p:blipFill>
        <p:spPr>
          <a:xfrm>
            <a:off x="1457280" y="1925640"/>
            <a:ext cx="80107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12960" y="-360"/>
            <a:ext cx="463068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1740-1741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51280" y="1773000"/>
            <a:ext cx="5113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740 году умирает Анна Иоанновна. Царем провозглашен при регентстве Бирона Иоанн 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ссии назревает очередной дворцовый перевор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Былое России: Иван VI Антонович, император России - предки"/>
          <p:cNvPicPr/>
          <p:nvPr/>
        </p:nvPicPr>
        <p:blipFill>
          <a:blip r:embed="rId1"/>
          <a:stretch/>
        </p:blipFill>
        <p:spPr>
          <a:xfrm>
            <a:off x="684360" y="620640"/>
            <a:ext cx="2995560" cy="3745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684360" y="43657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оанн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V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Антонови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5084640"/>
            <a:ext cx="44132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Фаворит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Эрнст Бирон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716360" y="907920"/>
            <a:ext cx="4184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ентство Эрнста-Иоганна Бирона продолжалось не более трёх недель. Бирон был неспособен к самостоятельному управлению государством, он не умел консолидироваться с теми, кто мог быть ему полез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Управляющая кнопка: назад 4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Герцог Бирон, который имел несчастие быть &quot;немцем&quot; Вести Сегодня"/>
          <p:cNvPicPr/>
          <p:nvPr/>
        </p:nvPicPr>
        <p:blipFill>
          <a:blip r:embed="rId1"/>
          <a:stretch/>
        </p:blipFill>
        <p:spPr>
          <a:xfrm>
            <a:off x="1187280" y="981000"/>
            <a:ext cx="34005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5435640" y="304920"/>
            <a:ext cx="325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1741-1761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4643280" y="1295280"/>
            <a:ext cx="42498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Наиболее законная из всех преемников и преемниц Петра I»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 О. Ключев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вращение к петровским преобразованиям, - восстанавливались порядки и органы созданные при Пет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Фото :: Елизавета Петровна (Elizaveta Petrovna) - Елизавета …"/>
          <p:cNvPicPr/>
          <p:nvPr/>
        </p:nvPicPr>
        <p:blipFill>
          <a:blip r:embed="rId1"/>
          <a:stretch/>
        </p:blipFill>
        <p:spPr>
          <a:xfrm>
            <a:off x="900000" y="981000"/>
            <a:ext cx="3616560" cy="43801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55640" y="5300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Елизавета Петр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Управляющая кнопка: назад 8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10552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1761 -1762гг. (186 дней)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5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Romanov_3.html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214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8"/>
          <p:cNvSpPr/>
          <p:nvPr/>
        </p:nvSpPr>
        <p:spPr>
          <a:xfrm>
            <a:off x="3924360" y="1413000"/>
            <a:ext cx="504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ждённый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л Петер Ульрих Гольштин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к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ра I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линии отца был внучатым племянником шведского короля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ла XI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лся как наследник шведского престола. После полугодового царствования свергнут в результате дворцового переворо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24000" y="5157720"/>
            <a:ext cx="3520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тр I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19640" y="1341000"/>
            <a:ext cx="361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катерина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(1762-1796 гг.)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0" name="Picture 2" descr="екатерина великая фильм для взрослых"/>
          <p:cNvPicPr/>
          <p:nvPr/>
        </p:nvPicPr>
        <p:blipFill>
          <a:blip r:embed="rId1"/>
          <a:stretch/>
        </p:blipFill>
        <p:spPr>
          <a:xfrm>
            <a:off x="900000" y="549360"/>
            <a:ext cx="4724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47640"/>
                <a:gridCol w="6048720"/>
                <a:gridCol w="15476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Поня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уз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писные крестья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антилиз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4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кциониз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1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ушная под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2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7"/>
          <p:cNvSpPr/>
          <p:nvPr/>
        </p:nvSpPr>
        <p:spPr>
          <a:xfrm>
            <a:off x="1476360" y="620640"/>
            <a:ext cx="73436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Дворцовые переворо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период между 1725 и 1762 гг., для которого характерно частое чередование слабых и зависимых правителей на русском престо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ля этого периода характерна сильная зависимость монархов от позиции дворянской элиты и гвардии, несамостоятельность их политики и так называемый фаворитиз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403280" y="0"/>
            <a:ext cx="7588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b3226"/>
                </a:solidFill>
                <a:latin typeface="Times New Roman"/>
              </a:rPr>
              <a:t>Причины дворцовых переворо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556000" y="134136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ите текст на стр. 146-147 и выделите причины дворцовых переворо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Фотография Петр I (Photo of Petr l)"/>
          <p:cNvPicPr/>
          <p:nvPr/>
        </p:nvPicPr>
        <p:blipFill>
          <a:blip r:embed="rId1"/>
          <a:stretch/>
        </p:blipFill>
        <p:spPr>
          <a:xfrm>
            <a:off x="1476360" y="2997360"/>
            <a:ext cx="424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3280" y="1412640"/>
            <a:ext cx="75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каз Петр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 престолонаслед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иление роли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вардии (дворян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рьба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ппировок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родовой аристократ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403280" y="0"/>
            <a:ext cx="7588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b3226"/>
                </a:solidFill>
                <a:latin typeface="Times New Roman"/>
              </a:rPr>
              <a:t>Причины дворцовых переворо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52"/>
          <p:cNvSpPr/>
          <p:nvPr/>
        </p:nvSpPr>
        <p:spPr>
          <a:xfrm>
            <a:off x="4932360" y="5084640"/>
            <a:ext cx="554040" cy="2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етенденты на престол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5338800" y="4724280"/>
            <a:ext cx="2666880" cy="990720"/>
          </a:xfrm>
          <a:prstGeom prst="roundRect">
            <a:avLst>
              <a:gd name="adj" fmla="val 16667"/>
            </a:avLst>
          </a:prstGeom>
          <a:solidFill>
            <a:srgbClr val="f3d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228600" y="3200400"/>
            <a:ext cx="2666880" cy="1066680"/>
          </a:xfrm>
          <a:prstGeom prst="roundRect">
            <a:avLst>
              <a:gd name="adj" fmla="val 16667"/>
            </a:avLst>
          </a:prstGeom>
          <a:solidFill>
            <a:srgbClr val="ffe7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380880" y="1600200"/>
            <a:ext cx="2667240" cy="1066680"/>
          </a:xfrm>
          <a:prstGeom prst="roundRect">
            <a:avLst>
              <a:gd name="adj" fmla="val 16667"/>
            </a:avLst>
          </a:prstGeom>
          <a:solidFill>
            <a:srgbClr val="ffe7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5"/>
          <p:cNvSpPr/>
          <p:nvPr/>
        </p:nvSpPr>
        <p:spPr>
          <a:xfrm>
            <a:off x="541008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7"/>
          <p:cNvSpPr/>
          <p:nvPr/>
        </p:nvSpPr>
        <p:spPr>
          <a:xfrm>
            <a:off x="152280" y="3352680"/>
            <a:ext cx="2743200" cy="825480"/>
          </a:xfrm>
          <a:prstGeom prst="rect">
            <a:avLst/>
          </a:prstGeom>
          <a:solidFill>
            <a:srgbClr val="ffe7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гиб в тюрьм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3"/>
          <p:cNvSpPr/>
          <p:nvPr/>
        </p:nvSpPr>
        <p:spPr>
          <a:xfrm flipH="1" flipV="1">
            <a:off x="1874880" y="4267080"/>
            <a:ext cx="46080" cy="457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4"/>
          <p:cNvSpPr/>
          <p:nvPr/>
        </p:nvSpPr>
        <p:spPr>
          <a:xfrm>
            <a:off x="6095880" y="3886200"/>
            <a:ext cx="46080" cy="838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533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6"/>
          <p:cNvSpPr/>
          <p:nvPr/>
        </p:nvSpPr>
        <p:spPr>
          <a:xfrm flipH="1">
            <a:off x="2555640" y="515772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1"/>
          <p:cNvSpPr/>
          <p:nvPr/>
        </p:nvSpPr>
        <p:spPr>
          <a:xfrm>
            <a:off x="18288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3"/>
          <p:cNvSpPr/>
          <p:nvPr/>
        </p:nvSpPr>
        <p:spPr>
          <a:xfrm flipH="1" flipV="1">
            <a:off x="1371240" y="2666520"/>
            <a:ext cx="824040" cy="546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http://upload.wikimedia.org/wikipedia/commons/thumb/a/a5/Molchanov.jpg/180px-Molchanov.jpg"/>
          <p:cNvPicPr/>
          <p:nvPr/>
        </p:nvPicPr>
        <p:blipFill>
          <a:blip r:embed="rId1"/>
          <a:stretch/>
        </p:blipFill>
        <p:spPr>
          <a:xfrm>
            <a:off x="2444760" y="927000"/>
            <a:ext cx="2193840" cy="324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upload.wikimedia.org/wikipedia/commons/thumb/3/3c/Ekaterina_I.jpg/180px-Ekaterina_I.jpg"/>
          <p:cNvPicPr/>
          <p:nvPr/>
        </p:nvPicPr>
        <p:blipFill>
          <a:blip r:embed="rId2"/>
          <a:stretch/>
        </p:blipFill>
        <p:spPr>
          <a:xfrm>
            <a:off x="7229520" y="4668840"/>
            <a:ext cx="2163600" cy="330516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27"/>
          <p:cNvSpPr/>
          <p:nvPr/>
        </p:nvSpPr>
        <p:spPr>
          <a:xfrm>
            <a:off x="157320" y="472428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e7b8"/>
          </a:solidFill>
          <a:ln w="25560">
            <a:solidFill>
              <a:srgbClr val="525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250920" y="4797360"/>
            <a:ext cx="2255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вдокия Лопух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4"/>
          <p:cNvSpPr/>
          <p:nvPr/>
        </p:nvSpPr>
        <p:spPr>
          <a:xfrm>
            <a:off x="4788000" y="2781360"/>
            <a:ext cx="766800" cy="1917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7"/>
          <p:cNvSpPr/>
          <p:nvPr/>
        </p:nvSpPr>
        <p:spPr>
          <a:xfrm>
            <a:off x="5148360" y="3068640"/>
            <a:ext cx="2666880" cy="990720"/>
          </a:xfrm>
          <a:prstGeom prst="roundRect">
            <a:avLst>
              <a:gd name="adj" fmla="val 16667"/>
            </a:avLst>
          </a:prstGeom>
          <a:solidFill>
            <a:srgbClr val="f3d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0"/>
          <p:cNvSpPr/>
          <p:nvPr/>
        </p:nvSpPr>
        <p:spPr>
          <a:xfrm>
            <a:off x="5724360" y="328464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лиза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8"/>
          <p:cNvSpPr/>
          <p:nvPr/>
        </p:nvSpPr>
        <p:spPr>
          <a:xfrm>
            <a:off x="4500720" y="1773360"/>
            <a:ext cx="2666880" cy="1066680"/>
          </a:xfrm>
          <a:prstGeom prst="roundRect">
            <a:avLst>
              <a:gd name="adj" fmla="val 16667"/>
            </a:avLst>
          </a:prstGeom>
          <a:solidFill>
            <a:srgbClr val="f3d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9"/>
          <p:cNvSpPr/>
          <p:nvPr/>
        </p:nvSpPr>
        <p:spPr>
          <a:xfrm>
            <a:off x="5219640" y="2060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7" descr="180px-Elizabeth_empress"/>
          <p:cNvPicPr/>
          <p:nvPr/>
        </p:nvPicPr>
        <p:blipFill>
          <a:blip r:embed="rId3"/>
          <a:stretch/>
        </p:blipFill>
        <p:spPr>
          <a:xfrm>
            <a:off x="7345440" y="2724120"/>
            <a:ext cx="206676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5" descr="http://upload.wikimedia.org/wikipedia/commons/thumb/d/d8/Nikitin_Anna_Petrovna.jpg/180px-Nikitin_Anna_Petrovna.jpg"/>
          <p:cNvPicPr/>
          <p:nvPr/>
        </p:nvPicPr>
        <p:blipFill>
          <a:blip r:embed="rId4"/>
          <a:stretch/>
        </p:blipFill>
        <p:spPr>
          <a:xfrm>
            <a:off x="6900840" y="785880"/>
            <a:ext cx="2139840" cy="312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7"/>
          <p:cNvSpPr/>
          <p:nvPr/>
        </p:nvSpPr>
        <p:spPr>
          <a:xfrm>
            <a:off x="2843280" y="472428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72d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3"/>
          <p:cNvSpPr/>
          <p:nvPr/>
        </p:nvSpPr>
        <p:spPr>
          <a:xfrm>
            <a:off x="2895480" y="4876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7"/>
          <p:cNvSpPr/>
          <p:nvPr/>
        </p:nvSpPr>
        <p:spPr>
          <a:xfrm>
            <a:off x="2649240" y="26028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Дворцовые перевор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736320" y="90792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ворян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1840320" y="83664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яр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492360" y="1413000"/>
            <a:ext cx="23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Екатерина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I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 (1725-17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348000" y="23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Петр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II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 (172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7-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17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30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635280" y="28526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Анна Иоановна (1730 -174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0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484360" y="414972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Иван Антон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(1730 -174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0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627280" y="501336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Елизавета Пет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(1741 -176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771640" y="590400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Петр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(1761 -176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Управляющая кнопка: далее 28"/>
          <p:cNvSpPr/>
          <p:nvPr/>
        </p:nvSpPr>
        <p:spPr>
          <a:xfrm>
            <a:off x="8459640" y="6165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3794"/>
                </a:moveTo>
                <a:lnTo>
                  <a:pt x="20473" y="10800"/>
                </a:lnTo>
                <a:lnTo>
                  <a:pt x="6460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725-1727 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716360" y="1700280"/>
            <a:ext cx="412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переворота, устроенного Меншиковым и Остерманом  при поддержке гвардии, у власти оказалась именно Екатерина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03280" y="558972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Екатерина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Файл:Императрица Екатерина1.PNG - Iteach"/>
          <p:cNvPicPr/>
          <p:nvPr/>
        </p:nvPicPr>
        <p:blipFill>
          <a:blip r:embed="rId1"/>
          <a:stretch/>
        </p:blipFill>
        <p:spPr>
          <a:xfrm>
            <a:off x="1042920" y="1341360"/>
            <a:ext cx="3630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63640" y="5661000"/>
            <a:ext cx="20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етр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27432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788000" y="1268280"/>
            <a:ext cx="396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лся под влиянием старой родовой аристократии, объявил себя противником преобразований Пет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еревел царский двор в Моск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р в 1730г.  от оспы. Прекращение рода Романовых в мужском кол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72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-17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0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5" name="Picture 2" descr="Фото :: Петр II (Petr II) - Петр Романов (Petr Romanov)"/>
          <p:cNvPicPr/>
          <p:nvPr/>
        </p:nvPicPr>
        <p:blipFill>
          <a:blip r:embed="rId1"/>
          <a:stretch/>
        </p:blipFill>
        <p:spPr>
          <a:xfrm>
            <a:off x="1042920" y="1484280"/>
            <a:ext cx="36734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11640" y="25992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730 – 1740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067280" y="1125360"/>
            <a:ext cx="4779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чь Ивана и племянница Петра I. Получила корону ценой подписания Кондиций, которые уничтожила по приезду в Россию. Установила в стран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роновщин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ондиции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приглашения на престол, попытка ограничить самодержавие.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Взгляни вокруг: Познай мир: История: Цари и императоры"/>
          <p:cNvPicPr/>
          <p:nvPr/>
        </p:nvPicPr>
        <p:blipFill>
          <a:blip r:embed="rId1"/>
          <a:stretch/>
        </p:blipFill>
        <p:spPr>
          <a:xfrm>
            <a:off x="395280" y="765000"/>
            <a:ext cx="3627360" cy="4654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95280" y="5300640"/>
            <a:ext cx="3600360" cy="792360"/>
          </a:xfrm>
          <a:prstGeom prst="rect">
            <a:avLst/>
          </a:prstGeom>
          <a:solidFill>
            <a:srgbClr val="f3d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Анна Иоанн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2:57:12Z</dcterms:created>
  <dc:creator>учитель</dc:creator>
  <dc:description/>
  <dc:language>en-US</dc:language>
  <cp:lastModifiedBy>User</cp:lastModifiedBy>
  <dcterms:modified xsi:type="dcterms:W3CDTF">2018-08-18T06:59:22Z</dcterms:modified>
  <cp:revision>34</cp:revision>
  <dc:subject/>
  <dc:title>Презентация PowerPoint</dc:title>
</cp:coreProperties>
</file>