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10.gif" ContentType="image/gif"/>
  <Override PartName="/ppt/media/image9.gif" ContentType="image/gif"/>
  <Override PartName="/ppt/media/image8.png" ContentType="image/png"/>
  <Override PartName="/ppt/media/image12.gif" ContentType="image/gif"/>
  <Override PartName="/ppt/media/image7.gif" ContentType="image/gif"/>
  <Override PartName="/ppt/media/image20.wmf" ContentType="image/x-wmf"/>
  <Override PartName="/ppt/media/image6.png" ContentType="image/png"/>
  <Override PartName="/ppt/media/image4.png" ContentType="image/png"/>
  <Override PartName="/ppt/media/image24.gif" ContentType="image/gif"/>
  <Override PartName="/ppt/media/image3.png" ContentType="image/png"/>
  <Override PartName="/ppt/media/image26.png" ContentType="image/png"/>
  <Override PartName="/ppt/media/image23.png" ContentType="image/png"/>
  <Override PartName="/ppt/media/image18.jpeg" ContentType="image/jpeg"/>
  <Override PartName="/ppt/media/image1.jpeg" ContentType="image/jpeg"/>
  <Override PartName="/ppt/media/image5.png" ContentType="image/png"/>
  <Override PartName="/ppt/media/image22.png" ContentType="image/png"/>
  <Override PartName="/ppt/media/image17.gif" ContentType="image/gif"/>
  <Override PartName="/ppt/media/image15.gif" ContentType="image/gif"/>
  <Override PartName="/ppt/media/image21.png" ContentType="image/png"/>
  <Override PartName="/ppt/media/image19.png" ContentType="image/png"/>
  <Override PartName="/ppt/media/image16.gif" ContentType="image/gif"/>
  <Override PartName="/ppt/media/image14.gif" ContentType="image/gif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57E1-6733-40EC-A573-08E6555F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D2CD-86F4-4610-A54A-8B5F2FCA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0C15-4261-418E-BBD0-E9461459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3B99-37A0-4050-9E32-250F691E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05F7B-940A-4D96-9712-9ECD97CBB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E2F7-FA85-4554-B865-EC5F4996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3111D-52FF-4200-B483-C1061E4A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7D37-2C45-431A-A072-E5A3241D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D1E7-5831-46E1-B51C-992DEC91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9E19-16E9-41ED-B16B-0F8204DC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CD7F-4E9C-4395-954E-A9BEE870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DEC-648F-4FA5-B6C3-61CBB895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2D51-26ED-42C0-90AE-2568E183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80F5-2C61-49FE-AA7B-5A213C6E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54F3-3095-483B-B459-B8AEF4B0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72A0-C789-4F37-AC14-06E7A567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3101-3D88-4205-94D0-B8E57CB4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CD64-B73A-4B27-A63C-604F8651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3EA7-110D-43DF-AE12-020FC790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CD98-97B4-41D7-B23C-8C8DE542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8196-B965-4B11-8571-2C5A40DF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771C-409A-4B26-B23E-05A7509A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867-86E6-46B9-B604-FC92F5AB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1775-ECBA-4ADC-ADBD-9A654E26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E8FAE-409D-4268-B19B-8CF5945562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D:\фоны и шаблоны\д.jpg"/>
          <p:cNvPicPr/>
          <p:nvPr/>
        </p:nvPicPr>
        <p:blipFill>
          <a:blip r:embed="rId2"/>
          <a:srcRect l="0" t="0" r="82549" b="0"/>
          <a:stretch/>
        </p:blipFill>
        <p:spPr>
          <a:xfrm>
            <a:off x="0" y="0"/>
            <a:ext cx="15717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D:\фоны и шаблоны\д.jpg"/>
          <p:cNvPicPr/>
          <p:nvPr/>
        </p:nvPicPr>
        <p:blipFill>
          <a:blip r:embed="rId2"/>
          <a:srcRect l="0" t="0" r="82549" b="0"/>
          <a:stretch/>
        </p:blipFill>
        <p:spPr>
          <a:xfrm>
            <a:off x="0" y="0"/>
            <a:ext cx="15717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фоны и шаблоны\д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EFE1-02DF-4A93-8AD5-89CAC13134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fizminutka_dlia_nogh.pps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8%20-%20&#1082;&#1086;&#1087;&#1080;&#1103;.ppt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" Target="slide33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4.gif"/><Relationship Id="rId9" Type="http://schemas.openxmlformats.org/officeDocument/2006/relationships/image" Target="../media/image24.gif"/><Relationship Id="rId10" Type="http://schemas.openxmlformats.org/officeDocument/2006/relationships/image" Target="../media/image25.png"/><Relationship Id="rId11" Type="http://schemas.openxmlformats.org/officeDocument/2006/relationships/image" Target="../media/image24.gif"/><Relationship Id="rId12" Type="http://schemas.openxmlformats.org/officeDocument/2006/relationships/image" Target="../media/image26.png"/><Relationship Id="rId13" Type="http://schemas.openxmlformats.org/officeDocument/2006/relationships/slide" Target="slide34.xml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F:/Track03.cda" TargetMode="External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alibri"/>
              </a:rPr>
              <a:t>Здоровьесбережение </a:t>
            </a:r>
            <a:br>
              <a:rPr sz="6000"/>
            </a:br>
            <a:r>
              <a:rPr b="1" lang="ru-RU" sz="6000" spc="-1" strike="noStrike">
                <a:solidFill>
                  <a:srgbClr val="000099"/>
                </a:solidFill>
                <a:latin typeface="Calibri"/>
              </a:rPr>
              <a:t>на уро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C:\Users\Елена\Desktop\здоровьесбережение\6-1.gif"/>
          <p:cNvPicPr/>
          <p:nvPr/>
        </p:nvPicPr>
        <p:blipFill>
          <a:blip r:embed="rId1"/>
          <a:stretch/>
        </p:blipFill>
        <p:spPr>
          <a:xfrm>
            <a:off x="0" y="3500280"/>
            <a:ext cx="4549680" cy="31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1066680" y="304920"/>
            <a:ext cx="75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649520" y="1413000"/>
          <a:ext cx="6995880" cy="4348080"/>
        </p:xfrm>
        <a:graphic>
          <a:graphicData uri="http://schemas.openxmlformats.org/drawingml/2006/table">
            <a:tbl>
              <a:tblPr/>
              <a:tblGrid>
                <a:gridCol w="1439640"/>
                <a:gridCol w="2232000"/>
                <a:gridCol w="1152720"/>
                <a:gridCol w="1079280"/>
                <a:gridCol w="1092240"/>
              </a:tblGrid>
              <a:tr h="11782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Критерии здоровье- сбереже-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Рациональ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достаточно рацион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рацион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492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личие, место, содержание и продолж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тель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 уроке моментов оздоров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Физкультминутки, динамические паузы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гимнастика для глаз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массаж активных точ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20 и 35 минуте п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1 минуте из 3-х легких упражнений с 3-4 повторениями кажд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1 физкультминутка с неправильным содержанием или продолжительност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Отсутств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1187280" y="333360"/>
            <a:ext cx="75614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аботоспособность в течение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чебного дня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-6 кла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Объект 2"/>
          <p:cNvGraphicFramePr/>
          <p:nvPr/>
        </p:nvGraphicFramePr>
        <p:xfrm>
          <a:off x="1979640" y="1916280"/>
          <a:ext cx="6705720" cy="44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16280"/>
                    <a:ext cx="6705720" cy="44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1403280" y="333360"/>
            <a:ext cx="75614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аботоспособность в течение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чебного дня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7-11 кла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Объект 2"/>
          <p:cNvGraphicFramePr/>
          <p:nvPr/>
        </p:nvGraphicFramePr>
        <p:xfrm>
          <a:off x="1468440" y="2133720"/>
          <a:ext cx="7467480" cy="40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8440" y="2133720"/>
                    <a:ext cx="746748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1187280" y="549360"/>
            <a:ext cx="75614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аботоспособность в течение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рабочей недели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-6 кла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Объект 2"/>
          <p:cNvGraphicFramePr/>
          <p:nvPr/>
        </p:nvGraphicFramePr>
        <p:xfrm>
          <a:off x="1476360" y="2276640"/>
          <a:ext cx="746748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276640"/>
                    <a:ext cx="746748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1219320" y="189000"/>
            <a:ext cx="75610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аботоспособность в течение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абочей недели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7-11 кла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Объект 2"/>
          <p:cNvGraphicFramePr/>
          <p:nvPr/>
        </p:nvGraphicFramePr>
        <p:xfrm>
          <a:off x="1312920" y="2205000"/>
          <a:ext cx="7467480" cy="41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2920" y="2205000"/>
                    <a:ext cx="746748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1646280" y="549360"/>
            <a:ext cx="7416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изкультминутки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на занятиях   представляют собой активный отдых, направленный на уменьшение утомления воспитанников, снятие отрицательных воздействий от длительных статических нагрузок, активизацию внимания  воспитанников  и повышение их способности к более эффективному восприятию учебного материа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2460240" y="2060640"/>
            <a:ext cx="56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Физкультминутка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для н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545760" y="1571760"/>
            <a:ext cx="79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Физминутка для ног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www.nivagold.ru/raznoe1/tansy/PhotoAlbum1/Photo%20015.gif"/>
          <p:cNvPicPr/>
          <p:nvPr/>
        </p:nvPicPr>
        <p:blipFill>
          <a:blip r:embed="rId1"/>
          <a:stretch/>
        </p:blipFill>
        <p:spPr>
          <a:xfrm>
            <a:off x="2428920" y="3143160"/>
            <a:ext cx="4282920" cy="2643120"/>
          </a:xfrm>
          <a:prstGeom prst="rect">
            <a:avLst/>
          </a:prstGeom>
          <a:ln w="0">
            <a:noFill/>
          </a:ln>
        </p:spPr>
      </p:pic>
      <p:pic>
        <p:nvPicPr>
          <p:cNvPr id="122" name="smalelka-ka-dancelong.mid" descr=""/>
          <p:cNvPicPr/>
          <p:nvPr/>
        </p:nvPicPr>
        <p:blipFill>
          <a:blip r:embed="rId2"/>
          <a:stretch/>
        </p:blipFill>
        <p:spPr>
          <a:xfrm>
            <a:off x="981000" y="8906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www.nivagold.ru/raznoe1/obuv/schuhe-0145.gif"/>
          <p:cNvPicPr/>
          <p:nvPr/>
        </p:nvPicPr>
        <p:blipFill>
          <a:blip r:embed="rId1"/>
          <a:stretch/>
        </p:blipFill>
        <p:spPr>
          <a:xfrm>
            <a:off x="2428920" y="42876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http://www.nivagold.ru/raznoe1/obuv/schuhe-0185.gif"/>
          <p:cNvPicPr/>
          <p:nvPr/>
        </p:nvPicPr>
        <p:blipFill>
          <a:blip r:embed="rId1"/>
          <a:stretch/>
        </p:blipFill>
        <p:spPr>
          <a:xfrm>
            <a:off x="2000160" y="785880"/>
            <a:ext cx="46436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539640" y="1197000"/>
            <a:ext cx="8856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1476360" y="189000"/>
            <a:ext cx="74674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В.А.Сухомлин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:\Users\Елена\Desktop\здоровьесбережение\6-1.gif"/>
          <p:cNvPicPr/>
          <p:nvPr/>
        </p:nvPicPr>
        <p:blipFill>
          <a:blip r:embed="rId1"/>
          <a:stretch/>
        </p:blipFill>
        <p:spPr>
          <a:xfrm>
            <a:off x="0" y="3787920"/>
            <a:ext cx="414036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8" descr="http://www.nivagold.ru/raznoe1/obuv/schuhe-0398.gif"/>
          <p:cNvPicPr/>
          <p:nvPr/>
        </p:nvPicPr>
        <p:blipFill>
          <a:blip r:embed="rId1"/>
          <a:stretch/>
        </p:blipFill>
        <p:spPr>
          <a:xfrm>
            <a:off x="2071800" y="571680"/>
            <a:ext cx="47862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http://www.nivagold.ru/raznoe1/obuv/schuhe-0048.gif"/>
          <p:cNvPicPr/>
          <p:nvPr/>
        </p:nvPicPr>
        <p:blipFill>
          <a:blip r:embed="rId1"/>
          <a:stretch/>
        </p:blipFill>
        <p:spPr>
          <a:xfrm>
            <a:off x="2071800" y="1214280"/>
            <a:ext cx="44290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ttp://www.nivagold.ru/raznoe1/obuv/schuhe-0122.gif"/>
          <p:cNvPicPr/>
          <p:nvPr/>
        </p:nvPicPr>
        <p:blipFill>
          <a:blip r:embed="rId1"/>
          <a:stretch/>
        </p:blipFill>
        <p:spPr>
          <a:xfrm>
            <a:off x="2786040" y="1714680"/>
            <a:ext cx="4000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http://www.nivagold.ru/raznoe1/obuv/schuhe-0153.gif"/>
          <p:cNvPicPr/>
          <p:nvPr/>
        </p:nvPicPr>
        <p:blipFill>
          <a:blip r:embed="rId1"/>
          <a:stretch/>
        </p:blipFill>
        <p:spPr>
          <a:xfrm>
            <a:off x="2500200" y="1357200"/>
            <a:ext cx="46436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http://www.nivagold.ru/raznoe1/obuv/schuhe-0167.gif"/>
          <p:cNvPicPr/>
          <p:nvPr/>
        </p:nvPicPr>
        <p:blipFill>
          <a:blip r:embed="rId1"/>
          <a:stretch/>
        </p:blipFill>
        <p:spPr>
          <a:xfrm>
            <a:off x="2500200" y="1785960"/>
            <a:ext cx="4357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www.nivagold.ru/raznoe1/obuv/schuhe-0168.gif"/>
          <p:cNvPicPr/>
          <p:nvPr/>
        </p:nvPicPr>
        <p:blipFill>
          <a:blip r:embed="rId1"/>
          <a:stretch/>
        </p:blipFill>
        <p:spPr>
          <a:xfrm>
            <a:off x="2143080" y="1285920"/>
            <a:ext cx="44290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2" descr="http://www.nivagold.ru/raznoe1/obuv/schuhe-0095.gif"/>
          <p:cNvPicPr/>
          <p:nvPr/>
        </p:nvPicPr>
        <p:blipFill>
          <a:blip r:embed="rId1"/>
          <a:stretch/>
        </p:blipFill>
        <p:spPr>
          <a:xfrm>
            <a:off x="2000160" y="1143000"/>
            <a:ext cx="4857840" cy="4857840"/>
          </a:xfrm>
          <a:prstGeom prst="rect">
            <a:avLst/>
          </a:prstGeom>
          <a:ln w="0">
            <a:noFill/>
          </a:ln>
        </p:spPr>
      </p:pic>
      <p:sp>
        <p:nvSpPr>
          <p:cNvPr id="132" name="Стрелка влево 2">
            <a:hlinkClick r:id="rId2"/>
          </p:cNvPr>
          <p:cNvSpPr/>
          <p:nvPr/>
        </p:nvSpPr>
        <p:spPr>
          <a:xfrm>
            <a:off x="7596360" y="6000840"/>
            <a:ext cx="1152360" cy="40644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990720" y="22860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ребования к проведению физкультмину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547640" y="1371600"/>
            <a:ext cx="7201080" cy="493704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400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Комплексы подбираются в зависимости от   вида урока, его содерж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Упражнения должны быть разнообразны, так   как однообразие снижает интерес к ним, а следовательно, и их результатив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Физкультминутки должны проводиться на начальном этапе утомления, выполнение упражнений при сильном утомлении не дает желаемого результ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Важно обеспечить позитивный эмоциональный настр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511280" y="476280"/>
            <a:ext cx="7561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иды физкультмину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1595520" y="1413000"/>
            <a:ext cx="7345440" cy="453708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499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пражнения для снятия общего или локального утом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пражнения для кистей р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Гимнастика для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Гимнастика для сл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пражнения корректирующие оса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ыхательная гимнаст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1692360" y="1386000"/>
            <a:ext cx="7108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одвижная игр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митация трудовых действи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оизнесение чистоговорок, сопровождающееся действия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физминутки в форме психофизической гимнастики, когда дети мимикой, жестами и движениями изображают разных живот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1692360" y="247680"/>
            <a:ext cx="7137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ормы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проведения физкультмину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87280" y="260280"/>
            <a:ext cx="885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Здоровье </a:t>
            </a:r>
            <a:r>
              <a:rPr b="1" lang="ru-RU" sz="3200" spc="-1" strike="noStrike">
                <a:solidFill>
                  <a:srgbClr val="660066"/>
                </a:solidFill>
                <a:latin typeface="Georgia"/>
              </a:rPr>
              <a:t>- это состояние полного физического, психического и социального благополучия, а не только отсутствие болезней или физических деф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684360" y="281448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 данным Минздравсоцразвития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468360" y="3892680"/>
            <a:ext cx="84963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10</a:t>
            </a:r>
            <a:r>
              <a:rPr b="1" i="1" lang="ru-RU" sz="32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%</a:t>
            </a:r>
            <a:r>
              <a:rPr b="1" i="1" lang="ru-RU" sz="3200" spc="-1" strike="noStrike">
                <a:solidFill>
                  <a:srgbClr val="000099"/>
                </a:solidFill>
                <a:latin typeface="Georgia"/>
              </a:rPr>
              <a:t> выпускников общеобразовательных учреждений могут быть отнесены к категории здоро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1476360" y="260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Физминутки для учеников 7-х - 11-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1619280" y="825480"/>
            <a:ext cx="7200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ля профилактики нарушения зрения. Они так же благоприятны при неврозах, гипертонии, повышенном внутричерепном давл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екомендуемые упражнения: 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1. Вертикальные движения глаз вверх-вниз;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. Горизонтальные вправо-влево;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3. Вращение глазами по часовой стрелке и против;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4. Закрыть глаза и представить по очереди цвета радуги как можно отчетливее;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5. На доске до начала урока начертить какую-либо кривую (спираль, окружность, ломанную, предлагается глазами " нарисовать" эти фигуры несколько раз в одном, а затем в другом направлении). Можно нарисовать глазами круг или первую букву своего и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190440" y="120960"/>
            <a:ext cx="8929800" cy="17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d"/>
                </a:solidFill>
                <a:latin typeface="Verdana"/>
              </a:rPr>
              <a:t>ЛЕЧЕБНЫЕ СТЕРЕОКАРТИНКИ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ижеприведённые стереокартинки взяты из книги "Цифровая аптечка" (Данилова Т.М.) Для работы с данными картинками нужно расфокусировать глаза и увидеть то, что изображено "внутри" стереокартинок - далее смотреть на это 3D изображение желаемый интервал врем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d"/>
                </a:solidFill>
                <a:latin typeface="Verdana"/>
              </a:rPr>
              <a:t>КАРТИНКА "БЛИЗОРУКОСТЬ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http://zhiznjprekrasna.ucoz.ru/4eliovek/blizoruk_/.jpg"/>
          <p:cNvPicPr/>
          <p:nvPr/>
        </p:nvPicPr>
        <p:blipFill>
          <a:blip r:embed="rId1"/>
          <a:stretch/>
        </p:blipFill>
        <p:spPr>
          <a:xfrm>
            <a:off x="1357200" y="1928880"/>
            <a:ext cx="76201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post-6773-1163190993"/>
          <p:cNvPicPr/>
          <p:nvPr/>
        </p:nvPicPr>
        <p:blipFill>
          <a:blip r:embed="rId1"/>
          <a:srcRect l="2112" t="6056" r="8131" b="19735"/>
          <a:stretch/>
        </p:blipFill>
        <p:spPr>
          <a:xfrm flipH="1" rot="682800">
            <a:off x="6011640" y="2637000"/>
            <a:ext cx="2808000" cy="1436040"/>
          </a:xfrm>
          <a:prstGeom prst="rect">
            <a:avLst/>
          </a:prstGeom>
          <a:ln w="0">
            <a:noFill/>
          </a:ln>
        </p:spPr>
      </p:pic>
      <p:sp>
        <p:nvSpPr>
          <p:cNvPr id="144" name="WordArt 4"/>
          <p:cNvSpPr txBox="1"/>
          <p:nvPr/>
        </p:nvSpPr>
        <p:spPr>
          <a:xfrm>
            <a:off x="611280" y="1628640"/>
            <a:ext cx="799308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Электронные физминутки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для глаз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145" name="Picture 5" descr="post-6773-1163190993"/>
          <p:cNvPicPr/>
          <p:nvPr/>
        </p:nvPicPr>
        <p:blipFill>
          <a:blip r:embed="rId2"/>
          <a:srcRect l="2112" t="6056" r="8131" b="19735"/>
          <a:stretch/>
        </p:blipFill>
        <p:spPr>
          <a:xfrm rot="21178800">
            <a:off x="468000" y="2637000"/>
            <a:ext cx="2735280" cy="1296720"/>
          </a:xfrm>
          <a:prstGeom prst="rect">
            <a:avLst/>
          </a:prstGeom>
          <a:ln w="0">
            <a:noFill/>
          </a:ln>
        </p:spPr>
      </p:pic>
      <p:sp>
        <p:nvSpPr>
          <p:cNvPr id="146" name="Line 6"/>
          <p:cNvSpPr/>
          <p:nvPr/>
        </p:nvSpPr>
        <p:spPr>
          <a:xfrm flipV="1">
            <a:off x="1908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0" y="4428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4630680" y="5261040"/>
            <a:ext cx="40384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«Винни-Пу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14"/>
          <p:cNvSpPr/>
          <p:nvPr/>
        </p:nvSpPr>
        <p:spPr>
          <a:xfrm>
            <a:off x="6372360" y="189000"/>
            <a:ext cx="2447640" cy="1081080"/>
          </a:xfrm>
          <a:prstGeom prst="cloudCallout">
            <a:avLst>
              <a:gd name="adj1" fmla="val 18157"/>
              <a:gd name="adj2" fmla="val 28412"/>
            </a:avLst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3924360" y="1268280"/>
            <a:ext cx="1873080" cy="936720"/>
          </a:xfrm>
          <a:prstGeom prst="cloudCallout">
            <a:avLst>
              <a:gd name="adj1" fmla="val 25509"/>
              <a:gd name="adj2" fmla="val 34574"/>
            </a:avLst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539640" y="476280"/>
            <a:ext cx="2448000" cy="1081080"/>
          </a:xfrm>
          <a:prstGeom prst="cloudCallout">
            <a:avLst>
              <a:gd name="adj1" fmla="val 18157"/>
              <a:gd name="adj2" fmla="val 28412"/>
            </a:avLst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0" descr="j0398565"/>
          <p:cNvPicPr/>
          <p:nvPr/>
        </p:nvPicPr>
        <p:blipFill>
          <a:blip r:embed="rId1"/>
          <a:stretch/>
        </p:blipFill>
        <p:spPr>
          <a:xfrm>
            <a:off x="3708360" y="2637000"/>
            <a:ext cx="2016000" cy="2635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30c5bf45d70f"/>
          <p:cNvPicPr/>
          <p:nvPr/>
        </p:nvPicPr>
        <p:blipFill>
          <a:blip r:embed="rId2"/>
          <a:srcRect l="0" t="60099" r="0" b="0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213713"/>
          <p:cNvPicPr/>
          <p:nvPr/>
        </p:nvPicPr>
        <p:blipFill>
          <a:blip r:embed="rId3"/>
          <a:srcRect l="0" t="30222" r="46965" b="0"/>
          <a:stretch/>
        </p:blipFill>
        <p:spPr>
          <a:xfrm>
            <a:off x="250920" y="4653000"/>
            <a:ext cx="1692360" cy="1994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213713"/>
          <p:cNvPicPr/>
          <p:nvPr/>
        </p:nvPicPr>
        <p:blipFill>
          <a:blip r:embed="rId4"/>
          <a:srcRect l="46965" t="30222" r="0" b="0"/>
          <a:stretch/>
        </p:blipFill>
        <p:spPr>
          <a:xfrm>
            <a:off x="3708360" y="4076640"/>
            <a:ext cx="1727280" cy="1994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" descr="213713"/>
          <p:cNvPicPr/>
          <p:nvPr/>
        </p:nvPicPr>
        <p:blipFill>
          <a:blip r:embed="rId5"/>
          <a:srcRect l="0" t="30222" r="46965" b="0"/>
          <a:stretch/>
        </p:blipFill>
        <p:spPr>
          <a:xfrm>
            <a:off x="3059280" y="3933720"/>
            <a:ext cx="1692000" cy="1994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1" descr="213713"/>
          <p:cNvPicPr/>
          <p:nvPr/>
        </p:nvPicPr>
        <p:blipFill>
          <a:blip r:embed="rId6"/>
          <a:srcRect l="46965" t="30222" r="0" b="0"/>
          <a:stretch/>
        </p:blipFill>
        <p:spPr>
          <a:xfrm>
            <a:off x="5364000" y="4005360"/>
            <a:ext cx="1656000" cy="1993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213713"/>
          <p:cNvPicPr/>
          <p:nvPr/>
        </p:nvPicPr>
        <p:blipFill>
          <a:blip r:embed="rId7"/>
          <a:srcRect l="0" t="35286" r="68344" b="0"/>
          <a:stretch/>
        </p:blipFill>
        <p:spPr>
          <a:xfrm>
            <a:off x="3419640" y="4149720"/>
            <a:ext cx="865080" cy="1849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Bee06"/>
          <p:cNvPicPr/>
          <p:nvPr/>
        </p:nvPicPr>
        <p:blipFill>
          <a:blip r:embed="rId8"/>
          <a:stretch/>
        </p:blipFill>
        <p:spPr>
          <a:xfrm>
            <a:off x="3851280" y="4149720"/>
            <a:ext cx="649440" cy="560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5" descr="Bee06"/>
          <p:cNvPicPr/>
          <p:nvPr/>
        </p:nvPicPr>
        <p:blipFill>
          <a:blip r:embed="rId9"/>
          <a:stretch/>
        </p:blipFill>
        <p:spPr>
          <a:xfrm rot="877200">
            <a:off x="3203280" y="2707920"/>
            <a:ext cx="647640" cy="560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3" descr="877"/>
          <p:cNvPicPr/>
          <p:nvPr/>
        </p:nvPicPr>
        <p:blipFill>
          <a:blip r:embed="rId10"/>
          <a:stretch/>
        </p:blipFill>
        <p:spPr>
          <a:xfrm>
            <a:off x="3995640" y="5013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6" descr="Bee06"/>
          <p:cNvPicPr/>
          <p:nvPr/>
        </p:nvPicPr>
        <p:blipFill>
          <a:blip r:embed="rId11"/>
          <a:stretch/>
        </p:blipFill>
        <p:spPr>
          <a:xfrm flipH="1" rot="19983000">
            <a:off x="5866920" y="2924280"/>
            <a:ext cx="648360" cy="560160"/>
          </a:xfrm>
          <a:prstGeom prst="rect">
            <a:avLst/>
          </a:prstGeom>
          <a:ln w="0">
            <a:noFill/>
          </a:ln>
        </p:spPr>
      </p:pic>
      <p:pic>
        <p:nvPicPr>
          <p:cNvPr id="165" name="01 -1246.wav" descr=""/>
          <p:cNvPicPr/>
          <p:nvPr/>
        </p:nvPicPr>
        <p:blipFill>
          <a:blip r:embed="rId1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8">
            <a:hlinkClick r:id="rId13" action="ppaction://hlinksldjump"/>
          </p:cNvPr>
          <p:cNvSpPr/>
          <p:nvPr/>
        </p:nvSpPr>
        <p:spPr>
          <a:xfrm>
            <a:off x="8244000" y="630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49 -0.00023 L 0.72656 -0.00023 L 0.72656 -0.41828 L 0.04149 -0.41828 L 0.04149 -0.00023 Z">
                                      <p:cBhvr>
                                        <p:cTn id="14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3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3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4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0.16927 0.07361 E">
                                      <p:cBhvr>
                                        <p:cTn id="72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7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11111E-006 C -0.02865 0.12708 0.02552 0.26157 0.12135 0.30046 C 0.21736 0.33958 0.31875 0.26875 0.34809 0.14097 C 0.37708 0.01458 0.32257 -0.12107 0.22708 -0.15995 C 0.13125 -0.19908 0.02916 -0.12708 1.94444E-006 1.11111E-006 Z">
                                      <p:cBhvr>
                                        <p:cTn id="8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9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1500"/>
                            </p:stCondLst>
                            <p:childTnLst>
                              <p:par>
                                <p:cTn id="10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3500"/>
                            </p:stCondLst>
                            <p:childTnLst>
                              <p:par>
                                <p:cTn id="11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1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5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1763640" y="260280"/>
            <a:ext cx="7129440" cy="64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Более тысячи биологически активных точек в настоящее время известно на ухе, поэтому, массируя их, можно воздействовать на весь организм. Нужно стараться так помассировать ушные раковины, чтобы уши " горели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Рекомендуемые упражнения: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1. Потягивание за мочки сверху вниз;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2. Потягивание ушной раковины вверх;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3. Потягивание ушной раковины к наружи;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4. Круговые движения ушной раковины по часовой стрелке и прот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1619280" y="474840"/>
            <a:ext cx="7454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комендуемые упраж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1. Точка на лбу между бровями ("третий глаз");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2. Парные точки по краям крыльев носа (помогает восстановить обаяние);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3. Точка посередине верхнего края подбородка;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4. Парные точки в височных ямках;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5. Три точки на затылке в углублениях;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6. Парные точки в области козелка 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1781280" y="692280"/>
            <a:ext cx="718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ожно использовать физминутки такого рода: подпрыгните те, у кого день рождения весной; присядьте те, кто сегодня в школу пришёл в брю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альчики потянулись вправо, девочки влево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противовес активных оздоровительных минуток можно использовать "минутки покоя".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крыли все на секунду глаза. Расслабьтесь. Представьте себя там, где вы бы хотели оказаться в данную минуту. Получите от этого удовольствие. А теперь потихоньку возвращаемся на урок, открываем глаза, продолжаем заним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4"/>
          <p:cNvSpPr/>
          <p:nvPr/>
        </p:nvSpPr>
        <p:spPr>
          <a:xfrm>
            <a:off x="1830600" y="5143680"/>
            <a:ext cx="58212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4"/>
          <p:cNvSpPr/>
          <p:nvPr/>
        </p:nvSpPr>
        <p:spPr>
          <a:xfrm>
            <a:off x="2446200" y="1413000"/>
            <a:ext cx="478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nnabelle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nnabelle"/>
              </a:rPr>
              <a:t>З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nnabelle"/>
              </a:rPr>
              <a:t>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24000" y="836640"/>
            <a:ext cx="860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Здоровьесберегающие образовательные технологии </a:t>
            </a: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066680" y="304920"/>
            <a:ext cx="75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31880" y="1447920"/>
          <a:ext cx="6996240" cy="4290840"/>
        </p:xfrm>
        <a:graphic>
          <a:graphicData uri="http://schemas.openxmlformats.org/drawingml/2006/table">
            <a:tbl>
              <a:tblPr/>
              <a:tblGrid>
                <a:gridCol w="1440000"/>
                <a:gridCol w="2232000"/>
                <a:gridCol w="1152360"/>
                <a:gridCol w="1079640"/>
                <a:gridCol w="1092240"/>
              </a:tblGrid>
              <a:tr h="133344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Рацион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достаточно рацион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рацион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74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Количество видов учебной деятель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Виды учебной деятельност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 опрос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письмо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чтение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слушание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рассказ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ответы на вопросы, решение примеро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рассматривание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списывание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4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1066680" y="304920"/>
            <a:ext cx="75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92360" y="1905120"/>
          <a:ext cx="6995880" cy="4216320"/>
        </p:xfrm>
        <a:graphic>
          <a:graphicData uri="http://schemas.openxmlformats.org/drawingml/2006/table">
            <a:tbl>
              <a:tblPr/>
              <a:tblGrid>
                <a:gridCol w="1439640"/>
                <a:gridCol w="2232000"/>
                <a:gridCol w="1152720"/>
                <a:gridCol w="1079640"/>
                <a:gridCol w="1091880"/>
              </a:tblGrid>
              <a:tr h="109044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Рацион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достаточно рацио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рацио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5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Средняя продолжи-тельность  видов деятель-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учебной деятельности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прос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сьмо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ени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ушани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каз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ы на вопросы, решение примеров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матривани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сывание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 более 1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11-15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15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066680" y="304920"/>
            <a:ext cx="75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692360" y="1905120"/>
          <a:ext cx="6995880" cy="3382920"/>
        </p:xfrm>
        <a:graphic>
          <a:graphicData uri="http://schemas.openxmlformats.org/drawingml/2006/table">
            <a:tbl>
              <a:tblPr/>
              <a:tblGrid>
                <a:gridCol w="1439640"/>
                <a:gridCol w="2232000"/>
                <a:gridCol w="1152720"/>
                <a:gridCol w="1079640"/>
                <a:gridCol w="1091880"/>
              </a:tblGrid>
              <a:tr h="109224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Рацион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достаточно рацио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рацио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Количество видов преподава-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Виды преподавания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словесный, наглядный, самостоятельная или практическая работа, аудиовизу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 ме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3-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1066680" y="304920"/>
            <a:ext cx="75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49520" y="1258920"/>
          <a:ext cx="6995880" cy="5170320"/>
        </p:xfrm>
        <a:graphic>
          <a:graphicData uri="http://schemas.openxmlformats.org/drawingml/2006/table">
            <a:tbl>
              <a:tblPr/>
              <a:tblGrid>
                <a:gridCol w="1439640"/>
                <a:gridCol w="2232000"/>
                <a:gridCol w="1152720"/>
                <a:gridCol w="1079280"/>
                <a:gridCol w="1092240"/>
              </a:tblGrid>
              <a:tr h="117936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Критерии здоровье- сбере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Рациональ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достаточно рацион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рацион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256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Чередова-ние видов препода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преподавания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весный, наглядный, самостоятельная или практическая работа, аудиовизуа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 позже, чем чере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10-15 ми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Чере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15-20 мин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 чередую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84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Плотность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Количество времени, затраченное школьником на раб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 менее 60% и не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75-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85-90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1066680" y="304920"/>
            <a:ext cx="75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643040" y="1571760"/>
          <a:ext cx="6996240" cy="3327120"/>
        </p:xfrm>
        <a:graphic>
          <a:graphicData uri="http://schemas.openxmlformats.org/drawingml/2006/table">
            <a:tbl>
              <a:tblPr/>
              <a:tblGrid>
                <a:gridCol w="1440000"/>
                <a:gridCol w="2232000"/>
                <a:gridCol w="1152360"/>
                <a:gridCol w="1079640"/>
                <a:gridCol w="1092240"/>
              </a:tblGrid>
              <a:tr h="117936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Критерии здоровье- сбереже-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Рациональ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достаточно рацион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рацион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776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чередования различных видов учеб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ена не позже, чем через 7-1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ена через 11-15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ена через 15-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ЕЛЕНА</cp:lastModifiedBy>
  <dcterms:modified xsi:type="dcterms:W3CDTF">2018-08-18T15:51:32Z</dcterms:modified>
  <cp:revision>68</cp:revision>
  <dc:subject/>
  <dc:title>Слайд 1</dc:title>
</cp:coreProperties>
</file>