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1.gif" ContentType="image/gif"/>
  <Override PartName="/ppt/media/image10.gif" ContentType="image/gif"/>
  <Override PartName="/ppt/media/image9.gif" ContentType="image/gif"/>
  <Override PartName="/ppt/media/image8.png" ContentType="image/png"/>
  <Override PartName="/ppt/media/image12.gif" ContentType="image/gif"/>
  <Override PartName="/ppt/media/image7.gif" ContentType="image/gif"/>
  <Override PartName="/ppt/media/image20.wmf" ContentType="image/x-wmf"/>
  <Override PartName="/ppt/media/image6.png" ContentType="image/png"/>
  <Override PartName="/ppt/media/image4.png" ContentType="image/png"/>
  <Override PartName="/ppt/media/image24.gif" ContentType="image/gif"/>
  <Override PartName="/ppt/media/image3.png" ContentType="image/png"/>
  <Override PartName="/ppt/media/image26.png" ContentType="image/png"/>
  <Override PartName="/ppt/media/image23.png" ContentType="image/png"/>
  <Override PartName="/ppt/media/image18.jpeg" ContentType="image/jpeg"/>
  <Override PartName="/ppt/media/image1.jpeg" ContentType="image/jpeg"/>
  <Override PartName="/ppt/media/image5.png" ContentType="image/png"/>
  <Override PartName="/ppt/media/image22.png" ContentType="image/png"/>
  <Override PartName="/ppt/media/image17.gif" ContentType="image/gif"/>
  <Override PartName="/ppt/media/image15.gif" ContentType="image/gif"/>
  <Override PartName="/ppt/media/image21.png" ContentType="image/png"/>
  <Override PartName="/ppt/media/image19.png" ContentType="image/png"/>
  <Override PartName="/ppt/media/image16.gif" ContentType="image/gif"/>
  <Override PartName="/ppt/media/image14.gif" ContentType="image/gif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B3BE-E600-46B9-A665-47F36CB1C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B9F6-573F-4054-883C-82FFB05AF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04D-93F8-491E-A426-FEED4605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002E-1D92-499E-9D9C-70F4D663B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89D1-0B01-4969-99E4-8F970C5B3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330A-097A-4D76-86F8-3038B3E47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6D9D2-709A-41ED-AA66-4B08B46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F66C4-B896-4540-AF60-6047EB87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B3F04-1063-4B54-8907-68A19253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2729C-5807-490D-8B3D-4D800B7D7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2B6BB-75CF-4B7C-8013-B603A21F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1404-2898-42C1-BE54-177AE87F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4972C-6128-4FB3-B56D-66320A1E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758C-ADB1-410C-8E83-680843AB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057A-775D-4259-89DC-19A753B3D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4DFBB-2B42-453B-A19E-7EACC8AD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22A4-12BB-4683-8670-7702C372B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34EF-157E-45DF-AB74-EDCC90AF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E3B-499F-4117-A725-77CE83DD5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08FE-A476-4D94-B6D9-7D60582D6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E561-FB34-4992-8E1A-C0199B9D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FA5B-B2CC-4989-9178-3C2F0002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F67-2B0A-4935-83FC-42397A45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64E5-8E01-4304-A3FB-74502BF4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41D0-EECF-4CEB-AA06-751FE506D8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3" descr="D:\фоны и шаблоны\д.jpg"/>
          <p:cNvPicPr/>
          <p:nvPr/>
        </p:nvPicPr>
        <p:blipFill>
          <a:blip r:embed="rId2"/>
          <a:srcRect l="0" t="0" r="82549" b="0"/>
          <a:stretch/>
        </p:blipFill>
        <p:spPr>
          <a:xfrm>
            <a:off x="0" y="0"/>
            <a:ext cx="1571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D:\фоны и шаблоны\д.jpg"/>
          <p:cNvPicPr/>
          <p:nvPr/>
        </p:nvPicPr>
        <p:blipFill>
          <a:blip r:embed="rId2"/>
          <a:srcRect l="0" t="0" r="82549" b="0"/>
          <a:stretch/>
        </p:blipFill>
        <p:spPr>
          <a:xfrm>
            <a:off x="0" y="0"/>
            <a:ext cx="15717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D:\фоны и шаблоны\д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3C015-849D-4CDD-8731-FB252E4F13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file:///fizminutka_dlia_nogh.pps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hyperlink" Target="file:///8%20-%20&#1082;&#1086;&#1087;&#1080;&#1103;.ppt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" Target="slide33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4.gif"/><Relationship Id="rId9" Type="http://schemas.openxmlformats.org/officeDocument/2006/relationships/image" Target="../media/image24.gif"/><Relationship Id="rId10" Type="http://schemas.openxmlformats.org/officeDocument/2006/relationships/image" Target="../media/image25.png"/><Relationship Id="rId11" Type="http://schemas.openxmlformats.org/officeDocument/2006/relationships/image" Target="../media/image24.gif"/><Relationship Id="rId12" Type="http://schemas.openxmlformats.org/officeDocument/2006/relationships/image" Target="../media/image26.png"/><Relationship Id="rId13" Type="http://schemas.openxmlformats.org/officeDocument/2006/relationships/slide" Target="slide34.xml"/><Relationship Id="rId1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file:///F:/Track03.cda" TargetMode="External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92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Calibri"/>
              </a:rPr>
              <a:t>Здоровьесбережение </a:t>
            </a:r>
            <a:br>
              <a:rPr sz="6000"/>
            </a:br>
            <a:r>
              <a:rPr b="1" lang="ru-RU" sz="6000" spc="-1" strike="noStrike">
                <a:solidFill>
                  <a:srgbClr val="000099"/>
                </a:solidFill>
                <a:latin typeface="Calibri"/>
              </a:rPr>
              <a:t>на уроках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4" descr="C:\Users\Елена\Desktop\здоровьесбережение\6-1.gif"/>
          <p:cNvPicPr/>
          <p:nvPr/>
        </p:nvPicPr>
        <p:blipFill>
          <a:blip r:embed="rId1"/>
          <a:stretch/>
        </p:blipFill>
        <p:spPr>
          <a:xfrm>
            <a:off x="0" y="3500280"/>
            <a:ext cx="4549680" cy="31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649520" y="1413000"/>
          <a:ext cx="6995880" cy="434808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280"/>
                <a:gridCol w="1092240"/>
              </a:tblGrid>
              <a:tr h="11782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-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8492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личие, место, содержание и продолж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тельност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а уроке моментов оздоров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Физкультминутки, динамические паузы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гимнастика для глаз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массаж активных точ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Н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20 и 35 минуте п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1 минуте из 3-х легких упражнений с 3-4 повторениями каждого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1 физкультминутка с неправильным содержанием или продолжительностью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 Narrow"/>
                          <a:ea typeface="DejaVu Sans"/>
                        </a:rPr>
                        <a:t>Отсутству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1"/>
          <p:cNvSpPr/>
          <p:nvPr/>
        </p:nvSpPr>
        <p:spPr>
          <a:xfrm>
            <a:off x="1187280" y="333360"/>
            <a:ext cx="7561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ебного дня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-6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Объект 2"/>
          <p:cNvGraphicFramePr/>
          <p:nvPr/>
        </p:nvGraphicFramePr>
        <p:xfrm>
          <a:off x="1979640" y="1916280"/>
          <a:ext cx="6705720" cy="44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916280"/>
                    <a:ext cx="6705720" cy="44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"/>
          <p:cNvSpPr/>
          <p:nvPr/>
        </p:nvSpPr>
        <p:spPr>
          <a:xfrm>
            <a:off x="1403280" y="333360"/>
            <a:ext cx="7561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чебного дня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7-11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Объект 2"/>
          <p:cNvGraphicFramePr/>
          <p:nvPr/>
        </p:nvGraphicFramePr>
        <p:xfrm>
          <a:off x="1468440" y="2133720"/>
          <a:ext cx="7467480" cy="40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8440" y="2133720"/>
                    <a:ext cx="7467480" cy="40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1"/>
          <p:cNvSpPr/>
          <p:nvPr/>
        </p:nvSpPr>
        <p:spPr>
          <a:xfrm>
            <a:off x="1187280" y="549360"/>
            <a:ext cx="756144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 рабочей недел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1-6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Объект 2"/>
          <p:cNvGraphicFramePr/>
          <p:nvPr/>
        </p:nvGraphicFramePr>
        <p:xfrm>
          <a:off x="1476360" y="2276640"/>
          <a:ext cx="7467480" cy="41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276640"/>
                    <a:ext cx="7467480" cy="41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1"/>
          <p:cNvSpPr/>
          <p:nvPr/>
        </p:nvSpPr>
        <p:spPr>
          <a:xfrm>
            <a:off x="1219320" y="189000"/>
            <a:ext cx="7561080" cy="13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тоспособность в течение 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рабочей недели</a:t>
            </a:r>
            <a:br>
              <a:rPr sz="3200"/>
            </a:b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7-11 кла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Объект 2"/>
          <p:cNvGraphicFramePr/>
          <p:nvPr/>
        </p:nvGraphicFramePr>
        <p:xfrm>
          <a:off x="1312920" y="2205000"/>
          <a:ext cx="7467480" cy="414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Объект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2920" y="2205000"/>
                    <a:ext cx="7467480" cy="414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1646280" y="549360"/>
            <a:ext cx="7416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Физкультминутки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 на занятиях   представляют собой активный отдых, направленный на уменьшение утомления воспитанников, снятие отрицательных воздействий от длительных статических нагрузок, активизацию внимания  воспитанников  и повышение их способности к более эффективному восприятию учебного матери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460240" y="2060640"/>
            <a:ext cx="56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Физкультминутка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 для н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545760" y="1571760"/>
            <a:ext cx="797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Monotype Corsiva"/>
              </a:rPr>
              <a:t>Физминутка для ног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http://www.nivagold.ru/raznoe1/tansy/PhotoAlbum1/Photo%20015.gif"/>
          <p:cNvPicPr/>
          <p:nvPr/>
        </p:nvPicPr>
        <p:blipFill>
          <a:blip r:embed="rId1"/>
          <a:stretch/>
        </p:blipFill>
        <p:spPr>
          <a:xfrm>
            <a:off x="2428920" y="3143160"/>
            <a:ext cx="4282920" cy="2643120"/>
          </a:xfrm>
          <a:prstGeom prst="rect">
            <a:avLst/>
          </a:prstGeom>
          <a:ln w="0">
            <a:noFill/>
          </a:ln>
        </p:spPr>
      </p:pic>
      <p:pic>
        <p:nvPicPr>
          <p:cNvPr id="122" name="smalelka-ka-dancelong.mid" descr=""/>
          <p:cNvPicPr/>
          <p:nvPr/>
        </p:nvPicPr>
        <p:blipFill>
          <a:blip r:embed="rId2"/>
          <a:stretch/>
        </p:blipFill>
        <p:spPr>
          <a:xfrm>
            <a:off x="981000" y="89064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http://www.nivagold.ru/raznoe1/obuv/schuhe-0145.gif"/>
          <p:cNvPicPr/>
          <p:nvPr/>
        </p:nvPicPr>
        <p:blipFill>
          <a:blip r:embed="rId1"/>
          <a:stretch/>
        </p:blipFill>
        <p:spPr>
          <a:xfrm>
            <a:off x="2428920" y="428760"/>
            <a:ext cx="4952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http://www.nivagold.ru/raznoe1/obuv/schuhe-0185.gif"/>
          <p:cNvPicPr/>
          <p:nvPr/>
        </p:nvPicPr>
        <p:blipFill>
          <a:blip r:embed="rId1"/>
          <a:stretch/>
        </p:blipFill>
        <p:spPr>
          <a:xfrm>
            <a:off x="2000160" y="785880"/>
            <a:ext cx="464364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539640" y="1197000"/>
            <a:ext cx="8856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476360" y="189000"/>
            <a:ext cx="74674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«Забота о здоровье – это важнейший труд воспитателя. От жизнедеятельности, бодрости детей зависит их духовная жизнь, мировоззрение, умственное развитие, прочность знаний, вера в свои силы…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i="1" lang="ru-RU" sz="3200" spc="-1" strike="noStrike">
                <a:solidFill>
                  <a:srgbClr val="660066"/>
                </a:solidFill>
                <a:latin typeface="Arial"/>
              </a:rPr>
              <a:t>В.А.Сухомлинский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C:\Users\Елена\Desktop\здоровьесбережение\6-1.gif"/>
          <p:cNvPicPr/>
          <p:nvPr/>
        </p:nvPicPr>
        <p:blipFill>
          <a:blip r:embed="rId1"/>
          <a:stretch/>
        </p:blipFill>
        <p:spPr>
          <a:xfrm>
            <a:off x="0" y="3787920"/>
            <a:ext cx="414036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http://www.nivagold.ru/raznoe1/obuv/schuhe-0398.gif"/>
          <p:cNvPicPr/>
          <p:nvPr/>
        </p:nvPicPr>
        <p:blipFill>
          <a:blip r:embed="rId1"/>
          <a:stretch/>
        </p:blipFill>
        <p:spPr>
          <a:xfrm>
            <a:off x="2071800" y="571680"/>
            <a:ext cx="47862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http://www.nivagold.ru/raznoe1/obuv/schuhe-0048.gif"/>
          <p:cNvPicPr/>
          <p:nvPr/>
        </p:nvPicPr>
        <p:blipFill>
          <a:blip r:embed="rId1"/>
          <a:stretch/>
        </p:blipFill>
        <p:spPr>
          <a:xfrm>
            <a:off x="2071800" y="1214280"/>
            <a:ext cx="442908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http://www.nivagold.ru/raznoe1/obuv/schuhe-0122.gif"/>
          <p:cNvPicPr/>
          <p:nvPr/>
        </p:nvPicPr>
        <p:blipFill>
          <a:blip r:embed="rId1"/>
          <a:stretch/>
        </p:blipFill>
        <p:spPr>
          <a:xfrm>
            <a:off x="2786040" y="1714680"/>
            <a:ext cx="40006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http://www.nivagold.ru/raznoe1/obuv/schuhe-0153.gif"/>
          <p:cNvPicPr/>
          <p:nvPr/>
        </p:nvPicPr>
        <p:blipFill>
          <a:blip r:embed="rId1"/>
          <a:stretch/>
        </p:blipFill>
        <p:spPr>
          <a:xfrm>
            <a:off x="2500200" y="135720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http://www.nivagold.ru/raznoe1/obuv/schuhe-0167.gif"/>
          <p:cNvPicPr/>
          <p:nvPr/>
        </p:nvPicPr>
        <p:blipFill>
          <a:blip r:embed="rId1"/>
          <a:stretch/>
        </p:blipFill>
        <p:spPr>
          <a:xfrm>
            <a:off x="2500200" y="1785960"/>
            <a:ext cx="435780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http://www.nivagold.ru/raznoe1/obuv/schuhe-0168.gif"/>
          <p:cNvPicPr/>
          <p:nvPr/>
        </p:nvPicPr>
        <p:blipFill>
          <a:blip r:embed="rId1"/>
          <a:stretch/>
        </p:blipFill>
        <p:spPr>
          <a:xfrm>
            <a:off x="2143080" y="1285920"/>
            <a:ext cx="44290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http://www.nivagold.ru/raznoe1/obuv/schuhe-0095.gif"/>
          <p:cNvPicPr/>
          <p:nvPr/>
        </p:nvPicPr>
        <p:blipFill>
          <a:blip r:embed="rId1"/>
          <a:stretch/>
        </p:blipFill>
        <p:spPr>
          <a:xfrm>
            <a:off x="2000160" y="1143000"/>
            <a:ext cx="4857840" cy="4857840"/>
          </a:xfrm>
          <a:prstGeom prst="rect">
            <a:avLst/>
          </a:prstGeom>
          <a:ln w="0">
            <a:noFill/>
          </a:ln>
        </p:spPr>
      </p:pic>
      <p:sp>
        <p:nvSpPr>
          <p:cNvPr id="132" name="Стрелка влево 2">
            <a:hlinkClick r:id="rId2"/>
          </p:cNvPr>
          <p:cNvSpPr/>
          <p:nvPr/>
        </p:nvSpPr>
        <p:spPr>
          <a:xfrm>
            <a:off x="7596360" y="6000840"/>
            <a:ext cx="1152360" cy="406440"/>
          </a:xfrm>
          <a:prstGeom prst="leftArrow">
            <a:avLst>
              <a:gd name="adj1" fmla="val 50000"/>
              <a:gd name="adj2" fmla="val 4998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"/>
          <p:cNvSpPr/>
          <p:nvPr/>
        </p:nvSpPr>
        <p:spPr>
          <a:xfrm>
            <a:off x="990720" y="228600"/>
            <a:ext cx="7561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Требования к проведению физкультмин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1547640" y="1371600"/>
            <a:ext cx="7201080" cy="493704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Комплексы подбираются в зависимости от   вида урока, его содержа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Упражнения должны быть разнообразны, так   как однообразие снижает интерес к ним, а следовательно, и их результативность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Физкультминутки должны проводиться на начальном этапе утомления, выполнение упражнений при сильном утомлении не дает желаемого результа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Предпочтение нужно отдавать упражнениям для утомленных групп мышц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00"/>
              </a:spcBef>
              <a:spcAft>
                <a:spcPts val="601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200" spc="-1" strike="noStrike">
                <a:solidFill>
                  <a:srgbClr val="000099"/>
                </a:solidFill>
                <a:latin typeface="Arial"/>
              </a:rPr>
              <a:t>Важно обеспечить позитивный эмоциональный настрой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1511280" y="476280"/>
            <a:ext cx="756144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ды физкультмину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1595520" y="1413000"/>
            <a:ext cx="7345440" cy="4537080"/>
          </a:xfrm>
          <a:prstGeom prst="rect">
            <a:avLst/>
          </a:prstGeom>
          <a:solidFill>
            <a:srgbClr val="ffffff">
              <a:alpha val="5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пражнения для снятия общего или локального утом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пражнения для кистей ру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мнастика для гл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Гимнастика для сл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Упражнения корректирующие осан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99"/>
              </a:spcBef>
              <a:spcAft>
                <a:spcPts val="1199"/>
              </a:spcAft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Дыхательная гимнаст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1"/>
          <p:cNvSpPr/>
          <p:nvPr/>
        </p:nvSpPr>
        <p:spPr>
          <a:xfrm>
            <a:off x="1692360" y="1386000"/>
            <a:ext cx="71089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одвижная игра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имитация трудовых действ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произнесение чистоговорок, сопровождающееся действиям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физминутки в форме психофизической гимнастики, когда дети мимикой, жестами и движениями изображают разных животн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2"/>
          <p:cNvSpPr/>
          <p:nvPr/>
        </p:nvSpPr>
        <p:spPr>
          <a:xfrm>
            <a:off x="1692360" y="247680"/>
            <a:ext cx="7137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Формы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проведения физкультминут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Прямоугольник 1"/>
          <p:cNvSpPr/>
          <p:nvPr/>
        </p:nvSpPr>
        <p:spPr>
          <a:xfrm>
            <a:off x="287280" y="260280"/>
            <a:ext cx="8856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eorgia"/>
              </a:rPr>
              <a:t>Здоровье </a:t>
            </a:r>
            <a:r>
              <a:rPr b="1" lang="ru-RU" sz="3200" spc="-1" strike="noStrike">
                <a:solidFill>
                  <a:srgbClr val="660066"/>
                </a:solidFill>
                <a:latin typeface="Georgia"/>
              </a:rPr>
              <a:t>- это состояние полного физического, психического и социального благополучия, а не только отсутствие болезней или физических деф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684360" y="2814480"/>
            <a:ext cx="70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 данным Минздравсоцразвития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1"/>
          <p:cNvSpPr/>
          <p:nvPr/>
        </p:nvSpPr>
        <p:spPr>
          <a:xfrm>
            <a:off x="468360" y="3892680"/>
            <a:ext cx="849636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Georgia"/>
              </a:rPr>
              <a:t>10</a:t>
            </a:r>
            <a:r>
              <a:rPr b="1" i="1" lang="ru-RU" sz="3200" spc="-1" strike="noStrike">
                <a:solidFill>
                  <a:srgbClr val="000099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Georgia"/>
              </a:rPr>
              <a:t>%</a:t>
            </a:r>
            <a:r>
              <a:rPr b="1" i="1" lang="ru-RU" sz="3200" spc="-1" strike="noStrike">
                <a:solidFill>
                  <a:srgbClr val="000099"/>
                </a:solidFill>
                <a:latin typeface="Georgia"/>
              </a:rPr>
              <a:t> выпускников общеобразовательных учреждений могут быть отнесены к категории здоров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1476360" y="260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Физминутки для учеников 7-х - 11-х клас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2"/>
          <p:cNvSpPr/>
          <p:nvPr/>
        </p:nvSpPr>
        <p:spPr>
          <a:xfrm>
            <a:off x="1619280" y="825480"/>
            <a:ext cx="7200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Для профилактики нарушения зрения. Они так же благоприятны при неврозах, гипертонии, повышенном внутричерепном давл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екомендуемые упражнения: 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1. Вертикальные движения глаз вверх-вниз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2. Горизонтальные вправо-влево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3. Вращение глазами по часовой стрелке и против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4. Закрыть глаза и представить по очереди цвета радуги как можно отчетливее;</a:t>
            </a:r>
            <a:br>
              <a:rPr sz="20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5. На доске до начала урока начертить какую-либо кривую (спираль, окружность, ломанную, предлагается глазами " нарисовать" эти фигуры несколько раз в одном, а затем в другом направлении). Можно нарисовать глазами круг или первую букву своего и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"/>
          <p:cNvSpPr/>
          <p:nvPr/>
        </p:nvSpPr>
        <p:spPr>
          <a:xfrm>
            <a:off x="190440" y="120960"/>
            <a:ext cx="8929800" cy="17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d"/>
                </a:solidFill>
                <a:latin typeface="Verdana"/>
              </a:rPr>
              <a:t>ЛЕЧЕБНЫЕ СТЕРЕОКАРТИНКИ</a:t>
            </a:r>
            <a:br>
              <a:rPr sz="1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ижеприведённые стереокартинки взяты из книги "Цифровая аптечка" (Данилова Т.М.) Для работы с данными картинками нужно расфокусировать глаза и увидеть то, что изображено "внутри" стереокартинок - далее смотреть на это 3D изображение желаемый интервал времен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d"/>
                </a:solidFill>
                <a:latin typeface="Verdana"/>
              </a:rPr>
              <a:t>КАРТИНКА "БЛИЗОРУКОСТЬ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http://zhiznjprekrasna.ucoz.ru/4eliovek/blizoruk_/.jpg"/>
          <p:cNvPicPr/>
          <p:nvPr/>
        </p:nvPicPr>
        <p:blipFill>
          <a:blip r:embed="rId1"/>
          <a:stretch/>
        </p:blipFill>
        <p:spPr>
          <a:xfrm>
            <a:off x="1357200" y="1928880"/>
            <a:ext cx="76201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post-6773-1163190993"/>
          <p:cNvPicPr/>
          <p:nvPr/>
        </p:nvPicPr>
        <p:blipFill>
          <a:blip r:embed="rId1"/>
          <a:srcRect l="2112" t="6056" r="8131" b="19735"/>
          <a:stretch/>
        </p:blipFill>
        <p:spPr>
          <a:xfrm flipH="1" rot="682800">
            <a:off x="6011640" y="2637000"/>
            <a:ext cx="2808000" cy="1436040"/>
          </a:xfrm>
          <a:prstGeom prst="rect">
            <a:avLst/>
          </a:prstGeom>
          <a:ln w="0">
            <a:noFill/>
          </a:ln>
        </p:spPr>
      </p:pic>
      <p:sp>
        <p:nvSpPr>
          <p:cNvPr id="144" name="WordArt 4"/>
          <p:cNvSpPr txBox="1"/>
          <p:nvPr/>
        </p:nvSpPr>
        <p:spPr>
          <a:xfrm>
            <a:off x="611280" y="1628640"/>
            <a:ext cx="7993080" cy="262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9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Электронные физминутки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80"/>
                </a:solidFill>
                <a:latin typeface="Arial"/>
              </a:rPr>
              <a:t>для глаз</a:t>
            </a:r>
            <a:endParaRPr b="1" lang="en-US" sz="1800" spc="1" strike="noStrike">
              <a:ln w="0">
                <a:noFill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pic>
        <p:nvPicPr>
          <p:cNvPr id="145" name="Picture 5" descr="post-6773-1163190993"/>
          <p:cNvPicPr/>
          <p:nvPr/>
        </p:nvPicPr>
        <p:blipFill>
          <a:blip r:embed="rId2"/>
          <a:srcRect l="2112" t="6056" r="8131" b="19735"/>
          <a:stretch/>
        </p:blipFill>
        <p:spPr>
          <a:xfrm rot="21178800">
            <a:off x="468000" y="2637000"/>
            <a:ext cx="2735280" cy="1296720"/>
          </a:xfrm>
          <a:prstGeom prst="rect">
            <a:avLst/>
          </a:prstGeom>
          <a:ln w="0">
            <a:noFill/>
          </a:ln>
        </p:spPr>
      </p:pic>
      <p:sp>
        <p:nvSpPr>
          <p:cNvPr id="146" name="Line 6"/>
          <p:cNvSpPr/>
          <p:nvPr/>
        </p:nvSpPr>
        <p:spPr>
          <a:xfrm flipV="1">
            <a:off x="1908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7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>
            <a:off x="0" y="44280"/>
            <a:ext cx="9144000" cy="0"/>
          </a:xfrm>
          <a:prstGeom prst="line">
            <a:avLst/>
          </a:prstGeom>
          <a:ln w="127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4630680" y="5261040"/>
            <a:ext cx="40384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ff"/>
                </a:solidFill>
                <a:uFillTx/>
                <a:latin typeface="Times New Roman"/>
                <a:hlinkClick r:id="rId3" action="ppaction://hlinksldjump"/>
              </a:rPr>
              <a:t>«Винни-Пу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050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14"/>
          <p:cNvSpPr/>
          <p:nvPr/>
        </p:nvSpPr>
        <p:spPr>
          <a:xfrm>
            <a:off x="6372360" y="189000"/>
            <a:ext cx="2447640" cy="1081080"/>
          </a:xfrm>
          <a:prstGeom prst="cloudCallout">
            <a:avLst>
              <a:gd name="adj1" fmla="val 18157"/>
              <a:gd name="adj2" fmla="val 28412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3"/>
          <p:cNvSpPr/>
          <p:nvPr/>
        </p:nvSpPr>
        <p:spPr>
          <a:xfrm>
            <a:off x="3924360" y="1268280"/>
            <a:ext cx="1873080" cy="936720"/>
          </a:xfrm>
          <a:prstGeom prst="cloudCallout">
            <a:avLst>
              <a:gd name="adj1" fmla="val 25509"/>
              <a:gd name="adj2" fmla="val 34574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2"/>
          <p:cNvSpPr/>
          <p:nvPr/>
        </p:nvSpPr>
        <p:spPr>
          <a:xfrm>
            <a:off x="539640" y="476280"/>
            <a:ext cx="2448000" cy="1081080"/>
          </a:xfrm>
          <a:prstGeom prst="cloudCallout">
            <a:avLst>
              <a:gd name="adj1" fmla="val 18157"/>
              <a:gd name="adj2" fmla="val 28412"/>
            </a:avLst>
          </a:prstGeom>
          <a:solidFill>
            <a:srgbClr val="ffff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0" descr="j0398565"/>
          <p:cNvPicPr/>
          <p:nvPr/>
        </p:nvPicPr>
        <p:blipFill>
          <a:blip r:embed="rId1"/>
          <a:stretch/>
        </p:blipFill>
        <p:spPr>
          <a:xfrm>
            <a:off x="3708360" y="2637000"/>
            <a:ext cx="2016000" cy="2635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30c5bf45d70f"/>
          <p:cNvPicPr/>
          <p:nvPr/>
        </p:nvPicPr>
        <p:blipFill>
          <a:blip r:embed="rId2"/>
          <a:srcRect l="0" t="60099" r="0" b="0"/>
          <a:stretch/>
        </p:blipFill>
        <p:spPr>
          <a:xfrm>
            <a:off x="0" y="5157720"/>
            <a:ext cx="9144000" cy="170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213713"/>
          <p:cNvPicPr/>
          <p:nvPr/>
        </p:nvPicPr>
        <p:blipFill>
          <a:blip r:embed="rId3"/>
          <a:srcRect l="0" t="30222" r="46965" b="0"/>
          <a:stretch/>
        </p:blipFill>
        <p:spPr>
          <a:xfrm>
            <a:off x="250920" y="4653000"/>
            <a:ext cx="1692360" cy="1994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213713"/>
          <p:cNvPicPr/>
          <p:nvPr/>
        </p:nvPicPr>
        <p:blipFill>
          <a:blip r:embed="rId4"/>
          <a:srcRect l="46965" t="30222" r="0" b="0"/>
          <a:stretch/>
        </p:blipFill>
        <p:spPr>
          <a:xfrm>
            <a:off x="3708360" y="4076640"/>
            <a:ext cx="1727280" cy="1994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6" descr="213713"/>
          <p:cNvPicPr/>
          <p:nvPr/>
        </p:nvPicPr>
        <p:blipFill>
          <a:blip r:embed="rId5"/>
          <a:srcRect l="0" t="30222" r="46965" b="0"/>
          <a:stretch/>
        </p:blipFill>
        <p:spPr>
          <a:xfrm>
            <a:off x="3059280" y="3933720"/>
            <a:ext cx="1692000" cy="1994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1" descr="213713"/>
          <p:cNvPicPr/>
          <p:nvPr/>
        </p:nvPicPr>
        <p:blipFill>
          <a:blip r:embed="rId6"/>
          <a:srcRect l="46965" t="30222" r="0" b="0"/>
          <a:stretch/>
        </p:blipFill>
        <p:spPr>
          <a:xfrm>
            <a:off x="5364000" y="4005360"/>
            <a:ext cx="1656000" cy="199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213713"/>
          <p:cNvPicPr/>
          <p:nvPr/>
        </p:nvPicPr>
        <p:blipFill>
          <a:blip r:embed="rId7"/>
          <a:srcRect l="0" t="35286" r="68344" b="0"/>
          <a:stretch/>
        </p:blipFill>
        <p:spPr>
          <a:xfrm>
            <a:off x="3419640" y="4149720"/>
            <a:ext cx="865080" cy="1849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Bee06"/>
          <p:cNvPicPr/>
          <p:nvPr/>
        </p:nvPicPr>
        <p:blipFill>
          <a:blip r:embed="rId8"/>
          <a:stretch/>
        </p:blipFill>
        <p:spPr>
          <a:xfrm>
            <a:off x="3851280" y="4149720"/>
            <a:ext cx="649440" cy="5605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5" descr="Bee06"/>
          <p:cNvPicPr/>
          <p:nvPr/>
        </p:nvPicPr>
        <p:blipFill>
          <a:blip r:embed="rId9"/>
          <a:stretch/>
        </p:blipFill>
        <p:spPr>
          <a:xfrm rot="877200">
            <a:off x="3203280" y="2707920"/>
            <a:ext cx="647640" cy="5605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3" descr="877"/>
          <p:cNvPicPr/>
          <p:nvPr/>
        </p:nvPicPr>
        <p:blipFill>
          <a:blip r:embed="rId10"/>
          <a:stretch/>
        </p:blipFill>
        <p:spPr>
          <a:xfrm>
            <a:off x="3995640" y="5013360"/>
            <a:ext cx="64944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6" descr="Bee06"/>
          <p:cNvPicPr/>
          <p:nvPr/>
        </p:nvPicPr>
        <p:blipFill>
          <a:blip r:embed="rId11"/>
          <a:stretch/>
        </p:blipFill>
        <p:spPr>
          <a:xfrm flipH="1" rot="19983000">
            <a:off x="5866920" y="2924280"/>
            <a:ext cx="648360" cy="560160"/>
          </a:xfrm>
          <a:prstGeom prst="rect">
            <a:avLst/>
          </a:prstGeom>
          <a:ln w="0">
            <a:noFill/>
          </a:ln>
        </p:spPr>
      </p:pic>
      <p:pic>
        <p:nvPicPr>
          <p:cNvPr id="165" name="01 -1246.wav" descr=""/>
          <p:cNvPicPr/>
          <p:nvPr/>
        </p:nvPicPr>
        <p:blipFill>
          <a:blip r:embed="rId12"/>
          <a:stretch/>
        </p:blipFill>
        <p:spPr>
          <a:xfrm>
            <a:off x="8675640" y="6381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66" name="AutoShape 28">
            <a:hlinkClick r:id="rId13" action="ppaction://hlinksldjump"/>
          </p:cNvPr>
          <p:cNvSpPr/>
          <p:nvPr/>
        </p:nvSpPr>
        <p:spPr>
          <a:xfrm>
            <a:off x="8244000" y="6308640"/>
            <a:ext cx="647640" cy="360360"/>
          </a:xfrm>
          <a:prstGeom prst="leftArrow">
            <a:avLst>
              <a:gd name="adj1" fmla="val 50000"/>
              <a:gd name="adj2" fmla="val 44930"/>
            </a:avLst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" nodeType="withEffect" fill="hold" presetClass="path" presetID="7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49 -0.00023 L 0.72656 -0.00023 L 0.72656 -0.41828 L 0.04149 -0.41828 L 0.04149 -0.00023 Z">
                                      <p:cBhvr>
                                        <p:cTn id="14" dur="3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0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3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3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4" nodeType="afterEffect" fill="hold" presetClass="entr" presetID="10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3000"/>
                            </p:stCondLst>
                            <p:childTnLst>
                              <p:par>
                                <p:cTn id="48" nodeType="after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5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7000"/>
                            </p:stCondLst>
                            <p:childTnLst>
                              <p:par>
                                <p:cTn id="5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29500"/>
                            </p:stCondLst>
                            <p:childTnLst>
                              <p:par>
                                <p:cTn id="7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3.33333E-006 L 0.16927 0.07361 E">
                                      <p:cBhvr>
                                        <p:cTn id="72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500"/>
                            </p:stCondLst>
                            <p:childTnLst>
                              <p:par>
                                <p:cTn id="7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7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7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34500"/>
                            </p:stCondLst>
                            <p:childTnLst>
                              <p:par>
                                <p:cTn id="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85" dur="2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1.11111E-006 C -0.02865 0.12708 0.02552 0.26157 0.12135 0.30046 C 0.21736 0.33958 0.31875 0.26875 0.34809 0.14097 C 0.37708 0.01458 0.32257 -0.12107 0.22708 -0.15995 C 0.13125 -0.19908 0.02916 -0.12708 1.94444E-006 1.11111E-006 Z">
                                      <p:cBhvr>
                                        <p:cTn id="87" dur="2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405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43500"/>
                            </p:stCondLst>
                            <p:childTnLst>
                              <p:par>
                                <p:cTn id="9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46500"/>
                            </p:stCondLst>
                            <p:childTnLst>
                              <p:par>
                                <p:cTn id="99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0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1500"/>
                            </p:stCondLst>
                            <p:childTnLst>
                              <p:par>
                                <p:cTn id="10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5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9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3500"/>
                            </p:stCondLst>
                            <p:childTnLst>
                              <p:par>
                                <p:cTn id="11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11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5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1763640" y="260280"/>
            <a:ext cx="7129440" cy="64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Более тысячи биологически активных точек в настоящее время известно на ухе, поэтому, массируя их, можно воздействовать на весь организм. Нужно стараться так помассировать ушные раковины, чтобы уши " горели"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Рекомендуемые упражнения: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 Потягивание за мочки сверху вниз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. Потягивание ушной раковины вверх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. Потягивание ушной раковины к наружи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4. Круговые движения ушной раковины по часовой стрелке и прот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ик 1"/>
          <p:cNvSpPr/>
          <p:nvPr/>
        </p:nvSpPr>
        <p:spPr>
          <a:xfrm>
            <a:off x="1619280" y="474840"/>
            <a:ext cx="7454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комендуемые упраж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1. Точка на лбу между бровями ("третий глаз")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2. Парные точки по краям крыльев носа (помогает восстановить обаяние)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3. Точка посередине верхнего края подбородка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4. Парные точки в височных ямках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5. Три точки на затылке в углублениях;</a:t>
            </a:r>
            <a:br>
              <a:rPr sz="2800"/>
            </a:br>
            <a:r>
              <a:rPr b="1" lang="ru-RU" sz="2800" spc="-1" strike="noStrike">
                <a:solidFill>
                  <a:srgbClr val="000099"/>
                </a:solidFill>
                <a:latin typeface="Arial"/>
              </a:rPr>
              <a:t>6. Парные точки в области козелка ух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Прямоугольник 1"/>
          <p:cNvSpPr/>
          <p:nvPr/>
        </p:nvSpPr>
        <p:spPr>
          <a:xfrm>
            <a:off x="1781280" y="692280"/>
            <a:ext cx="718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ожно использовать физминутки такого рода: подпрыгните те, у кого день рождения весной; присядьте те, кто сегодня в школу пришёл в брюка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мальчики потянулись вправо, девочки влево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противовес активных оздоровительных минуток можно использовать "минутки покоя".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Закрыли все на секунду глаза. Расслабьтесь. Представьте себя там, где вы бы хотели оказаться в данную минуту. Получите от этого удовольствие. А теперь потихоньку возвращаемся на урок, открываем глаза, продолжаем занима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4"/>
          <p:cNvSpPr/>
          <p:nvPr/>
        </p:nvSpPr>
        <p:spPr>
          <a:xfrm>
            <a:off x="1830600" y="5143680"/>
            <a:ext cx="5821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 u="sng">
                <a:solidFill>
                  <a:srgbClr val="0000ff"/>
                </a:solidFill>
                <a:uFillTx/>
                <a:latin typeface="Georgia"/>
                <a:hlinkClick r:id="rId1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Прямоугольник 4"/>
          <p:cNvSpPr/>
          <p:nvPr/>
        </p:nvSpPr>
        <p:spPr>
          <a:xfrm>
            <a:off x="2446200" y="1413000"/>
            <a:ext cx="478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nnabelle"/>
              </a:rPr>
              <a:t>СПАСИБО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nnabelle"/>
              </a:rPr>
              <a:t>З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99"/>
                </a:solidFill>
                <a:latin typeface="Annabelle"/>
              </a:rPr>
              <a:t>ВНИМ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324000" y="836640"/>
            <a:ext cx="860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Georgia"/>
              </a:rPr>
              <a:t>Здоровьесберегающие образовательные технологии </a:t>
            </a:r>
            <a:r>
              <a:rPr b="1" lang="ru-RU" sz="3600" spc="-1" strike="noStrike">
                <a:solidFill>
                  <a:srgbClr val="000099"/>
                </a:solidFill>
                <a:latin typeface="Georgia"/>
              </a:rPr>
              <a:t>– это системный подход к обучению и воспитанию, построенный на стремлении педагога не нанести ущерб здоровью учащих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31880" y="1447920"/>
          <a:ext cx="6996240" cy="4290840"/>
        </p:xfrm>
        <a:graphic>
          <a:graphicData uri="http://schemas.openxmlformats.org/drawingml/2006/table">
            <a:tbl>
              <a:tblPr/>
              <a:tblGrid>
                <a:gridCol w="1440000"/>
                <a:gridCol w="2232000"/>
                <a:gridCol w="1152360"/>
                <a:gridCol w="1079640"/>
                <a:gridCol w="1092240"/>
              </a:tblGrid>
              <a:tr h="13334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74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оличество видов учебной деятель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Виды учебной деятельност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: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опрос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письмо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чте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луш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ссказ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ответы на вопросы, решение примеров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ссматривание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писывание и т.д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4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-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692360" y="1905120"/>
          <a:ext cx="6995880" cy="421632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640"/>
                <a:gridCol w="1091880"/>
              </a:tblGrid>
              <a:tr h="10904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58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редняя продолжи-тельность  видов деятель-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учебной деятельности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: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опрос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сьмо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те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ша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каз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веты на вопросы, решение примеров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ссматривание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исывание и т.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более 10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1-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Бол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5 ми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692360" y="1905120"/>
          <a:ext cx="6995880" cy="338292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640"/>
                <a:gridCol w="1091880"/>
              </a:tblGrid>
              <a:tr h="109224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9068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оличество видов преподава-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Виды преподавания: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словесный, наглядный, самостоятельная или практическая работа, аудиовизуаль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мене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3-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649520" y="1258920"/>
          <a:ext cx="6995880" cy="5170320"/>
        </p:xfrm>
        <a:graphic>
          <a:graphicData uri="http://schemas.openxmlformats.org/drawingml/2006/table">
            <a:tbl>
              <a:tblPr/>
              <a:tblGrid>
                <a:gridCol w="1439640"/>
                <a:gridCol w="2232000"/>
                <a:gridCol w="1152720"/>
                <a:gridCol w="1079280"/>
                <a:gridCol w="1092240"/>
              </a:tblGrid>
              <a:tr h="11793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25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Чередова-ние видов препода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ды преподавания: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овесный, наглядный, самостоятельная или практическая работа, аудиовизуаль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позже, чем 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0-15 мин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Через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15-20 мин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чередуютс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840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Плотность у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оличество времени, затраченное школьником на рабо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 менее 60% и не 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75-8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85-90%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Боле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64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1066680" y="304920"/>
            <a:ext cx="7561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ритерии здоровьесбережения и уровни гигиенической рациональности уро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643040" y="1571760"/>
          <a:ext cx="6996240" cy="3327120"/>
        </p:xfrm>
        <a:graphic>
          <a:graphicData uri="http://schemas.openxmlformats.org/drawingml/2006/table">
            <a:tbl>
              <a:tblPr/>
              <a:tblGrid>
                <a:gridCol w="1440000"/>
                <a:gridCol w="2232000"/>
                <a:gridCol w="1152360"/>
                <a:gridCol w="1079640"/>
                <a:gridCol w="1092240"/>
              </a:tblGrid>
              <a:tr h="11793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Критерии здоровье- сбереже-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Характерист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Рациональный уровен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достаточно 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 algn="ctr"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DejaVu Sans"/>
                        </a:rPr>
                        <a:t>Нерациональн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64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7760"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чередования различных видов учебной деятель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64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608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на не позже, чем через 7-1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на через 11-15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600" rIns="66600" tIns="66600" bIns="66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мена через 15-20 мину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600" marR="66600">
                    <a:lnL w="2880">
                      <a:solidFill>
                        <a:srgbClr val="000000"/>
                      </a:solidFill>
                    </a:lnL>
                    <a:lnR w="64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0T17:33:40Z</dcterms:created>
  <dc:creator>Helen</dc:creator>
  <dc:description/>
  <dc:language>en-US</dc:language>
  <cp:lastModifiedBy>ЕЛЕНА</cp:lastModifiedBy>
  <dcterms:modified xsi:type="dcterms:W3CDTF">2018-08-18T15:51:32Z</dcterms:modified>
  <cp:revision>68</cp:revision>
  <dc:subject/>
  <dc:title>Слайд 1</dc:title>
</cp:coreProperties>
</file>