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D617-BFFE-493D-B4D8-75CA7415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49DF-AF97-4DE5-BEC4-30BD29D0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E67-A311-473A-9005-B0B1E6BAD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465E-7793-4085-A065-7A410B69F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5D18-239C-42CE-B7BD-BC9023DE1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CEFEA-B54C-48FE-B0F5-D3E58EE4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BCB8-B07B-489B-B8FD-00AFBC04B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8DDB-2073-4E98-81D8-400851C78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08AB-EA0D-49DA-8D5E-8FBDE1B98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AE5A-4457-4E54-8D2F-9B853CC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0FBEB-EDF8-4D94-9805-B2E88C60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174-3757-4B37-BF76-AD9C5C8E7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0FAC-26D4-451F-A316-017F52C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8D75-DD2A-48FC-88F9-0457F846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E878-C728-4805-8A69-2568D37E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43CD-0E3E-42B1-AE7A-AD231D725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5DAF-A5EA-445A-AE33-CB42992EA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6EE20-6DBE-42D9-8ABB-12F2F684B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D1E30-F626-4548-A49A-D6254FDB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96E73-D780-41D1-977D-BD300DC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E96BF-2DAF-497E-B925-BFA8207C4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61D6-85A1-4146-897D-AFE15F4F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6D68-120A-4AB8-AD6D-D1293030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B00C-6D5A-4EDD-A2C6-B879BBF8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52210-4A68-4C48-A904-0E539F655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8A9E2-9E15-4537-8CED-0104BC29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99595-8850-41E9-9AF4-6A011F7C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9C32E-853D-4EA5-9C9B-4B0006D5A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34F28-785F-40EC-A5CB-E61256AE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37358-8302-4D67-87B7-0D6375D5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AC1B-DAC1-4061-82B6-6561F5DA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E946-8256-4BC3-BECD-B2CBBAD1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142-04D6-484F-9D99-BAA7BB13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5C0F-53C5-4A42-9503-AC0A5158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4C2-C906-4679-B7A9-52BC94D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C6C9-8566-4AD1-9A62-9BFF4485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9056-7AEC-42A0-B53D-9C75B0D83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C6A2-949C-4DA8-85E3-049929EE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1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160" y="29174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240" y="239472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79240" y="2110680"/>
                            <a:ext cx="2716200" cy="4786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F8CB-94DA-46F6-AED3-0CF472B6F4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7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7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7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chitel_inf@mail.ru" TargetMode="External"/><Relationship Id="rId3" Type="http://schemas.openxmlformats.org/officeDocument/2006/relationships/hyperlink" Target="mailto:uchitel_inf@mail.ru" TargetMode="External"/><Relationship Id="rId4" Type="http://schemas.openxmlformats.org/officeDocument/2006/relationships/hyperlink" Target="http://cdamgia/ru" TargetMode="External"/><Relationship Id="rId5" Type="http://schemas.openxmlformats.org/officeDocument/2006/relationships/hyperlink" Target="http://cdamgia/ru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560520" y="91440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5680" y="16002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.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8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8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5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5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8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61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64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6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7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9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1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2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81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84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7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90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93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5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6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8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400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8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12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8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21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30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33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9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35812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4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838080"/>
            <a:ext cx="7696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.3.1,2.3.2 конспект лекции, задание 2.3 – 2.5 ст.5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тгадать кроссворд, ключевое слово отправить на электронный почтовый ящик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stenkol_i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mail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*   Постройте дерево каталого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Города\Том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Природа\Прибой.jpg,  C:\Документы\Компьютеры\Мышь.gif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Тес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Робо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*ГИА 2013- 2014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p://sdamgia/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те сегодняшний урок, ответив на вопрос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тради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- нет, 1-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Создание учебной ситуации</a:t>
            </a:r>
            <a:r>
              <a:rPr b="1" i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3276720" y="38862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140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401f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762120" y="11430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программы и данные хранятся в долговременной (внешней) памяти компьютера в ви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юбому пользователю, работающему на компьютере, приходится иметь дело 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о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http://data.lact.ru/f1/s/45/123/image/1329/758/medium_fayl.png"/>
          <p:cNvPicPr/>
          <p:nvPr/>
        </p:nvPicPr>
        <p:blipFill>
          <a:blip r:embed="rId2"/>
          <a:srcRect l="0" t="0" r="0" b="17210"/>
          <a:stretch/>
        </p:blipFill>
        <p:spPr>
          <a:xfrm>
            <a:off x="4038480" y="1905120"/>
            <a:ext cx="175284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http://data.lact.ru/f1/s/45/123/image/1329/758/medium_fayl.png"/>
          <p:cNvPicPr/>
          <p:nvPr/>
        </p:nvPicPr>
        <p:blipFill>
          <a:blip r:embed="rId3"/>
          <a:srcRect l="0" t="0" r="0" b="17210"/>
          <a:stretch/>
        </p:blipFill>
        <p:spPr>
          <a:xfrm>
            <a:off x="6934320" y="4191120"/>
            <a:ext cx="1904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6T13:30:3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