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D42-469B-4D08-B5AE-56331650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E56-5038-4372-A79D-EF14377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A336-271E-4148-BE75-292AB121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3B2-F8BD-4CD0-BFF7-AFDBEC8F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9F51-EF99-4818-BC83-F71E3AFE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B656-3CEB-4FE5-86E0-109EFB9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A8D-DF8C-48BD-A4D9-56B2385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DDB6-CDCE-4283-B07D-4E7F9524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CC4-02BD-4DE3-883A-856A188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FAD-497A-4DC8-9759-B924D41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3F7-A761-43C5-A13D-EA64C5B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F64-167F-4CCC-BF89-62FD4E1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184A-2631-43B2-8435-C69291D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D6B1-2BA4-4B7A-9AA5-A4545CF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6CD8-A904-4EA3-88A7-41FF1D70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F020-3051-4AEC-9E8B-CD1F6DEC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69F-D2B9-4318-837F-64A31C58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C612-F21F-452D-AF71-A3972D3D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A8D8-CD1A-44BD-98C3-33ECB845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6D93-87D5-42EA-B61F-E26BF28D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ACD0-AAF0-4CB6-A413-A00A804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A10C7-BBD1-46AE-BA39-E9331E0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699-5E9C-4AE4-B811-E108347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44B5-296C-4F54-9043-96FA7302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4C4E-D291-421A-BE8F-B911140F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2F88-7DB1-4573-9ABE-DEEE27B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1E49-6780-460F-B991-A2DF70E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B022-14A5-40D6-9B5C-EF0A7E7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AB40-DDDD-4E4F-8F2D-53B67DE2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A2C3-C5EB-435C-9A62-1F45C9F4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689-7B18-4AF5-A60B-0A249A0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BE2-2546-43B0-94CA-8FD50281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7EA-8BE5-4080-A048-782843AB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949-CED1-4419-B3E9-78AA672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6E1-210E-48D8-A5FC-FB792BC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1CD-1E77-47C4-B933-3291330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E89-7A95-4C54-A0E1-0B362F6DB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A23-E6FD-4DD2-A270-30C58C86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1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160" y="29174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240" y="239472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79240" y="2110680"/>
                            <a:ext cx="2716200" cy="4786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3D00-819A-4018-9E64-9FF46519B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7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7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7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chitel_inf@mail.ru" TargetMode="External"/><Relationship Id="rId3" Type="http://schemas.openxmlformats.org/officeDocument/2006/relationships/hyperlink" Target="mailto:uchitel_inf@mail.ru" TargetMode="External"/><Relationship Id="rId4" Type="http://schemas.openxmlformats.org/officeDocument/2006/relationships/hyperlink" Target="http://cdamgia/ru" TargetMode="External"/><Relationship Id="rId5" Type="http://schemas.openxmlformats.org/officeDocument/2006/relationships/hyperlink" Target="http://cdamgia/ru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560520" y="91440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5680" y="16002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.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8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8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5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5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8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61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64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6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7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9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1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2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81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84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7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90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93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5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6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8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400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8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12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8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21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30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33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9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35812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4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838080"/>
            <a:ext cx="7696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.3.1,2.3.2 конспект лекции, задание 2.3 – 2.5 ст.5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тгадать кроссворд, ключевое слово отправить на электронный почтовый ящик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stenkol_i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mail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*   Постройте дерево каталого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Города\Том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Природа\Прибой.jpg,  C:\Документы\Компьютеры\Мышь.gif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Тес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Робо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*ГИА 2013- 2014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p://sdamgia/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те сегодняшний урок, ответив на вопрос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тради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- нет, 1-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Создание учебной ситуации</a:t>
            </a:r>
            <a:r>
              <a:rPr b="1" i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3276720" y="38862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140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401f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762120" y="11430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программы и данные хранятся в долговременной (внешней) памяти компьютера в ви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юбому пользователю, работающему на компьютере, приходится иметь дело 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о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http://data.lact.ru/f1/s/45/123/image/1329/758/medium_fayl.png"/>
          <p:cNvPicPr/>
          <p:nvPr/>
        </p:nvPicPr>
        <p:blipFill>
          <a:blip r:embed="rId2"/>
          <a:srcRect l="0" t="0" r="0" b="17210"/>
          <a:stretch/>
        </p:blipFill>
        <p:spPr>
          <a:xfrm>
            <a:off x="4038480" y="1905120"/>
            <a:ext cx="175284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http://data.lact.ru/f1/s/45/123/image/1329/758/medium_fayl.png"/>
          <p:cNvPicPr/>
          <p:nvPr/>
        </p:nvPicPr>
        <p:blipFill>
          <a:blip r:embed="rId3"/>
          <a:srcRect l="0" t="0" r="0" b="17210"/>
          <a:stretch/>
        </p:blipFill>
        <p:spPr>
          <a:xfrm>
            <a:off x="6934320" y="4191120"/>
            <a:ext cx="1904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6T13:30:3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