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E8B-E78C-4D50-9444-FE1AD81D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F17-F3D4-4A24-A27B-10A30C4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865-C335-4F27-8572-DE515418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B00-D927-4A15-84F9-34BCCBC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5E2A-E6F2-4585-A9EA-045BB8F7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C52-3034-4709-ACC3-9E25BA2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2DD8-A9D9-46B4-B3BD-3480A9A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EC4-ABF2-460B-BFDE-3A35C2D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0622-7585-41FE-BB9F-867C68E5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778A-4DBD-48BF-8CC7-8AECA63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EA36-4FD7-47F2-930C-E19150B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F66-0A76-48D4-B532-7DE7C01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226B-3AC3-4035-BBD2-457B78D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C5DB-26CE-4C5D-8A09-38F336A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419D-8DAA-4CE7-B40E-2C9648B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9E6-66A2-4686-9B7D-1885146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5BD-8D5D-4EAF-AE91-2744B765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CBC5-C887-440F-8AB9-1E5B9011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255F-9964-4104-91B2-0E1F337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35DC-FC44-459C-B1FC-BAE02267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71BF-BE95-4559-9382-40CFB41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41B2-8E86-4C8F-BBCF-74D3EE9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C44-7B49-4E26-8F8E-A2E812EE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A901-922D-4413-96C0-807EAB1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2B23-4785-4B0F-978C-4170F17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E764-83AD-4A81-8896-449DE45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4E28-E6B6-46B2-AF41-612CA89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4D9E-1C4F-44DF-A36A-A6DCC21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AE08-4729-4AA7-9716-54814A3D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933F-F298-4FE4-838A-20E2C78D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D61-F4CD-4C02-8744-91E0B34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AEA-3E56-4162-8D5B-C9E5F0A4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0EB-D87C-4DFA-8978-CFD1A3CB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966-4E9C-40C3-9094-749E387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F5E-4EBA-4EB4-9CE3-9301E424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D36-1242-4353-931E-4CBBB1D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4559-4451-4759-A4AD-DEE3D8C5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0289-1DF1-452F-9C3F-E2E82CE2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1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160" y="29174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240" y="239472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79240" y="2110680"/>
                            <a:ext cx="2716200" cy="4786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203-5E6D-4ECB-9CD4-77D1309687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7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7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7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chitel_inf@mail.ru" TargetMode="External"/><Relationship Id="rId3" Type="http://schemas.openxmlformats.org/officeDocument/2006/relationships/hyperlink" Target="mailto:uchitel_inf@mail.ru" TargetMode="External"/><Relationship Id="rId4" Type="http://schemas.openxmlformats.org/officeDocument/2006/relationships/hyperlink" Target="http://cdamgia/ru" TargetMode="External"/><Relationship Id="rId5" Type="http://schemas.openxmlformats.org/officeDocument/2006/relationships/hyperlink" Target="http://cdamgia/ru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560520" y="91440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5680" y="16002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.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8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8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5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5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8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61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64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6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7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9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1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2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81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84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7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90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93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5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6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8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400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8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12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8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21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30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33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9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35812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4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838080"/>
            <a:ext cx="7696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.3.1,2.3.2 конспект лекции, задание 2.3 – 2.5 ст.5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тгадать кроссворд, ключевое слово отправить на электронный почтовый ящик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stenkol_i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mail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*   Постройте дерево каталого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Города\Том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Природа\Прибой.jpg,  C:\Документы\Компьютеры\Мышь.gif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Тес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Робо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*ГИА 2013- 2014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p://sdamgia/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те сегодняшний урок, ответив на вопрос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тради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- нет, 1-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Создание учебной ситуации</a:t>
            </a:r>
            <a:r>
              <a:rPr b="1" i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3276720" y="38862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140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401f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762120" y="11430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программы и данные хранятся в долговременной (внешней) памяти компьютера в ви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юбому пользователю, работающему на компьютере, приходится иметь дело 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о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http://data.lact.ru/f1/s/45/123/image/1329/758/medium_fayl.png"/>
          <p:cNvPicPr/>
          <p:nvPr/>
        </p:nvPicPr>
        <p:blipFill>
          <a:blip r:embed="rId2"/>
          <a:srcRect l="0" t="0" r="0" b="17210"/>
          <a:stretch/>
        </p:blipFill>
        <p:spPr>
          <a:xfrm>
            <a:off x="4038480" y="1905120"/>
            <a:ext cx="175284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http://data.lact.ru/f1/s/45/123/image/1329/758/medium_fayl.png"/>
          <p:cNvPicPr/>
          <p:nvPr/>
        </p:nvPicPr>
        <p:blipFill>
          <a:blip r:embed="rId3"/>
          <a:srcRect l="0" t="0" r="0" b="17210"/>
          <a:stretch/>
        </p:blipFill>
        <p:spPr>
          <a:xfrm>
            <a:off x="6934320" y="4191120"/>
            <a:ext cx="1904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6T13:30:3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