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126E-C5BD-47AD-9C7C-445810F2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7184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080" y="5285520"/>
            <a:ext cx="617184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6344-9FAD-49D8-991F-5A5B66D3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080" y="52855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680" y="52855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1878-7755-4094-85A4-6C0B8777F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30000" y="21337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920" y="21337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080" y="52855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30000" y="52855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920" y="52855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3F2E-2576-44E7-B533-9F1FF8FC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6E57-F9EA-4F5B-A14B-78ECF421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3080" y="2133720"/>
            <a:ext cx="617184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23FC-7B1F-4F2F-9294-87078AE0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7184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E00A-3801-4041-916E-60880AAB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EEA2-870F-433A-9F9B-E2B8CC5D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0B0B-338B-4E4C-B503-E69A0D09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3080" y="366840"/>
            <a:ext cx="61718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37DD-EB7F-4737-AD42-FE03BED9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3080" y="52855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267B-7686-4742-82D3-63A04A01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080" y="2133720"/>
            <a:ext cx="617184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9216-0FBD-4255-94B9-B514D8FF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5680" y="52855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8F3F-1143-4AF7-8C69-81AC71CD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3080" y="5285520"/>
            <a:ext cx="617184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8C66-7A52-4AFA-BFAB-1E806364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7184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3080" y="5285520"/>
            <a:ext cx="617184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B699-A3E3-4FB4-9524-E3A2C4EC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3080" y="52855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5680" y="52855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C92D-6FDC-400F-A6D4-6CEBA6F68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30000" y="21337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16920" y="21337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3080" y="52855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30000" y="52855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516920" y="52855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50DA-EA3A-4219-BAE6-55BB6563D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1E826-0494-4887-8FA0-8831301F1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43080" y="2133720"/>
            <a:ext cx="617184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87DD7-9686-4005-A1DD-20BD90B1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7184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4F96F-CD6E-4AA4-8C18-411041E3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D5AF5-5CE5-42E6-857D-1C2D47B2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9022A-DEB7-418D-ADF8-D31F53EE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7184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A5F9-EBB6-4E95-81A0-E06BFA23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43080" y="366840"/>
            <a:ext cx="61718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AC0BA-B052-4EC3-9765-E1D9869D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43080" y="52855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9B202-9C12-40E3-A901-8FE0DAD6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505680" y="52855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24A63-3B85-40FA-A9C4-0574D6F5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43080" y="5285520"/>
            <a:ext cx="617184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760D5-3A79-4481-81FB-996DFA16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7184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43080" y="5285520"/>
            <a:ext cx="617184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62154-7127-4B47-8259-5DF448E0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3080" y="52855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505680" y="52855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FC2E2-03E0-433B-AD5D-A1415FAD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430000" y="21337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16920" y="21337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43080" y="52855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430000" y="52855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4516920" y="52855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B9B39-C4C8-4B6B-BB06-3FC3E179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8DD2C-AF5C-46CC-BB5D-3DFAB990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43080" y="2133720"/>
            <a:ext cx="617184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E7E57-9447-48CE-AD97-B605ADA1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7184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59DAA-107C-4B3F-BC4C-2C2465C9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938A-E142-46FC-A077-55C0FC07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259C1-29EC-44D8-B304-7B75951D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AE84A-0BA9-40D8-A3A1-AB9A27D3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43080" y="366840"/>
            <a:ext cx="61718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7C186-3DE3-4D8E-A5CE-D114817C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43080" y="52855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A6BAD-3453-47B4-977C-CA2EA554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505680" y="52855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ED14D-0EAE-46CB-A82A-A3184DAD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43080" y="5285520"/>
            <a:ext cx="617184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B80C8-0F78-4FA1-8676-77C32A3E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7184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43080" y="5285520"/>
            <a:ext cx="617184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8B259-D708-4982-974F-3F5C01B7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3080" y="52855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505680" y="52855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A86A4-5751-4211-BBF4-5277E17FC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430000" y="21337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16920" y="21337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43080" y="52855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430000" y="52855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4516920" y="528552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CF51F-1A03-43AD-9C99-C1B25898E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D8F0-EDFC-4FB4-834F-3E459910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080" y="366840"/>
            <a:ext cx="61718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2C34-1745-414A-AC95-B85627EB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080" y="52855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B74D-B91B-4ED4-9F54-503DB596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60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680" y="52855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85BF-CFD0-4783-A30F-464EA413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285520"/>
            <a:ext cx="6171840" cy="28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81C8-A60C-4252-86B9-CA5D7824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43080" y="8475840"/>
            <a:ext cx="1599840" cy="48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43240" y="8475840"/>
            <a:ext cx="2171520" cy="48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915080" y="8475840"/>
            <a:ext cx="1599840" cy="48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B0506C-F163-4B0C-A08C-D711E3C4F1C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3080" y="366840"/>
            <a:ext cx="6171840" cy="1523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3080" y="2133720"/>
            <a:ext cx="6171840" cy="6033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43080" y="8475840"/>
            <a:ext cx="1599840" cy="48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43240" y="8475840"/>
            <a:ext cx="2171520" cy="48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915080" y="8475840"/>
            <a:ext cx="1599840" cy="48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13E5F6-A65F-4F88-8B56-6385D470971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3080" y="2046960"/>
            <a:ext cx="3029760" cy="852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343080" y="2899800"/>
            <a:ext cx="3029760" cy="5267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3483720" y="2046960"/>
            <a:ext cx="3030840" cy="852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3483720" y="2899800"/>
            <a:ext cx="3030840" cy="5267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dt" idx="7"/>
          </p:nvPr>
        </p:nvSpPr>
        <p:spPr>
          <a:xfrm>
            <a:off x="343080" y="8475840"/>
            <a:ext cx="1599840" cy="48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 type="ftr" idx="8"/>
          </p:nvPr>
        </p:nvSpPr>
        <p:spPr>
          <a:xfrm>
            <a:off x="2343240" y="8475840"/>
            <a:ext cx="2171520" cy="48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8"/>
          <p:cNvSpPr>
            <a:spLocks noGrp="1"/>
          </p:cNvSpPr>
          <p:nvPr>
            <p:ph type="sldNum" idx="9"/>
          </p:nvPr>
        </p:nvSpPr>
        <p:spPr>
          <a:xfrm>
            <a:off x="4915080" y="8475840"/>
            <a:ext cx="1599840" cy="48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08C0F7-621B-4098-B518-C7478F5D6DB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dt" idx="10"/>
          </p:nvPr>
        </p:nvSpPr>
        <p:spPr>
          <a:xfrm>
            <a:off x="343080" y="8475840"/>
            <a:ext cx="1599840" cy="48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11"/>
          </p:nvPr>
        </p:nvSpPr>
        <p:spPr>
          <a:xfrm>
            <a:off x="2343240" y="8475840"/>
            <a:ext cx="2171520" cy="48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2"/>
          </p:nvPr>
        </p:nvSpPr>
        <p:spPr>
          <a:xfrm>
            <a:off x="4915080" y="8475840"/>
            <a:ext cx="1599840" cy="48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9E757E-D5D9-42FE-BC5E-8C368A9A855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D:/&#1052;&#1072;&#1084;&#1072;/&#1052;&#1072;&#1088;&#1080;&#1085;&#1072;%20(&#1084;&#1091;&#1079;&#1099;&#1082;&#1072;)/&#1055;&#1077;&#1089;&#1085;&#1080;%20&#1086;%20&#1089;&#1077;&#1084;&#1100;&#1077;/&#1054;%20&#1055;&#1077;&#1090;&#1088;&#1077;%20&#1080;%20&#1060;&#1077;&#1074;&#1088;&#1086;&#1085;&#1080;&#1080;%20(&#1053;&#1077;&#1087;&#1086;&#1089;&#1077;&#1076;&#1099;)%20&#1087;&#1083;&#1102;&#1089;.mp3" TargetMode="External"/><Relationship Id="rId2" Type="http://schemas.microsoft.com/office/2007/relationships/media" Target="file:///D:/&#1052;&#1072;&#1084;&#1072;/&#1052;&#1072;&#1088;&#1080;&#1085;&#1072;%20(&#1084;&#1091;&#1079;&#1099;&#1082;&#1072;)/&#1055;&#1077;&#1089;&#1085;&#1080;%20&#1086;%20&#1089;&#1077;&#1084;&#1100;&#1077;/&#1054;%20&#1055;&#1077;&#1090;&#1088;&#1077;%20&#1080;%20&#1060;&#1077;&#1074;&#1088;&#1086;&#1085;&#1080;&#1080;%20(&#1053;&#1077;&#1087;&#1086;&#1089;&#1077;&#1076;&#1099;)%20&#1087;&#1083;&#1102;&#1089;.mp3" TargetMode="External"/><Relationship Id="rId3" Type="http://schemas.openxmlformats.org/officeDocument/2006/relationships/image" Target="../media/image2.png"/><Relationship Id="rId4" Type="http://schemas.openxmlformats.org/officeDocument/2006/relationships/audio" Target="file:///D:/&#1052;&#1072;&#1084;&#1072;/&#1052;&#1072;&#1088;&#1080;&#1085;&#1072;%20(&#1084;&#1091;&#1079;&#1099;&#1082;&#1072;)/&#1042;&#1072;&#1083;&#1100;&#1089;&#1099;%20&#1064;&#1090;&#1088;&#1072;&#1091;&#1089;&#1072;/0000.mp3" TargetMode="External"/><Relationship Id="rId5" Type="http://schemas.microsoft.com/office/2007/relationships/media" Target="file:///D:/&#1052;&#1072;&#1084;&#1072;/&#1052;&#1072;&#1088;&#1080;&#1085;&#1072;%20(&#1084;&#1091;&#1079;&#1099;&#1082;&#1072;)/&#1042;&#1072;&#1083;&#1100;&#1089;&#1099;%20&#1064;&#1090;&#1088;&#1072;&#1091;&#1089;&#1072;/0000.mp3" TargetMode="External"/><Relationship Id="rId6" Type="http://schemas.openxmlformats.org/officeDocument/2006/relationships/image" Target="../media/image2.png"/><Relationship Id="rId7" Type="http://schemas.openxmlformats.org/officeDocument/2006/relationships/audio" Target="file:///D:/&#1052;&#1072;&#1084;&#1072;/&#1052;&#1072;&#1088;&#1080;&#1085;&#1072;%20(&#1084;&#1091;&#1079;&#1099;&#1082;&#1072;)/&#1042;&#1072;&#1083;&#1100;&#1089;%20(&#1041;&#1077;&#1088;&#1077;&#1075;&#1080;&#1089;&#1100;%20&#1072;&#1074;&#1090;&#1086;&#1084;&#1086;&#1073;&#1080;&#1083;&#1103;).mp3" TargetMode="External"/><Relationship Id="rId8" Type="http://schemas.microsoft.com/office/2007/relationships/media" Target="file:///D:/&#1052;&#1072;&#1084;&#1072;/&#1052;&#1072;&#1088;&#1080;&#1085;&#1072;%20(&#1084;&#1091;&#1079;&#1099;&#1082;&#1072;)/&#1042;&#1072;&#1083;&#1100;&#1089;%20(&#1041;&#1077;&#1088;&#1077;&#1075;&#1080;&#1089;&#1100;%20&#1072;&#1074;&#1090;&#1086;&#1084;&#1086;&#1073;&#1080;&#1083;&#1103;).mp3" TargetMode="External"/><Relationship Id="rId9" Type="http://schemas.openxmlformats.org/officeDocument/2006/relationships/image" Target="../media/image2.png"/><Relationship Id="rId10" Type="http://schemas.openxmlformats.org/officeDocument/2006/relationships/audio" Target="file:///D:/&#1052;&#1086;&#1103;%20&#1057;&#1077;&#1084;&#1100;&#1103;.mp3" TargetMode="External"/><Relationship Id="rId11" Type="http://schemas.microsoft.com/office/2007/relationships/media" Target="file:///D:/&#1052;&#1086;&#1103;%20&#1057;&#1077;&#1084;&#1100;&#1103;.mp3" TargetMode="External"/><Relationship Id="rId12" Type="http://schemas.openxmlformats.org/officeDocument/2006/relationships/image" Target="../media/image2.png"/><Relationship Id="rId13" Type="http://schemas.openxmlformats.org/officeDocument/2006/relationships/audio" Target="file:///D:/Larisa_Grigoreva_-_muz._i_sl.-_A._Ermolov_-_Moya_semya_(get-tune.net).mp3" TargetMode="External"/><Relationship Id="rId14" Type="http://schemas.microsoft.com/office/2007/relationships/media" Target="file:///D:/Larisa_Grigoreva_-_muz._i_sl.-_A._Ermolov_-_Moya_semya_(get-tune.net).mp3" TargetMode="External"/><Relationship Id="rId15" Type="http://schemas.openxmlformats.org/officeDocument/2006/relationships/image" Target="../media/image2.png"/><Relationship Id="rId16" Type="http://schemas.openxmlformats.org/officeDocument/2006/relationships/image" Target="../media/image3.jpeg"/><Relationship Id="rId1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3276720" y="4419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0040" y="2571840"/>
            <a:ext cx="5857560" cy="1071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36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ДЕНЬ СЕМЬИ, ЛЮБВИ 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И ВЕРНОСТИ 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Заголовок 4"/>
          <p:cNvSpPr/>
          <p:nvPr/>
        </p:nvSpPr>
        <p:spPr>
          <a:xfrm>
            <a:off x="571680" y="827640"/>
            <a:ext cx="57859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11000"/>
          </a:bodyPr>
          <a:p>
            <a:pPr algn="ctr">
              <a:lnSpc>
                <a:spcPct val="100000"/>
              </a:lnSpc>
            </a:pP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0" lang="ru-RU" sz="8000" spc="-1" strike="noStrike">
                <a:solidFill>
                  <a:srgbClr val="0000cc"/>
                </a:solidFill>
                <a:latin typeface="Times New Roman"/>
              </a:rPr>
              <a:t>МДОУ «Детский сад «Сказка» города Николаевска Николаевского муниципального района Волгоградской области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0" lang="ru-RU" sz="8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Заголовок 4"/>
          <p:cNvSpPr/>
          <p:nvPr/>
        </p:nvSpPr>
        <p:spPr>
          <a:xfrm>
            <a:off x="2709000" y="8181000"/>
            <a:ext cx="25920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11000"/>
          </a:bodyPr>
          <a:p>
            <a:pPr algn="ctr">
              <a:lnSpc>
                <a:spcPct val="100000"/>
              </a:lnSpc>
            </a:pP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8000" spc="-1" strike="noStrike">
                <a:solidFill>
                  <a:srgbClr val="0000cc"/>
                </a:solidFill>
                <a:latin typeface="Times New Roman"/>
              </a:rPr>
              <a:t>г.Николаевск, 2018</a:t>
            </a:r>
            <a:br>
              <a:rPr sz="44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3276720" y="4419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3276720" y="4419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>
            <a:hlinkClick r:id="" action="ppaction://media"/>
          </p:cNvPr>
          <p:cNvPicPr/>
          <p:nvPr>
            <a:audi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3276720" y="4419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>
            <a:hlinkClick r:id="" action="ppaction://media"/>
          </p:cNvPr>
          <p:cNvPicPr/>
          <p:nvPr>
            <a:audioFile r:link="rId13"/>
            <p:extLst>
              <p:ext uri="{DAA4B4D4-6D71-4841-9C94-3DE7FCFB9230}">
                <p14:media r:link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3276720" y="4419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75" name="Рисунок 3"/>
          <p:cNvSpPr/>
          <p:nvPr/>
        </p:nvSpPr>
        <p:spPr>
          <a:xfrm>
            <a:off x="571320" y="3929040"/>
            <a:ext cx="5714640" cy="4285800"/>
          </a:xfrm>
          <a:prstGeom prst="ellipse">
            <a:avLst/>
          </a:prstGeom>
          <a:blipFill rotWithShape="0">
            <a:blip r:embed="rId16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714240" y="785880"/>
            <a:ext cx="5571720" cy="7724520"/>
          </a:xfrm>
          <a:prstGeom prst="rect">
            <a:avLst/>
          </a:prstGeom>
          <a:ln w="9525">
            <a:noFill/>
          </a:ln>
        </p:spPr>
      </p:pic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928800" y="1857240"/>
            <a:ext cx="4857480" cy="5643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  <a:ea typeface="Verdana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  <a:ea typeface="Verdana"/>
              </a:rPr>
              <a:t>На Руси есть сказ о том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Monotype Corsiva"/>
                <a:ea typeface="Verdana"/>
              </a:rPr>
              <a:t>Как Феврония с Петром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Monotype Corsiva"/>
                <a:ea typeface="Verdana"/>
              </a:rPr>
              <a:t>Были парою примерной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Monotype Corsiva"/>
                <a:ea typeface="Verdana"/>
              </a:rPr>
              <a:t>Дружной, любящей и верной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Monotype Corsiva"/>
                <a:ea typeface="Verdana"/>
              </a:rPr>
              <a:t>Много бед перенесли, 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Monotype Corsiva"/>
                <a:ea typeface="Verdana"/>
              </a:rPr>
              <a:t>Но расстаться не смогли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Monotype Corsiva"/>
                <a:ea typeface="Verdana"/>
              </a:rPr>
              <a:t>Верой-правдой брак держали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Monotype Corsiva"/>
                <a:ea typeface="Verdana"/>
              </a:rPr>
              <a:t>И друг друга уважали!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Monotype Corsiva"/>
                <a:ea typeface="Verdana"/>
              </a:rPr>
              <a:t>Пролетела та пора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Monotype Corsiva"/>
                <a:ea typeface="Verdana"/>
              </a:rPr>
              <a:t>Нет Февронии, нет Петра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Monotype Corsiva"/>
                <a:ea typeface="Verdana"/>
              </a:rPr>
              <a:t>Но они — пример семьи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Monotype Corsiva"/>
                <a:ea typeface="Verdana"/>
              </a:rPr>
              <a:t>Честной, искренней любви.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3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6" descr=""/>
          <p:cNvPicPr/>
          <p:nvPr/>
        </p:nvPicPr>
        <p:blipFill>
          <a:blip r:embed="rId2"/>
          <a:stretch/>
        </p:blipFill>
        <p:spPr>
          <a:xfrm>
            <a:off x="714240" y="285840"/>
            <a:ext cx="5428800" cy="1856880"/>
          </a:xfrm>
          <a:prstGeom prst="rect">
            <a:avLst/>
          </a:prstGeom>
          <a:ln w="9525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2960" y="2143080"/>
            <a:ext cx="5571720" cy="6428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Verdana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Verdana"/>
              </a:rPr>
              <a:t>Что такое семья – понятно всем. Семья – это дом. Семья – это мир, где царят любовь и преданность. Это радость и печали, которые одни на всех. Это привычки и традиции. А еще - это опора во всех бедах и несчастьях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Verdana"/>
              </a:rPr>
              <a:t>      8 июля мы отмечаем День Семьи, Любви и Верности. В нашем детском саду стало доброй традицией проводить праздники посвященные этому событию. В подготовке и проведении недели “Семьи” были задействованы многие участники педагогического процесса. Воспитатели подготовили папки- передвижки для родителей  в родительских  уголках, с детьми  разучивали стихи, пословицы. Интересным показался детям просмотр мультфильма “Сказание о Петре и Февронии”. Наши ребята готовились к празднику,  рисовали рисунки, учили стихи, песни, знакомились с русскими народными пословицами и поговорками о семье, доме, близких людях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Verdana"/>
              </a:rPr>
              <a:t>      В гости к ребятам приходила «Ромашка», которая, объяснила ребятам, почему мы отмечаем День Семьи, Любви и Верности именно 8 июля. Это день памяти православных святых, супругов, Петра и Февронии, издавна почитаемых в России как хранителей семьи и брак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Verdana"/>
              </a:rPr>
              <a:t>      Дети совместно с воспитателями готовили ромашки для родителей. Ромашка – это самый известный и любимый цветок в России. Также с древних времен он был символом любви. В наши дни ромашка стала олицетворять праздник Дня Семьи, Любви и Верности.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5"/>
          <p:cNvSpPr/>
          <p:nvPr/>
        </p:nvSpPr>
        <p:spPr>
          <a:xfrm>
            <a:off x="1285920" y="928800"/>
            <a:ext cx="4500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cc"/>
                </a:solidFill>
                <a:latin typeface="Verdana"/>
              </a:rPr>
              <a:t>«Что важней всего на свет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cc"/>
                </a:solidFill>
                <a:latin typeface="Verdana"/>
              </a:rPr>
              <a:t>мир, любовь, семья и дети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Содержимое 8"/>
          <p:cNvSpPr/>
          <p:nvPr/>
        </p:nvSpPr>
        <p:spPr>
          <a:xfrm>
            <a:off x="642960" y="714240"/>
            <a:ext cx="4357440" cy="326808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одержимое 6"/>
          <p:cNvSpPr/>
          <p:nvPr/>
        </p:nvSpPr>
        <p:spPr>
          <a:xfrm>
            <a:off x="2071800" y="5357880"/>
            <a:ext cx="4214520" cy="316080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Заголовок 4"/>
          <p:cNvSpPr/>
          <p:nvPr/>
        </p:nvSpPr>
        <p:spPr>
          <a:xfrm>
            <a:off x="785880" y="3929040"/>
            <a:ext cx="5357520" cy="13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Семья-это слово нам многое скаж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Семья нам с рожденья  путь в жизни покажет. Семья с нами рядом всегда и везд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Она много значит в каждой судьб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Содержимое 9" descr="DSC05451.JPG"/>
          <p:cNvPicPr/>
          <p:nvPr/>
        </p:nvPicPr>
        <p:blipFill>
          <a:blip r:embed="rId1"/>
          <a:stretch/>
        </p:blipFill>
        <p:spPr>
          <a:xfrm>
            <a:off x="714240" y="714240"/>
            <a:ext cx="4285800" cy="3214440"/>
          </a:xfrm>
          <a:prstGeom prst="rect">
            <a:avLst/>
          </a:prstGeom>
          <a:ln cap="sq" w="38100">
            <a:solidFill>
              <a:srgbClr val="66ff33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pic>
        <p:nvPicPr>
          <p:cNvPr id="185" name="Содержимое 9" descr="DSC05472.JPG"/>
          <p:cNvPicPr/>
          <p:nvPr/>
        </p:nvPicPr>
        <p:blipFill>
          <a:blip r:embed="rId2"/>
          <a:stretch/>
        </p:blipFill>
        <p:spPr>
          <a:xfrm>
            <a:off x="1785960" y="5214960"/>
            <a:ext cx="4381200" cy="3285720"/>
          </a:xfrm>
          <a:prstGeom prst="rect">
            <a:avLst/>
          </a:prstGeom>
          <a:ln cap="sq" w="38100">
            <a:solidFill>
              <a:srgbClr val="ffc0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sp>
        <p:nvSpPr>
          <p:cNvPr id="186" name="Заголовок 4"/>
          <p:cNvSpPr/>
          <p:nvPr/>
        </p:nvSpPr>
        <p:spPr>
          <a:xfrm>
            <a:off x="1785960" y="3929040"/>
            <a:ext cx="3571560" cy="121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Символ радости семейн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Так ромашку все зову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Пусть останется священн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Из цветов, что на луг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H:\валерьевна\8 июля\SDC14691.JPG"/>
          <p:cNvPicPr/>
          <p:nvPr/>
        </p:nvPicPr>
        <p:blipFill>
          <a:blip r:embed="rId3"/>
          <a:stretch/>
        </p:blipFill>
        <p:spPr>
          <a:xfrm>
            <a:off x="714240" y="755640"/>
            <a:ext cx="4285800" cy="3173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H:\валерьевна\8 июля\SDC14688.JPG"/>
          <p:cNvPicPr/>
          <p:nvPr/>
        </p:nvPicPr>
        <p:blipFill>
          <a:blip r:embed="rId4"/>
          <a:stretch/>
        </p:blipFill>
        <p:spPr>
          <a:xfrm>
            <a:off x="1785960" y="5214960"/>
            <a:ext cx="4381200" cy="32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Содержимое 7" descr="DSC05466.JPG"/>
          <p:cNvPicPr/>
          <p:nvPr/>
        </p:nvPicPr>
        <p:blipFill>
          <a:blip r:embed="rId1"/>
          <a:stretch/>
        </p:blipFill>
        <p:spPr>
          <a:xfrm>
            <a:off x="1785960" y="5214960"/>
            <a:ext cx="4411440" cy="3308040"/>
          </a:xfrm>
          <a:prstGeom prst="rect">
            <a:avLst/>
          </a:prstGeom>
          <a:ln cap="sq" w="38100">
            <a:solidFill>
              <a:srgbClr val="ffff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pic>
        <p:nvPicPr>
          <p:cNvPr id="190" name="Содержимое 9" descr="DSC05456.JPG"/>
          <p:cNvPicPr/>
          <p:nvPr/>
        </p:nvPicPr>
        <p:blipFill>
          <a:blip r:embed="rId2"/>
          <a:stretch/>
        </p:blipFill>
        <p:spPr>
          <a:xfrm>
            <a:off x="642960" y="642960"/>
            <a:ext cx="4357440" cy="3268440"/>
          </a:xfrm>
          <a:prstGeom prst="rect">
            <a:avLst/>
          </a:prstGeom>
          <a:ln cap="sq" w="38100">
            <a:solidFill>
              <a:srgbClr val="66ff33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sp>
        <p:nvSpPr>
          <p:cNvPr id="191" name="Заголовок 4"/>
          <p:cNvSpPr/>
          <p:nvPr/>
        </p:nvSpPr>
        <p:spPr>
          <a:xfrm>
            <a:off x="1785960" y="3929040"/>
            <a:ext cx="3571560" cy="121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А на празднике, друзь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Нам без игр никак нельз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Больше страсти, больше смех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Пусть во всю идет потеха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H:\валерьевна\8 июля\SDC14700.JPG"/>
          <p:cNvPicPr/>
          <p:nvPr/>
        </p:nvPicPr>
        <p:blipFill>
          <a:blip r:embed="rId3"/>
          <a:stretch/>
        </p:blipFill>
        <p:spPr>
          <a:xfrm>
            <a:off x="642960" y="676080"/>
            <a:ext cx="4357440" cy="32353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H:\валерьевна\8 июля\SDC14728.JPG"/>
          <p:cNvPicPr/>
          <p:nvPr/>
        </p:nvPicPr>
        <p:blipFill>
          <a:blip r:embed="rId4"/>
          <a:stretch/>
        </p:blipFill>
        <p:spPr>
          <a:xfrm>
            <a:off x="1785960" y="5243400"/>
            <a:ext cx="4411440" cy="33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Содержимое 7" descr="DSC05466.JPG"/>
          <p:cNvPicPr/>
          <p:nvPr/>
        </p:nvPicPr>
        <p:blipFill>
          <a:blip r:embed="rId1"/>
          <a:stretch/>
        </p:blipFill>
        <p:spPr>
          <a:xfrm>
            <a:off x="1785960" y="5214960"/>
            <a:ext cx="4411440" cy="3308040"/>
          </a:xfrm>
          <a:prstGeom prst="rect">
            <a:avLst/>
          </a:prstGeom>
          <a:ln cap="sq" w="38100">
            <a:solidFill>
              <a:srgbClr val="ffff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pic>
        <p:nvPicPr>
          <p:cNvPr id="195" name="Содержимое 9" descr="DSC05456.JPG"/>
          <p:cNvPicPr/>
          <p:nvPr/>
        </p:nvPicPr>
        <p:blipFill>
          <a:blip r:embed="rId2"/>
          <a:stretch/>
        </p:blipFill>
        <p:spPr>
          <a:xfrm>
            <a:off x="642960" y="642960"/>
            <a:ext cx="4357440" cy="3268440"/>
          </a:xfrm>
          <a:prstGeom prst="rect">
            <a:avLst/>
          </a:prstGeom>
          <a:ln cap="sq" w="38100">
            <a:solidFill>
              <a:srgbClr val="66ff33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sp>
        <p:nvSpPr>
          <p:cNvPr id="196" name="Заголовок 4"/>
          <p:cNvSpPr/>
          <p:nvPr/>
        </p:nvSpPr>
        <p:spPr>
          <a:xfrm>
            <a:off x="1785960" y="3929040"/>
            <a:ext cx="3571560" cy="121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600" spc="-1" strike="noStrike">
              <a:solidFill>
                <a:srgbClr val="0000cc"/>
              </a:solidFill>
              <a:latin typeface="Verdana"/>
            </a:endParaRPr>
          </a:p>
        </p:txBody>
      </p:sp>
      <p:pic>
        <p:nvPicPr>
          <p:cNvPr id="197" name="Picture 2" descr="H:\валерьевна\8 июля\SDC14700.JPG"/>
          <p:cNvPicPr/>
          <p:nvPr/>
        </p:nvPicPr>
        <p:blipFill>
          <a:blip r:embed="rId3"/>
          <a:stretch/>
        </p:blipFill>
        <p:spPr>
          <a:xfrm>
            <a:off x="642960" y="676080"/>
            <a:ext cx="4357440" cy="3235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H:\валерьевна\8 июля\SDC14728.JPG"/>
          <p:cNvPicPr/>
          <p:nvPr/>
        </p:nvPicPr>
        <p:blipFill>
          <a:blip r:embed="rId4"/>
          <a:stretch/>
        </p:blipFill>
        <p:spPr>
          <a:xfrm>
            <a:off x="1785960" y="5243400"/>
            <a:ext cx="4411440" cy="33080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H:\валерьевна\8 июля\SDC14743.JPG"/>
          <p:cNvPicPr/>
          <p:nvPr/>
        </p:nvPicPr>
        <p:blipFill>
          <a:blip r:embed="rId5"/>
          <a:stretch/>
        </p:blipFill>
        <p:spPr>
          <a:xfrm>
            <a:off x="620640" y="683640"/>
            <a:ext cx="4392000" cy="3168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H:\валерьевна\8 июля\SDC14757.JPG"/>
          <p:cNvPicPr/>
          <p:nvPr/>
        </p:nvPicPr>
        <p:blipFill>
          <a:blip r:embed="rId6"/>
          <a:stretch/>
        </p:blipFill>
        <p:spPr>
          <a:xfrm>
            <a:off x="1811160" y="5214960"/>
            <a:ext cx="43862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94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Содержимое 10" descr="DSC05458.JPG"/>
          <p:cNvPicPr/>
          <p:nvPr/>
        </p:nvPicPr>
        <p:blipFill>
          <a:blip r:embed="rId1"/>
          <a:stretch/>
        </p:blipFill>
        <p:spPr>
          <a:xfrm>
            <a:off x="1785960" y="5180040"/>
            <a:ext cx="4428720" cy="3320640"/>
          </a:xfrm>
          <a:prstGeom prst="rect">
            <a:avLst/>
          </a:prstGeom>
          <a:ln cap="sq" w="38100">
            <a:solidFill>
              <a:srgbClr val="ffff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pic>
        <p:nvPicPr>
          <p:cNvPr id="202" name="Содержимое 18" descr="DSC05457.JPG"/>
          <p:cNvPicPr/>
          <p:nvPr/>
        </p:nvPicPr>
        <p:blipFill>
          <a:blip r:embed="rId2"/>
          <a:stretch/>
        </p:blipFill>
        <p:spPr>
          <a:xfrm>
            <a:off x="642960" y="714240"/>
            <a:ext cx="4357440" cy="3268440"/>
          </a:xfrm>
          <a:prstGeom prst="rect">
            <a:avLst/>
          </a:prstGeom>
          <a:ln cap="sq" w="38100">
            <a:solidFill>
              <a:srgbClr val="00cc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sp>
        <p:nvSpPr>
          <p:cNvPr id="203" name="Заголовок 4"/>
          <p:cNvSpPr/>
          <p:nvPr/>
        </p:nvSpPr>
        <p:spPr>
          <a:xfrm>
            <a:off x="1571760" y="4071960"/>
            <a:ext cx="3714480" cy="99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Вот квадратик, треугольни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Получился целый домик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Дом, в котором мы живё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cc"/>
                </a:solidFill>
                <a:latin typeface="Verdana"/>
              </a:rPr>
              <a:t>Самый лучший в мире дом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H:\валерьевна\8 июля\SDC14730.JPG"/>
          <p:cNvPicPr/>
          <p:nvPr/>
        </p:nvPicPr>
        <p:blipFill>
          <a:blip r:embed="rId3"/>
          <a:stretch/>
        </p:blipFill>
        <p:spPr>
          <a:xfrm>
            <a:off x="651960" y="748800"/>
            <a:ext cx="4348080" cy="3233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H:\валерьевна\8 июля\SDC14738.JPG"/>
          <p:cNvPicPr/>
          <p:nvPr/>
        </p:nvPicPr>
        <p:blipFill>
          <a:blip r:embed="rId4"/>
          <a:stretch/>
        </p:blipFill>
        <p:spPr>
          <a:xfrm>
            <a:off x="1772640" y="5220000"/>
            <a:ext cx="4477680" cy="32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9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680" y="714240"/>
            <a:ext cx="5657400" cy="856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cc"/>
                </a:solidFill>
                <a:latin typeface="Monotype Corsiva"/>
                <a:ea typeface="Verdana"/>
              </a:rPr>
              <a:t>«Детский сад - большая, дружная  </a:t>
            </a:r>
            <a:r>
              <a:rPr b="1" lang="ru-RU" sz="4000" spc="-1" strike="noStrike">
                <a:solidFill>
                  <a:srgbClr val="0000cc"/>
                </a:solidFill>
                <a:latin typeface="Monotype Corsiva"/>
                <a:ea typeface="Verdana"/>
              </a:rPr>
              <a:t>С Е М Ь Я !</a:t>
            </a:r>
            <a:r>
              <a:rPr b="0" lang="ru-RU" sz="4000" spc="-1" strike="noStrike">
                <a:solidFill>
                  <a:srgbClr val="0000cc"/>
                </a:solidFill>
                <a:latin typeface="Monotype Corsiva"/>
                <a:ea typeface="Verdana"/>
              </a:rPr>
              <a:t>»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Содержимое 3" descr="DSC05489.JPG"/>
          <p:cNvPicPr/>
          <p:nvPr/>
        </p:nvPicPr>
        <p:blipFill>
          <a:blip r:embed="rId1"/>
          <a:stretch/>
        </p:blipFill>
        <p:spPr>
          <a:xfrm>
            <a:off x="1857240" y="5214960"/>
            <a:ext cx="4214520" cy="3160440"/>
          </a:xfrm>
          <a:prstGeom prst="rect">
            <a:avLst/>
          </a:prstGeom>
          <a:ln cap="sq" w="38100">
            <a:solidFill>
              <a:srgbClr val="00cc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pic>
        <p:nvPicPr>
          <p:cNvPr id="208" name="Содержимое 20" descr="DSC05483.JPG"/>
          <p:cNvPicPr/>
          <p:nvPr/>
        </p:nvPicPr>
        <p:blipFill>
          <a:blip r:embed="rId2"/>
          <a:stretch/>
        </p:blipFill>
        <p:spPr>
          <a:xfrm>
            <a:off x="785880" y="1857240"/>
            <a:ext cx="4190760" cy="3142800"/>
          </a:xfrm>
          <a:prstGeom prst="rect">
            <a:avLst/>
          </a:prstGeom>
          <a:ln cap="sq" w="38100">
            <a:solidFill>
              <a:srgbClr val="ffff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pic>
        <p:nvPicPr>
          <p:cNvPr id="209" name="Picture 2" descr="H:\валерьевна\8 июля\SDC14652.JPG"/>
          <p:cNvPicPr/>
          <p:nvPr/>
        </p:nvPicPr>
        <p:blipFill>
          <a:blip r:embed="rId3"/>
          <a:stretch/>
        </p:blipFill>
        <p:spPr>
          <a:xfrm>
            <a:off x="785880" y="1857240"/>
            <a:ext cx="4190760" cy="3142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H:\валерьевна\8 июля\SDC14763.JPG"/>
          <p:cNvPicPr/>
          <p:nvPr/>
        </p:nvPicPr>
        <p:blipFill>
          <a:blip r:embed="rId4"/>
          <a:stretch/>
        </p:blipFill>
        <p:spPr>
          <a:xfrm>
            <a:off x="1845000" y="5220000"/>
            <a:ext cx="4240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  <Words>188</Words>
  <Paragraphs>27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4T14:52:35Z</dcterms:created>
  <dc:creator>Олег</dc:creator>
  <dc:description/>
  <dc:language>en-US</dc:language>
  <cp:lastModifiedBy>Ира</cp:lastModifiedBy>
  <dcterms:modified xsi:type="dcterms:W3CDTF">2018-08-14T09:53:21Z</dcterms:modified>
  <cp:revision>48</cp:revision>
  <dc:subject/>
  <dc:title>ДЕНЬ СЕМЬИ, ЛЮБВИ  И ВЕР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5</vt:r8>
  </property>
  <property fmtid="{D5CDD505-2E9C-101B-9397-08002B2CF9AE}" pid="3" name="PresentationFormat">
    <vt:lpwstr>Экран (4:3)</vt:lpwstr>
  </property>
  <property fmtid="{D5CDD505-2E9C-101B-9397-08002B2CF9AE}" pid="4" name="Slides">
    <vt:r8>9</vt:r8>
  </property>
</Properties>
</file>