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AC5-FCE1-4E38-A16B-40F7AB8D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650-89AB-44A0-A2E4-3D2A6A01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FBF-9817-404B-8EAD-12759078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3000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92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3000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92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E25-1175-47BB-A1A4-557D0E14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D408-B108-4BAA-8B22-39A86401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5B69-0686-41DB-BDD0-FC8F5C41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01C6-BED2-4DF0-B836-21DB3B43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3CC5-6F5F-4E90-ABCA-D427488C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7BE5-6511-41D5-BD14-649DCBD5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718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B6DF-40B7-4375-88D1-9983B886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8FF5-0D68-4D15-B84A-A4DC959C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4CF-5427-4AE9-B3C2-4540878D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9087-3730-430F-9B62-8D43AF68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7ABB-FFC0-4BA2-B5D1-0884D751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0EDC-8E7C-486D-93D5-164DC62A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1FA4-8ECA-4911-96CC-ED54F55C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3000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92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308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3000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92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6C50-F8D4-4A68-8803-EE55DEEB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96755-F7F5-4B7C-8692-68809FD5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6364-88DB-4179-BFA2-7C288AEA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27ED-B880-4931-A460-1AA840DC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343A-AA09-49EF-AF47-EAFA0090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7E26-D359-446A-B18E-4F42DCAD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44F-CDD8-4D42-B530-7E644D4A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718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22582-7BFB-4118-A307-5618CFA1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51A4-E805-4791-B8F7-ADEDBAFC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0393C-43F5-4DD1-8C53-541AF323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BCB1B-D48A-4CE5-853F-0DC8AD89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B197-D6F8-4B71-B5B4-F71305B5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A593-EBD9-4D4F-90D0-46A4677D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43000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1692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4308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43000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51692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D86A1-2523-4060-8CAB-8F6FE0FB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EB964-AE70-4553-860C-46426B12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39D2D-2D86-4C31-8DE3-EC2D887F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51648-D2EB-49B7-80C1-AF68CC3D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B2E-6D12-4425-B0B4-99ABED87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6192F-62D6-4E07-9C6F-DD857956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7B0DF-3E51-42FE-A158-5249F9D2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718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21BD3-835E-4107-8D84-AA45A00B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931CA-D9E7-45BE-B50F-2115464C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C4143-9EFB-4C3F-88DE-38C56608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707E4-798F-4024-B04E-A19AF6A6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0740C-F30C-4E93-B324-8F13F575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80A0A-0537-4590-BA1C-66987B24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3000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1692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308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3000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1692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950BA-988C-4015-967C-1AFB18E1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9F3-4944-4CA5-8056-8D0AA59C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718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3FF-FEA7-46D6-AB57-A6DA999C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74E-5E52-4B6D-94DE-449F7F15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FA6-FD82-4918-8081-70F0ADD5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EE7-B0F1-4944-9B11-733B1C79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3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840"/>
            <a:ext cx="217152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915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E56646-65F4-42B3-A324-7F576F61F49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3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840"/>
            <a:ext cx="217152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5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4D7FD4-27E8-426A-9DAF-28479B436C3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3080" y="2046960"/>
            <a:ext cx="3029760" cy="852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343080" y="2899800"/>
            <a:ext cx="3029760" cy="5267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3483720" y="2046960"/>
            <a:ext cx="3030840" cy="852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3483720" y="2899800"/>
            <a:ext cx="3030840" cy="5267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343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2343240" y="8475840"/>
            <a:ext cx="217152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4915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CEA3D6-98FB-4805-8A72-308DB76FEBD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10"/>
          </p:nvPr>
        </p:nvSpPr>
        <p:spPr>
          <a:xfrm>
            <a:off x="343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11"/>
          </p:nvPr>
        </p:nvSpPr>
        <p:spPr>
          <a:xfrm>
            <a:off x="2343240" y="8475840"/>
            <a:ext cx="217152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2"/>
          </p:nvPr>
        </p:nvSpPr>
        <p:spPr>
          <a:xfrm>
            <a:off x="4915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0AC0C8-DC08-4565-9120-2B2ABD1E21F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D:/&#1052;&#1072;&#1084;&#1072;/&#1052;&#1072;&#1088;&#1080;&#1085;&#1072;%20(&#1084;&#1091;&#1079;&#1099;&#1082;&#1072;)/&#1055;&#1077;&#1089;&#1085;&#1080;%20&#1086;%20&#1089;&#1077;&#1084;&#1100;&#1077;/&#1054;%20&#1055;&#1077;&#1090;&#1088;&#1077;%20&#1080;%20&#1060;&#1077;&#1074;&#1088;&#1086;&#1085;&#1080;&#1080;%20(&#1053;&#1077;&#1087;&#1086;&#1089;&#1077;&#1076;&#1099;)%20&#1087;&#1083;&#1102;&#1089;.mp3" TargetMode="External"/><Relationship Id="rId2" Type="http://schemas.microsoft.com/office/2007/relationships/media" Target="file:///D:/&#1052;&#1072;&#1084;&#1072;/&#1052;&#1072;&#1088;&#1080;&#1085;&#1072;%20(&#1084;&#1091;&#1079;&#1099;&#1082;&#1072;)/&#1055;&#1077;&#1089;&#1085;&#1080;%20&#1086;%20&#1089;&#1077;&#1084;&#1100;&#1077;/&#1054;%20&#1055;&#1077;&#1090;&#1088;&#1077;%20&#1080;%20&#1060;&#1077;&#1074;&#1088;&#1086;&#1085;&#1080;&#1080;%20(&#1053;&#1077;&#1087;&#1086;&#1089;&#1077;&#1076;&#1099;)%20&#1087;&#1083;&#1102;&#1089;.mp3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D:/&#1052;&#1072;&#1084;&#1072;/&#1052;&#1072;&#1088;&#1080;&#1085;&#1072;%20(&#1084;&#1091;&#1079;&#1099;&#1082;&#1072;)/&#1042;&#1072;&#1083;&#1100;&#1089;&#1099;%20&#1064;&#1090;&#1088;&#1072;&#1091;&#1089;&#1072;/0000.mp3" TargetMode="External"/><Relationship Id="rId5" Type="http://schemas.microsoft.com/office/2007/relationships/media" Target="file:///D:/&#1052;&#1072;&#1084;&#1072;/&#1052;&#1072;&#1088;&#1080;&#1085;&#1072;%20(&#1084;&#1091;&#1079;&#1099;&#1082;&#1072;)/&#1042;&#1072;&#1083;&#1100;&#1089;&#1099;%20&#1064;&#1090;&#1088;&#1072;&#1091;&#1089;&#1072;/0000.mp3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D:/&#1052;&#1072;&#1084;&#1072;/&#1052;&#1072;&#1088;&#1080;&#1085;&#1072;%20(&#1084;&#1091;&#1079;&#1099;&#1082;&#1072;)/&#1042;&#1072;&#1083;&#1100;&#1089;%20(&#1041;&#1077;&#1088;&#1077;&#1075;&#1080;&#1089;&#1100;%20&#1072;&#1074;&#1090;&#1086;&#1084;&#1086;&#1073;&#1080;&#1083;&#1103;).mp3" TargetMode="External"/><Relationship Id="rId8" Type="http://schemas.microsoft.com/office/2007/relationships/media" Target="file:///D:/&#1052;&#1072;&#1084;&#1072;/&#1052;&#1072;&#1088;&#1080;&#1085;&#1072;%20(&#1084;&#1091;&#1079;&#1099;&#1082;&#1072;)/&#1042;&#1072;&#1083;&#1100;&#1089;%20(&#1041;&#1077;&#1088;&#1077;&#1075;&#1080;&#1089;&#1100;%20&#1072;&#1074;&#1090;&#1086;&#1084;&#1086;&#1073;&#1080;&#1083;&#1103;).mp3" TargetMode="External"/><Relationship Id="rId9" Type="http://schemas.openxmlformats.org/officeDocument/2006/relationships/image" Target="../media/image2.png"/><Relationship Id="rId10" Type="http://schemas.openxmlformats.org/officeDocument/2006/relationships/audio" Target="file:///D:/&#1052;&#1086;&#1103;%20&#1057;&#1077;&#1084;&#1100;&#1103;.mp3" TargetMode="External"/><Relationship Id="rId11" Type="http://schemas.microsoft.com/office/2007/relationships/media" Target="file:///D:/&#1052;&#1086;&#1103;%20&#1057;&#1077;&#1084;&#1100;&#1103;.mp3" TargetMode="External"/><Relationship Id="rId12" Type="http://schemas.openxmlformats.org/officeDocument/2006/relationships/image" Target="../media/image2.png"/><Relationship Id="rId13" Type="http://schemas.openxmlformats.org/officeDocument/2006/relationships/audio" Target="file:///D:/Larisa_Grigoreva_-_muz._i_sl.-_A._Ermolov_-_Moya_semya_(get-tune.net).mp3" TargetMode="External"/><Relationship Id="rId14" Type="http://schemas.microsoft.com/office/2007/relationships/media" Target="file:///D:/Larisa_Grigoreva_-_muz._i_sl.-_A._Ermolov_-_Moya_semya_(get-tune.net).mp3" TargetMode="External"/><Relationship Id="rId15" Type="http://schemas.openxmlformats.org/officeDocument/2006/relationships/image" Target="../media/image2.pn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0040" y="2571840"/>
            <a:ext cx="5857560" cy="1071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36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ДЕНЬ СЕМЬИ, ЛЮБВИ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И ВЕРНОСТИ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Заголовок 4"/>
          <p:cNvSpPr/>
          <p:nvPr/>
        </p:nvSpPr>
        <p:spPr>
          <a:xfrm>
            <a:off x="571680" y="827640"/>
            <a:ext cx="5785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11000"/>
          </a:bodyPr>
          <a:p>
            <a:pPr algn="ctr">
              <a:lnSpc>
                <a:spcPct val="100000"/>
              </a:lnSpc>
            </a:pP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ru-RU" sz="8000" spc="-1" strike="noStrike">
                <a:solidFill>
                  <a:srgbClr val="0000cc"/>
                </a:solidFill>
                <a:latin typeface="Times New Roman"/>
              </a:rPr>
              <a:t>МДОУ «Детский сад «Сказка» города Николаевска Николаевского муниципального района Волгоградской област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ru-RU" sz="8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Заголовок 4"/>
          <p:cNvSpPr/>
          <p:nvPr/>
        </p:nvSpPr>
        <p:spPr>
          <a:xfrm>
            <a:off x="2709000" y="8181000"/>
            <a:ext cx="2592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11000"/>
          </a:bodyPr>
          <a:p>
            <a:pPr algn="ctr">
              <a:lnSpc>
                <a:spcPct val="100000"/>
              </a:lnSpc>
            </a:pP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0000cc"/>
                </a:solidFill>
                <a:latin typeface="Times New Roman"/>
              </a:rPr>
              <a:t>г.Николаевск, 2018</a:t>
            </a:r>
            <a:br>
              <a:rPr sz="44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5" name="Рисунок 3"/>
          <p:cNvSpPr/>
          <p:nvPr/>
        </p:nvSpPr>
        <p:spPr>
          <a:xfrm>
            <a:off x="571320" y="3929040"/>
            <a:ext cx="5714640" cy="428580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714240" y="785880"/>
            <a:ext cx="5571720" cy="7724520"/>
          </a:xfrm>
          <a:prstGeom prst="rect">
            <a:avLst/>
          </a:prstGeom>
          <a:ln w="9525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28800" y="1857240"/>
            <a:ext cx="4857480" cy="564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На Руси есть сказ о том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Как Феврония с Петром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Были парою примерной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Дружной, любящей и верной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Много бед перенесли, 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Но расстаться не смогли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Верой-правдой брак держали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И друг друга уважали!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Пролетела та пор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Нет Февронии, нет Петра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Но они — пример семьи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Честной, искренней любви.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6" descr=""/>
          <p:cNvPicPr/>
          <p:nvPr/>
        </p:nvPicPr>
        <p:blipFill>
          <a:blip r:embed="rId2"/>
          <a:stretch/>
        </p:blipFill>
        <p:spPr>
          <a:xfrm>
            <a:off x="714240" y="285840"/>
            <a:ext cx="5428800" cy="1856880"/>
          </a:xfrm>
          <a:prstGeom prst="rect">
            <a:avLst/>
          </a:prstGeom>
          <a:ln w="9525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2960" y="2143080"/>
            <a:ext cx="5571720" cy="6428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Verdana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Verdana"/>
              </a:rPr>
              <a:t>Что такое семья – понятно всем. Семья – это дом. Семья – это мир, где царят любовь и преданность. Это радость и печали, которые одни на всех. Это привычки и традиции. А еще - это опора во всех бедах и несчастьях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Verdana"/>
              </a:rPr>
              <a:t>      8 июля мы отмечаем День Семьи, Любви и Верности. В нашем детском саду стало доброй традицией проводить праздники посвященные этому событию. В подготовке и проведении недели “Семьи” были задействованы многие участники педагогического процесса. Воспитатели подготовили папки- передвижки для родителей  в родительских  уголках, с детьми  разучивали стихи, пословицы. Интересным показался детям просмотр мультфильма “Сказание о Петре и Февронии”. Наши ребята готовились к празднику,  рисовали рисунки, учили стихи, песни, знакомились с русскими народными пословицами и поговорками о семье, доме, близких людя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Verdana"/>
              </a:rPr>
              <a:t>      В гости к ребятам приходила «Ромашка», которая, объяснила ребятам, почему мы отмечаем День Семьи, Любви и Верности именно 8 июля. Это день памяти православных святых, супругов, Петра и Февронии, издавна почитаемых в России как хранителей семьи и брак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Verdana"/>
              </a:rPr>
              <a:t>      Дети совместно с воспитателями готовили ромашки для родителей. Ромашка – это самый известный и любимый цветок в России. Также с древних времен он был символом любви. В наши дни ромашка стала олицетворять праздник Дня Семьи, Любви и Верности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1285920" y="928800"/>
            <a:ext cx="4500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«Что важней всего на свет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мир, любовь, семья и дет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Содержимое 8"/>
          <p:cNvSpPr/>
          <p:nvPr/>
        </p:nvSpPr>
        <p:spPr>
          <a:xfrm>
            <a:off x="642960" y="714240"/>
            <a:ext cx="4357440" cy="32680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6"/>
          <p:cNvSpPr/>
          <p:nvPr/>
        </p:nvSpPr>
        <p:spPr>
          <a:xfrm>
            <a:off x="2071800" y="5357880"/>
            <a:ext cx="4214520" cy="31608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Заголовок 4"/>
          <p:cNvSpPr/>
          <p:nvPr/>
        </p:nvSpPr>
        <p:spPr>
          <a:xfrm>
            <a:off x="785880" y="3929040"/>
            <a:ext cx="5357520" cy="13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Семья-это слово нам многое скаж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Семья нам с рожденья  путь в жизни покажет. Семья с нами рядом всегда и везд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Она много значит в каждой судь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Содержимое 9" descr="DSC05451.JPG"/>
          <p:cNvPicPr/>
          <p:nvPr/>
        </p:nvPicPr>
        <p:blipFill>
          <a:blip r:embed="rId1"/>
          <a:stretch/>
        </p:blipFill>
        <p:spPr>
          <a:xfrm>
            <a:off x="714240" y="714240"/>
            <a:ext cx="4285800" cy="3214440"/>
          </a:xfrm>
          <a:prstGeom prst="rect">
            <a:avLst/>
          </a:prstGeom>
          <a:ln cap="sq" w="38100">
            <a:solidFill>
              <a:srgbClr val="66ff33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85" name="Содержимое 9" descr="DSC05472.JPG"/>
          <p:cNvPicPr/>
          <p:nvPr/>
        </p:nvPicPr>
        <p:blipFill>
          <a:blip r:embed="rId2"/>
          <a:stretch/>
        </p:blipFill>
        <p:spPr>
          <a:xfrm>
            <a:off x="1785960" y="5214960"/>
            <a:ext cx="4381200" cy="3285720"/>
          </a:xfrm>
          <a:prstGeom prst="rect">
            <a:avLst/>
          </a:prstGeom>
          <a:ln cap="sq" w="38100">
            <a:solidFill>
              <a:srgbClr val="ffc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86" name="Заголовок 4"/>
          <p:cNvSpPr/>
          <p:nvPr/>
        </p:nvSpPr>
        <p:spPr>
          <a:xfrm>
            <a:off x="1785960" y="3929040"/>
            <a:ext cx="3571560" cy="121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Символ радости семейн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Так ромашку все зов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Пусть останется священн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Из цветов, что на лу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H:\валерьевна\8 июля\SDC14691.JPG"/>
          <p:cNvPicPr/>
          <p:nvPr/>
        </p:nvPicPr>
        <p:blipFill>
          <a:blip r:embed="rId3"/>
          <a:stretch/>
        </p:blipFill>
        <p:spPr>
          <a:xfrm>
            <a:off x="714240" y="755640"/>
            <a:ext cx="4285800" cy="3173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:\валерьевна\8 июля\SDC14688.JPG"/>
          <p:cNvPicPr/>
          <p:nvPr/>
        </p:nvPicPr>
        <p:blipFill>
          <a:blip r:embed="rId4"/>
          <a:stretch/>
        </p:blipFill>
        <p:spPr>
          <a:xfrm>
            <a:off x="1785960" y="5214960"/>
            <a:ext cx="438120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7" descr="DSC05466.JPG"/>
          <p:cNvPicPr/>
          <p:nvPr/>
        </p:nvPicPr>
        <p:blipFill>
          <a:blip r:embed="rId1"/>
          <a:stretch/>
        </p:blipFill>
        <p:spPr>
          <a:xfrm>
            <a:off x="1785960" y="5214960"/>
            <a:ext cx="4411440" cy="3308040"/>
          </a:xfrm>
          <a:prstGeom prst="rect">
            <a:avLst/>
          </a:prstGeom>
          <a:ln cap="sq" w="38100">
            <a:solidFill>
              <a:srgbClr val="ffff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90" name="Содержимое 9" descr="DSC05456.JPG"/>
          <p:cNvPicPr/>
          <p:nvPr/>
        </p:nvPicPr>
        <p:blipFill>
          <a:blip r:embed="rId2"/>
          <a:stretch/>
        </p:blipFill>
        <p:spPr>
          <a:xfrm>
            <a:off x="642960" y="642960"/>
            <a:ext cx="4357440" cy="3268440"/>
          </a:xfrm>
          <a:prstGeom prst="rect">
            <a:avLst/>
          </a:prstGeom>
          <a:ln cap="sq" w="38100">
            <a:solidFill>
              <a:srgbClr val="66ff33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91" name="Заголовок 4"/>
          <p:cNvSpPr/>
          <p:nvPr/>
        </p:nvSpPr>
        <p:spPr>
          <a:xfrm>
            <a:off x="1785960" y="3929040"/>
            <a:ext cx="3571560" cy="121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А на празднике, друзь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Нам без игр никак нельз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Больше страсти, больше смех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Пусть во всю идет потеха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:\валерьевна\8 июля\SDC14700.JPG"/>
          <p:cNvPicPr/>
          <p:nvPr/>
        </p:nvPicPr>
        <p:blipFill>
          <a:blip r:embed="rId3"/>
          <a:stretch/>
        </p:blipFill>
        <p:spPr>
          <a:xfrm>
            <a:off x="642960" y="676080"/>
            <a:ext cx="4357440" cy="323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H:\валерьевна\8 июля\SDC14728.JPG"/>
          <p:cNvPicPr/>
          <p:nvPr/>
        </p:nvPicPr>
        <p:blipFill>
          <a:blip r:embed="rId4"/>
          <a:stretch/>
        </p:blipFill>
        <p:spPr>
          <a:xfrm>
            <a:off x="1785960" y="5243400"/>
            <a:ext cx="4411440" cy="33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Содержимое 7" descr="DSC05466.JPG"/>
          <p:cNvPicPr/>
          <p:nvPr/>
        </p:nvPicPr>
        <p:blipFill>
          <a:blip r:embed="rId1"/>
          <a:stretch/>
        </p:blipFill>
        <p:spPr>
          <a:xfrm>
            <a:off x="1785960" y="5214960"/>
            <a:ext cx="4411440" cy="3308040"/>
          </a:xfrm>
          <a:prstGeom prst="rect">
            <a:avLst/>
          </a:prstGeom>
          <a:ln cap="sq" w="38100">
            <a:solidFill>
              <a:srgbClr val="ffff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95" name="Содержимое 9" descr="DSC05456.JPG"/>
          <p:cNvPicPr/>
          <p:nvPr/>
        </p:nvPicPr>
        <p:blipFill>
          <a:blip r:embed="rId2"/>
          <a:stretch/>
        </p:blipFill>
        <p:spPr>
          <a:xfrm>
            <a:off x="642960" y="642960"/>
            <a:ext cx="4357440" cy="3268440"/>
          </a:xfrm>
          <a:prstGeom prst="rect">
            <a:avLst/>
          </a:prstGeom>
          <a:ln cap="sq" w="38100">
            <a:solidFill>
              <a:srgbClr val="66ff33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96" name="Заголовок 4"/>
          <p:cNvSpPr/>
          <p:nvPr/>
        </p:nvSpPr>
        <p:spPr>
          <a:xfrm>
            <a:off x="1785960" y="3929040"/>
            <a:ext cx="3571560" cy="121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600" spc="-1" strike="noStrike">
              <a:solidFill>
                <a:srgbClr val="0000cc"/>
              </a:solidFill>
              <a:latin typeface="Verdana"/>
            </a:endParaRPr>
          </a:p>
        </p:txBody>
      </p:sp>
      <p:pic>
        <p:nvPicPr>
          <p:cNvPr id="197" name="Picture 2" descr="H:\валерьевна\8 июля\SDC14700.JPG"/>
          <p:cNvPicPr/>
          <p:nvPr/>
        </p:nvPicPr>
        <p:blipFill>
          <a:blip r:embed="rId3"/>
          <a:stretch/>
        </p:blipFill>
        <p:spPr>
          <a:xfrm>
            <a:off x="642960" y="676080"/>
            <a:ext cx="4357440" cy="3235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H:\валерьевна\8 июля\SDC14728.JPG"/>
          <p:cNvPicPr/>
          <p:nvPr/>
        </p:nvPicPr>
        <p:blipFill>
          <a:blip r:embed="rId4"/>
          <a:stretch/>
        </p:blipFill>
        <p:spPr>
          <a:xfrm>
            <a:off x="1785960" y="5243400"/>
            <a:ext cx="4411440" cy="3308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:\валерьевна\8 июля\SDC14743.JPG"/>
          <p:cNvPicPr/>
          <p:nvPr/>
        </p:nvPicPr>
        <p:blipFill>
          <a:blip r:embed="rId5"/>
          <a:stretch/>
        </p:blipFill>
        <p:spPr>
          <a:xfrm>
            <a:off x="620640" y="683640"/>
            <a:ext cx="4392000" cy="316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H:\валерьевна\8 июля\SDC14757.JPG"/>
          <p:cNvPicPr/>
          <p:nvPr/>
        </p:nvPicPr>
        <p:blipFill>
          <a:blip r:embed="rId6"/>
          <a:stretch/>
        </p:blipFill>
        <p:spPr>
          <a:xfrm>
            <a:off x="1811160" y="5214960"/>
            <a:ext cx="4386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94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10" descr="DSC05458.JPG"/>
          <p:cNvPicPr/>
          <p:nvPr/>
        </p:nvPicPr>
        <p:blipFill>
          <a:blip r:embed="rId1"/>
          <a:stretch/>
        </p:blipFill>
        <p:spPr>
          <a:xfrm>
            <a:off x="1785960" y="5180040"/>
            <a:ext cx="4428720" cy="3320640"/>
          </a:xfrm>
          <a:prstGeom prst="rect">
            <a:avLst/>
          </a:prstGeom>
          <a:ln cap="sq" w="38100">
            <a:solidFill>
              <a:srgbClr val="ffff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202" name="Содержимое 18" descr="DSC05457.JPG"/>
          <p:cNvPicPr/>
          <p:nvPr/>
        </p:nvPicPr>
        <p:blipFill>
          <a:blip r:embed="rId2"/>
          <a:stretch/>
        </p:blipFill>
        <p:spPr>
          <a:xfrm>
            <a:off x="642960" y="714240"/>
            <a:ext cx="4357440" cy="3268440"/>
          </a:xfrm>
          <a:prstGeom prst="rect">
            <a:avLst/>
          </a:prstGeom>
          <a:ln cap="sq" w="38100">
            <a:solidFill>
              <a:srgbClr val="00cc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203" name="Заголовок 4"/>
          <p:cNvSpPr/>
          <p:nvPr/>
        </p:nvSpPr>
        <p:spPr>
          <a:xfrm>
            <a:off x="1571760" y="4071960"/>
            <a:ext cx="3714480" cy="99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Вот квадратик, треугольни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Получился целый домик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Дом, в котором мы живё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Самый лучший в мире до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H:\валерьевна\8 июля\SDC14730.JPG"/>
          <p:cNvPicPr/>
          <p:nvPr/>
        </p:nvPicPr>
        <p:blipFill>
          <a:blip r:embed="rId3"/>
          <a:stretch/>
        </p:blipFill>
        <p:spPr>
          <a:xfrm>
            <a:off x="651960" y="748800"/>
            <a:ext cx="4348080" cy="3233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H:\валерьевна\8 июля\SDC14738.JPG"/>
          <p:cNvPicPr/>
          <p:nvPr/>
        </p:nvPicPr>
        <p:blipFill>
          <a:blip r:embed="rId4"/>
          <a:stretch/>
        </p:blipFill>
        <p:spPr>
          <a:xfrm>
            <a:off x="1772640" y="5220000"/>
            <a:ext cx="4477680" cy="32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565740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cc"/>
                </a:solidFill>
                <a:latin typeface="Monotype Corsiva"/>
                <a:ea typeface="Verdana"/>
              </a:rPr>
              <a:t>«Детский сад - большая, дружная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Verdana"/>
              </a:rPr>
              <a:t>С Е М Ь Я !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  <a:ea typeface="Verdana"/>
              </a:rPr>
              <a:t>»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Содержимое 3" descr="DSC05489.JPG"/>
          <p:cNvPicPr/>
          <p:nvPr/>
        </p:nvPicPr>
        <p:blipFill>
          <a:blip r:embed="rId1"/>
          <a:stretch/>
        </p:blipFill>
        <p:spPr>
          <a:xfrm>
            <a:off x="1857240" y="5214960"/>
            <a:ext cx="4214520" cy="3160440"/>
          </a:xfrm>
          <a:prstGeom prst="rect">
            <a:avLst/>
          </a:prstGeom>
          <a:ln cap="sq" w="38100">
            <a:solidFill>
              <a:srgbClr val="00cc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208" name="Содержимое 20" descr="DSC05483.JPG"/>
          <p:cNvPicPr/>
          <p:nvPr/>
        </p:nvPicPr>
        <p:blipFill>
          <a:blip r:embed="rId2"/>
          <a:stretch/>
        </p:blipFill>
        <p:spPr>
          <a:xfrm>
            <a:off x="785880" y="1857240"/>
            <a:ext cx="4190760" cy="3142800"/>
          </a:xfrm>
          <a:prstGeom prst="rect">
            <a:avLst/>
          </a:prstGeom>
          <a:ln cap="sq" w="38100">
            <a:solidFill>
              <a:srgbClr val="ffff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209" name="Picture 2" descr="H:\валерьевна\8 июля\SDC14652.JPG"/>
          <p:cNvPicPr/>
          <p:nvPr/>
        </p:nvPicPr>
        <p:blipFill>
          <a:blip r:embed="rId3"/>
          <a:stretch/>
        </p:blipFill>
        <p:spPr>
          <a:xfrm>
            <a:off x="785880" y="1857240"/>
            <a:ext cx="4190760" cy="3142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H:\валерьевна\8 июля\SDC14763.JPG"/>
          <p:cNvPicPr/>
          <p:nvPr/>
        </p:nvPicPr>
        <p:blipFill>
          <a:blip r:embed="rId4"/>
          <a:stretch/>
        </p:blipFill>
        <p:spPr>
          <a:xfrm>
            <a:off x="1845000" y="5220000"/>
            <a:ext cx="4240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  <Words>188</Words>
  <Paragraphs>2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4:52:35Z</dcterms:created>
  <dc:creator>Олег</dc:creator>
  <dc:description/>
  <dc:language>en-US</dc:language>
  <cp:lastModifiedBy>Ира</cp:lastModifiedBy>
  <dcterms:modified xsi:type="dcterms:W3CDTF">2018-08-14T09:53:21Z</dcterms:modified>
  <cp:revision>48</cp:revision>
  <dc:subject/>
  <dc:title>ДЕНЬ СЕМЬИ, ЛЮБВИ  И ВЕР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5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