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4053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7526-D498-48A8-962E-171EEE824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0920" y="274320"/>
            <a:ext cx="61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0920" y="1600200"/>
            <a:ext cx="61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0920" y="3964320"/>
            <a:ext cx="61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6D4E-5F6A-4AF0-B889-5BC3CAB79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0920" y="274320"/>
            <a:ext cx="61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0920" y="1600200"/>
            <a:ext cx="30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96320" y="1600200"/>
            <a:ext cx="30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0920" y="3964320"/>
            <a:ext cx="30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496320" y="3964320"/>
            <a:ext cx="30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FBC9-0D1A-4870-A29D-096BB1033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0920" y="274320"/>
            <a:ext cx="61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0920" y="1600200"/>
            <a:ext cx="198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2800" y="1600200"/>
            <a:ext cx="198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05040" y="1600200"/>
            <a:ext cx="198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0920" y="3964320"/>
            <a:ext cx="198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2800" y="3964320"/>
            <a:ext cx="198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05040" y="3964320"/>
            <a:ext cx="1982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EF15-C51B-4D3E-BEA4-04C159F0E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0920" y="274320"/>
            <a:ext cx="61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0920" y="1600200"/>
            <a:ext cx="61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9065-C10E-472B-8699-11CCDE61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0920" y="274320"/>
            <a:ext cx="61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0920" y="1600200"/>
            <a:ext cx="61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457C-159C-4EAB-B53C-3B0D6910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0920" y="274320"/>
            <a:ext cx="61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0920" y="1600200"/>
            <a:ext cx="30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496320" y="1600200"/>
            <a:ext cx="30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3C6E-548B-4E77-B2A6-73CC6A4B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0920" y="274320"/>
            <a:ext cx="61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FF2B-29A9-4E33-A44A-2147D24C8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0920" y="274320"/>
            <a:ext cx="6157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8E52-957E-4F56-A14E-B144F4EAC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0920" y="274320"/>
            <a:ext cx="61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0920" y="1600200"/>
            <a:ext cx="30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496320" y="1600200"/>
            <a:ext cx="30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0920" y="3964320"/>
            <a:ext cx="30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7206-D400-4608-B8C7-B46C23C3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0920" y="274320"/>
            <a:ext cx="61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0920" y="1600200"/>
            <a:ext cx="3004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496320" y="1600200"/>
            <a:ext cx="30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96320" y="3964320"/>
            <a:ext cx="30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9E15-880C-46BF-A239-4E3D88F3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0920" y="274320"/>
            <a:ext cx="61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0920" y="1600200"/>
            <a:ext cx="30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96320" y="1600200"/>
            <a:ext cx="3004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0920" y="3964320"/>
            <a:ext cx="61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0D4D-0FEE-4B97-B65C-0C3704DE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0920" y="274320"/>
            <a:ext cx="6157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600200"/>
            <a:ext cx="61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1280" y="6356520"/>
            <a:ext cx="159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36400" y="6356520"/>
            <a:ext cx="2166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02120" y="6356520"/>
            <a:ext cx="1596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635D8-899B-46C7-A90D-319A742FCBD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2"/>
          <p:cNvSpPr/>
          <p:nvPr/>
        </p:nvSpPr>
        <p:spPr>
          <a:xfrm>
            <a:off x="1704960" y="0"/>
            <a:ext cx="3502080" cy="68580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1984680" y="1428840"/>
            <a:ext cx="2943720" cy="16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пова Любовь Евген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трудового об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Столярное дел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БОУ СОШ №12 Центр образ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. Серпух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1229400" y="428760"/>
            <a:ext cx="45590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1f497d"/>
                </a:solidFill>
                <a:latin typeface="Arial Black"/>
              </a:rPr>
              <a:t>ЧЕРТЁЖ</a:t>
            </a:r>
            <a:br>
              <a:rPr sz="2400"/>
            </a:br>
            <a:r>
              <a:rPr b="0" lang="ru-RU" sz="2400" spc="-1" strike="noStrike">
                <a:solidFill>
                  <a:srgbClr val="1f497d"/>
                </a:solidFill>
                <a:latin typeface="Arial Black"/>
              </a:rPr>
              <a:t>ОСНОВНЫЕ ПОНЯТИЯ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екции и линии на черте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Рисунок 4" descr="Чертеж_шапка.jpg"/>
          <p:cNvPicPr/>
          <p:nvPr/>
        </p:nvPicPr>
        <p:blipFill>
          <a:blip r:embed="rId1"/>
          <a:stretch/>
        </p:blipFill>
        <p:spPr>
          <a:xfrm>
            <a:off x="912960" y="1857240"/>
            <a:ext cx="507996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2"/>
          <p:cNvSpPr/>
          <p:nvPr/>
        </p:nvSpPr>
        <p:spPr>
          <a:xfrm>
            <a:off x="510840" y="500040"/>
            <a:ext cx="576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Чертёж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— это графический документ,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одержащий изображение детали и необходимые данные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для ее изготовления и контрол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Рисунок 3" descr="Чертеж_пример.jpg"/>
          <p:cNvPicPr/>
          <p:nvPr/>
        </p:nvPicPr>
        <p:blipFill>
          <a:blip r:embed="rId1"/>
          <a:stretch/>
        </p:blipFill>
        <p:spPr>
          <a:xfrm>
            <a:off x="276120" y="1500120"/>
            <a:ext cx="626436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1"/>
          <p:cNvSpPr/>
          <p:nvPr/>
        </p:nvSpPr>
        <p:spPr>
          <a:xfrm>
            <a:off x="419040" y="3929040"/>
            <a:ext cx="6421320" cy="6429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9"/>
          <p:cNvSpPr/>
          <p:nvPr/>
        </p:nvSpPr>
        <p:spPr>
          <a:xfrm>
            <a:off x="419040" y="428760"/>
            <a:ext cx="6421320" cy="6429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2429280" y="1139760"/>
            <a:ext cx="3592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сновная лин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линия видимого контур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Основной линией изображают видимые линии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ересечения поверх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I:\Shool_2\Эскиз детали\Презентация -эскиз-\Виды линий_Кроп.jpg"/>
          <p:cNvPicPr/>
          <p:nvPr/>
        </p:nvPicPr>
        <p:blipFill>
          <a:blip r:embed="rId1"/>
          <a:stretch/>
        </p:blipFill>
        <p:spPr>
          <a:xfrm>
            <a:off x="490680" y="1211400"/>
            <a:ext cx="1866600" cy="234936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2424600" y="1782720"/>
            <a:ext cx="3870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Штриховая лин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линия невидимого контур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Штриховой линией изображают невидимые линии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пересечения поверх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2430360" y="2354400"/>
            <a:ext cx="417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Штрихпунктирная лин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осевая ли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Штрихпунктирной линией изображают оси вращения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еталей и координаты центров отверс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2431080" y="2997360"/>
            <a:ext cx="3905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Сплошная тонкая лин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(вспомогательная линия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Тонкие сплошные линии применяют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для простановки разме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490680" y="425520"/>
            <a:ext cx="34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Линии, используемы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в оформлении чертеж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0"/>
          <p:cNvSpPr/>
          <p:nvPr/>
        </p:nvSpPr>
        <p:spPr>
          <a:xfrm>
            <a:off x="685440" y="3929040"/>
            <a:ext cx="54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Black"/>
              </a:rPr>
              <a:t>МАСШТАБ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— степень уменьшения или увеличения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зображения детали на черте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2"/>
          <p:cNvSpPr/>
          <p:nvPr/>
        </p:nvSpPr>
        <p:spPr>
          <a:xfrm>
            <a:off x="633600" y="4786200"/>
            <a:ext cx="4655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 1:1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— чертёж выполнен в натуральную величин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 1:2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— чертёж выполнен с уменьшением в 2 раз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М 2:1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— чертёж выполнен с увеличением в 2 раз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3"/>
          <p:cNvSpPr/>
          <p:nvPr/>
        </p:nvSpPr>
        <p:spPr>
          <a:xfrm>
            <a:off x="2638440" y="5643720"/>
            <a:ext cx="350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чение МАСШТАБА на чертеже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казывается ОБЯЗАТЕЛЬН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Рисунок 1" descr="проекции_1.jpg"/>
          <p:cNvPicPr/>
          <p:nvPr/>
        </p:nvPicPr>
        <p:blipFill>
          <a:blip r:embed="rId1"/>
          <a:stretch/>
        </p:blipFill>
        <p:spPr>
          <a:xfrm>
            <a:off x="112680" y="120600"/>
            <a:ext cx="6616800" cy="6616800"/>
          </a:xfrm>
          <a:prstGeom prst="rect">
            <a:avLst/>
          </a:prstGeom>
          <a:ln w="0">
            <a:noFill/>
          </a:ln>
        </p:spPr>
      </p:pic>
      <p:sp>
        <p:nvSpPr>
          <p:cNvPr id="59" name="TextBox 2"/>
          <p:cNvSpPr/>
          <p:nvPr/>
        </p:nvSpPr>
        <p:spPr>
          <a:xfrm>
            <a:off x="490680" y="357120"/>
            <a:ext cx="585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зображения детали на чертеже —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это проекции контуров детали на основные плоскости простран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4" descr="Вид прямо.jpg"/>
          <p:cNvPicPr/>
          <p:nvPr/>
        </p:nvPicPr>
        <p:blipFill>
          <a:blip r:embed="rId1"/>
          <a:stretch/>
        </p:blipFill>
        <p:spPr>
          <a:xfrm>
            <a:off x="276120" y="928800"/>
            <a:ext cx="6324840" cy="2997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3" descr="Изометрия.png"/>
          <p:cNvPicPr/>
          <p:nvPr/>
        </p:nvPicPr>
        <p:blipFill>
          <a:blip r:embed="rId2"/>
          <a:stretch/>
        </p:blipFill>
        <p:spPr>
          <a:xfrm>
            <a:off x="133200" y="2928960"/>
            <a:ext cx="4859640" cy="364320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447120" y="428760"/>
            <a:ext cx="6023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ид спереди (прямо)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— должен показывать форму детали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 наибольшей наглядностью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лево 6"/>
          <p:cNvSpPr/>
          <p:nvPr/>
        </p:nvSpPr>
        <p:spPr>
          <a:xfrm rot="1586400">
            <a:off x="4404960" y="5030640"/>
            <a:ext cx="977760" cy="48420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3928320" y="5715000"/>
            <a:ext cx="25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6c0a"/>
                </a:solidFill>
                <a:latin typeface="Arial"/>
                <a:ea typeface="Arial"/>
              </a:rPr>
              <a:t>Направление взгля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I:\Shool_2\Эскиз детали\Презентация -эскиз-\Вид слева.jpg"/>
          <p:cNvPicPr/>
          <p:nvPr/>
        </p:nvPicPr>
        <p:blipFill>
          <a:blip r:embed="rId1"/>
          <a:stretch/>
        </p:blipFill>
        <p:spPr>
          <a:xfrm>
            <a:off x="133200" y="860400"/>
            <a:ext cx="6324840" cy="29973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2" descr="Изометрия.png"/>
          <p:cNvPicPr/>
          <p:nvPr/>
        </p:nvPicPr>
        <p:blipFill>
          <a:blip r:embed="rId2"/>
          <a:stretch/>
        </p:blipFill>
        <p:spPr>
          <a:xfrm>
            <a:off x="990720" y="2428920"/>
            <a:ext cx="4859280" cy="364320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1008000" y="428760"/>
            <a:ext cx="4975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ид слева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— должен располагаться на чертеже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права от вида прямо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трелка влево 4"/>
          <p:cNvSpPr/>
          <p:nvPr/>
        </p:nvSpPr>
        <p:spPr>
          <a:xfrm rot="8073000">
            <a:off x="1048320" y="5836320"/>
            <a:ext cx="977760" cy="484200"/>
          </a:xfrm>
          <a:prstGeom prst="leftArrow">
            <a:avLst>
              <a:gd name="adj1" fmla="val 50000"/>
              <a:gd name="adj2" fmla="val 49988"/>
            </a:avLst>
          </a:pr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5"/>
          <p:cNvSpPr/>
          <p:nvPr/>
        </p:nvSpPr>
        <p:spPr>
          <a:xfrm>
            <a:off x="1784160" y="6143760"/>
            <a:ext cx="25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6c0a"/>
                </a:solidFill>
                <a:latin typeface="Arial"/>
                <a:ea typeface="Arial"/>
              </a:rPr>
              <a:t>Направление взгля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I:\Shool_2\Эскиз детали\Презентация -эскиз-\Вид сверху.jpg"/>
          <p:cNvPicPr/>
          <p:nvPr/>
        </p:nvPicPr>
        <p:blipFill>
          <a:blip r:embed="rId1"/>
          <a:stretch/>
        </p:blipFill>
        <p:spPr>
          <a:xfrm>
            <a:off x="0" y="785880"/>
            <a:ext cx="6324480" cy="2997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3"/>
          <p:cNvSpPr/>
          <p:nvPr/>
        </p:nvSpPr>
        <p:spPr>
          <a:xfrm>
            <a:off x="863280" y="428760"/>
            <a:ext cx="5085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Вид сверху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— должен располагаться на чертеже</a:t>
            </a:r>
            <a:br>
              <a:rPr sz="1600"/>
            </a:b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под видом прямо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2" descr="Изометрия.png"/>
          <p:cNvPicPr/>
          <p:nvPr/>
        </p:nvPicPr>
        <p:blipFill>
          <a:blip r:embed="rId2"/>
          <a:stretch/>
        </p:blipFill>
        <p:spPr>
          <a:xfrm>
            <a:off x="1562040" y="3857760"/>
            <a:ext cx="4002120" cy="3000240"/>
          </a:xfrm>
          <a:prstGeom prst="rect">
            <a:avLst/>
          </a:prstGeom>
          <a:ln w="0">
            <a:noFill/>
          </a:ln>
        </p:spPr>
      </p:pic>
      <p:sp>
        <p:nvSpPr>
          <p:cNvPr id="73" name="Стрелка влево 4"/>
          <p:cNvSpPr/>
          <p:nvPr/>
        </p:nvSpPr>
        <p:spPr>
          <a:xfrm rot="16200000">
            <a:off x="2744640" y="3889080"/>
            <a:ext cx="978120" cy="485640"/>
          </a:xfrm>
          <a:prstGeom prst="leftArrow">
            <a:avLst>
              <a:gd name="adj1" fmla="val 50000"/>
              <a:gd name="adj2" fmla="val 50026"/>
            </a:avLst>
          </a:prstGeom>
          <a:solidFill>
            <a:srgbClr val="e46c0a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3428280" y="3714840"/>
            <a:ext cx="25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46c0a"/>
                </a:solidFill>
                <a:latin typeface="Arial"/>
                <a:ea typeface="Arial"/>
              </a:rPr>
              <a:t>Направление взгля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633240" y="1071720"/>
            <a:ext cx="5502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спользованная литератур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. Программы для 5-9 классов специальных (коррекционных) учреждений VIII вида. Сборник —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М.: Гуманит. изд. центр ВЛАДОС, 20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. Столярное дело. Авт. Журавлев Б.А. Учебное пособие для 5-6 классов вспомогательной школы. М., "Просвещение", 199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. Столярное дело. Авт. Журавлев Б.А. Учебное пособие для 7-8 классов вспомогательной школы. М., "Просвещение", 199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Справочное руководство по черчению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. Н. Богданов, И. Ф. Малежик, А. П. Верхола и др. —М. Машиностроение, 198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18:36:24Z</dcterms:created>
  <dc:creator>User</dc:creator>
  <dc:description/>
  <dc:language>en-US</dc:language>
  <cp:lastModifiedBy>Дуся</cp:lastModifiedBy>
  <dcterms:modified xsi:type="dcterms:W3CDTF">2018-08-19T08:27:25Z</dcterms:modified>
  <cp:revision>16</cp:revision>
  <dc:subject/>
  <dc:title>Слайд 1</dc:title>
</cp:coreProperties>
</file>