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405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5855-6466-4D72-B27B-6741C6551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61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0920" y="3964320"/>
            <a:ext cx="61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80ED-B152-448A-8A5A-347FC7C09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63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0920" y="396432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96320" y="396432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AB77-F013-4D82-ACEA-FAF91EDB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2800" y="160020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05040" y="160020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0920" y="396432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2800" y="396432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05040" y="396432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DDC0-BE35-48ED-864C-3ABFD7A8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0920" y="1600200"/>
            <a:ext cx="61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EDB3-D165-4570-AAD8-12F617D0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61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779-63FE-4C8A-A9F1-4A4059C1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30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1600200"/>
            <a:ext cx="30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A33D-32AA-4CA5-AF98-B2E0A9B2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951-5EDE-4230-A122-712CD0AC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0920" y="274320"/>
            <a:ext cx="615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1E6-2560-4AC3-A5C0-5AC4626F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96320" y="1600200"/>
            <a:ext cx="30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0920" y="396432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558-5C63-4D43-8191-0D828CEC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30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963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96320" y="396432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FFA-CD25-4077-94EA-57788F01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963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0920" y="3964320"/>
            <a:ext cx="61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5A08-F4B0-4D35-B3B4-8DC6677A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600200"/>
            <a:ext cx="61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6356520"/>
            <a:ext cx="159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36400" y="6356520"/>
            <a:ext cx="216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02120" y="6356520"/>
            <a:ext cx="159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D98A-26C7-4A91-BDD2-DD89684BB8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1704960" y="0"/>
            <a:ext cx="3502080" cy="6858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1984680" y="1428840"/>
            <a:ext cx="294372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ова Любовь Евген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рудов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толярное д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БОУ СОШ №12 Центр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Серпух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229400" y="428760"/>
            <a:ext cx="45590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 Black"/>
              </a:rPr>
              <a:t>ЧЕРТЁЖ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ОСНОВНЫЕ ПОНЯТИЯ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екции и линии на чер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Чертеж_шапка.jpg"/>
          <p:cNvPicPr/>
          <p:nvPr/>
        </p:nvPicPr>
        <p:blipFill>
          <a:blip r:embed="rId1"/>
          <a:stretch/>
        </p:blipFill>
        <p:spPr>
          <a:xfrm>
            <a:off x="912960" y="1857240"/>
            <a:ext cx="50799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510840" y="500040"/>
            <a:ext cx="576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ертёж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— это графический документ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держащий изображение детали и необходимые данны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ля ее изготовления и контр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Чертеж_пример.jpg"/>
          <p:cNvPicPr/>
          <p:nvPr/>
        </p:nvPicPr>
        <p:blipFill>
          <a:blip r:embed="rId1"/>
          <a:stretch/>
        </p:blipFill>
        <p:spPr>
          <a:xfrm>
            <a:off x="276120" y="1500120"/>
            <a:ext cx="62643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1"/>
          <p:cNvSpPr/>
          <p:nvPr/>
        </p:nvSpPr>
        <p:spPr>
          <a:xfrm>
            <a:off x="419040" y="3929040"/>
            <a:ext cx="6421320" cy="642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419040" y="428760"/>
            <a:ext cx="6421320" cy="642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429280" y="1139760"/>
            <a:ext cx="359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линия видимого конту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новной линией изображают видимые линии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ересечения поверх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I:\Shool_2\Эскиз детали\Презентация -эскиз-\Виды линий_Кроп.jpg"/>
          <p:cNvPicPr/>
          <p:nvPr/>
        </p:nvPicPr>
        <p:blipFill>
          <a:blip r:embed="rId1"/>
          <a:stretch/>
        </p:blipFill>
        <p:spPr>
          <a:xfrm>
            <a:off x="490680" y="1211400"/>
            <a:ext cx="1866600" cy="2349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424600" y="1782720"/>
            <a:ext cx="387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ов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линия невидимого конту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овой линией изображают невидимые лини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ересечения поверх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430360" y="2354400"/>
            <a:ext cx="417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пунктирн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осевая ли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пунктирной линией изображают оси вращения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талей и координаты центров отверс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431080" y="2997360"/>
            <a:ext cx="390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плошная тонк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вспомогательная ли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онкие сплошные линии применяют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простановки разме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90680" y="425520"/>
            <a:ext cx="34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нии, используем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оформлении чертеж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685440" y="392904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СШТА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— степень уменьшения или увеличе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ажения детали на черте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633600" y="4786200"/>
            <a:ext cx="465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1:1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в натуральную величин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1:2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с уменьшением в 2 раз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2:1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с увеличением в 2 ра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2638440" y="564372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МАСШТАБА на чертеж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азывается ОБЯЗАТЕ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проекции_1.jpg"/>
          <p:cNvPicPr/>
          <p:nvPr/>
        </p:nvPicPr>
        <p:blipFill>
          <a:blip r:embed="rId1"/>
          <a:stretch/>
        </p:blipFill>
        <p:spPr>
          <a:xfrm>
            <a:off x="112680" y="120600"/>
            <a:ext cx="6616800" cy="6616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490680" y="357120"/>
            <a:ext cx="585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ображения детали на чертеже —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проекции контуров детали на основные плоскости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Вид прямо.jpg"/>
          <p:cNvPicPr/>
          <p:nvPr/>
        </p:nvPicPr>
        <p:blipFill>
          <a:blip r:embed="rId1"/>
          <a:stretch/>
        </p:blipFill>
        <p:spPr>
          <a:xfrm>
            <a:off x="276120" y="928800"/>
            <a:ext cx="6324840" cy="2997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Изометрия.png"/>
          <p:cNvPicPr/>
          <p:nvPr/>
        </p:nvPicPr>
        <p:blipFill>
          <a:blip r:embed="rId2"/>
          <a:stretch/>
        </p:blipFill>
        <p:spPr>
          <a:xfrm>
            <a:off x="133200" y="2928960"/>
            <a:ext cx="4859640" cy="3643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447120" y="428760"/>
            <a:ext cx="602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переди (прямо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показывать форму детали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наибольшей наглядность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лево 6"/>
          <p:cNvSpPr/>
          <p:nvPr/>
        </p:nvSpPr>
        <p:spPr>
          <a:xfrm rot="1586400">
            <a:off x="4404960" y="503064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928320" y="571500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:\Shool_2\Эскиз детали\Презентация -эскиз-\Вид слева.jpg"/>
          <p:cNvPicPr/>
          <p:nvPr/>
        </p:nvPicPr>
        <p:blipFill>
          <a:blip r:embed="rId1"/>
          <a:stretch/>
        </p:blipFill>
        <p:spPr>
          <a:xfrm>
            <a:off x="133200" y="860400"/>
            <a:ext cx="6324840" cy="2997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Изометрия.png"/>
          <p:cNvPicPr/>
          <p:nvPr/>
        </p:nvPicPr>
        <p:blipFill>
          <a:blip r:embed="rId2"/>
          <a:stretch/>
        </p:blipFill>
        <p:spPr>
          <a:xfrm>
            <a:off x="990720" y="2428920"/>
            <a:ext cx="4859280" cy="36432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008000" y="428760"/>
            <a:ext cx="49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лев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располагаться на чертеж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рава от вида прямо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лево 4"/>
          <p:cNvSpPr/>
          <p:nvPr/>
        </p:nvSpPr>
        <p:spPr>
          <a:xfrm rot="8073000">
            <a:off x="1048320" y="583632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1784160" y="614376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:\Shool_2\Эскиз детали\Презентация -эскиз-\Вид сверху.jpg"/>
          <p:cNvPicPr/>
          <p:nvPr/>
        </p:nvPicPr>
        <p:blipFill>
          <a:blip r:embed="rId1"/>
          <a:stretch/>
        </p:blipFill>
        <p:spPr>
          <a:xfrm>
            <a:off x="0" y="785880"/>
            <a:ext cx="6324480" cy="2997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63280" y="428760"/>
            <a:ext cx="508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верху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располагаться на чертеж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 видом прямо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Изометрия.png"/>
          <p:cNvPicPr/>
          <p:nvPr/>
        </p:nvPicPr>
        <p:blipFill>
          <a:blip r:embed="rId2"/>
          <a:stretch/>
        </p:blipFill>
        <p:spPr>
          <a:xfrm>
            <a:off x="1562040" y="3857760"/>
            <a:ext cx="4002120" cy="300024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4"/>
          <p:cNvSpPr/>
          <p:nvPr/>
        </p:nvSpPr>
        <p:spPr>
          <a:xfrm rot="16200000">
            <a:off x="2744640" y="3889080"/>
            <a:ext cx="978120" cy="485640"/>
          </a:xfrm>
          <a:prstGeom prst="leftArrow">
            <a:avLst>
              <a:gd name="adj1" fmla="val 50000"/>
              <a:gd name="adj2" fmla="val 50026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3428280" y="37148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633240" y="1071720"/>
            <a:ext cx="550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ован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Программы для 5-9 классов специальных (коррекционных) учреждений VIII вида. Сборник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М.: Гуманит. изд. центр ВЛАДОС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толярное дело. Авт. Журавлев Б.А. Учебное пособие для 5-6 классов вспомогательной школы. М., "Просвещение"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Столярное дело. Авт. Журавлев Б.А. Учебное пособие для 7-8 классов вспомогательной школы. М., "Просвещение"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правочное руководство по черчени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Н. Богданов, И. Ф. Малежик, А. П. Верхола и др. —М. Машиностроение, 198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8:36:24Z</dcterms:created>
  <dc:creator>User</dc:creator>
  <dc:description/>
  <dc:language>en-US</dc:language>
  <cp:lastModifiedBy>Дуся</cp:lastModifiedBy>
  <dcterms:modified xsi:type="dcterms:W3CDTF">2018-08-19T08:27:25Z</dcterms:modified>
  <cp:revision>16</cp:revision>
  <dc:subject/>
  <dc:title>Слайд 1</dc:title>
</cp:coreProperties>
</file>