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5.jpeg" ContentType="image/jpeg"/>
  <Override PartName="/ppt/media/image3.gif" ContentType="image/gif"/>
  <Override PartName="/ppt/media/image13.jpeg" ContentType="image/jpeg"/>
  <Override PartName="/ppt/media/image5.png" ContentType="image/png"/>
  <Override PartName="/ppt/media/image2.gif" ContentType="image/gif"/>
  <Override PartName="/ppt/media/image10.jpeg" ContentType="image/jpeg"/>
  <Override PartName="/ppt/media/image29.jpeg" ContentType="image/jpeg"/>
  <Override PartName="/ppt/media/image32.wmf" ContentType="image/x-wmf"/>
  <Override PartName="/ppt/media/image6.gif" ContentType="image/gif"/>
  <Override PartName="/ppt/media/image8.png" ContentType="image/png"/>
  <Override PartName="/ppt/media/image11.jpeg" ContentType="image/jpeg"/>
  <Override PartName="/ppt/media/image9.jpeg" ContentType="image/jpeg"/>
  <Override PartName="/ppt/media/image30.wmf" ContentType="image/x-wmf"/>
  <Override PartName="/ppt/media/image4.png" ContentType="image/png"/>
  <Override PartName="/ppt/media/image12.jpeg" ContentType="image/jpeg"/>
  <Override PartName="/ppt/media/image31.wmf" ContentType="image/x-wmf"/>
  <Override PartName="/ppt/media/image7.jpeg" ContentType="image/jpeg"/>
  <Override PartName="/ppt/media/image28.jpeg" ContentType="image/jpeg"/>
  <Override PartName="/ppt/media/image1.jpeg" ContentType="image/jpeg"/>
  <Override PartName="/ppt/media/image14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18.wmf" ContentType="image/x-wmf"/>
  <Override PartName="/ppt/media/image20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media/image23.jpeg" ContentType="image/jpeg"/>
  <Override PartName="/ppt/media/image24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3586-0FC0-4C88-9B01-D10C69D78C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370E-43F2-4E7D-96AE-F39542DC16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59F6-B63C-4E9F-B117-60C1E3EA1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DA4F-AC04-4CB5-9E2D-84E87139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648F-129B-4632-AD32-154DC2492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C33C-CE5C-47F6-94C0-26440BA0D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5C2E-E10F-4C80-843D-0ACA240B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5F3A-5E59-4820-B4BE-E806E9F6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2C74-9B39-4A27-9377-6CD18557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2FB4-60AE-4D83-ADBD-7C6BB133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93AC-88BA-4D53-B98A-39619C9A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E8E3-BF6D-4A8D-A57C-720A3B2E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4DAB-7834-4BEA-94A8-68D882A98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1798-E394-45B7-B526-1BF5A582B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A86D-FE41-4EFC-84D2-1B84AF7861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44;&#1077;&#1085;&#1100;" TargetMode="External"/><Relationship Id="rId2" Type="http://schemas.openxmlformats.org/officeDocument/2006/relationships/hyperlink" Target="http://ru.wikipedia.org/w/index.php?title=&#1055;&#1088;&#1080;&#1105;&#1084;_&#1087;&#1080;&#1097;&#1080;&amp;action=edit&amp;redlink=1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6.gif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7760" y="3581280"/>
            <a:ext cx="655308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66"/>
                </a:solidFill>
                <a:latin typeface="Bookman Old Style"/>
              </a:rPr>
              <a:t>Работу выполни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993366"/>
                </a:solidFill>
                <a:latin typeface="Bookman Old Style"/>
              </a:rPr>
              <a:t>ученица 4 Г клас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66"/>
                </a:solidFill>
                <a:latin typeface="Bookman Old Style"/>
              </a:rPr>
              <a:t> </a:t>
            </a:r>
            <a:r>
              <a:rPr b="1" lang="ru-RU" sz="1600" spc="-1" strike="noStrike">
                <a:solidFill>
                  <a:srgbClr val="993366"/>
                </a:solidFill>
                <a:latin typeface="Bookman Old Style"/>
              </a:rPr>
              <a:t>Пантюхина Мар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66"/>
                </a:solidFill>
                <a:latin typeface="Bookman Old Style"/>
              </a:rPr>
              <a:t>Руководител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66"/>
                </a:solidFill>
                <a:latin typeface="Bookman Old Style"/>
              </a:rPr>
              <a:t>Мельникова Оксана Григор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C:\Users\андрей\Desktop\Новая папка\5f8eb9f27c19fc6321551803f3e983ba.gif"/>
          <p:cNvPicPr/>
          <p:nvPr/>
        </p:nvPicPr>
        <p:blipFill>
          <a:blip r:embed="rId1"/>
          <a:stretch/>
        </p:blipFill>
        <p:spPr>
          <a:xfrm>
            <a:off x="1828800" y="3505320"/>
            <a:ext cx="2590920" cy="2292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андрей\Desktop\Новая папка\f33a81ab2f8cbf9a1aa42a83dc7d5cfb.gif"/>
          <p:cNvPicPr/>
          <p:nvPr/>
        </p:nvPicPr>
        <p:blipFill>
          <a:blip r:embed="rId2"/>
          <a:stretch/>
        </p:blipFill>
        <p:spPr>
          <a:xfrm>
            <a:off x="685800" y="1219320"/>
            <a:ext cx="2320920" cy="236196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6" descr=""/>
          <p:cNvPicPr/>
          <p:nvPr/>
        </p:nvPicPr>
        <p:blipFill>
          <a:blip r:embed="rId3"/>
          <a:stretch/>
        </p:blipFill>
        <p:spPr>
          <a:xfrm>
            <a:off x="1285920" y="609480"/>
            <a:ext cx="9090000" cy="493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66"/>
                </a:solidFill>
                <a:latin typeface="Bookman Old Style"/>
              </a:rPr>
              <a:t>Типовые режимы питания школьников при обучении в первую и вторую см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Первая с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7.00 - 7.20 - Завтрак до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10.00 - 11.00 - Горячий завтрак в шко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12.00 - 13.00 - Обед дома или в шко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19.00 - 19.30 - Ужин до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   </a:t>
            </a:r>
            <a:r>
              <a:rPr b="1" i="1" lang="ru-RU" sz="2400" spc="-1" strike="noStrike">
                <a:solidFill>
                  <a:srgbClr val="c00000"/>
                </a:solidFill>
                <a:latin typeface="Bookman Old Style"/>
              </a:rPr>
              <a:t>Вторая с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8.00 - 8.30 - Завтрак до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12.30 - 13.00 - Обед дома (перед уходом в школу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16.00 - 16.30 - Горячее питание в шко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   </a:t>
            </a:r>
            <a:r>
              <a:rPr b="0" lang="ru-RU" sz="2000" spc="-1" strike="noStrike">
                <a:solidFill>
                  <a:srgbClr val="002060"/>
                </a:solidFill>
                <a:latin typeface="Bookman Old Style"/>
              </a:rPr>
              <a:t>19.30 - 20.00 - Ужин до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D:\Ленулечка\Анимашки\Линии\ar27.gif"/>
          <p:cNvPicPr/>
          <p:nvPr/>
        </p:nvPicPr>
        <p:blipFill>
          <a:blip r:embed="rId1"/>
          <a:stretch/>
        </p:blipFill>
        <p:spPr>
          <a:xfrm>
            <a:off x="685800" y="160020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D:\Ленулечка\Анимашки\Линии\ar27.gif"/>
          <p:cNvPicPr/>
          <p:nvPr/>
        </p:nvPicPr>
        <p:blipFill>
          <a:blip r:embed="rId2"/>
          <a:stretch/>
        </p:blipFill>
        <p:spPr>
          <a:xfrm>
            <a:off x="685800" y="3505320"/>
            <a:ext cx="285840" cy="28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интервью повара школьной столовой Рыковой Надежды Евгеньев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914400" y="1828440"/>
            <a:ext cx="72388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жедневно мы готовим 270 порций на учеников начальной школ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цион горячих завтраков разнообразен и удовлетворяет санитарным нормам, правилам и гигиеническим требованиям к организации питания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ю составлено на 10-дневный период с учётом сезонности и энергетической ценности, суточной потребности организма школьника в витаминах и минеральных вещест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066320" y="990360"/>
            <a:ext cx="71629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желания ученикам и их родителя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чется пожелать, чтобы дети, а главное их родители понимали важность завтра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838080" y="914040"/>
            <a:ext cx="739152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нкетирование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ли опрошены 100 человек. Из ни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гда завтракают дома или в школе – 60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успевают завтракать – 14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азываются от завтрака – 6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914400" y="838080"/>
            <a:ext cx="73915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же я узнала,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всё ли едят ребя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школе едят всё – 29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школе едят то, что нравится – 44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 едят всё – 51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ма едят то, что нравится – 37 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Ученики считаю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трак необходим – 80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втрак необязателен – 20 ч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9320" y="761760"/>
            <a:ext cx="6705360" cy="6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, что едят мои одноклассники на завтр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Объект 5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25462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"/>
          <p:cNvPicPr/>
          <p:nvPr/>
        </p:nvPicPr>
        <p:blipFill>
          <a:blip r:embed="rId2"/>
          <a:stretch/>
        </p:blipFill>
        <p:spPr>
          <a:xfrm>
            <a:off x="3625920" y="3429000"/>
            <a:ext cx="1892160" cy="243828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7" descr=""/>
          <p:cNvPicPr/>
          <p:nvPr/>
        </p:nvPicPr>
        <p:blipFill>
          <a:blip r:embed="rId3"/>
          <a:stretch/>
        </p:blipFill>
        <p:spPr>
          <a:xfrm>
            <a:off x="5867280" y="1595520"/>
            <a:ext cx="24195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61760" y="1744200"/>
            <a:ext cx="746748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Bookman Old Style"/>
              </a:rPr>
              <a:t>     </a:t>
            </a:r>
            <a:r>
              <a:rPr b="1" lang="ru-RU" sz="1600" spc="-1" strike="noStrike">
                <a:solidFill>
                  <a:srgbClr val="002060"/>
                </a:solidFill>
                <a:latin typeface="Bookman Old Style"/>
              </a:rPr>
              <a:t>Сколько учеников начальных классов имеют проблемы с желудочно-кишечным трактом  и  сколько выпускников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    </a:t>
            </a: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(Если в начальных классах это 2 ученика, то к окончанию школы это 18  учеников. И с каждым выпуском ситуация только ухудшается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Bookman Old Style"/>
              </a:rPr>
              <a:t>    </a:t>
            </a:r>
            <a:r>
              <a:rPr b="1" lang="ru-RU" sz="1600" spc="-1" strike="noStrike">
                <a:solidFill>
                  <a:srgbClr val="002060"/>
                </a:solidFill>
                <a:latin typeface="Bookman Old Style"/>
              </a:rPr>
              <a:t>Контролируете ли Вы качество, продуктов, условия приготовления и рацион горячих завтраков в нашей школ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Bookman Old Style"/>
              </a:rPr>
              <a:t>    </a:t>
            </a:r>
            <a:r>
              <a:rPr b="0" lang="ru-RU" sz="1600" spc="-1" strike="noStrike">
                <a:solidFill>
                  <a:srgbClr val="c00000"/>
                </a:solidFill>
                <a:latin typeface="Bookman Old Style"/>
              </a:rPr>
              <a:t>(</a:t>
            </a: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Весь процесс приготовления блюд контролируем обязательн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b6bcf"/>
                </a:solidFill>
                <a:latin typeface="Bookman Old Style"/>
              </a:rPr>
              <a:t>    </a:t>
            </a:r>
            <a:r>
              <a:rPr b="1" lang="ru-RU" sz="1600" spc="-1" strike="noStrike">
                <a:solidFill>
                  <a:srgbClr val="222268"/>
                </a:solidFill>
                <a:latin typeface="Bookman Old Style"/>
              </a:rPr>
              <a:t>Ваши пожелания ученикам и их родителя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Bookman Old Style"/>
              </a:rPr>
              <a:t>    </a:t>
            </a:r>
            <a:r>
              <a:rPr b="0" lang="ru-RU" sz="1600" spc="-1" strike="noStrike">
                <a:solidFill>
                  <a:srgbClr val="c00000"/>
                </a:solidFill>
                <a:latin typeface="Bookman Old Style"/>
              </a:rPr>
              <a:t>(</a:t>
            </a:r>
            <a:r>
              <a:rPr b="0" i="1" lang="ru-RU" sz="1600" spc="-1" strike="noStrike">
                <a:solidFill>
                  <a:srgbClr val="c00000"/>
                </a:solidFill>
                <a:latin typeface="Bookman Old Style"/>
              </a:rPr>
              <a:t>Соблюдать режим питания, не только в начальных классах, но и на всех ступенях школьного процесса и дальше в ВУЗах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457200" y="9144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66"/>
                </a:solidFill>
                <a:latin typeface="Bookman Old Style"/>
              </a:rPr>
              <a:t>Беседа со школьным фельдше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66"/>
                </a:solidFill>
                <a:latin typeface="Bookman Old Style"/>
              </a:rPr>
              <a:t>Порубенок Любовью Александров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66"/>
                </a:solidFill>
                <a:latin typeface="Bookman Old Style"/>
              </a:rPr>
              <a:t>Как устранить выявленные пробле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80010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Обратить внимание родителей и учащихся на рацион  питания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Рекомендовать родителям и детям два завтра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Познакомить родителей и учащихся с информационным букл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Bookman Old Style"/>
              </a:rPr>
              <a:t>Подготовить и провести для учащихся начальных классов беседу «Так ли важен завтрак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7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7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8" nodeType="afterEffect" fill="hold" presetClass="entr" presetID="7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3" nodeType="afterEffect" fill="hold" presetClass="entr" presetID="7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-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993366"/>
                </a:solidFill>
                <a:latin typeface="Bookman Old Style"/>
              </a:rPr>
              <a:t>Гипотеза</a:t>
            </a:r>
            <a:r>
              <a:rPr b="0" i="1" lang="ru-RU" sz="3600" spc="-1" strike="noStrike">
                <a:solidFill>
                  <a:srgbClr val="993366"/>
                </a:solidFill>
                <a:latin typeface="Bookman Old Style"/>
              </a:rPr>
              <a:t> исследования</a:t>
            </a:r>
            <a:r>
              <a:rPr b="0" lang="ru-RU" sz="4000" spc="-1" strike="noStrike">
                <a:solidFill>
                  <a:srgbClr val="993366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Допустим, завтрак, также как обед и ужин, выдумали умные дяди и тёти, чтобы соблюсти этикет 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Что произойдет, если на завтрак есть только то, что нравится и тогда, когда хоче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D:\Ленулечка\Анимашки\Линии\ar41.gif"/>
          <p:cNvPicPr/>
          <p:nvPr/>
        </p:nvPicPr>
        <p:blipFill>
          <a:blip r:embed="rId3"/>
          <a:stretch/>
        </p:blipFill>
        <p:spPr>
          <a:xfrm rot="7045800">
            <a:off x="3897000" y="1806120"/>
            <a:ext cx="137160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Bookman Old Style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447560"/>
            <a:ext cx="7543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В результате своего исследования я пришла к такому выводу: если мы научимся с самого раннего возраста ценить, беречь и укреплять своё здоровье, если мы будем личным примером демонстрировать здоровый образ жизни, то наше поколение будет более здоровы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j0215523"/>
          <p:cNvPicPr/>
          <p:nvPr/>
        </p:nvPicPr>
        <p:blipFill>
          <a:blip r:embed="rId1"/>
          <a:stretch/>
        </p:blipFill>
        <p:spPr>
          <a:xfrm>
            <a:off x="5257800" y="6019920"/>
            <a:ext cx="973080" cy="431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j0215526"/>
          <p:cNvPicPr/>
          <p:nvPr/>
        </p:nvPicPr>
        <p:blipFill>
          <a:blip r:embed="rId2"/>
          <a:stretch/>
        </p:blipFill>
        <p:spPr>
          <a:xfrm>
            <a:off x="3733920" y="5638680"/>
            <a:ext cx="901440" cy="893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j0215524"/>
          <p:cNvPicPr/>
          <p:nvPr/>
        </p:nvPicPr>
        <p:blipFill>
          <a:blip r:embed="rId3"/>
          <a:stretch/>
        </p:blipFill>
        <p:spPr>
          <a:xfrm>
            <a:off x="2133720" y="5867280"/>
            <a:ext cx="741240" cy="668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j0215780"/>
          <p:cNvPicPr/>
          <p:nvPr/>
        </p:nvPicPr>
        <p:blipFill>
          <a:blip r:embed="rId4"/>
          <a:stretch/>
        </p:blipFill>
        <p:spPr>
          <a:xfrm>
            <a:off x="838080" y="5715000"/>
            <a:ext cx="576360" cy="900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3" descr="DSC08248.JPG"/>
          <p:cNvPicPr/>
          <p:nvPr/>
        </p:nvPicPr>
        <p:blipFill>
          <a:blip r:embed="rId5"/>
          <a:stretch/>
        </p:blipFill>
        <p:spPr>
          <a:xfrm>
            <a:off x="6991200" y="4498920"/>
            <a:ext cx="1866960" cy="43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66"/>
                </a:solidFill>
                <a:latin typeface="Bookman Old Style"/>
              </a:rPr>
              <a:t>  </a:t>
            </a:r>
            <a:r>
              <a:rPr b="1" i="1" lang="ru-RU" sz="2800" spc="-1" strike="noStrike">
                <a:solidFill>
                  <a:srgbClr val="993366"/>
                </a:solidFill>
                <a:latin typeface="Bookman Old Style"/>
              </a:rPr>
              <a:t>Цель: </a:t>
            </a:r>
            <a:r>
              <a:rPr b="1" i="1" lang="ru-RU" sz="2600" spc="-1" strike="noStrike">
                <a:solidFill>
                  <a:srgbClr val="993366"/>
                </a:solidFill>
                <a:latin typeface="Bookman Old Style"/>
              </a:rPr>
              <a:t>определить значение завтрака   для учащихся начальных классов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i="1" lang="ru-RU" sz="2800" spc="-1" strike="noStrike">
                <a:solidFill>
                  <a:srgbClr val="993366"/>
                </a:solidFill>
                <a:latin typeface="Bookman Old Style"/>
              </a:rPr>
              <a:t>Задачи,</a:t>
            </a: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i="1" lang="ru-RU" sz="2600" spc="-1" strike="noStrike">
                <a:solidFill>
                  <a:srgbClr val="993366"/>
                </a:solidFill>
                <a:latin typeface="Bookman Old Style"/>
              </a:rPr>
              <a:t>которые необходимо решить для реализации цели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0285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Bookman Old Style"/>
              </a:rPr>
              <a:t>выяснить, что такое завтрак и каким он должен быть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0285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Bookman Old Style"/>
              </a:rPr>
              <a:t>завтракают ли дома ученики нашего класс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0285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0" lang="ru-RU" sz="2500" spc="-1" strike="noStrike">
                <a:solidFill>
                  <a:srgbClr val="002060"/>
                </a:solidFill>
                <a:latin typeface="Bookman Old Style"/>
              </a:rPr>
              <a:t>узнать у заведующей школьной столовой количество завтракающих детей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0285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Bookman Old Style"/>
              </a:rPr>
              <a:t>убедить ребят о важности завтрака</a:t>
            </a:r>
            <a:r>
              <a:rPr b="1" lang="ru-RU" sz="2500" spc="-1" strike="noStrike">
                <a:solidFill>
                  <a:srgbClr val="002060"/>
                </a:solidFill>
                <a:latin typeface="Bookman Old Style"/>
              </a:rPr>
              <a:t>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SzPct val="10285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0" lang="ru-RU" sz="2500" spc="-1" strike="noStrike">
                <a:solidFill>
                  <a:srgbClr val="002060"/>
                </a:solidFill>
                <a:latin typeface="Bookman Old Style"/>
              </a:rPr>
              <a:t>оформить книжку-малышку «10 рецептов вкусной и весёлой пищи» и информационный буклет «Берегите свое здоровье»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040" y="11426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Bookman Old Style"/>
              </a:rPr>
              <a:t>Чтоб здоровым, сильным быть,</a:t>
            </a:r>
            <a:br>
              <a:rPr sz="3200"/>
            </a:br>
            <a:r>
              <a:rPr b="1" i="1" lang="ru-RU" sz="3200" spc="-1" strike="noStrike">
                <a:solidFill>
                  <a:srgbClr val="993366"/>
                </a:solidFill>
                <a:latin typeface="Bookman Old Style"/>
              </a:rPr>
              <a:t>Надо овощи любить,</a:t>
            </a:r>
            <a:br>
              <a:rPr sz="3200"/>
            </a:br>
            <a:r>
              <a:rPr b="1" i="1" lang="ru-RU" sz="3200" spc="-1" strike="noStrike">
                <a:solidFill>
                  <a:srgbClr val="993366"/>
                </a:solidFill>
                <a:latin typeface="Bookman Old Style"/>
              </a:rPr>
              <a:t>Все без исключения,</a:t>
            </a:r>
            <a:br>
              <a:rPr sz="3200"/>
            </a:br>
            <a:r>
              <a:rPr b="1" i="1" lang="ru-RU" sz="3200" spc="-1" strike="noStrike">
                <a:solidFill>
                  <a:srgbClr val="993366"/>
                </a:solidFill>
                <a:latin typeface="Bookman Old Style"/>
              </a:rPr>
              <a:t>  В этом нет сомненья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C:\Users\Андрейка\Desktop\Vagetables_Wallpaper_hoq7e.jpg"/>
          <p:cNvPicPr/>
          <p:nvPr/>
        </p:nvPicPr>
        <p:blipFill>
          <a:blip r:embed="rId1"/>
          <a:stretch/>
        </p:blipFill>
        <p:spPr>
          <a:xfrm>
            <a:off x="762120" y="3124080"/>
            <a:ext cx="3655800" cy="2743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C:\Users\Андрейка\Desktop\19.jpg"/>
          <p:cNvPicPr/>
          <p:nvPr/>
        </p:nvPicPr>
        <p:blipFill>
          <a:blip r:embed="rId2"/>
          <a:stretch/>
        </p:blipFill>
        <p:spPr>
          <a:xfrm>
            <a:off x="4648320" y="3143160"/>
            <a:ext cx="379224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C:\Users\Андрейка\Desktop\0_411ac_9e9f7037_XL.jpg"/>
          <p:cNvPicPr/>
          <p:nvPr/>
        </p:nvPicPr>
        <p:blipFill>
          <a:blip r:embed="rId1"/>
          <a:stretch/>
        </p:blipFill>
        <p:spPr>
          <a:xfrm>
            <a:off x="5029200" y="685800"/>
            <a:ext cx="3327480" cy="2362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C:\Users\Андрейка\Desktop\3740530_1942701d.jpg"/>
          <p:cNvPicPr/>
          <p:nvPr/>
        </p:nvPicPr>
        <p:blipFill>
          <a:blip r:embed="rId2"/>
          <a:stretch/>
        </p:blipFill>
        <p:spPr>
          <a:xfrm>
            <a:off x="3124080" y="3581280"/>
            <a:ext cx="3098880" cy="23180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C:\Users\Андрейка\Desktop\200904.jpg"/>
          <p:cNvPicPr/>
          <p:nvPr/>
        </p:nvPicPr>
        <p:blipFill>
          <a:blip r:embed="rId3"/>
          <a:stretch/>
        </p:blipFill>
        <p:spPr>
          <a:xfrm>
            <a:off x="6019920" y="2997360"/>
            <a:ext cx="2361960" cy="3149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C:\Users\Андрейка\Desktop\b392a9a07cb3.jpg"/>
          <p:cNvPicPr/>
          <p:nvPr/>
        </p:nvPicPr>
        <p:blipFill>
          <a:blip r:embed="rId4"/>
          <a:stretch/>
        </p:blipFill>
        <p:spPr>
          <a:xfrm>
            <a:off x="685800" y="2819520"/>
            <a:ext cx="2486160" cy="3314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Users\Андрейка\Desktop\carving02.jpg"/>
          <p:cNvPicPr/>
          <p:nvPr/>
        </p:nvPicPr>
        <p:blipFill>
          <a:blip r:embed="rId5"/>
          <a:stretch/>
        </p:blipFill>
        <p:spPr>
          <a:xfrm>
            <a:off x="838080" y="68580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240" y="-380880"/>
            <a:ext cx="8915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66"/>
                </a:solidFill>
                <a:latin typeface="Bookman Old Style"/>
              </a:rPr>
              <a:t>Карвинг  -  фигурная резка по овощам и фрукта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66"/>
                </a:solidFill>
                <a:latin typeface="Bookman Old Style"/>
              </a:rPr>
              <a:t>Работая над темой, я познакомилась  со следующей литературой</a:t>
            </a:r>
            <a:r>
              <a:rPr b="0" i="1" lang="ru-RU" sz="2400" spc="-1" strike="noStrike">
                <a:solidFill>
                  <a:srgbClr val="993366"/>
                </a:solidFill>
                <a:latin typeface="Bookman Old Style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925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Детская энциклопедия здоровья «Расти здоровым», М.: Физкультура и спорт, 1992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2. Дмитриева Н.Я., Казаков А.Н. Окружающий мир: Учебник для 4 класса. Самара: Издательство «Учебная литература», 200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3. Змановский Ю. Ф. «Воспитаем детей здоровыми», М.: «Медицина», 1989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4. Секреты кухни Дональда Дакка. «20 рецептов вкусной и веселой пищи». Эгмонт Россия ЛТД, 1994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5. http://www.fiziolive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http://www.7ya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7. http://mamsterritory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Bookman Old Style"/>
              </a:rPr>
              <a:t>Фотографии автор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j0215791"/>
          <p:cNvPicPr/>
          <p:nvPr/>
        </p:nvPicPr>
        <p:blipFill>
          <a:blip r:embed="rId1"/>
          <a:stretch/>
        </p:blipFill>
        <p:spPr>
          <a:xfrm>
            <a:off x="4495680" y="5257800"/>
            <a:ext cx="1135080" cy="658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j0215790"/>
          <p:cNvPicPr/>
          <p:nvPr/>
        </p:nvPicPr>
        <p:blipFill>
          <a:blip r:embed="rId2"/>
          <a:stretch/>
        </p:blipFill>
        <p:spPr>
          <a:xfrm>
            <a:off x="6019920" y="4724280"/>
            <a:ext cx="755640" cy="1295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j0215779"/>
          <p:cNvPicPr/>
          <p:nvPr/>
        </p:nvPicPr>
        <p:blipFill>
          <a:blip r:embed="rId3"/>
          <a:stretch/>
        </p:blipFill>
        <p:spPr>
          <a:xfrm>
            <a:off x="7086600" y="5105520"/>
            <a:ext cx="106668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-152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993366"/>
                </a:solidFill>
                <a:latin typeface="Bookman Old Style"/>
              </a:rPr>
              <a:t>Гипотеза</a:t>
            </a:r>
            <a:r>
              <a:rPr b="0" i="1" lang="ru-RU" sz="3600" spc="-1" strike="noStrike">
                <a:solidFill>
                  <a:srgbClr val="993366"/>
                </a:solidFill>
                <a:latin typeface="Bookman Old Style"/>
              </a:rPr>
              <a:t> исследования</a:t>
            </a:r>
            <a:r>
              <a:rPr b="0" lang="ru-RU" sz="4000" spc="-1" strike="noStrike">
                <a:solidFill>
                  <a:srgbClr val="993366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Допустим, завтрак, также как обед и ужин, выдумали умные дяди и тёти, чтобы соблюсти этикет пит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Что произойдет, если на завтрак есть только то, что нравится и тогда, когда хочет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D:\Ленулечка\Анимашки\Линии\ar41.gif"/>
          <p:cNvPicPr/>
          <p:nvPr/>
        </p:nvPicPr>
        <p:blipFill>
          <a:blip r:embed="rId3"/>
          <a:stretch/>
        </p:blipFill>
        <p:spPr>
          <a:xfrm rot="7045800">
            <a:off x="3897000" y="1806120"/>
            <a:ext cx="137160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772400" cy="28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теоретическое исследов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наблюде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анкетирование учащихс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собеседова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600200" y="9144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Bookman Old Style"/>
              </a:rPr>
              <a:t>Методы исследова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D:\Ленулечка\Анимашки\Линии\ar41.gif"/>
          <p:cNvPicPr/>
          <p:nvPr/>
        </p:nvPicPr>
        <p:blipFill>
          <a:blip r:embed="rId5"/>
          <a:stretch/>
        </p:blipFill>
        <p:spPr>
          <a:xfrm rot="8401200">
            <a:off x="4047840" y="1674720"/>
            <a:ext cx="1371600" cy="5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4038480"/>
            <a:ext cx="8229600" cy="231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«Показатели здоровья школьников за последнее десятилетие ухудшились. Это очень четко, хотя и не в полном объеме, показала проведенная диспансеризация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190760" y="3123720"/>
            <a:ext cx="4190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66"/>
                </a:solidFill>
                <a:latin typeface="Bookman Old Style"/>
              </a:rPr>
              <a:t>Леонид Михайлович Рошаль родился 27 апреля 1933 г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66"/>
                </a:solidFill>
                <a:latin typeface="Bookman Old Style"/>
              </a:rPr>
              <a:t>в городе Ливна Орловской об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D:\Ленулечка\Анимашки\Новая папка\pics.1.jpg"/>
          <p:cNvPicPr/>
          <p:nvPr/>
        </p:nvPicPr>
        <p:blipFill>
          <a:blip r:embed="rId1"/>
          <a:stretch/>
        </p:blipFill>
        <p:spPr>
          <a:xfrm>
            <a:off x="1600200" y="914400"/>
            <a:ext cx="255276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993366"/>
                </a:solidFill>
                <a:latin typeface="Bookman Old Style"/>
              </a:rPr>
              <a:t>Наиболее высокий уровень впервые выявленной патологии отмечен по следующим классам болезне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2514240"/>
            <a:ext cx="80010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болезни крови и кроветворных органов - 32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болезни эндокринной системы - 31%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болезни костно-мышечной системы - 26%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Bookman Old Style"/>
              </a:rPr>
              <a:t>болезни органов пищеварения - 25%;</a:t>
            </a: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Bookman Old Style"/>
              </a:rPr>
              <a:t>болезни системы кровообращения - 24%.</a:t>
            </a:r>
            <a:br>
              <a:rPr sz="2400"/>
            </a:b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7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92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3366"/>
                </a:solidFill>
                <a:latin typeface="Bookman Old Style"/>
              </a:rPr>
              <a:t>Что такое завтрак и </a:t>
            </a:r>
            <a:br>
              <a:rPr sz="3200"/>
            </a:br>
            <a:r>
              <a:rPr b="1" i="1" lang="ru-RU" sz="3200" spc="-1" strike="noStrike">
                <a:solidFill>
                  <a:srgbClr val="993366"/>
                </a:solidFill>
                <a:latin typeface="Bookman Old Style"/>
              </a:rPr>
              <a:t>каким он должен быт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2400" spc="-1" strike="noStrike" u="sng">
                <a:solidFill>
                  <a:srgbClr val="993366"/>
                </a:solidFill>
                <a:uFillTx/>
                <a:latin typeface="Bookman Old Style"/>
              </a:rPr>
              <a:t>За́втрак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 — первый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Bookman Old Style"/>
                <a:hlinkClick r:id="rId1"/>
              </a:rPr>
              <a:t>дневной</a:t>
            </a:r>
            <a:r>
              <a:rPr b="0" lang="ru-RU" sz="2400" spc="-1" strike="noStrike">
                <a:solidFill>
                  <a:srgbClr val="3333cc"/>
                </a:solidFill>
                <a:latin typeface="Bookman Old Style"/>
              </a:rPr>
              <a:t> 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Bookman Old Style"/>
                <a:hlinkClick r:id="rId2"/>
              </a:rPr>
              <a:t>приём пищи</a:t>
            </a:r>
            <a:r>
              <a:rPr b="0" lang="ru-RU" sz="2400" spc="-1" strike="noStrike">
                <a:solidFill>
                  <a:srgbClr val="3333cc"/>
                </a:solidFill>
                <a:latin typeface="Bookman Old Style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утренняя еда; пища, приготовленная для утренней 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Ученые пришли к выводу: дети, которые получают полноценный завтрак, лучше развиваются, более успешны в учебе, у них реже встречаются угнетенные состояния, приступы беспокойства и гиперактив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3366"/>
                </a:solidFill>
                <a:latin typeface="Bookman Old Style"/>
              </a:rPr>
              <a:t>Завтрак должен состоя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frukty06"/>
          <p:cNvPicPr/>
          <p:nvPr/>
        </p:nvPicPr>
        <p:blipFill>
          <a:blip r:embed="rId1"/>
          <a:stretch/>
        </p:blipFill>
        <p:spPr>
          <a:xfrm>
            <a:off x="914400" y="3657600"/>
            <a:ext cx="2540160" cy="22860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D:\Ленулечка\Анимашки\Новая папка\6b8610512c66.jpg"/>
          <p:cNvPicPr/>
          <p:nvPr/>
        </p:nvPicPr>
        <p:blipFill>
          <a:blip r:embed="rId2"/>
          <a:stretch/>
        </p:blipFill>
        <p:spPr>
          <a:xfrm>
            <a:off x="4794120" y="1523880"/>
            <a:ext cx="3718080" cy="1905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D:\Ленулечка\Анимашки\Новая папка\152728.jpg"/>
          <p:cNvPicPr/>
          <p:nvPr/>
        </p:nvPicPr>
        <p:blipFill>
          <a:blip r:embed="rId3"/>
          <a:stretch/>
        </p:blipFill>
        <p:spPr>
          <a:xfrm>
            <a:off x="1143000" y="1676520"/>
            <a:ext cx="271764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D:\Ленулечка\Анимашки\Новая папка\c40d0183662d.jpg"/>
          <p:cNvPicPr/>
          <p:nvPr/>
        </p:nvPicPr>
        <p:blipFill>
          <a:blip r:embed="rId4"/>
          <a:stretch/>
        </p:blipFill>
        <p:spPr>
          <a:xfrm>
            <a:off x="5181480" y="3809880"/>
            <a:ext cx="2652840" cy="198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5" descr="C:\Users\андрей\Desktop\Новая папка\15xnyvd.jpg"/>
          <p:cNvPicPr/>
          <p:nvPr/>
        </p:nvPicPr>
        <p:blipFill>
          <a:blip r:embed="rId5"/>
          <a:srcRect l="5031" t="3872" r="0" b="0"/>
          <a:stretch/>
        </p:blipFill>
        <p:spPr>
          <a:xfrm>
            <a:off x="3429000" y="3505320"/>
            <a:ext cx="1441440" cy="18874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6" descr="D:\Ленулечка\Анимашки\Линии\ar41.gif"/>
          <p:cNvPicPr/>
          <p:nvPr/>
        </p:nvPicPr>
        <p:blipFill>
          <a:blip r:embed="rId6"/>
          <a:stretch/>
        </p:blipFill>
        <p:spPr>
          <a:xfrm rot="4088400">
            <a:off x="3468240" y="1640160"/>
            <a:ext cx="13716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85800" y="685800"/>
          <a:ext cx="7772400" cy="5486400"/>
        </p:xfrm>
        <a:graphic>
          <a:graphicData uri="http://schemas.openxmlformats.org/drawingml/2006/table">
            <a:tbl>
              <a:tblPr/>
              <a:tblGrid>
                <a:gridCol w="3681360"/>
                <a:gridCol w="1963800"/>
                <a:gridCol w="2127240"/>
              </a:tblGrid>
              <a:tr h="3070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Bookman Old Style"/>
                          <a:ea typeface="Calibri"/>
                        </a:rPr>
                        <a:t>Проду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Bookman Old Style"/>
                          <a:ea typeface="Calibri"/>
                        </a:rPr>
                        <a:t>Возраст школьн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Bookman Old Style"/>
                          <a:ea typeface="Calibri"/>
                        </a:rPr>
                        <a:t>7 – 10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00000"/>
                          </a:solidFill>
                          <a:latin typeface="Bookman Old Style"/>
                          <a:ea typeface="Calibri"/>
                        </a:rPr>
                        <a:t>11 – 13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еб пшени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леб ржа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0 г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рупы, бобовые, макаронные издел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артоф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вощи раз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5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Фрукты свеж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 – 30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0 – 30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ха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5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ндитерские издел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сло сливочно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асло растительно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Яйц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ш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  ш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ворог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5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мета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ыр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ясо, птица, колба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ыб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0 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66"/>
                </a:solidFill>
                <a:latin typeface="Bookman Old Style"/>
              </a:rPr>
              <a:t>Среднесуточный набор продуктов, необходимый для школь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17-10-10T02:39:13Z</dcterms:modified>
  <cp:revision>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