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.gif" ContentType="image/gif"/>
  <Override PartName="/ppt/media/image13.jpeg" ContentType="image/jpeg"/>
  <Override PartName="/ppt/media/image5.png" ContentType="image/png"/>
  <Override PartName="/ppt/media/image2.gif" ContentType="image/gif"/>
  <Override PartName="/ppt/media/image10.jpeg" ContentType="image/jpeg"/>
  <Override PartName="/ppt/media/image29.jpeg" ContentType="image/jpeg"/>
  <Override PartName="/ppt/media/image32.wmf" ContentType="image/x-wmf"/>
  <Override PartName="/ppt/media/image6.gif" ContentType="image/gif"/>
  <Override PartName="/ppt/media/image8.png" ContentType="image/png"/>
  <Override PartName="/ppt/media/image11.jpeg" ContentType="image/jpeg"/>
  <Override PartName="/ppt/media/image9.jpeg" ContentType="image/jpeg"/>
  <Override PartName="/ppt/media/image30.wmf" ContentType="image/x-wmf"/>
  <Override PartName="/ppt/media/image4.png" ContentType="image/png"/>
  <Override PartName="/ppt/media/image12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3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0F24-8ECB-45BB-A64C-BF06530FA6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7FE-7A49-4A6A-9B93-BA9E4EE481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4FA-6C70-419D-900E-E4FD66B9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8DC8-9068-426F-9476-010F4CD5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C75D-7574-4610-A9C1-3CC8E3992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F1FB-5949-4CE3-9720-B74E18D4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E4C-B6AC-406C-945C-3A31C14D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4DA-CD6E-43A1-89DE-422F3B15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3A8-BAA0-483D-894A-ED404547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832-1A7C-4A00-9269-0E42F343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8463-806C-4076-A9A9-AD510F15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26FD-BA1F-4DE8-AE97-FFF41D8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DB3D-EC22-4845-83D4-55343FF8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693-C770-469D-A8D8-9FEC6A1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5C6E-EFB3-4687-AC48-CF99A9CEA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" TargetMode="External"/><Relationship Id="rId2" Type="http://schemas.openxmlformats.org/officeDocument/2006/relationships/hyperlink" Target="http://ru.wikipedia.org/w/index.php?title=&#1055;&#1088;&#1080;&#1105;&#1084;_&#1087;&#1080;&#1097;&#1080;&amp;action=edit&amp;redlink=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7760" y="3581280"/>
            <a:ext cx="65530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ученица 4 Г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Пантюхина М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Мельникова Оксана Григо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андрей\Desktop\Новая папка\5f8eb9f27c19fc6321551803f3e983ba.gif"/>
          <p:cNvPicPr/>
          <p:nvPr/>
        </p:nvPicPr>
        <p:blipFill>
          <a:blip r:embed="rId1"/>
          <a:stretch/>
        </p:blipFill>
        <p:spPr>
          <a:xfrm>
            <a:off x="1828800" y="3505320"/>
            <a:ext cx="2590920" cy="229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андрей\Desktop\Новая папка\f33a81ab2f8cbf9a1aa42a83dc7d5cfb.gif"/>
          <p:cNvPicPr/>
          <p:nvPr/>
        </p:nvPicPr>
        <p:blipFill>
          <a:blip r:embed="rId2"/>
          <a:stretch/>
        </p:blipFill>
        <p:spPr>
          <a:xfrm>
            <a:off x="685800" y="1219320"/>
            <a:ext cx="232092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1285920" y="609480"/>
            <a:ext cx="9090000" cy="493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Типовые режимы питания школьников при обучении в первую и вторую с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ервая с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7.00 - 7.20 - Завтрак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0.00 - 11.00 - Горячий завтрак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2.00 - 13.00 - Обед дома или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9.00 - 19.30 - Ужин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Вторая с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8.00 - 8.30 - Завтрак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2.30 - 13.00 - Обед дома (перед уходом в школ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6.00 - 16.30 - Горячее питание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9.30 - 20.00 - Ужин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:\Ленулечка\Анимашки\Линии\ar27.gif"/>
          <p:cNvPicPr/>
          <p:nvPr/>
        </p:nvPicPr>
        <p:blipFill>
          <a:blip r:embed="rId1"/>
          <a:stretch/>
        </p:blipFill>
        <p:spPr>
          <a:xfrm>
            <a:off x="685800" y="1600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Ленулечка\Анимашки\Линии\ar27.gif"/>
          <p:cNvPicPr/>
          <p:nvPr/>
        </p:nvPicPr>
        <p:blipFill>
          <a:blip r:embed="rId2"/>
          <a:stretch/>
        </p:blipFill>
        <p:spPr>
          <a:xfrm>
            <a:off x="685800" y="3505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нтервью повара школьной столовой Рыковой Надежды Евгенье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мы готовим 270 порций на учеников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ион горячих завтраков разнообразен и удовлетворяет санитарным нормам, правилам и гигиеническим требованиям к организации пита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составлено на 10-дневный период с учётом сезонности и энергетической ценности, суточной потребности организма школьника в витаминах и минеральных вещ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663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елания ученикам и их родител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чется пожелать, чтобы дети, а главное их родители понимали важность завтра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80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кетирова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опрошены 100 человек. Из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завтракают дома или в школе – 60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спевают завтракать – 14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ываются от завтрака – 6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83808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я узнал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ё ли едят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едят всё – 29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едят то, что нравится – 44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едят всё – 51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едят то, что нравится – 3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ченики счит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необходим – 80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необязателен – 20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05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, что едят мои одноклассники на 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546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2"/>
          <a:stretch/>
        </p:blipFill>
        <p:spPr>
          <a:xfrm>
            <a:off x="3625920" y="3429000"/>
            <a:ext cx="18921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3"/>
          <a:stretch/>
        </p:blipFill>
        <p:spPr>
          <a:xfrm>
            <a:off x="5867280" y="1595520"/>
            <a:ext cx="2419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1744200"/>
            <a:ext cx="74674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Сколько учеников начальных классов имеют проблемы с желудочно-кишечным трактом  и  сколько выпускник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(Если в начальных классах это 2 ученика, то к окончанию школы это 18  учеников. И с каждым выпуском ситуация только ухудшаетс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Контролируете ли Вы качество, продуктов, условия приготовления и рацион горячих завтраков в нашей шко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(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Весь процесс приготовления блюд контролируем обяза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b6bcf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222268"/>
                </a:solidFill>
                <a:latin typeface="Bookman Old Style"/>
              </a:rPr>
              <a:t>Ваши пожелания ученикам и их род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(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Соблюдать режим питания, не только в начальных классах, но и на всех ступенях школьного процесса и дальше в ВУЗ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914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Беседа со школьным фельдш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Порубенок Любовью Александр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Как устранить выявленные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братить внимание родителей и учащихся на рацион  питания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Рекомендовать родителям и детям два завтр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ознакомить родителей и учащихся с информационным букл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одготовить и провести для учащихся начальных классов беседу «Так ли важен завтрак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993366"/>
                </a:solidFill>
                <a:latin typeface="Bookman Old Style"/>
              </a:rPr>
              <a:t>Гипотеза</a:t>
            </a:r>
            <a:r>
              <a:rPr b="0" i="1" lang="ru-RU" sz="3600" spc="-1" strike="noStrike">
                <a:solidFill>
                  <a:srgbClr val="993366"/>
                </a:solidFill>
                <a:latin typeface="Bookman Old Style"/>
              </a:rPr>
              <a:t> исследования</a:t>
            </a: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опустим, завтрак, также как обед и ужин, выдумали умные дяди и тёти, чтобы соблюсти этикет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то произойдет, если на завтрак есть только то, что нравится и тогда, когда хоч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:\Ленулечка\Анимашки\Линии\ar41.gif"/>
          <p:cNvPicPr/>
          <p:nvPr/>
        </p:nvPicPr>
        <p:blipFill>
          <a:blip r:embed="rId3"/>
          <a:stretch/>
        </p:blipFill>
        <p:spPr>
          <a:xfrm rot="7045800">
            <a:off x="3897000" y="1806120"/>
            <a:ext cx="1371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 результате своего исследования я пришла к такому выводу: если мы научимся с самого раннего возраста ценить, беречь и укреплять своё здоровье, если мы будем личным примером демонстрировать здоровый образ жизни, то наше поколение будет более здоров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15523"/>
          <p:cNvPicPr/>
          <p:nvPr/>
        </p:nvPicPr>
        <p:blipFill>
          <a:blip r:embed="rId1"/>
          <a:stretch/>
        </p:blipFill>
        <p:spPr>
          <a:xfrm>
            <a:off x="5257800" y="6019920"/>
            <a:ext cx="973080" cy="43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215526"/>
          <p:cNvPicPr/>
          <p:nvPr/>
        </p:nvPicPr>
        <p:blipFill>
          <a:blip r:embed="rId2"/>
          <a:stretch/>
        </p:blipFill>
        <p:spPr>
          <a:xfrm>
            <a:off x="3733920" y="5638680"/>
            <a:ext cx="901440" cy="89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0215524"/>
          <p:cNvPicPr/>
          <p:nvPr/>
        </p:nvPicPr>
        <p:blipFill>
          <a:blip r:embed="rId3"/>
          <a:stretch/>
        </p:blipFill>
        <p:spPr>
          <a:xfrm>
            <a:off x="2133720" y="5867280"/>
            <a:ext cx="741240" cy="66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j0215780"/>
          <p:cNvPicPr/>
          <p:nvPr/>
        </p:nvPicPr>
        <p:blipFill>
          <a:blip r:embed="rId4"/>
          <a:stretch/>
        </p:blipFill>
        <p:spPr>
          <a:xfrm>
            <a:off x="838080" y="5715000"/>
            <a:ext cx="57636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DSC08248.JPG"/>
          <p:cNvPicPr/>
          <p:nvPr/>
        </p:nvPicPr>
        <p:blipFill>
          <a:blip r:embed="rId5"/>
          <a:stretch/>
        </p:blipFill>
        <p:spPr>
          <a:xfrm>
            <a:off x="6991200" y="4498920"/>
            <a:ext cx="18669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Цель: </a:t>
            </a:r>
            <a:r>
              <a:rPr b="1" i="1" lang="ru-RU" sz="2600" spc="-1" strike="noStrike">
                <a:solidFill>
                  <a:srgbClr val="993366"/>
                </a:solidFill>
                <a:latin typeface="Bookman Old Style"/>
              </a:rPr>
              <a:t>определить значение завтрака   для учащихся начальных класс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Задачи,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600" spc="-1" strike="noStrike">
                <a:solidFill>
                  <a:srgbClr val="993366"/>
                </a:solidFill>
                <a:latin typeface="Bookman Old Style"/>
              </a:rPr>
              <a:t>которые необходимо решить для реализации цел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выяснить, что такое завтрак и каким он должен быт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завтракают ли дома ученики нашего класс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узнать у заведующей школьной столовой количество завтракающих де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убедить ребят о важности завтрака</a:t>
            </a:r>
            <a:r>
              <a:rPr b="1" lang="ru-RU" sz="2500" spc="-1" strike="noStrike">
                <a:solidFill>
                  <a:srgbClr val="002060"/>
                </a:solidFill>
                <a:latin typeface="Bookman Old Style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оформить книжку-малышку «10 рецептов вкусной и весёлой пищи» и информационный буклет «Берегите свое здоровье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Чтоб здоровым, сильным быть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Надо овощи любить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Все без исключения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  В этом нет сомн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Users\Андрейка\Desktop\Vagetables_Wallpaper_hoq7e.jpg"/>
          <p:cNvPicPr/>
          <p:nvPr/>
        </p:nvPicPr>
        <p:blipFill>
          <a:blip r:embed="rId1"/>
          <a:stretch/>
        </p:blipFill>
        <p:spPr>
          <a:xfrm>
            <a:off x="762120" y="3124080"/>
            <a:ext cx="365580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Андрейка\Desktop\19.jpg"/>
          <p:cNvPicPr/>
          <p:nvPr/>
        </p:nvPicPr>
        <p:blipFill>
          <a:blip r:embed="rId2"/>
          <a:stretch/>
        </p:blipFill>
        <p:spPr>
          <a:xfrm>
            <a:off x="4648320" y="3143160"/>
            <a:ext cx="3792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Users\Андрейка\Desktop\0_411ac_9e9f7037_XL.jpg"/>
          <p:cNvPicPr/>
          <p:nvPr/>
        </p:nvPicPr>
        <p:blipFill>
          <a:blip r:embed="rId1"/>
          <a:stretch/>
        </p:blipFill>
        <p:spPr>
          <a:xfrm>
            <a:off x="5029200" y="685800"/>
            <a:ext cx="332748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Андрейка\Desktop\3740530_1942701d.jpg"/>
          <p:cNvPicPr/>
          <p:nvPr/>
        </p:nvPicPr>
        <p:blipFill>
          <a:blip r:embed="rId2"/>
          <a:stretch/>
        </p:blipFill>
        <p:spPr>
          <a:xfrm>
            <a:off x="3124080" y="3581280"/>
            <a:ext cx="3098880" cy="231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Андрейка\Desktop\200904.jpg"/>
          <p:cNvPicPr/>
          <p:nvPr/>
        </p:nvPicPr>
        <p:blipFill>
          <a:blip r:embed="rId3"/>
          <a:stretch/>
        </p:blipFill>
        <p:spPr>
          <a:xfrm>
            <a:off x="6019920" y="2997360"/>
            <a:ext cx="2361960" cy="314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Андрейка\Desktop\b392a9a07cb3.jpg"/>
          <p:cNvPicPr/>
          <p:nvPr/>
        </p:nvPicPr>
        <p:blipFill>
          <a:blip r:embed="rId4"/>
          <a:stretch/>
        </p:blipFill>
        <p:spPr>
          <a:xfrm>
            <a:off x="685800" y="2819520"/>
            <a:ext cx="2486160" cy="331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Андрейка\Desktop\carving02.jpg"/>
          <p:cNvPicPr/>
          <p:nvPr/>
        </p:nvPicPr>
        <p:blipFill>
          <a:blip r:embed="rId5"/>
          <a:stretch/>
        </p:blipFill>
        <p:spPr>
          <a:xfrm>
            <a:off x="838080" y="6858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-38088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Карвинг  -  фигурная резка по овощам и фрук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Работая над темой, я познакомилась  со следующей литературой</a:t>
            </a:r>
            <a:r>
              <a:rPr b="0" i="1" lang="ru-RU" sz="2400" spc="-1" strike="noStrike">
                <a:solidFill>
                  <a:srgbClr val="993366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Детская энциклопедия здоровья «Расти здоровым», М.: Физкультура и спорт, 1992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2. Дмитриева Н.Я., Казаков А.Н. Окружающий мир: Учебник для 4 класса. Самара: Издательство «Учебная литература»,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3. Змановский Ю. Ф. «Воспитаем детей здоровыми», М.: «Медицина», 198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4. Секреты кухни Дональда Дакка. «20 рецептов вкусной и веселой пищи». Эгмонт Россия ЛТД, 199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5. http://www.fizioliv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http://www.7y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7. http://mamsterritor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Фотографии авто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15791"/>
          <p:cNvPicPr/>
          <p:nvPr/>
        </p:nvPicPr>
        <p:blipFill>
          <a:blip r:embed="rId1"/>
          <a:stretch/>
        </p:blipFill>
        <p:spPr>
          <a:xfrm>
            <a:off x="4495680" y="5257800"/>
            <a:ext cx="11350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15790"/>
          <p:cNvPicPr/>
          <p:nvPr/>
        </p:nvPicPr>
        <p:blipFill>
          <a:blip r:embed="rId2"/>
          <a:stretch/>
        </p:blipFill>
        <p:spPr>
          <a:xfrm>
            <a:off x="6019920" y="4724280"/>
            <a:ext cx="75564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779"/>
          <p:cNvPicPr/>
          <p:nvPr/>
        </p:nvPicPr>
        <p:blipFill>
          <a:blip r:embed="rId3"/>
          <a:stretch/>
        </p:blipFill>
        <p:spPr>
          <a:xfrm>
            <a:off x="7086600" y="5105520"/>
            <a:ext cx="10666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993366"/>
                </a:solidFill>
                <a:latin typeface="Bookman Old Style"/>
              </a:rPr>
              <a:t>Гипотеза</a:t>
            </a:r>
            <a:r>
              <a:rPr b="0" i="1" lang="ru-RU" sz="3600" spc="-1" strike="noStrike">
                <a:solidFill>
                  <a:srgbClr val="993366"/>
                </a:solidFill>
                <a:latin typeface="Bookman Old Style"/>
              </a:rPr>
              <a:t> исследования</a:t>
            </a: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опустим, завтрак, также как обед и ужин, выдумали умные дяди и тёти, чтобы соблюсти этикет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то произойдет, если на завтрак есть только то, что нравится и тогда, когда хоч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Ленулечка\Анимашки\Линии\ar41.gif"/>
          <p:cNvPicPr/>
          <p:nvPr/>
        </p:nvPicPr>
        <p:blipFill>
          <a:blip r:embed="rId3"/>
          <a:stretch/>
        </p:blipFill>
        <p:spPr>
          <a:xfrm rot="7045800">
            <a:off x="3897000" y="1806120"/>
            <a:ext cx="1371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еоретическое исслед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аблю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анкетирование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бесед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600200" y="914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:\Ленулечка\Анимашки\Линии\ar41.gif"/>
          <p:cNvPicPr/>
          <p:nvPr/>
        </p:nvPicPr>
        <p:blipFill>
          <a:blip r:embed="rId5"/>
          <a:stretch/>
        </p:blipFill>
        <p:spPr>
          <a:xfrm rot="8401200">
            <a:off x="4047840" y="1674720"/>
            <a:ext cx="13716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«Показатели здоровья школьников за последнее десятилетие ухудшились. Это очень четко, хотя и не в полном объеме, показала проведенная диспансеризаци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90760" y="31237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Леонид Михайлович Рошаль родился 27 апреля 193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в городе Ливна Орлов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D:\Ленулечка\Анимашки\Новая папка\pics.1.jpg"/>
          <p:cNvPicPr/>
          <p:nvPr/>
        </p:nvPicPr>
        <p:blipFill>
          <a:blip r:embed="rId1"/>
          <a:stretch/>
        </p:blipFill>
        <p:spPr>
          <a:xfrm>
            <a:off x="1600200" y="914400"/>
            <a:ext cx="25527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66"/>
                </a:solidFill>
                <a:latin typeface="Bookman Old Style"/>
              </a:rPr>
              <a:t>Наиболее высокий уровень впервые выявленной патологии отмечен по следующим классам болез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крови и кроветворных органов - 3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эндокринной системы - 31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костно-мышечной системы - 26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болезни органов пищеварения - 25%;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системы кровообращения - 24%.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Что такое завтрак и 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каким он должен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993366"/>
                </a:solidFill>
                <a:uFillTx/>
                <a:latin typeface="Bookman Old Style"/>
              </a:rPr>
              <a:t>За́втрак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— перв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дневной</a:t>
            </a:r>
            <a:r>
              <a:rPr b="0" lang="ru-RU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приём пищи</a:t>
            </a:r>
            <a:r>
              <a:rPr b="0" lang="ru-RU" sz="2400" spc="-1" strike="noStrike">
                <a:solidFill>
                  <a:srgbClr val="3333cc"/>
                </a:solidFill>
                <a:latin typeface="Bookman Old Style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утренняя еда; пища, приготовленная для утренней 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ные пришли к выводу: дети, которые получают полноценный завтрак, лучше развиваются, более успешны в учебе, у них реже встречаются угнетенные состояния, приступы беспокойства и гипер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Завтрак должен состо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rukty06"/>
          <p:cNvPicPr/>
          <p:nvPr/>
        </p:nvPicPr>
        <p:blipFill>
          <a:blip r:embed="rId1"/>
          <a:stretch/>
        </p:blipFill>
        <p:spPr>
          <a:xfrm>
            <a:off x="914400" y="3657600"/>
            <a:ext cx="254016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Ленулечка\Анимашки\Новая папка\6b8610512c66.jpg"/>
          <p:cNvPicPr/>
          <p:nvPr/>
        </p:nvPicPr>
        <p:blipFill>
          <a:blip r:embed="rId2"/>
          <a:stretch/>
        </p:blipFill>
        <p:spPr>
          <a:xfrm>
            <a:off x="4794120" y="1523880"/>
            <a:ext cx="37180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D:\Ленулечка\Анимашки\Новая папка\152728.jpg"/>
          <p:cNvPicPr/>
          <p:nvPr/>
        </p:nvPicPr>
        <p:blipFill>
          <a:blip r:embed="rId3"/>
          <a:stretch/>
        </p:blipFill>
        <p:spPr>
          <a:xfrm>
            <a:off x="1143000" y="1676520"/>
            <a:ext cx="271764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D:\Ленулечка\Анимашки\Новая папка\c40d0183662d.jpg"/>
          <p:cNvPicPr/>
          <p:nvPr/>
        </p:nvPicPr>
        <p:blipFill>
          <a:blip r:embed="rId4"/>
          <a:stretch/>
        </p:blipFill>
        <p:spPr>
          <a:xfrm>
            <a:off x="5181480" y="3809880"/>
            <a:ext cx="26528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C:\Users\андрей\Desktop\Новая папка\15xnyvd.jpg"/>
          <p:cNvPicPr/>
          <p:nvPr/>
        </p:nvPicPr>
        <p:blipFill>
          <a:blip r:embed="rId5"/>
          <a:srcRect l="5031" t="3872" r="0" b="0"/>
          <a:stretch/>
        </p:blipFill>
        <p:spPr>
          <a:xfrm>
            <a:off x="3429000" y="3505320"/>
            <a:ext cx="144144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D:\Ленулечка\Анимашки\Линии\ar41.gif"/>
          <p:cNvPicPr/>
          <p:nvPr/>
        </p:nvPicPr>
        <p:blipFill>
          <a:blip r:embed="rId6"/>
          <a:stretch/>
        </p:blipFill>
        <p:spPr>
          <a:xfrm rot="4088400">
            <a:off x="3468240" y="16401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685800"/>
          <a:ext cx="7772400" cy="5486400"/>
        </p:xfrm>
        <a:graphic>
          <a:graphicData uri="http://schemas.openxmlformats.org/drawingml/2006/table">
            <a:tbl>
              <a:tblPr/>
              <a:tblGrid>
                <a:gridCol w="3681360"/>
                <a:gridCol w="1963800"/>
                <a:gridCol w="21272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Возраст шко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7 – 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11 – 1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пшен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ржа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пы, бобовые, макаронные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ощи раз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укты свеж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– 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– 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дитерские изде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ло сливоч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ло расти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йц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та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со, птица, колб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Bookman Old Style"/>
              </a:rPr>
              <a:t>Среднесуточный набор продуктов, необходимый для 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7-10-10T02:39:13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