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288-0F13-4ABE-A12A-AE9F1086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85E-8F11-44CF-9AF5-82EDB6E2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1C6-6EC3-4261-A027-6A9CCD9F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3EF-16CC-4C3A-A58A-45B0A365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593D-44CE-4545-B00F-D61A1B1F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75F5-23B5-4378-B569-FACFAF69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28D-FE76-4D5C-8BFB-71AC6855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95C-39C4-4AA3-B82D-1D6401CE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42F-4E2D-43D3-B260-C4A0D7E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F262-7BE9-4A6F-A620-05FC980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CF86-BC26-4F4E-B55C-22A574B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4E5-3513-4210-9198-B919E97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E00B-F5DD-4017-8518-FF8BE30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29C6-8BD8-46FC-8A31-6AB136F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A1DB-53D2-41DC-BA73-735E86B0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6A8-A857-46A1-A2AD-C4919554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1AD8-61F5-40CD-952E-E4479D4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9F2-8DD7-4B87-BFEC-1383869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5C9-D146-470A-BE38-37B61B12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850-E11D-4FC8-896B-35B5784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7F5-9933-426C-9B29-6AAE4F64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C56-472E-4BA7-873F-A5D1CAF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70C-53FD-44F0-875D-DCAF4FD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A67-C82F-4596-936F-BECE317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74A39A-7B07-488C-9630-29EFB0EA54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A4349-AF11-4150-BB06-7007A8CEB0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hyperlink" Target="http://www.yaklass.ru/p/informatika/8-klass/matematicheskie-osnovy-informatiki-13971/sistemy-schisleniia-13916" TargetMode="Externa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hyperlink" Target="https://learningapps.org/442997" TargetMode="External"/><Relationship Id="rId10" Type="http://schemas.openxmlformats.org/officeDocument/2006/relationships/hyperlink" Target="https://learningapps.org/1518679" TargetMode="External"/><Relationship Id="rId11" Type="http://schemas.openxmlformats.org/officeDocument/2006/relationships/hyperlink" Target="https://learningapps.org/1520648" TargetMode="External"/><Relationship Id="rId12" Type="http://schemas.openxmlformats.org/officeDocument/2006/relationships/hyperlink" Target="mailto:rud_na@mail.ru" TargetMode="External"/><Relationship Id="rId13" Type="http://schemas.openxmlformats.org/officeDocument/2006/relationships/hyperlink" Target="https://onlinetestpad.com/ru/test/67483-sistemy-schisleniya" TargetMode="External"/><Relationship Id="rId14" Type="http://schemas.openxmlformats.org/officeDocument/2006/relationships/slide" Target="slide9.xml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hyperlink" Target="http://www.yaklass.ru/p/informatika/8-klass/matematicheskie-osnovy-informatiki-13971/sistemy-schisleniia-13916" TargetMode="External"/><Relationship Id="rId7" Type="http://schemas.openxmlformats.org/officeDocument/2006/relationships/hyperlink" Target="https://www.youtube.com/watch?time_continue=347&amp;v=djAylGHstqE" TargetMode="External"/><Relationship Id="rId8" Type="http://schemas.openxmlformats.org/officeDocument/2006/relationships/hyperlink" Target="https://www.youtube.com/watch?time_continue=8&amp;v=DOMDPwPgKpw" TargetMode="External"/><Relationship Id="rId9" Type="http://schemas.openxmlformats.org/officeDocument/2006/relationships/hyperlink" Target="https://www.youtube.com/watch?v=R4VDF96ChmA" TargetMode="External"/><Relationship Id="rId10" Type="http://schemas.openxmlformats.org/officeDocument/2006/relationships/hyperlink" Target="https://www.youtube.com/watch?v=N1Ud2GRbwTo" TargetMode="External"/><Relationship Id="rId11" Type="http://schemas.openxmlformats.org/officeDocument/2006/relationships/slide" Target="slide10.xml"/><Relationship Id="rId12" Type="http://schemas.openxmlformats.org/officeDocument/2006/relationships/slide" Target="slide9.xml"/><Relationship Id="rId13" Type="http://schemas.openxmlformats.org/officeDocument/2006/relationships/hyperlink" Target="mailto:rud_na@mail.ru" TargetMode="External"/><Relationship Id="rId14" Type="http://schemas.openxmlformats.org/officeDocument/2006/relationships/hyperlink" Target="https://onlinetestpad.com/ru/test/67483-sistemy-schisleniya" TargetMode="External"/><Relationship Id="rId15" Type="http://schemas.openxmlformats.org/officeDocument/2006/relationships/slide" Target="slide9.xml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hyperlink" Target="https://cloud.mail.ru/public/S4oo/sr269B8SY" TargetMode="External"/><Relationship Id="rId8" Type="http://schemas.openxmlformats.org/officeDocument/2006/relationships/hyperlink" Target="mailto:rud_na@mail.ru" TargetMode="External"/><Relationship Id="rId9" Type="http://schemas.openxmlformats.org/officeDocument/2006/relationships/slide" Target="slide10.xm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st4.cannypic.com/thumbs/44/445533_632_canny_pic.jpg"/>
          <p:cNvPicPr/>
          <p:nvPr/>
        </p:nvPicPr>
        <p:blipFill>
          <a:blip r:embed="rId1"/>
          <a:stretch/>
        </p:blipFill>
        <p:spPr>
          <a:xfrm>
            <a:off x="-28440" y="428760"/>
            <a:ext cx="9172080" cy="6428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вест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4" name="Группа 12"/>
          <p:cNvGrpSpPr/>
          <p:nvPr/>
        </p:nvGrpSpPr>
        <p:grpSpPr>
          <a:xfrm>
            <a:off x="0" y="428760"/>
            <a:ext cx="9143640" cy="2142720"/>
            <a:chOff x="0" y="428760"/>
            <a:chExt cx="9143640" cy="2142720"/>
          </a:xfrm>
        </p:grpSpPr>
        <p:pic>
          <p:nvPicPr>
            <p:cNvPr id="85" name="Picture 6" descr="https://cdn.allwallpaper.in/wallpapers/1920x1080/5491/short-circuit-1920x1080-wallpaper.jpg"/>
            <p:cNvPicPr/>
            <p:nvPr/>
          </p:nvPicPr>
          <p:blipFill>
            <a:blip r:embed="rId2"/>
            <a:stretch/>
          </p:blipFill>
          <p:spPr>
            <a:xfrm>
              <a:off x="0" y="428760"/>
              <a:ext cx="914364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Прямоугольник 8"/>
            <p:cNvSpPr/>
            <p:nvPr/>
          </p:nvSpPr>
          <p:spPr>
            <a:xfrm>
              <a:off x="0" y="500040"/>
              <a:ext cx="9143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3200" spc="-1" strike="noStrike">
                  <a:solidFill>
                    <a:srgbClr val="70ef31"/>
                  </a:solidFill>
                  <a:latin typeface="Calibri"/>
                </a:rPr>
                <a:t>Дорогой ученик, предлагаю тебе прой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9"/>
            <p:cNvSpPr/>
            <p:nvPr/>
          </p:nvSpPr>
          <p:spPr>
            <a:xfrm>
              <a:off x="214200" y="1571760"/>
              <a:ext cx="8929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квест «Страна чисел»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Штриховая стрелка вправо 10">
            <a:hlinkClick r:id="rId3" action="ppaction://hlinksldjump"/>
          </p:cNvPr>
          <p:cNvSpPr/>
          <p:nvPr/>
        </p:nvSpPr>
        <p:spPr>
          <a:xfrm flipH="1">
            <a:off x="6786720" y="3643200"/>
            <a:ext cx="2142720" cy="121392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Н а ч а т 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0" y="6357960"/>
            <a:ext cx="9143640" cy="3027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 cap="all">
                <a:solidFill>
                  <a:schemeClr val="lt1"/>
                </a:solidFill>
                <a:latin typeface="Calibri"/>
              </a:rPr>
              <a:t>ВНИМАНИЕ! квест отображается корректно только при использовании Интернет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214200" y="2714760"/>
            <a:ext cx="4214520" cy="3428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Ты  участник научно-исследовательской экспеди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Впереди тебя ждет что-то неизведанное,</a:t>
            </a:r>
            <a:br>
              <a:rPr sz="2400"/>
            </a:b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 но интерес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Группа 9"/>
          <p:cNvGrpSpPr/>
          <p:nvPr/>
        </p:nvGrpSpPr>
        <p:grpSpPr>
          <a:xfrm>
            <a:off x="0" y="1571760"/>
            <a:ext cx="9143640" cy="5285880"/>
            <a:chOff x="0" y="1571760"/>
            <a:chExt cx="9143640" cy="5285880"/>
          </a:xfrm>
        </p:grpSpPr>
        <p:pic>
          <p:nvPicPr>
            <p:cNvPr id="172" name="Picture 4" descr="https://i.ytimg.com/vi/q095GmQilqU/maxresdefault.jpg"/>
            <p:cNvPicPr/>
            <p:nvPr/>
          </p:nvPicPr>
          <p:blipFill>
            <a:blip r:embed="rId1"/>
            <a:stretch/>
          </p:blipFill>
          <p:spPr>
            <a:xfrm>
              <a:off x="0" y="1571760"/>
              <a:ext cx="9143640" cy="52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https://i.ytimg.com/vi/q095GmQilqU/maxresdefault.jpg"/>
            <p:cNvPicPr/>
            <p:nvPr/>
          </p:nvPicPr>
          <p:blipFill>
            <a:blip r:embed="rId2"/>
            <a:srcRect l="0" t="0" r="23622" b="0"/>
            <a:stretch/>
          </p:blipFill>
          <p:spPr>
            <a:xfrm>
              <a:off x="2396880" y="3025800"/>
              <a:ext cx="1744200" cy="132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6" descr="https://cdn.allwallpaper.in/wallpapers/1920x1080/5491/short-circuit-1920x1080-wallpaper.jpg"/>
          <p:cNvPicPr/>
          <p:nvPr/>
        </p:nvPicPr>
        <p:blipFill>
          <a:blip r:embed="rId3"/>
          <a:stretch/>
        </p:blipFill>
        <p:spPr>
          <a:xfrm>
            <a:off x="0" y="0"/>
            <a:ext cx="9143640" cy="16426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3"/>
          <p:cNvSpPr/>
          <p:nvPr/>
        </p:nvSpPr>
        <p:spPr>
          <a:xfrm>
            <a:off x="657216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chemeClr val="dk1"/>
                </a:solidFill>
                <a:uFillTx/>
                <a:latin typeface="Calibri"/>
                <a:hlinkClick r:id="rId4" action="ppaction://hlinksldjump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1214280" y="214200"/>
            <a:ext cx="714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бери правильный номер двер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9">
            <a:hlinkClick r:id="rId5" action="ppaction://hlinksldjump"/>
          </p:cNvPr>
          <p:cNvSpPr/>
          <p:nvPr/>
        </p:nvSpPr>
        <p:spPr>
          <a:xfrm>
            <a:off x="350028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>
            <a:hlinkClick r:id="rId6" action="ppaction://hlinksldjump"/>
          </p:cNvPr>
          <p:cNvSpPr/>
          <p:nvPr/>
        </p:nvSpPr>
        <p:spPr>
          <a:xfrm>
            <a:off x="50004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>
            <a:hlinkClick r:id="rId7" action="ppaction://hlinksldjump"/>
          </p:cNvPr>
          <p:cNvSpPr/>
          <p:nvPr/>
        </p:nvSpPr>
        <p:spPr>
          <a:xfrm>
            <a:off x="342900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5">
            <a:hlinkClick r:id="rId8" action="ppaction://hlinksldjump"/>
          </p:cNvPr>
          <p:cNvSpPr/>
          <p:nvPr/>
        </p:nvSpPr>
        <p:spPr>
          <a:xfrm>
            <a:off x="42876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6">
            <a:hlinkClick r:id="rId9" action="ppaction://hlinksldjump"/>
          </p:cNvPr>
          <p:cNvSpPr/>
          <p:nvPr/>
        </p:nvSpPr>
        <p:spPr>
          <a:xfrm>
            <a:off x="664380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>
            <a:hlinkClick r:id="rId10" action="ppaction://hlinksldjump"/>
          </p:cNvPr>
          <p:cNvSpPr/>
          <p:nvPr/>
        </p:nvSpPr>
        <p:spPr>
          <a:xfrm>
            <a:off x="350028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8">
            <a:hlinkClick r:id="rId11" action="ppaction://hlinksldjump"/>
          </p:cNvPr>
          <p:cNvSpPr/>
          <p:nvPr/>
        </p:nvSpPr>
        <p:spPr>
          <a:xfrm>
            <a:off x="657216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rId12" action="ppaction://hlinksldjump"/>
          </p:cNvPr>
          <p:cNvSpPr/>
          <p:nvPr/>
        </p:nvSpPr>
        <p:spPr>
          <a:xfrm>
            <a:off x="42876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>
            <a:hlinkClick r:id="rId13" action="ppaction://hlinksldjump"/>
          </p:cNvPr>
          <p:cNvSpPr/>
          <p:nvPr/>
        </p:nvSpPr>
        <p:spPr>
          <a:xfrm>
            <a:off x="342900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1">
            <a:hlinkClick r:id="rId14" action="ppaction://hlinksldjump"/>
          </p:cNvPr>
          <p:cNvSpPr/>
          <p:nvPr/>
        </p:nvSpPr>
        <p:spPr>
          <a:xfrm>
            <a:off x="42876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>
            <a:hlinkClick r:id="rId15" action="ppaction://hlinksldjump"/>
          </p:cNvPr>
          <p:cNvSpPr/>
          <p:nvPr/>
        </p:nvSpPr>
        <p:spPr>
          <a:xfrm>
            <a:off x="650088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https://cdn.allwallpaper.in/wallpapers/1920x1080/5491/short-circuit-1920x1080-wallpape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24285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11"/>
          <p:cNvSpPr/>
          <p:nvPr/>
        </p:nvSpPr>
        <p:spPr>
          <a:xfrm>
            <a:off x="0" y="-214200"/>
            <a:ext cx="914364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здравляю!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70ef3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перь у тебя есть прочные знания и умения по теме «Системы счисления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https://be-ledy.ru/wp-content/uploads/2017/01/numerologicheskij-prognoz-na-fevral-2017-goda2-768x485.jpg"/>
          <p:cNvPicPr/>
          <p:nvPr/>
        </p:nvPicPr>
        <p:blipFill>
          <a:blip r:embed="rId2"/>
          <a:stretch/>
        </p:blipFill>
        <p:spPr>
          <a:xfrm>
            <a:off x="857160" y="2267280"/>
            <a:ext cx="7269120" cy="4590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/>
          <p:cNvSpPr/>
          <p:nvPr/>
        </p:nvSpPr>
        <p:spPr>
          <a:xfrm>
            <a:off x="633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33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Группа 9"/>
          <p:cNvGrpSpPr/>
          <p:nvPr/>
        </p:nvGrpSpPr>
        <p:grpSpPr>
          <a:xfrm>
            <a:off x="0" y="1571760"/>
            <a:ext cx="9143640" cy="5285880"/>
            <a:chOff x="0" y="1571760"/>
            <a:chExt cx="9143640" cy="5285880"/>
          </a:xfrm>
        </p:grpSpPr>
        <p:pic>
          <p:nvPicPr>
            <p:cNvPr id="92" name="Picture 4" descr="https://i.ytimg.com/vi/q095GmQilqU/maxresdefault.jpg"/>
            <p:cNvPicPr/>
            <p:nvPr/>
          </p:nvPicPr>
          <p:blipFill>
            <a:blip r:embed="rId1"/>
            <a:stretch/>
          </p:blipFill>
          <p:spPr>
            <a:xfrm>
              <a:off x="0" y="1571760"/>
              <a:ext cx="9143640" cy="52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https://i.ytimg.com/vi/q095GmQilqU/maxresdefault.jpg"/>
            <p:cNvPicPr/>
            <p:nvPr/>
          </p:nvPicPr>
          <p:blipFill>
            <a:blip r:embed="rId2"/>
            <a:srcRect l="0" t="0" r="23622" b="0"/>
            <a:stretch/>
          </p:blipFill>
          <p:spPr>
            <a:xfrm>
              <a:off x="2396880" y="3025800"/>
              <a:ext cx="1744200" cy="132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11"/>
          <p:cNvSpPr/>
          <p:nvPr/>
        </p:nvSpPr>
        <p:spPr>
          <a:xfrm>
            <a:off x="0" y="0"/>
            <a:ext cx="914364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друг что-то пошло не так и ты понимаешь, что находишься в коридоре, в котором 12 двер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У каждой двери свой ном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Для того, чтобы  выйти нужно открыть только одну двер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Значит, нужно точно знать ее номер. Продолжаем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3">
            <a:hlinkClick r:id="rId3" action="ppaction://hlinksldjump"/>
          </p:cNvPr>
          <p:cNvSpPr/>
          <p:nvPr/>
        </p:nvSpPr>
        <p:spPr>
          <a:xfrm>
            <a:off x="692928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964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>
            <a:hlinkClick r:id="rId2" action="ppaction://hlinksldjump"/>
          </p:cNvPr>
          <p:cNvSpPr/>
          <p:nvPr/>
        </p:nvSpPr>
        <p:spPr>
          <a:xfrm>
            <a:off x="325044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8">
            <a:hlinkClick r:id="rId3" action="ppaction://hlinksldjump"/>
          </p:cNvPr>
          <p:cNvSpPr/>
          <p:nvPr/>
        </p:nvSpPr>
        <p:spPr>
          <a:xfrm>
            <a:off x="614376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0">
            <a:hlinkClick r:id="rId4" action="ppaction://hlinksldjump"/>
          </p:cNvPr>
          <p:cNvSpPr/>
          <p:nvPr/>
        </p:nvSpPr>
        <p:spPr>
          <a:xfrm>
            <a:off x="35712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35712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2">
            <a:hlinkClick r:id="rId5" action="ppaction://hlinksldjump"/>
          </p:cNvPr>
          <p:cNvSpPr/>
          <p:nvPr/>
        </p:nvSpPr>
        <p:spPr>
          <a:xfrm>
            <a:off x="285840" y="357192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3000240" y="2857320"/>
            <a:ext cx="5928840" cy="37144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так, номер двери это сумма двух чисе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ервое число – это результат 10 + 11=101. Удивительно? Скоро ты поймешь почему 101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торое число ты узнаешь, когда выполнишь  задания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этап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о сначала  выбери свою роль в квест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  прочитай инструкции для выбранной рол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 слайдам перемещайся только по ссылкам, выбирая нужные кноп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Желаю успех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857320" y="214200"/>
            <a:ext cx="435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чало квес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0" y="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АК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25044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8">
            <a:hlinkClick r:id="rId3" action="ppaction://hlinksldjump"/>
          </p:cNvPr>
          <p:cNvSpPr/>
          <p:nvPr/>
        </p:nvSpPr>
        <p:spPr>
          <a:xfrm>
            <a:off x="614376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>
            <a:hlinkClick r:id="rId4" action="ppaction://hlinksldjump"/>
          </p:cNvPr>
          <p:cNvSpPr/>
          <p:nvPr/>
        </p:nvSpPr>
        <p:spPr>
          <a:xfrm>
            <a:off x="35712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3"/>
          <p:cNvSpPr/>
          <p:nvPr/>
        </p:nvSpPr>
        <p:spPr>
          <a:xfrm>
            <a:off x="285840" y="2000160"/>
            <a:ext cx="8572320" cy="46429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Практики - это люди, которые  делаю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В начале они ищут необходимую информацию, но как только её находят, то сразу же применяют полученные знания на практике, закрепляя и развивая и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Быть практиком по жизни — это очень ценное качеств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Умение действовать сильно приблизит тебя к твоим цел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Это факт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Если ты определился со сво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ролью, что читай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>
            <a:hlinkClick r:id="rId5" action="ppaction://hlinksldjump"/>
          </p:cNvPr>
          <p:cNvSpPr/>
          <p:nvPr/>
        </p:nvSpPr>
        <p:spPr>
          <a:xfrm>
            <a:off x="285840" y="5786280"/>
            <a:ext cx="4785840" cy="4996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ИНСТРУКЦИИ ДЛЯ ПРАК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https://ak8.picdn.net/shutterstock/videos/22736728/thumb/1.jpg?i10c=img.resize(height:160)"/>
          <p:cNvPicPr/>
          <p:nvPr/>
        </p:nvPicPr>
        <p:blipFill>
          <a:blip r:embed="rId6"/>
          <a:stretch/>
        </p:blipFill>
        <p:spPr>
          <a:xfrm>
            <a:off x="4643280" y="4286160"/>
            <a:ext cx="4214520" cy="23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0" y="21420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КЦИИ ДЛЯ ПРА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7">
            <a:hlinkClick r:id="rId3" action="ppaction://hlinksldjump"/>
          </p:cNvPr>
          <p:cNvSpPr/>
          <p:nvPr/>
        </p:nvSpPr>
        <p:spPr>
          <a:xfrm>
            <a:off x="32504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8">
            <a:hlinkClick r:id="rId4" action="ppaction://hlinksldjump"/>
          </p:cNvPr>
          <p:cNvSpPr/>
          <p:nvPr/>
        </p:nvSpPr>
        <p:spPr>
          <a:xfrm>
            <a:off x="62150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1">
            <a:hlinkClick r:id="rId5" action="ppaction://hlinksldjump"/>
          </p:cNvPr>
          <p:cNvSpPr/>
          <p:nvPr/>
        </p:nvSpPr>
        <p:spPr>
          <a:xfrm>
            <a:off x="2858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214200" y="2000160"/>
            <a:ext cx="8715240" cy="46432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Чтобы </a:t>
            </a:r>
            <a:r>
              <a:rPr b="1" lang="ru-RU" sz="1900" spc="-1" strike="noStrike">
                <a:solidFill>
                  <a:srgbClr val="70ef31"/>
                </a:solidFill>
                <a:latin typeface="Calibri"/>
              </a:rPr>
              <a:t>ПРАКТИКУ</a:t>
            </a: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 успешно пройти квест необходимо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Изучить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6"/>
              </a:rPr>
              <a:t>теоретический материал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пределить  первое число, напоминаю, что это  10+11=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тветить на вопрос «Почему так может быть»?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Записать  результат в форму ответов, которую нужно скачать 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8" action="ppaction://hlinksldjump"/>
              </a:rPr>
              <a:t>здесь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. Выполнить  задания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 задание1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заданиие2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задание 3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 Сделать  скриншоты выполненных заданий, прислать их 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rud_na@mail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олучить  втор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. Сложить первое и второе число.  Сумма  -  это номер двери с вых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. Записать  результат в форму отв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ройти тест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 не забудь скачать  именной сертифик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Если ты все выполнил, то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жми сю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-14292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0" y="21420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ОРЕ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">
            <a:hlinkClick r:id="rId3" action="ppaction://hlinksldjump"/>
          </p:cNvPr>
          <p:cNvSpPr/>
          <p:nvPr/>
        </p:nvSpPr>
        <p:spPr>
          <a:xfrm>
            <a:off x="328608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628668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>
            <a:hlinkClick r:id="rId4" action="ppaction://hlinksldjump"/>
          </p:cNvPr>
          <p:cNvSpPr/>
          <p:nvPr/>
        </p:nvSpPr>
        <p:spPr>
          <a:xfrm>
            <a:off x="28584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57120" y="2071800"/>
            <a:ext cx="8429400" cy="4571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Теоретики хотят изменений, но вместо выполнения конкретных действий они зарываются в те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ни любят читать книги по саморазвитию, смотреть обучающие видео. Читают, смотрят — но ничего не предпринимают. Полученная информация остаётся на уровне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днако, ребята, всегда следует помнить, что знания — это мощное оруж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Когда они решаются, то жел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действовать, помноженное на богат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теоретические знания, часто твор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чуде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Если ты определился со сво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ролью, что чит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    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0">
            <a:hlinkClick r:id="rId5" action="ppaction://hlinksldjump"/>
          </p:cNvPr>
          <p:cNvSpPr/>
          <p:nvPr/>
        </p:nvSpPr>
        <p:spPr>
          <a:xfrm>
            <a:off x="357120" y="6000840"/>
            <a:ext cx="4500360" cy="4996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ИНСТРУКЦИИ ДЛЯ ТЕОР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s://ak9.picdn.net/shutterstock/videos/22243549/thumb/1.jpg"/>
          <p:cNvPicPr/>
          <p:nvPr/>
        </p:nvPicPr>
        <p:blipFill>
          <a:blip r:embed="rId6"/>
          <a:stretch/>
        </p:blipFill>
        <p:spPr>
          <a:xfrm>
            <a:off x="4763160" y="4357800"/>
            <a:ext cx="4000320" cy="225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0" y="214200"/>
            <a:ext cx="9000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КЦИИ ДЛЯ ТЕОРЕ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7">
            <a:hlinkClick r:id="rId3" action="ppaction://hlinksldjump"/>
          </p:cNvPr>
          <p:cNvSpPr/>
          <p:nvPr/>
        </p:nvSpPr>
        <p:spPr>
          <a:xfrm>
            <a:off x="328608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8">
            <a:hlinkClick r:id="rId4" action="ppaction://hlinksldjump"/>
          </p:cNvPr>
          <p:cNvSpPr/>
          <p:nvPr/>
        </p:nvSpPr>
        <p:spPr>
          <a:xfrm>
            <a:off x="628668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1">
            <a:hlinkClick r:id="rId5" action="ppaction://hlinksldjump"/>
          </p:cNvPr>
          <p:cNvSpPr/>
          <p:nvPr/>
        </p:nvSpPr>
        <p:spPr>
          <a:xfrm>
            <a:off x="2858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14200" y="2000160"/>
            <a:ext cx="8715240" cy="46429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Чтобы </a:t>
            </a:r>
            <a:r>
              <a:rPr b="1" lang="ru-RU" sz="1900" spc="-1" strike="noStrike">
                <a:solidFill>
                  <a:srgbClr val="70ef31"/>
                </a:solidFill>
                <a:latin typeface="Calibri"/>
              </a:rPr>
              <a:t>ТЕОРЕТИКУ </a:t>
            </a: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успешно пройти квест 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Изучить теоретический материал (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6"/>
              </a:rPr>
              <a:t>теория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7"/>
              </a:rPr>
              <a:t>видео1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8"/>
              </a:rPr>
              <a:t>видео2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9"/>
              </a:rPr>
              <a:t>видео3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10"/>
              </a:rPr>
              <a:t>видео4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пределить первое число. Напоминаю, что  это  10+11=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тветить на вопрос «Почему так может быть»?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Записать  результат в форму ответов, которую нужно скачать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12" action="ppaction://hlinksldjump"/>
              </a:rPr>
              <a:t>здесь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. Подготовить презентацию по изученной теме. Отправить ее 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ud_na@mail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учить втор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. Сложить первое и второе число, сумма чисел  – номер двери с вых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. Записать  результат в форму ответов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Пройти тест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 не забудь скачать  именной сертифик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Если ты все выполнил, то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жми сю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96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142920" y="357120"/>
            <a:ext cx="9143640" cy="1356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7">
            <a:hlinkClick r:id="rId3" action="ppaction://hlinksldjump"/>
          </p:cNvPr>
          <p:cNvSpPr/>
          <p:nvPr/>
        </p:nvSpPr>
        <p:spPr>
          <a:xfrm>
            <a:off x="325044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8">
            <a:hlinkClick r:id="rId4" action="ppaction://hlinksldjump"/>
          </p:cNvPr>
          <p:cNvSpPr/>
          <p:nvPr/>
        </p:nvSpPr>
        <p:spPr>
          <a:xfrm>
            <a:off x="614376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0">
            <a:hlinkClick r:id="rId5" action="ppaction://hlinksldjump"/>
          </p:cNvPr>
          <p:cNvSpPr/>
          <p:nvPr/>
        </p:nvSpPr>
        <p:spPr>
          <a:xfrm>
            <a:off x="35712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35712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2">
            <a:hlinkClick r:id="rId6" action="ppaction://hlinksldjump"/>
          </p:cNvPr>
          <p:cNvSpPr/>
          <p:nvPr/>
        </p:nvSpPr>
        <p:spPr>
          <a:xfrm>
            <a:off x="285840" y="357192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3143160" y="3071880"/>
            <a:ext cx="5643360" cy="3428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После выполнения каждого этапа необходимо заполнять специальную форму для обратной связ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Шкала оценивания :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5" - выполнено 85%-100% заданий;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4" - выполнено 65%-84% заданий;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3" - выполнено 40%-64%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1357200" y="500040"/>
            <a:ext cx="678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ритерии оцени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142920" y="35712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7">
            <a:hlinkClick r:id="rId3" action="ppaction://hlinksldjump"/>
          </p:cNvPr>
          <p:cNvSpPr/>
          <p:nvPr/>
        </p:nvSpPr>
        <p:spPr>
          <a:xfrm>
            <a:off x="321480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8">
            <a:hlinkClick r:id="rId4" action="ppaction://hlinksldjump"/>
          </p:cNvPr>
          <p:cNvSpPr/>
          <p:nvPr/>
        </p:nvSpPr>
        <p:spPr>
          <a:xfrm>
            <a:off x="614376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10">
            <a:hlinkClick r:id="rId5" action="ppaction://hlinksldjump"/>
          </p:cNvPr>
          <p:cNvSpPr/>
          <p:nvPr/>
        </p:nvSpPr>
        <p:spPr>
          <a:xfrm>
            <a:off x="21420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28584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2">
            <a:hlinkClick r:id="rId6" action="ppaction://hlinksldjump"/>
          </p:cNvPr>
          <p:cNvSpPr/>
          <p:nvPr/>
        </p:nvSpPr>
        <p:spPr>
          <a:xfrm>
            <a:off x="214200" y="328608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2714760" y="2500200"/>
            <a:ext cx="6214680" cy="4142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чать  форму ответов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s://cloud.mail.ru/public/S4oo/sr269B8SY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олнить форму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вместе с сертификатом отправить на почту, тема письма квест «Страна чисел».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rud_na@mail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очешь проверить правильно ли ты определил номер двери?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жми сю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1357200" y="357120"/>
            <a:ext cx="678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братная связ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  <Words>649</Words>
  <Paragraphs>1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9:00:52Z</dcterms:created>
  <dc:creator>Lenovo</dc:creator>
  <dc:description/>
  <dc:language>en-US</dc:language>
  <cp:lastModifiedBy>Lenovo</cp:lastModifiedBy>
  <dcterms:modified xsi:type="dcterms:W3CDTF">2018-08-19T12:40:52Z</dcterms:modified>
  <cp:revision>10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