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B09B-6698-4344-BD09-53FF0BDA4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34D3-2098-4634-8CAB-D510F61A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870-9193-429F-B772-4EC2F8112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C030-135C-4865-AAB7-E14BF757B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B7C968-8E9D-4808-A48C-85C09DDD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400153-B962-48D3-B35A-48E9615B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71114-0610-4A10-9B35-E72D06C2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A47DAD-4B38-4E39-BC19-0DB4A2D9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3C82F-C123-4238-9FEB-B6A5FD8F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5B1B0-2F85-473B-9938-0E2F899B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EBBBDD-D5C7-40FB-9FC4-C9778161D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4F1A-D722-4C3B-986A-E1CA9E72D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12F96-B3FE-4180-A7E8-9FB5BC72D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A0D70-2B8E-4258-864B-F0E7BC3E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C31A5D-4A11-40F5-8548-366D6360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4DA442-2C04-49A2-B1C9-35B6F883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82686-EDAD-4111-A521-B6F601225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3050-3955-4232-BB87-0986233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F02-B084-4D2D-BB16-150DE519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CF0C-C068-4E50-9C29-22A0F175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BBBC-F0AF-44C2-9BBB-EC5404373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85A-A67A-4081-9A21-22FF8190B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9A4-8E0A-4D86-AFA7-DF5C69B6F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6DA4-35B7-4B3B-A1D2-F1DF9199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922C0-EFDC-476A-BF75-2FD6DF8E6D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CCC1-263C-4B6A-BAB2-446AB1A3551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21844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3200" spc="-1" strike="noStrike">
                <a:solidFill>
                  <a:srgbClr val="e3e3ff"/>
                </a:solidFill>
                <a:latin typeface="Arial"/>
              </a:rPr>
              <a:t>Мастер класс « Использование нетрадиционных техник рисования в изобразительном искусстве»</a:t>
            </a: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59280" y="2565000"/>
            <a:ext cx="4105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ступление учителя изобразительного  искусства МКОУ «Садовкая средняя общеобразовательная школа №2 имени Дмитрия Маковкина » -  Харченко Тамара Владими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рис4"/>
          <p:cNvPicPr/>
          <p:nvPr/>
        </p:nvPicPr>
        <p:blipFill>
          <a:blip r:embed="rId1"/>
          <a:stretch/>
        </p:blipFill>
        <p:spPr>
          <a:xfrm>
            <a:off x="0" y="2060640"/>
            <a:ext cx="51483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«Оттиск листьями растений».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Picture 4" descr="лист буряка"/>
          <p:cNvPicPr/>
          <p:nvPr/>
        </p:nvPicPr>
        <p:blipFill>
          <a:blip r:embed="rId1"/>
          <a:stretch/>
        </p:blipFill>
        <p:spPr>
          <a:xfrm>
            <a:off x="0" y="2133720"/>
            <a:ext cx="4788000" cy="472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лист дерево"/>
          <p:cNvPicPr/>
          <p:nvPr/>
        </p:nvPicPr>
        <p:blipFill>
          <a:blip r:embed="rId2"/>
          <a:stretch/>
        </p:blipFill>
        <p:spPr>
          <a:xfrm>
            <a:off x="4788000" y="1125360"/>
            <a:ext cx="435600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исование точками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н ф 2"/>
          <p:cNvPicPr/>
          <p:nvPr/>
        </p:nvPicPr>
        <p:blipFill>
          <a:blip r:embed="rId1"/>
          <a:stretch/>
        </p:blipFill>
        <p:spPr>
          <a:xfrm>
            <a:off x="0" y="836640"/>
            <a:ext cx="4788000" cy="6021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8" descr="мишка пятно"/>
          <p:cNvPicPr/>
          <p:nvPr/>
        </p:nvPicPr>
        <p:blipFill>
          <a:blip r:embed="rId2"/>
          <a:stretch/>
        </p:blipFill>
        <p:spPr>
          <a:xfrm>
            <a:off x="4788000" y="836640"/>
            <a:ext cx="4356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Ударный тычок». </a:t>
            </a:r>
            <a:br>
              <a:rPr sz="4000"/>
            </a:b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исование мятой бумагой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мышь и кошка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рисование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Арт-терапия» - терапия творчества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ражение себя через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искусство является безболезненным способом выражения чувств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 – терапия не имеет ни ограничений, ни противопоказаний, являясь безопасным методом снятия напряжения . Это естественный путь исцеления, негативные эмоции преобразуются в позитивные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рт – терапия – это обретение гармонии, развития личности 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есмотря на внешнюю простоту, арт – терапия – это глубокая форма психотерапии, дополняющая основную терапию при лечении неврозов, депрессий, при стрессовых ситуациях, повышенная тревожность .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временная практическая психология активна использует направление арт – терапии . 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Это своеобразная психологическая разгрузка, которая  необходима и здоровому человеку 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Монотипия» </a:t>
            </a:r>
            <a:br>
              <a:rPr sz="4000"/>
            </a:b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Слово «монотипия» состоит из греческих слов «монос» - один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«</a:t>
            </a:r>
            <a:r>
              <a:rPr b="0" lang="en-US" sz="1600" spc="-1" strike="noStrike">
                <a:solidFill>
                  <a:srgbClr val="e3e3ff"/>
                </a:solidFill>
                <a:latin typeface="Arial"/>
              </a:rPr>
              <a:t>typos</a:t>
            </a:r>
            <a:r>
              <a:rPr b="0" lang="ru-RU" sz="1600" spc="-1" strike="noStrike">
                <a:solidFill>
                  <a:srgbClr val="e3e3ff"/>
                </a:solidFill>
                <a:latin typeface="Arial"/>
              </a:rPr>
              <a:t>» - отпечаток</a:t>
            </a: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 .</a:t>
            </a:r>
            <a:br>
              <a:rPr sz="1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Необходимо найти образ в случайном отпечатке 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9" name="Picture 9" descr="к7"/>
          <p:cNvPicPr/>
          <p:nvPr/>
        </p:nvPicPr>
        <p:blipFill>
          <a:blip r:embed="rId1"/>
          <a:stretch/>
        </p:blipFill>
        <p:spPr>
          <a:xfrm>
            <a:off x="0" y="164304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пр2"/>
          <p:cNvPicPr/>
          <p:nvPr/>
        </p:nvPicPr>
        <p:blipFill>
          <a:blip r:embed="rId2"/>
          <a:stretch/>
        </p:blipFill>
        <p:spPr>
          <a:xfrm>
            <a:off x="4572000" y="3143160"/>
            <a:ext cx="457200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Рисование нитками «Ниткография».</a:t>
            </a:r>
            <a:br>
              <a:rPr sz="40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На листе бумаги разложить произвольными узорами смоченные разными красками нити.</a:t>
            </a:r>
            <a:endParaRPr b="0" lang="en-US" sz="1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Picture 6" descr="ниткограф"/>
          <p:cNvPicPr/>
          <p:nvPr/>
        </p:nvPicPr>
        <p:blipFill>
          <a:blip r:embed="rId1"/>
          <a:stretch/>
        </p:blipFill>
        <p:spPr>
          <a:xfrm>
            <a:off x="0" y="1700280"/>
            <a:ext cx="4500720" cy="5157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686800" y="609588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11" descr="ниткограф2"/>
          <p:cNvPicPr/>
          <p:nvPr/>
        </p:nvPicPr>
        <p:blipFill>
          <a:blip r:embed="rId2"/>
          <a:stretch/>
        </p:blipFill>
        <p:spPr>
          <a:xfrm>
            <a:off x="4500720" y="1700280"/>
            <a:ext cx="464328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нит"/>
          <p:cNvPicPr/>
          <p:nvPr/>
        </p:nvPicPr>
        <p:blipFill>
          <a:blip r:embed="rId1"/>
          <a:stretch/>
        </p:blipFill>
        <p:spPr>
          <a:xfrm>
            <a:off x="0" y="0"/>
            <a:ext cx="493236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нитрография"/>
          <p:cNvPicPr/>
          <p:nvPr/>
        </p:nvPicPr>
        <p:blipFill>
          <a:blip r:embed="rId2"/>
          <a:stretch/>
        </p:blipFill>
        <p:spPr>
          <a:xfrm>
            <a:off x="493236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3e3ff"/>
                </a:solidFill>
                <a:latin typeface="Arial"/>
              </a:rPr>
              <a:t>«Ниткография»</a:t>
            </a:r>
            <a:br>
              <a:rPr sz="2800"/>
            </a:br>
            <a:r>
              <a:rPr b="0" lang="ru-RU" sz="1800" spc="-1" strike="noStrike">
                <a:solidFill>
                  <a:srgbClr val="e3e3ff"/>
                </a:solidFill>
                <a:latin typeface="Arial"/>
              </a:rPr>
              <a:t>Обёртывание верёвкой  кусочек трубы или дерева</a:t>
            </a: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нф ниткография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4" descr="к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4" descr="нф 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«Рисование мыльными пузырями»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4" descr="н м 16 мыльн пузыри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6T13:21:21Z</dcterms:created>
  <dc:creator>Admin</dc:creator>
  <dc:description/>
  <dc:language>en-US</dc:language>
  <cp:lastModifiedBy>СВЕТЛАНА</cp:lastModifiedBy>
  <dcterms:modified xsi:type="dcterms:W3CDTF">2018-08-19T13:20:32Z</dcterms:modified>
  <cp:revision>13</cp:revision>
  <dc:subject/>
  <dc:title>Слайд 1</dc:title>
</cp:coreProperties>
</file>