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5C00-882E-496D-A1AE-896A4A48B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7519-A3AB-45E3-9AAE-B7F37C47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4C7A-2680-41BF-91BB-855398B9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53F-12C6-4E5B-B8EE-19710C9F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D0D82-635C-41B9-A52B-B9DE347C5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F6B1A4-B630-4373-B76F-64D87AEE1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DA97E-F6AE-41B5-AF07-BF05B68B6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FEC6FE-CE26-4D1F-8550-9C53CFCD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B1885-22F3-429E-A8DB-3C288AAE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674D8-5DBD-4DB6-802F-34C468A49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83EB4-175A-43BC-BC1C-577AE6AD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3FC6-750C-41DC-8A69-7E2AF9C6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5C7A2-336A-43BB-9F16-18693BA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5378-E6AE-4A67-BEEA-B264BC63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0F065-02B2-461B-88BF-5939E7FF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088F9-FF1D-4A3E-87A9-CE2497C4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0FF91-9074-4366-9904-A8958FAF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BD7-78BF-4339-A5BF-47C73E4C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EA0E-E9BC-4474-B657-1C65D38F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437B-B407-4D67-9AAF-8150355C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918B-1090-412A-AE7C-1BB0CBF0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430F-EDAC-4905-8660-21EE6214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CD2E-4C1F-449C-B2ED-C54935E7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C032-E159-4BB9-A410-95C43ED6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1635-CDD6-4C55-AC3F-0EAA7D6E8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7EA1E-7B8D-4848-B5E1-66863049034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Мастер класс « Использование нетрадиционных техник рисования в изобразительном искусстве»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59280" y="2565000"/>
            <a:ext cx="410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тупление учителя изобразительного  искусства МКОУ «Садовкая средняя общеобразовательная школа №2 имени Дмитрия Маковкина » -  Харченко Тамара Владими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рис4"/>
          <p:cNvPicPr/>
          <p:nvPr/>
        </p:nvPicPr>
        <p:blipFill>
          <a:blip r:embed="rId1"/>
          <a:stretch/>
        </p:blipFill>
        <p:spPr>
          <a:xfrm>
            <a:off x="0" y="2060640"/>
            <a:ext cx="5148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«Оттиск листьями растений».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4" descr="лист буряка"/>
          <p:cNvPicPr/>
          <p:nvPr/>
        </p:nvPicPr>
        <p:blipFill>
          <a:blip r:embed="rId1"/>
          <a:stretch/>
        </p:blipFill>
        <p:spPr>
          <a:xfrm>
            <a:off x="0" y="2133720"/>
            <a:ext cx="4788000" cy="472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лист дерево"/>
          <p:cNvPicPr/>
          <p:nvPr/>
        </p:nvPicPr>
        <p:blipFill>
          <a:blip r:embed="rId2"/>
          <a:stretch/>
        </p:blipFill>
        <p:spPr>
          <a:xfrm>
            <a:off x="4788000" y="1125360"/>
            <a:ext cx="4356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Рисование точками»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н ф 2"/>
          <p:cNvPicPr/>
          <p:nvPr/>
        </p:nvPicPr>
        <p:blipFill>
          <a:blip r:embed="rId1"/>
          <a:stretch/>
        </p:blipFill>
        <p:spPr>
          <a:xfrm>
            <a:off x="0" y="836640"/>
            <a:ext cx="4788000" cy="6021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мишка пятно"/>
          <p:cNvPicPr/>
          <p:nvPr/>
        </p:nvPicPr>
        <p:blipFill>
          <a:blip r:embed="rId2"/>
          <a:stretch/>
        </p:blipFill>
        <p:spPr>
          <a:xfrm>
            <a:off x="4788000" y="836640"/>
            <a:ext cx="4356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Ударный тычок».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Рисование мятой бумагой»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мышь и кошка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рисование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Арт-терапия» - терапия творчеств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ражение себя через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кусство является безболезненным способом выражения чувств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т – терапия не имеет ни ограничений, ни противопоказаний, являясь безопасным методом снятия напряжения . Это естественный путь исцеления, негативные эмоции преобразуются в позитивные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т – терапия – это обретение гармонии, развития личности 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смотря на внешнюю простоту, арт – терапия – это глубокая форма психотерапии, дополняющая основную терапию при лечении неврозов, депрессий, при стрессовых ситуациях, повышенная тревожность 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ременная практическая психология активна использует направление арт – терапии 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своеобразная психологическая разгрузка, которая  необходима и здоровому человеку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Монотипия» </a:t>
            </a:r>
            <a:br>
              <a:rPr sz="4000"/>
            </a:b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Слово «монотипия» состоит из греческих слов «монос» - один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«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typos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» - отпечаток</a:t>
            </a: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.</a:t>
            </a:r>
            <a:br>
              <a:rPr sz="18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Необходимо найти образ в случайном отпечатке 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9" descr="к7"/>
          <p:cNvPicPr/>
          <p:nvPr/>
        </p:nvPicPr>
        <p:blipFill>
          <a:blip r:embed="rId1"/>
          <a:stretch/>
        </p:blipFill>
        <p:spPr>
          <a:xfrm>
            <a:off x="0" y="1643040"/>
            <a:ext cx="4286160" cy="3571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пр2"/>
          <p:cNvPicPr/>
          <p:nvPr/>
        </p:nvPicPr>
        <p:blipFill>
          <a:blip r:embed="rId2"/>
          <a:stretch/>
        </p:blipFill>
        <p:spPr>
          <a:xfrm>
            <a:off x="4572000" y="3143160"/>
            <a:ext cx="4572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Рисование нитками «Ниткография».</a:t>
            </a:r>
            <a:br>
              <a:rPr sz="40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На листе бумаги разложить произвольными узорами смоченные разными красками нити.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6" descr="ниткограф"/>
          <p:cNvPicPr/>
          <p:nvPr/>
        </p:nvPicPr>
        <p:blipFill>
          <a:blip r:embed="rId1"/>
          <a:stretch/>
        </p:blipFill>
        <p:spPr>
          <a:xfrm>
            <a:off x="0" y="1700280"/>
            <a:ext cx="4500720" cy="5157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86800" y="609588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1" descr="ниткограф2"/>
          <p:cNvPicPr/>
          <p:nvPr/>
        </p:nvPicPr>
        <p:blipFill>
          <a:blip r:embed="rId2"/>
          <a:stretch/>
        </p:blipFill>
        <p:spPr>
          <a:xfrm>
            <a:off x="4500720" y="1700280"/>
            <a:ext cx="4643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нит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нитрография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«Ниткография»</a:t>
            </a:r>
            <a:br>
              <a:rPr sz="28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Обёртывание верёвкой  кусочек трубы или дерева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нф ниткография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нф 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Рисование мыльными пузырями»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н м 16 мыльн пузыри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13:21:21Z</dcterms:created>
  <dc:creator>Admin</dc:creator>
  <dc:description/>
  <dc:language>en-US</dc:language>
  <cp:lastModifiedBy>СВЕТЛАНА</cp:lastModifiedBy>
  <dcterms:modified xsi:type="dcterms:W3CDTF">2018-08-19T13:20:32Z</dcterms:modified>
  <cp:revision>13</cp:revision>
  <dc:subject/>
  <dc:title>Слайд 1</dc:title>
</cp:coreProperties>
</file>