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1F5-A7A3-4829-BA51-5288D5BB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BBC-DB8E-4933-99FD-A3A34A65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FE0-2312-4802-8335-C3683D92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C93-9BCD-4A76-B3C0-C4173048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D746-E2E1-4DA8-BB26-7229EAEB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F1ED-F27F-42F9-9A1C-E3F4B3A8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83AC-C3BB-4BBB-8069-855F9CF8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F25E-27AB-41AA-BBBD-F80E4F66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F584-EDD8-4EE6-B9BB-EDDD4328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315B-4E6D-446C-9ECA-91926B85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99D2-D024-4FB9-95BB-88157C06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D8B-0A81-47B9-922D-3C8B6440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6362-953D-4C08-8AA7-19191716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36B0-F4B8-4F1E-B385-61DAEBEE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DC18-048C-4DF2-A463-640CEF21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A073-D003-48FF-9CC6-5EEEB623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F860-EE03-4459-B8AC-F110B1D5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6BB8-211D-4E7F-8DA1-C4F498A8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39800-ED08-4BD3-98E2-2DBA0398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1161-9D93-4867-B4D3-8C95DEC1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5D37-C454-4690-BBB3-2044E861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364CD-0763-4AA0-A537-07D400B6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CD8-081D-45D8-9568-39922B44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487E-32F2-4592-B7D7-295384B6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44B0C-11A8-4C8F-9059-0F835F63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B9CFE-6334-48A6-8108-3D8A99D0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4AC3-F889-456A-B51A-96CAF596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D9B7-22D3-4FC2-90B9-5ABF5F9A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CE1E-160E-47EE-9268-18FD0CD3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0786-FD1C-4782-8D56-148859C7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E1CE-4A47-468E-B791-415D3D10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67F08-9F3B-42D5-84D0-AA52A8D7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6583-09BF-4100-ABE5-D3A48C11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25A-0D9D-4126-BEB0-039925C2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9A2B0-4E1A-4E00-9548-7BEE66C7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617C-F969-499E-B87C-34AE5141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E7CE-0858-409B-8429-84623BBF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BBD6-C726-4DE3-810B-C599B462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964D2-CF79-4C9F-9E53-20D8F37F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A66B5-E5A3-40F1-BD7C-A1B049C0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A4C28-6337-4FD0-BB67-534DED83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E4DA1-EBE0-4A36-8E1E-687CBF78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B0270-7ADA-4184-BEB9-34AD9900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0DE-887D-4B9A-A9BF-60DCFDE6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D5A-5924-4577-9D1D-A590B0BF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BDB-2EB5-4416-BD8D-D1330DA5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06C-2527-4266-993B-20C9FFF5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633-0A02-4481-B5D6-DDD03ADD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45c75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45c75"/>
                </a:solidFill>
                <a:latin typeface="Arial Narrow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45c75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ED13-23B1-4A2D-BDE8-E86C6339C54C}" type="slidenum">
              <a:rPr b="0" i="1" lang="ru-RU" sz="1200" spc="-1" strike="noStrike">
                <a:solidFill>
                  <a:srgbClr val="045c75"/>
                </a:solidFill>
                <a:latin typeface="Arial Narrow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d1eaee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d1eaee"/>
                </a:solidFill>
                <a:latin typeface="Arial Narrow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d1eaee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D738-DD6D-4BAE-BF01-8BF816E133EE}" type="slidenum">
              <a:rPr b="0" i="1" lang="ru-RU" sz="1200" spc="-1" strike="noStrike">
                <a:solidFill>
                  <a:srgbClr val="d1eaee"/>
                </a:solidFill>
                <a:latin typeface="Arial Narrow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d1eaee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d1eaee"/>
                </a:solidFill>
                <a:latin typeface="Arial Narrow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d1eaee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B852-B4A4-4795-A205-92BBABD00817}" type="slidenum">
              <a:rPr b="0" i="1" lang="ru-RU" sz="1200" spc="-1" strike="noStrike">
                <a:solidFill>
                  <a:srgbClr val="d1eaee"/>
                </a:solidFill>
                <a:latin typeface="Arial Narrow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45c75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45c75"/>
                </a:solidFill>
                <a:latin typeface="Arial Narrow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45c75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1371-8A09-482A-89BC-5DE0D999811F}" type="slidenum">
              <a:rPr b="0" i="1" lang="ru-RU" sz="1200" spc="-1" strike="noStrike">
                <a:solidFill>
                  <a:srgbClr val="045c75"/>
                </a:solidFill>
                <a:latin typeface="Arial Narrow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br>
              <a:rPr sz="5000"/>
            </a:b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ниципальное   казённое  обще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средняя общеобразовательная школа№2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4358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готовка  учащихся  9 класса  к    ОГЭ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писание  сжатого  изложения.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 русског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зыка и литератур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. М. Кравченк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. Узловая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0" y="50004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i="1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136440" y="1557360"/>
            <a:ext cx="885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ключе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то  самый распространенный способ сжатия текста. 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сключаем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торостепенную информацию – обособленные члены предложения, вставные конструкции (т.е. все, что выделено запятыми, скобками или тире), уточняющие члены предложения ит.д. Великолепным материалом для сокращения служат сложноподчиненные предложения с придаточными определительными, обстоятельственными и др.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324000" y="1341360"/>
            <a:ext cx="88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 ИСКЛЮЧЕНИИ необходимо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выделить главное (существенное) и детали (подробности);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убрать детали;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пропустить предложения, содержащие второстепенные факты;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пропустить предложения с описаниями и рассуждениями;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объединить существенное;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составить новый текст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755640" y="1197000"/>
            <a:ext cx="7750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рианты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КЛЮЧЕНИЯ:</a:t>
            </a: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даляем из текста поясняющие конструкции, например, ряд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ородных члено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 обобщающем слове или ряд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тых предложений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составе бессоюзного сложного, поясняющих содержание первой части. 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285840" y="1389960"/>
            <a:ext cx="8501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   </a:t>
            </a:r>
            <a:r>
              <a:rPr b="0" i="1" lang="ru-RU" sz="2800" spc="-1" strike="noStrike">
                <a:solidFill>
                  <a:srgbClr val="7030a0"/>
                </a:solidFill>
                <a:latin typeface="Arial Narrow"/>
              </a:rPr>
              <a:t> 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 исключения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мни Кремля могут  звучать. У каждой стены и купола особый звук, а все вместе они сливаются в богатырскую симфонию, исполняемую огромным оркестром из труб золотых куполов Кремля.       Каждый камень, стена, купол Кремля имеет свой звук, который сливается в единую богатырскую симфонию.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Стрелка вправо 1"/>
          <p:cNvSpPr/>
          <p:nvPr/>
        </p:nvSpPr>
        <p:spPr>
          <a:xfrm>
            <a:off x="5148360" y="4041720"/>
            <a:ext cx="576000" cy="21600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108000" y="1113120"/>
            <a:ext cx="885816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 обобщения</a:t>
            </a:r>
            <a:endParaRPr b="0" i="1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 Narrow"/>
              </a:rPr>
              <a:t>замена однородных членов обобщающим наименованием;- замена предложения или его части определительным или отрицательным местоимением с обобщающим значением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на достала из пакета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морковь, картофель,  рыбу, молоко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 только потом ответила на мой вопрос.           Она достала из пакета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одукты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 только потом ответила на мой вопрос.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Стрелка вправо с вырезом 4"/>
          <p:cNvSpPr/>
          <p:nvPr/>
        </p:nvSpPr>
        <p:spPr>
          <a:xfrm>
            <a:off x="1857240" y="4143240"/>
            <a:ext cx="785880" cy="484200"/>
          </a:xfrm>
          <a:custGeom>
            <a:avLst/>
            <a:gdLst>
              <a:gd name="textAreaLeft" fmla="*/ 120960 w 785880"/>
              <a:gd name="textAreaRight" fmla="*/ 664920 w 78588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945" y="5400"/>
                </a:lnTo>
                <a:lnTo>
                  <a:pt x="14945" y="0"/>
                </a:lnTo>
                <a:lnTo>
                  <a:pt x="21600" y="10800"/>
                </a:lnTo>
                <a:lnTo>
                  <a:pt x="14945" y="21600"/>
                </a:lnTo>
                <a:lnTo>
                  <a:pt x="14945" y="16200"/>
                </a:lnTo>
                <a:lnTo>
                  <a:pt x="0" y="16200"/>
                </a:lnTo>
                <a:lnTo>
                  <a:pt x="332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611280" y="549360"/>
            <a:ext cx="853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бщение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Arial Narrow"/>
              </a:rPr>
              <a:t>Мастерская Саврасова резко отличалась от других. В тех работали по необходимости и по обязанности. Иногда зевали и скучали. Здесь не думали о наградах и отличиях. Здесь горячо любили искусство и работу</a:t>
            </a:r>
            <a:r>
              <a:rPr b="1" lang="ru-RU" sz="2800" spc="-1" strike="noStrike">
                <a:solidFill>
                  <a:srgbClr val="7030a0"/>
                </a:solidFill>
                <a:latin typeface="Arial Narrow"/>
              </a:rPr>
              <a:t>, </a:t>
            </a:r>
            <a:r>
              <a:rPr b="1" lang="ru-RU" sz="2800" spc="-1" strike="noStrike" u="sng">
                <a:solidFill>
                  <a:srgbClr val="7030a0"/>
                </a:solidFill>
                <a:uFillTx/>
                <a:latin typeface="Arial Narrow"/>
              </a:rPr>
              <a:t>увлекались до самозабвения.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Arial Narrow"/>
              </a:rPr>
              <a:t>В мастерской Саврасова не скучали, не думали о наградах и отличиях, здесь горячо любили искусство и раб</a:t>
            </a:r>
            <a:r>
              <a:rPr b="1" lang="ru-RU" sz="2400" spc="-1" strike="noStrike">
                <a:solidFill>
                  <a:srgbClr val="7030a0"/>
                </a:solidFill>
                <a:latin typeface="Arial Narrow"/>
              </a:rPr>
              <a:t>оту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Стрелка вниз 3"/>
          <p:cNvSpPr/>
          <p:nvPr/>
        </p:nvSpPr>
        <p:spPr>
          <a:xfrm>
            <a:off x="4140360" y="3716280"/>
            <a:ext cx="484200" cy="7923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539640" y="765000"/>
            <a:ext cx="7920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рощение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 упрощении заменяем конкретные видовые факты родовыми. Например: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Цветущие поля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основые  рощи, лесные дали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всё это дорого сердцу художника. – Родная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рирода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дорога сердцу художника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714240" y="500040"/>
            <a:ext cx="7429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огическим способам компрессии текста соответствуют языковые приёмы. К ним относятся: сокращение отдельных членов предложения, некоторых однородных членов; образование сложного предложения путём слияния двух смежных предложений, повествующих об одном и том же предмете речи; сокращение сложного предложения за счёт менее существенной части; разбивка сложного предложения на сокращённые простые; перевод прямой речи в косвенную; пропуск предложений с описаниями и рассуждениями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0" y="-589680"/>
            <a:ext cx="88581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струкция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Calibri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к писать сжатое изложение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Calibri"/>
              </a:rPr>
              <a:t>»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: 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1. Выделите в тексте существенные  мысли. 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2. Найдите среди них главную мысль. 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3. Разбейте текст на части, сгруппировав его вокруг существенных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мыслей. 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4. Озаглавьте каждую часть и составьте план.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Надеюсь, что  кропотливый труд учителя и учащихся обязательно даст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положительный результат на экзамене.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"/>
          <p:cNvSpPr/>
          <p:nvPr/>
        </p:nvSpPr>
        <p:spPr>
          <a:xfrm>
            <a:off x="0" y="360"/>
            <a:ext cx="360" cy="5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71280" rIns="0" tIns="-856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33"/>
                </a:solidFill>
                <a:latin typeface="Arial Narrow"/>
              </a:rPr>
              <a:t> </a:t>
            </a:r>
            <a:endParaRPr b="0" i="1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1357200" y="500040"/>
            <a:ext cx="735804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Narrow"/>
              </a:rPr>
              <a:t> 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 Narrow"/>
                <a:ea typeface="KodchiangUPC"/>
              </a:rPr>
              <a:t>          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 Narrow"/>
                <a:ea typeface="KodchiangUPC"/>
              </a:rPr>
              <a:t>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Arial Narrow"/>
                <a:ea typeface="KodchiangUPC"/>
              </a:rPr>
              <a:t>Список    использованной  литературы:</a:t>
            </a: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.В. Драбкина, Д.И.Субботин. Русский язык</a:t>
            </a:r>
            <a:r>
              <a:rPr b="0" lang="ru-RU" sz="1800" spc="-1" strike="noStrike">
                <a:solidFill>
                  <a:srgbClr val="7030a0"/>
                </a:solidFill>
                <a:latin typeface="Arial Narrow"/>
              </a:rPr>
              <a:t> 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2014г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Е.С.Симакова  ,Русский язык,Новый справочник  для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одготовки  к  ГИА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Г.Т.Егораева  ГИА Русский язык. Выполнение заданий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частиС,,М.Экзамен,2013г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спользованные материалы  и  Интернет-ресурсы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ексты для написания изложения- Источник  :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http//schkolazhizni.ru/archive/0/-3155/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-176040" y="-590400"/>
            <a:ext cx="9491400" cy="671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785880" y="193680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Arial Narrow"/>
              </a:rPr>
              <a:t>   </a:t>
            </a:r>
            <a:r>
              <a:rPr b="1" i="1" lang="ru-RU" sz="5400" spc="-1" strike="noStrike">
                <a:solidFill>
                  <a:srgbClr val="7030a0"/>
                </a:solidFill>
                <a:latin typeface="Arial Narrow"/>
              </a:rPr>
              <a:t>Спасибо  за внимание</a:t>
            </a:r>
            <a:endParaRPr b="0" i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02680" y="764640"/>
            <a:ext cx="4178520" cy="3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1. Слушаем текст первый раз. (5 мин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Прямая соединительная линия 4"/>
          <p:cNvSpPr/>
          <p:nvPr/>
        </p:nvSpPr>
        <p:spPr>
          <a:xfrm>
            <a:off x="150840" y="1197000"/>
            <a:ext cx="458460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Прямоугольник 5"/>
          <p:cNvSpPr/>
          <p:nvPr/>
        </p:nvSpPr>
        <p:spPr>
          <a:xfrm>
            <a:off x="19080" y="1255680"/>
            <a:ext cx="474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тарайтесь представить то, о чем пишет автор</a:t>
            </a:r>
            <a:endParaRPr b="0" i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Прямая соединительная линия 8"/>
          <p:cNvSpPr/>
          <p:nvPr/>
        </p:nvSpPr>
        <p:spPr>
          <a:xfrm>
            <a:off x="130320" y="1832040"/>
            <a:ext cx="458460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Прямая соединительная линия 9"/>
          <p:cNvSpPr/>
          <p:nvPr/>
        </p:nvSpPr>
        <p:spPr>
          <a:xfrm>
            <a:off x="158760" y="1255680"/>
            <a:ext cx="0" cy="107172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Прямая соединительная линия 16"/>
          <p:cNvSpPr/>
          <p:nvPr/>
        </p:nvSpPr>
        <p:spPr>
          <a:xfrm>
            <a:off x="150840" y="2327400"/>
            <a:ext cx="4492440" cy="2196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Прямоугольник 17"/>
          <p:cNvSpPr/>
          <p:nvPr/>
        </p:nvSpPr>
        <p:spPr>
          <a:xfrm>
            <a:off x="768600" y="1989000"/>
            <a:ext cx="33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меньше пиши – больше слушай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i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Прямая соединительная линия 25"/>
          <p:cNvSpPr/>
          <p:nvPr/>
        </p:nvSpPr>
        <p:spPr>
          <a:xfrm>
            <a:off x="4683240" y="1255680"/>
            <a:ext cx="0" cy="107172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Прямоугольник 27"/>
          <p:cNvSpPr/>
          <p:nvPr/>
        </p:nvSpPr>
        <p:spPr>
          <a:xfrm>
            <a:off x="239760" y="2666880"/>
            <a:ext cx="41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2. Обдумываем текст. (5 мин)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Прямая соединительная линия 28"/>
          <p:cNvSpPr/>
          <p:nvPr/>
        </p:nvSpPr>
        <p:spPr>
          <a:xfrm>
            <a:off x="184320" y="3124080"/>
            <a:ext cx="458280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Прямая соединительная линия 29"/>
          <p:cNvSpPr/>
          <p:nvPr/>
        </p:nvSpPr>
        <p:spPr>
          <a:xfrm>
            <a:off x="130320" y="3759120"/>
            <a:ext cx="458460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Прямая соединительная линия 30"/>
          <p:cNvSpPr/>
          <p:nvPr/>
        </p:nvSpPr>
        <p:spPr>
          <a:xfrm>
            <a:off x="203040" y="3084480"/>
            <a:ext cx="0" cy="64296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Прямая соединительная линия 32"/>
          <p:cNvSpPr/>
          <p:nvPr/>
        </p:nvSpPr>
        <p:spPr>
          <a:xfrm>
            <a:off x="4734000" y="3084480"/>
            <a:ext cx="0" cy="64296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Прямоугольник 34"/>
          <p:cNvSpPr/>
          <p:nvPr/>
        </p:nvSpPr>
        <p:spPr>
          <a:xfrm>
            <a:off x="150840" y="3124080"/>
            <a:ext cx="45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пиши ключевые слова по памяти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сстанови микротемы в виде плана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Прямоугольник 37"/>
          <p:cNvSpPr/>
          <p:nvPr/>
        </p:nvSpPr>
        <p:spPr>
          <a:xfrm>
            <a:off x="150840" y="4272120"/>
            <a:ext cx="44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3. Слушаем текст второй раз. (5мин) 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Прямая соединительная линия 38"/>
          <p:cNvSpPr/>
          <p:nvPr/>
        </p:nvSpPr>
        <p:spPr>
          <a:xfrm>
            <a:off x="239760" y="4857840"/>
            <a:ext cx="458460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Прямая соединительная линия 39"/>
          <p:cNvSpPr/>
          <p:nvPr/>
        </p:nvSpPr>
        <p:spPr>
          <a:xfrm>
            <a:off x="203040" y="5678640"/>
            <a:ext cx="458316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Прямая соединительная линия 40"/>
          <p:cNvSpPr/>
          <p:nvPr/>
        </p:nvSpPr>
        <p:spPr>
          <a:xfrm flipH="1">
            <a:off x="239760" y="4894200"/>
            <a:ext cx="1440" cy="78444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Прямая соединительная линия 41"/>
          <p:cNvSpPr/>
          <p:nvPr/>
        </p:nvSpPr>
        <p:spPr>
          <a:xfrm flipH="1">
            <a:off x="4786200" y="4857840"/>
            <a:ext cx="38160" cy="82080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Прямоугольник 42"/>
          <p:cNvSpPr/>
          <p:nvPr/>
        </p:nvSpPr>
        <p:spPr>
          <a:xfrm>
            <a:off x="19080" y="4754520"/>
            <a:ext cx="479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полни словарь ключевых слов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пиши средства связи между предложениям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Объект 2"/>
          <p:cNvSpPr/>
          <p:nvPr/>
        </p:nvSpPr>
        <p:spPr>
          <a:xfrm>
            <a:off x="4906800" y="866880"/>
            <a:ext cx="41785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</a:t>
            </a:r>
            <a:r>
              <a:rPr b="0" lang="en-US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Пишем черновик. (30 мин)</a:t>
            </a:r>
            <a:endParaRPr b="0" i="1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Прямая соединительная линия 66"/>
          <p:cNvSpPr/>
          <p:nvPr/>
        </p:nvSpPr>
        <p:spPr>
          <a:xfrm flipV="1">
            <a:off x="5081760" y="1249200"/>
            <a:ext cx="4003560" cy="2088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Прямая соединительная линия 67"/>
          <p:cNvSpPr/>
          <p:nvPr/>
        </p:nvSpPr>
        <p:spPr>
          <a:xfrm>
            <a:off x="5025960" y="1892160"/>
            <a:ext cx="405936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Прямая соединительная линия 68"/>
          <p:cNvSpPr/>
          <p:nvPr/>
        </p:nvSpPr>
        <p:spPr>
          <a:xfrm>
            <a:off x="5025960" y="1270080"/>
            <a:ext cx="0" cy="64296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Прямая соединительная линия 69"/>
          <p:cNvSpPr/>
          <p:nvPr/>
        </p:nvSpPr>
        <p:spPr>
          <a:xfrm>
            <a:off x="9085320" y="1249200"/>
            <a:ext cx="0" cy="64296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Прямоугольник 70"/>
          <p:cNvSpPr/>
          <p:nvPr/>
        </p:nvSpPr>
        <p:spPr>
          <a:xfrm>
            <a:off x="4906800" y="122544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блюдай деление текста на части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в 1 абзаце может быть 2 микротемы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Прямоугольник 71"/>
          <p:cNvSpPr/>
          <p:nvPr/>
        </p:nvSpPr>
        <p:spPr>
          <a:xfrm>
            <a:off x="4824360" y="2478240"/>
            <a:ext cx="44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5. Читаем и проверяем текст. (5 мин)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Прямая соединительная линия 72"/>
          <p:cNvSpPr/>
          <p:nvPr/>
        </p:nvSpPr>
        <p:spPr>
          <a:xfrm>
            <a:off x="4856040" y="2847960"/>
            <a:ext cx="4229280" cy="2556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Прямая соединительная линия 73"/>
          <p:cNvSpPr/>
          <p:nvPr/>
        </p:nvSpPr>
        <p:spPr>
          <a:xfrm>
            <a:off x="4906800" y="3270240"/>
            <a:ext cx="4237200" cy="4284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Прямая соединительная линия 74"/>
          <p:cNvSpPr/>
          <p:nvPr/>
        </p:nvSpPr>
        <p:spPr>
          <a:xfrm flipH="1">
            <a:off x="4906440" y="2847960"/>
            <a:ext cx="1800" cy="37008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Прямая соединительная линия 75"/>
          <p:cNvSpPr/>
          <p:nvPr/>
        </p:nvSpPr>
        <p:spPr>
          <a:xfrm flipH="1">
            <a:off x="9140400" y="2928960"/>
            <a:ext cx="3240" cy="36972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Прямоугольник 76"/>
          <p:cNvSpPr/>
          <p:nvPr/>
        </p:nvSpPr>
        <p:spPr>
          <a:xfrm>
            <a:off x="4735440" y="2913120"/>
            <a:ext cx="45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ложение не должно быть сочинением</a:t>
            </a: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Прямая соединительная линия 77"/>
          <p:cNvSpPr/>
          <p:nvPr/>
        </p:nvSpPr>
        <p:spPr>
          <a:xfrm>
            <a:off x="5840280" y="3727440"/>
            <a:ext cx="266544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Прямая соединительная линия 78"/>
          <p:cNvSpPr/>
          <p:nvPr/>
        </p:nvSpPr>
        <p:spPr>
          <a:xfrm>
            <a:off x="5840280" y="3297240"/>
            <a:ext cx="0" cy="37800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Прямая соединительная линия 79"/>
          <p:cNvSpPr/>
          <p:nvPr/>
        </p:nvSpPr>
        <p:spPr>
          <a:xfrm flipH="1">
            <a:off x="8486280" y="3352680"/>
            <a:ext cx="3240" cy="36828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Прямоугольник 80"/>
          <p:cNvSpPr/>
          <p:nvPr/>
        </p:nvSpPr>
        <p:spPr>
          <a:xfrm>
            <a:off x="4906800" y="3313080"/>
            <a:ext cx="45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спользуйся словарем!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Прямоугольник 81"/>
          <p:cNvSpPr/>
          <p:nvPr/>
        </p:nvSpPr>
        <p:spPr>
          <a:xfrm>
            <a:off x="5200560" y="426420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6. Пишем чистовик. (30 мин)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Прямая соединительная линия 82"/>
          <p:cNvSpPr/>
          <p:nvPr/>
        </p:nvSpPr>
        <p:spPr>
          <a:xfrm>
            <a:off x="5786280" y="3305160"/>
            <a:ext cx="2665440" cy="0"/>
          </a:xfrm>
          <a:prstGeom prst="line">
            <a:avLst/>
          </a:prstGeom>
          <a:ln w="2844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171360" y="1335240"/>
            <a:ext cx="8582040" cy="4522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Прямоугольник 1" descr=""/>
          <p:cNvPicPr/>
          <p:nvPr/>
        </p:nvPicPr>
        <p:blipFill>
          <a:blip r:embed="rId1"/>
          <a:stretch/>
        </p:blipFill>
        <p:spPr>
          <a:xfrm>
            <a:off x="1279440" y="669960"/>
            <a:ext cx="6085080" cy="64501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3"/>
          <p:cNvSpPr/>
          <p:nvPr/>
        </p:nvSpPr>
        <p:spPr>
          <a:xfrm>
            <a:off x="0" y="0"/>
            <a:ext cx="914400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этап: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Определите 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У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екста (о чём текст?).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формулируйте 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УЮ МЫСЛЬ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(чему учит текст?)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Определите 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ЛЬ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екста и 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ечи, особенности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оения текста.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оставьте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ПЛАН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а, выделя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кротемы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ой части и озаглавли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r>
              <a:rPr b="1" i="1" lang="ru-RU" sz="1800" spc="-1" strike="noStrike">
                <a:solidFill>
                  <a:srgbClr val="002060"/>
                </a:solidFill>
                <a:latin typeface="Arial Narrow"/>
              </a:rPr>
              <a:t>. </a:t>
            </a:r>
            <a:endParaRPr b="0" i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0" y="571680"/>
            <a:ext cx="914400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2 этап:</a:t>
            </a:r>
            <a:endParaRPr b="0" i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Отметьте в каждой микротеме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ЕННОЕ и ДОПОЛНИТЕЛЬНОЕ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8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Определите 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ОСОБ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сокращения текста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исключение, обобщение, упрощение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.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Напишите 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ЖАТОЕ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зложение каждой части, свяжите их между собой, чтобы получился текст.</a:t>
            </a:r>
            <a:br>
              <a:rPr sz="2400"/>
            </a:b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395280" y="857160"/>
            <a:ext cx="835344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помни!!!</a:t>
            </a:r>
            <a:endParaRPr b="0" i="1" lang="en-US" sz="5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жатое изложение </a:t>
            </a:r>
            <a:endParaRPr b="0" i="1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лжно быть </a:t>
            </a:r>
            <a:endParaRPr b="0" i="1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отким</a:t>
            </a: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о форме, </a:t>
            </a:r>
            <a:endParaRPr b="0" i="1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 </a:t>
            </a:r>
            <a:endParaRPr b="0" i="1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бедным </a:t>
            </a: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содержанию.</a:t>
            </a:r>
            <a:br>
              <a:rPr sz="4800"/>
            </a:br>
            <a:br>
              <a:rPr sz="4800"/>
            </a:br>
            <a:endParaRPr b="0" i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500040" y="1000080"/>
            <a:ext cx="84646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так, чтобы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ЖАТЬ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зложение, нужно 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БОТАТЬ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прослушанный текст, а именно: </a:t>
            </a: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457200">
              <a:lnSpc>
                <a:spcPct val="10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брать всё лишнее, подробности, детали.</a:t>
            </a: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Оставить только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ГЛАВНОЕ, ВАЖНОЕ, СУТЬ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.</a:t>
            </a: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214200" y="1214280"/>
            <a:ext cx="882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особы сжатия текста</a:t>
            </a:r>
            <a:endParaRPr b="0" i="1" lang="en-US" sz="5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214200" y="2967120"/>
            <a:ext cx="892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Исключение </a:t>
            </a:r>
            <a:endParaRPr b="0" i="1" lang="en-US" sz="5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Обобщени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Упрощение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i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9:07:59Z</dcterms:created>
  <dc:creator>Admin</dc:creator>
  <dc:description/>
  <dc:language>en-US</dc:language>
  <cp:lastModifiedBy>Людмила</cp:lastModifiedBy>
  <dcterms:modified xsi:type="dcterms:W3CDTF">2016-02-17T03:49:47Z</dcterms:modified>
  <cp:revision>85</cp:revision>
  <dc:subject/>
  <dc:title>Технология подготовки к ГИА по русскому языку в 9 клас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</Properties>
</file>