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B13E-CF87-4BBC-BFD2-0FC9E0B2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B83-05CC-47A7-A434-24942B70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C5E8-2AC7-4B26-85EB-A5CCC6F0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0A04-A35D-4543-B455-BE80DFB1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DE5B-2117-4F68-BCF6-1174A291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2B4B-8937-4905-B649-E92736A1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B3D9-A74D-45A4-9EF1-4EE068EE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3897-F643-4CDA-83EF-450185B9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2F67-6A65-44A0-A77D-23E3C131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478F-BB03-4ACA-9AD7-B68E970A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F25F-C208-4164-8B20-85039E68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AA3-3AD2-4AF4-8B40-604A4FC3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4F31-0545-4E7B-829A-EBECCBAF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8E69-8772-4778-A3C8-FC8D357B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B267-818E-47B4-B658-F80A9FDF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58C7-4900-48FB-A46A-07C0A090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C52F-BD2B-40EE-A7B2-BFAECAB8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25971-23D8-4055-91DC-B600BC73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A30F2-1524-4D00-911A-E43BD516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1628B-5D79-468F-B95E-C6E3ACFF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DD0B9-A833-4510-95F3-7C4E5FD6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702F-C5B0-49B7-88C5-07354EF6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122-8F52-4041-A519-2DB51E18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0DA1B-AF15-40FA-898F-75DC8F24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070C4-19AE-49C8-9A3B-8681CE73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EC898-7C51-41CA-B3CD-4AF23314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33E02-E7EF-4202-934B-68597606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659E9-95E1-4768-B3AE-10092787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3CF41-DF3C-4369-8D6F-3FF6B8DC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E40AA-1C43-4A46-8F22-9B17263C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630A9-B84F-48A7-834A-80009B73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1820E-A9C3-4024-A831-FE9C4112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2C7E9-B2B6-4016-AAF1-69452D1F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340-7735-4D83-9D85-4510D610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696EA-EC40-4DC4-9EAC-40DBD975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611D7-ECAA-436F-BB26-260224B5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4E631-86A7-43B4-BD79-6A536231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D4978-5969-4DC6-9C30-3BBE6693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729A9-63E0-4F55-A9F9-895E302B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065FB-B655-4E63-8269-CB2848F6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FC032-B837-4646-8E76-36D4A884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20C57-9E5D-4249-B863-A62D4C2E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C8EEE-862A-4924-86EC-7F29CF8B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6DF-0755-4F7D-9322-F68E44DE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B2D-1265-48D6-A74F-8FBD8811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629-4041-4D26-B2F1-9A6B877A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725-E014-4DA7-9F95-9738A851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4A5-8121-432D-9182-C88C611F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45c75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45c75"/>
                </a:solidFill>
                <a:latin typeface="Arial Narrow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45c75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14F3-1EBC-4060-B70F-4A80800AC206}" type="slidenum">
              <a:rPr b="0" i="1" lang="ru-RU" sz="1200" spc="-1" strike="noStrike">
                <a:solidFill>
                  <a:srgbClr val="045c75"/>
                </a:solidFill>
                <a:latin typeface="Arial Narrow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d1eaee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d1eaee"/>
                </a:solidFill>
                <a:latin typeface="Arial Narrow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d1eaee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8A75-BD4A-42AD-9603-B56F4E850A57}" type="slidenum">
              <a:rPr b="0" i="1" lang="ru-RU" sz="1200" spc="-1" strike="noStrike">
                <a:solidFill>
                  <a:srgbClr val="d1eaee"/>
                </a:solidFill>
                <a:latin typeface="Arial Narrow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d1eaee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d1eaee"/>
                </a:solidFill>
                <a:latin typeface="Arial Narrow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d1eaee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B30D-2B8C-440C-B8B7-0D1E24160ABA}" type="slidenum">
              <a:rPr b="0" i="1" lang="ru-RU" sz="1200" spc="-1" strike="noStrike">
                <a:solidFill>
                  <a:srgbClr val="d1eaee"/>
                </a:solidFill>
                <a:latin typeface="Arial Narrow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45c75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45c75"/>
                </a:solidFill>
                <a:latin typeface="Arial Narrow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45c75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9EB2-5D7B-457D-9C9B-C2D1ED74EFBB}" type="slidenum">
              <a:rPr b="0" i="1" lang="ru-RU" sz="1200" spc="-1" strike="noStrike">
                <a:solidFill>
                  <a:srgbClr val="045c75"/>
                </a:solidFill>
                <a:latin typeface="Arial Narrow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</a:t>
            </a: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</a:t>
            </a:r>
            <a:br>
              <a:rPr sz="5000"/>
            </a:b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униципальное   казённое  обще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средняя общеобразовательная школа№2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43588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дготовка  учащихся  9 класса  к    ОГЭ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писание  сжатого  изложения.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ель русског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зыка и литератур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. М. Кравченк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. Узловая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Заголовок 1"/>
          <p:cNvSpPr/>
          <p:nvPr/>
        </p:nvSpPr>
        <p:spPr>
          <a:xfrm>
            <a:off x="0" y="50004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i="1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136440" y="1557360"/>
            <a:ext cx="885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ключени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то  самый распространенный способ сжатия текста. 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сключаем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торостепенную информацию – обособленные члены предложения, вставные конструкции (т.е. все, что выделено запятыми, скобками или тире), уточняющие члены предложения ит.д. Великолепным материалом для сокращения служат сложноподчиненные предложения с придаточными определительными, обстоятельственными и др.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324000" y="1341360"/>
            <a:ext cx="882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 ИСКЛЮЧЕНИИ необходимо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выделить главное (существенное) и детали (подробности);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убрать детали;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пропустить предложения, содержащие второстепенные факты;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пропустить предложения с описаниями и рассуждениями;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объединить существенное;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составить новый текст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755640" y="1197000"/>
            <a:ext cx="7750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арианты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КЛЮЧЕНИЯ:</a:t>
            </a: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даляем из текста поясняющие конструкции, например, ряд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ородных члено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 обобщающем слове или ряд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стых предложений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составе бессоюзного сложного, поясняющих содержание первой части. </a:t>
            </a: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285840" y="1389960"/>
            <a:ext cx="8501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   </a:t>
            </a:r>
            <a:r>
              <a:rPr b="0" i="1" lang="ru-RU" sz="2800" spc="-1" strike="noStrike">
                <a:solidFill>
                  <a:srgbClr val="7030a0"/>
                </a:solidFill>
                <a:latin typeface="Arial Narrow"/>
              </a:rPr>
              <a:t> 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 исключения</a:t>
            </a: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мни Кремля могут  звучать. У каждой стены и купола особый звук, а все вместе они сливаются в богатырскую симфонию, исполняемую огромным оркестром из труб золотых куполов Кремля.       Каждый камень, стена, купол Кремля имеет свой звук, который сливается в единую богатырскую симфонию.</a:t>
            </a: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Стрелка вправо 1"/>
          <p:cNvSpPr/>
          <p:nvPr/>
        </p:nvSpPr>
        <p:spPr>
          <a:xfrm>
            <a:off x="5148360" y="4041720"/>
            <a:ext cx="576000" cy="21600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108000" y="1113120"/>
            <a:ext cx="885816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 обобщения</a:t>
            </a:r>
            <a:endParaRPr b="0" i="1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 Narrow"/>
              </a:rPr>
              <a:t>замена однородных членов обобщающим наименованием;- замена предложения или его части определительным или отрицательным местоимением с обобщающим значением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на достала из пакета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морковь, картофель,  рыбу, молоко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 только потом ответила на мой вопрос.           Она достала из пакета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одукты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 только потом ответила на мой вопрос.</a:t>
            </a: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Стрелка вправо с вырезом 4"/>
          <p:cNvSpPr/>
          <p:nvPr/>
        </p:nvSpPr>
        <p:spPr>
          <a:xfrm>
            <a:off x="1857240" y="4143240"/>
            <a:ext cx="785880" cy="484200"/>
          </a:xfrm>
          <a:custGeom>
            <a:avLst/>
            <a:gdLst>
              <a:gd name="textAreaLeft" fmla="*/ 120960 w 785880"/>
              <a:gd name="textAreaRight" fmla="*/ 664920 w 78588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945" y="5400"/>
                </a:lnTo>
                <a:lnTo>
                  <a:pt x="14945" y="0"/>
                </a:lnTo>
                <a:lnTo>
                  <a:pt x="21600" y="10800"/>
                </a:lnTo>
                <a:lnTo>
                  <a:pt x="14945" y="21600"/>
                </a:lnTo>
                <a:lnTo>
                  <a:pt x="14945" y="16200"/>
                </a:lnTo>
                <a:lnTo>
                  <a:pt x="0" y="16200"/>
                </a:lnTo>
                <a:lnTo>
                  <a:pt x="332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611280" y="549360"/>
            <a:ext cx="853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бщение</a:t>
            </a: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0a0"/>
                </a:solidFill>
                <a:uFillTx/>
                <a:latin typeface="Arial Narrow"/>
              </a:rPr>
              <a:t>Мастерская Саврасова резко отличалась от других. В тех работали по необходимости и по обязанности. Иногда зевали и скучали. Здесь не думали о наградах и отличиях. Здесь горячо любили искусство и работу</a:t>
            </a:r>
            <a:r>
              <a:rPr b="1" lang="ru-RU" sz="2800" spc="-1" strike="noStrike">
                <a:solidFill>
                  <a:srgbClr val="7030a0"/>
                </a:solidFill>
                <a:latin typeface="Arial Narrow"/>
              </a:rPr>
              <a:t>, </a:t>
            </a:r>
            <a:r>
              <a:rPr b="1" lang="ru-RU" sz="2800" spc="-1" strike="noStrike" u="sng">
                <a:solidFill>
                  <a:srgbClr val="7030a0"/>
                </a:solidFill>
                <a:uFillTx/>
                <a:latin typeface="Arial Narrow"/>
              </a:rPr>
              <a:t>увлекались до самозабвения.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Arial Narrow"/>
              </a:rPr>
              <a:t>В мастерской Саврасова не скучали, не думали о наградах и отличиях, здесь горячо любили искусство и раб</a:t>
            </a:r>
            <a:r>
              <a:rPr b="1" lang="ru-RU" sz="2400" spc="-1" strike="noStrike">
                <a:solidFill>
                  <a:srgbClr val="7030a0"/>
                </a:solidFill>
                <a:latin typeface="Arial Narrow"/>
              </a:rPr>
              <a:t>оту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Стрелка вниз 3"/>
          <p:cNvSpPr/>
          <p:nvPr/>
        </p:nvSpPr>
        <p:spPr>
          <a:xfrm>
            <a:off x="4140360" y="3716280"/>
            <a:ext cx="484200" cy="79236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539640" y="765000"/>
            <a:ext cx="7920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прощение</a:t>
            </a: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 упрощении заменяем конкретные видовые факты родовыми. Например: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Цветущие поля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основые  рощи, лесные дали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всё это дорого сердцу художника. – Родная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ирода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дорога сердцу художника</a:t>
            </a: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714240" y="500040"/>
            <a:ext cx="7429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огическим способам компрессии текста соответствуют языковые приёмы. К ним относятся: сокращение отдельных членов предложения, некоторых однородных членов; образование сложного предложения путём слияния двух смежных предложений, повествующих об одном и том же предмете речи; сокращение сложного предложения за счёт менее существенной части; разбивка сложного предложения на сокращённые простые; перевод прямой речи в косвенную; пропуск предложений с описаниями и рассуждениями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0" y="-589680"/>
            <a:ext cx="885816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Инструкция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Calibri"/>
              </a:rPr>
              <a:t>«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Как писать сжатое изложение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Calibri"/>
              </a:rPr>
              <a:t>»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: 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1. Выделите в тексте существенные  мысли. 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2. Найдите среди них главную мысль. 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3. Разбейте текст на части, сгруппировав его вокруг существенных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мыслей. 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4. Озаглавьте каждую часть и составьте план.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Надеюсь, что  кропотливый труд учителя и учащихся обязательно даст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положительный результат на экзамене.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3"/>
          <p:cNvSpPr/>
          <p:nvPr/>
        </p:nvSpPr>
        <p:spPr>
          <a:xfrm>
            <a:off x="0" y="360"/>
            <a:ext cx="360" cy="5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-71280" rIns="0" tIns="-856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Arial Narrow"/>
              </a:rPr>
              <a:t> </a:t>
            </a:r>
            <a:endParaRPr b="0" i="1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1357200" y="500040"/>
            <a:ext cx="735804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 Narrow"/>
              </a:rPr>
              <a:t> 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 Narrow"/>
                <a:ea typeface="KodchiangUPC"/>
              </a:rPr>
              <a:t>          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 Narrow"/>
                <a:ea typeface="KodchiangUPC"/>
              </a:rPr>
              <a:t>  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Arial Narrow"/>
                <a:ea typeface="KodchiangUPC"/>
              </a:rPr>
              <a:t>Список    использованной  литературы: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С.В. Драбкина, Д.И.Субботин. Русский язык</a:t>
            </a:r>
            <a:r>
              <a:rPr b="0" lang="ru-RU" sz="1800" spc="-1" strike="noStrike">
                <a:solidFill>
                  <a:srgbClr val="7030a0"/>
                </a:solidFill>
                <a:latin typeface="Arial Narrow"/>
              </a:rPr>
              <a:t> 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2014г.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Е.С.Симакова  ,Русский язык,Новый справочник  для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подготовки  к  ГИА.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Г.Т.Егораева  ГИА Русский язык. Выполнение заданий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частиС,,М.Экзамен,2013г.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спользованные материалы  и  Интернет-ресурсы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Тексты для написания изложения- Источник  :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  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http//schkolazhizni.ru/archive/0/-3155/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-176040" y="-590400"/>
            <a:ext cx="9491400" cy="6716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785880" y="193680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Arial Narrow"/>
              </a:rPr>
              <a:t>   </a:t>
            </a:r>
            <a:r>
              <a:rPr b="1" i="1" lang="ru-RU" sz="5400" spc="-1" strike="noStrike">
                <a:solidFill>
                  <a:srgbClr val="7030a0"/>
                </a:solidFill>
                <a:latin typeface="Arial Narrow"/>
              </a:rPr>
              <a:t>Спасибо  за внимание</a:t>
            </a:r>
            <a:endParaRPr b="0" i="1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02680" y="764640"/>
            <a:ext cx="4178520" cy="3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1. Слушаем текст первый раз. (5 мин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Прямая соединительная линия 4"/>
          <p:cNvSpPr/>
          <p:nvPr/>
        </p:nvSpPr>
        <p:spPr>
          <a:xfrm>
            <a:off x="150840" y="1197000"/>
            <a:ext cx="4584600" cy="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Прямоугольник 5"/>
          <p:cNvSpPr/>
          <p:nvPr/>
        </p:nvSpPr>
        <p:spPr>
          <a:xfrm>
            <a:off x="19080" y="1255680"/>
            <a:ext cx="474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старайтесь представить то, о чем пишет автор</a:t>
            </a:r>
            <a:endParaRPr b="0" i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Прямая соединительная линия 8"/>
          <p:cNvSpPr/>
          <p:nvPr/>
        </p:nvSpPr>
        <p:spPr>
          <a:xfrm>
            <a:off x="130320" y="1832040"/>
            <a:ext cx="4584600" cy="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Прямая соединительная линия 9"/>
          <p:cNvSpPr/>
          <p:nvPr/>
        </p:nvSpPr>
        <p:spPr>
          <a:xfrm>
            <a:off x="158760" y="1255680"/>
            <a:ext cx="0" cy="107172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Прямая соединительная линия 16"/>
          <p:cNvSpPr/>
          <p:nvPr/>
        </p:nvSpPr>
        <p:spPr>
          <a:xfrm>
            <a:off x="150840" y="2327400"/>
            <a:ext cx="4492440" cy="2196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Прямоугольник 17"/>
          <p:cNvSpPr/>
          <p:nvPr/>
        </p:nvSpPr>
        <p:spPr>
          <a:xfrm>
            <a:off x="768600" y="1989000"/>
            <a:ext cx="33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меньше пиши – больше слушай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i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Прямая соединительная линия 25"/>
          <p:cNvSpPr/>
          <p:nvPr/>
        </p:nvSpPr>
        <p:spPr>
          <a:xfrm>
            <a:off x="4683240" y="1255680"/>
            <a:ext cx="0" cy="107172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Прямоугольник 27"/>
          <p:cNvSpPr/>
          <p:nvPr/>
        </p:nvSpPr>
        <p:spPr>
          <a:xfrm>
            <a:off x="239760" y="2666880"/>
            <a:ext cx="41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2. Обдумываем текст. (5 мин)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Прямая соединительная линия 28"/>
          <p:cNvSpPr/>
          <p:nvPr/>
        </p:nvSpPr>
        <p:spPr>
          <a:xfrm>
            <a:off x="184320" y="3124080"/>
            <a:ext cx="4582800" cy="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Прямая соединительная линия 29"/>
          <p:cNvSpPr/>
          <p:nvPr/>
        </p:nvSpPr>
        <p:spPr>
          <a:xfrm>
            <a:off x="130320" y="3759120"/>
            <a:ext cx="4584600" cy="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Прямая соединительная линия 30"/>
          <p:cNvSpPr/>
          <p:nvPr/>
        </p:nvSpPr>
        <p:spPr>
          <a:xfrm>
            <a:off x="203040" y="3084480"/>
            <a:ext cx="0" cy="64296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Прямая соединительная линия 32"/>
          <p:cNvSpPr/>
          <p:nvPr/>
        </p:nvSpPr>
        <p:spPr>
          <a:xfrm>
            <a:off x="4734000" y="3084480"/>
            <a:ext cx="0" cy="64296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Прямоугольник 34"/>
          <p:cNvSpPr/>
          <p:nvPr/>
        </p:nvSpPr>
        <p:spPr>
          <a:xfrm>
            <a:off x="150840" y="3124080"/>
            <a:ext cx="45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пиши ключевые слова по памяти.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сстанови микротемы в виде плана.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Прямоугольник 37"/>
          <p:cNvSpPr/>
          <p:nvPr/>
        </p:nvSpPr>
        <p:spPr>
          <a:xfrm>
            <a:off x="150840" y="4272120"/>
            <a:ext cx="44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3. Слушаем текст второй раз. (5мин) 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Прямая соединительная линия 38"/>
          <p:cNvSpPr/>
          <p:nvPr/>
        </p:nvSpPr>
        <p:spPr>
          <a:xfrm>
            <a:off x="239760" y="4857840"/>
            <a:ext cx="4584600" cy="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Прямая соединительная линия 39"/>
          <p:cNvSpPr/>
          <p:nvPr/>
        </p:nvSpPr>
        <p:spPr>
          <a:xfrm>
            <a:off x="203040" y="5678640"/>
            <a:ext cx="4583160" cy="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Прямая соединительная линия 40"/>
          <p:cNvSpPr/>
          <p:nvPr/>
        </p:nvSpPr>
        <p:spPr>
          <a:xfrm flipH="1">
            <a:off x="239760" y="4894200"/>
            <a:ext cx="1440" cy="78444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Прямая соединительная линия 41"/>
          <p:cNvSpPr/>
          <p:nvPr/>
        </p:nvSpPr>
        <p:spPr>
          <a:xfrm flipH="1">
            <a:off x="4786200" y="4857840"/>
            <a:ext cx="38160" cy="82080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Прямоугольник 42"/>
          <p:cNvSpPr/>
          <p:nvPr/>
        </p:nvSpPr>
        <p:spPr>
          <a:xfrm>
            <a:off x="19080" y="4754520"/>
            <a:ext cx="479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полни словарь ключевых слов.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пиши средства связи между предложениям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Объект 2"/>
          <p:cNvSpPr/>
          <p:nvPr/>
        </p:nvSpPr>
        <p:spPr>
          <a:xfrm>
            <a:off x="4906800" y="866880"/>
            <a:ext cx="41785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</a:t>
            </a:r>
            <a:r>
              <a:rPr b="0" lang="en-US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Пишем черновик. (30 мин)</a:t>
            </a:r>
            <a:endParaRPr b="0" i="1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Прямая соединительная линия 66"/>
          <p:cNvSpPr/>
          <p:nvPr/>
        </p:nvSpPr>
        <p:spPr>
          <a:xfrm flipV="1">
            <a:off x="5081760" y="1249200"/>
            <a:ext cx="4003560" cy="2088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Прямая соединительная линия 67"/>
          <p:cNvSpPr/>
          <p:nvPr/>
        </p:nvSpPr>
        <p:spPr>
          <a:xfrm>
            <a:off x="5025960" y="1892160"/>
            <a:ext cx="4059360" cy="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Прямая соединительная линия 68"/>
          <p:cNvSpPr/>
          <p:nvPr/>
        </p:nvSpPr>
        <p:spPr>
          <a:xfrm>
            <a:off x="5025960" y="1270080"/>
            <a:ext cx="0" cy="64296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Прямая соединительная линия 69"/>
          <p:cNvSpPr/>
          <p:nvPr/>
        </p:nvSpPr>
        <p:spPr>
          <a:xfrm>
            <a:off x="9085320" y="1249200"/>
            <a:ext cx="0" cy="64296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Прямоугольник 70"/>
          <p:cNvSpPr/>
          <p:nvPr/>
        </p:nvSpPr>
        <p:spPr>
          <a:xfrm>
            <a:off x="4906800" y="122544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блюдай деление текста на части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в 1 абзаце может быть 2 микротемы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Прямоугольник 71"/>
          <p:cNvSpPr/>
          <p:nvPr/>
        </p:nvSpPr>
        <p:spPr>
          <a:xfrm>
            <a:off x="4824360" y="2478240"/>
            <a:ext cx="44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5. Читаем и проверяем текст. (5 мин)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Прямая соединительная линия 72"/>
          <p:cNvSpPr/>
          <p:nvPr/>
        </p:nvSpPr>
        <p:spPr>
          <a:xfrm>
            <a:off x="4856040" y="2847960"/>
            <a:ext cx="4229280" cy="2556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Прямая соединительная линия 73"/>
          <p:cNvSpPr/>
          <p:nvPr/>
        </p:nvSpPr>
        <p:spPr>
          <a:xfrm>
            <a:off x="4906800" y="3270240"/>
            <a:ext cx="4237200" cy="4284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Прямая соединительная линия 74"/>
          <p:cNvSpPr/>
          <p:nvPr/>
        </p:nvSpPr>
        <p:spPr>
          <a:xfrm flipH="1">
            <a:off x="4906440" y="2847960"/>
            <a:ext cx="1800" cy="37008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Прямая соединительная линия 75"/>
          <p:cNvSpPr/>
          <p:nvPr/>
        </p:nvSpPr>
        <p:spPr>
          <a:xfrm flipH="1">
            <a:off x="9140400" y="2928960"/>
            <a:ext cx="3240" cy="36972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Прямоугольник 76"/>
          <p:cNvSpPr/>
          <p:nvPr/>
        </p:nvSpPr>
        <p:spPr>
          <a:xfrm>
            <a:off x="4735440" y="2913120"/>
            <a:ext cx="45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ложение не должно быть сочинением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Прямая соединительная линия 77"/>
          <p:cNvSpPr/>
          <p:nvPr/>
        </p:nvSpPr>
        <p:spPr>
          <a:xfrm>
            <a:off x="5840280" y="3727440"/>
            <a:ext cx="2665440" cy="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Прямая соединительная линия 78"/>
          <p:cNvSpPr/>
          <p:nvPr/>
        </p:nvSpPr>
        <p:spPr>
          <a:xfrm>
            <a:off x="5840280" y="3297240"/>
            <a:ext cx="0" cy="37800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Прямая соединительная линия 79"/>
          <p:cNvSpPr/>
          <p:nvPr/>
        </p:nvSpPr>
        <p:spPr>
          <a:xfrm flipH="1">
            <a:off x="8486280" y="3352680"/>
            <a:ext cx="3240" cy="36828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Прямоугольник 80"/>
          <p:cNvSpPr/>
          <p:nvPr/>
        </p:nvSpPr>
        <p:spPr>
          <a:xfrm>
            <a:off x="4906800" y="3313080"/>
            <a:ext cx="45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спользуйся словарем!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Прямоугольник 81"/>
          <p:cNvSpPr/>
          <p:nvPr/>
        </p:nvSpPr>
        <p:spPr>
          <a:xfrm>
            <a:off x="5200560" y="426420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6. Пишем чистовик. (30 мин)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Прямая соединительная линия 82"/>
          <p:cNvSpPr/>
          <p:nvPr/>
        </p:nvSpPr>
        <p:spPr>
          <a:xfrm>
            <a:off x="5786280" y="3305160"/>
            <a:ext cx="2665440" cy="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171360" y="1335240"/>
            <a:ext cx="8582040" cy="4522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Прямоугольник 1" descr=""/>
          <p:cNvPicPr/>
          <p:nvPr/>
        </p:nvPicPr>
        <p:blipFill>
          <a:blip r:embed="rId1"/>
          <a:stretch/>
        </p:blipFill>
        <p:spPr>
          <a:xfrm>
            <a:off x="1279440" y="669960"/>
            <a:ext cx="6085080" cy="645012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3"/>
          <p:cNvSpPr/>
          <p:nvPr/>
        </p:nvSpPr>
        <p:spPr>
          <a:xfrm>
            <a:off x="0" y="0"/>
            <a:ext cx="9144000" cy="59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этап:</a:t>
            </a: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Определите 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У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екста (о чём текст?).</a:t>
            </a: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r">
              <a:lnSpc>
                <a:spcPct val="9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формулируйте 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УЮ МЫСЛЬ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(чему учит текст?)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Определите 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ЛЬ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екста и 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ечи, особенности</a:t>
            </a: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роения текста.</a:t>
            </a: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Составьте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ПЛАН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ста, выделяя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кротемы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ой части и озаглавли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r>
              <a:rPr b="1" i="1" lang="ru-RU" sz="1800" spc="-1" strike="noStrike">
                <a:solidFill>
                  <a:srgbClr val="002060"/>
                </a:solidFill>
                <a:latin typeface="Arial Narrow"/>
              </a:rPr>
              <a:t>. 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0" y="571680"/>
            <a:ext cx="914400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2 этап:</a:t>
            </a: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Отметьте в каждой микротеме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ЕСТВЕННОЕ и ДОПОЛНИТЕЛЬНОЕ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8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Определите 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сокращения текста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исключение, обобщение, упрощение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.</a:t>
            </a:r>
            <a:br>
              <a:rPr sz="2800"/>
            </a:b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Напишите 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ЖАТОЕ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зложение каждой части, свяжите их между собой, чтобы получился текст.</a:t>
            </a:r>
            <a:br>
              <a:rPr sz="2400"/>
            </a:b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395280" y="857160"/>
            <a:ext cx="835344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помни!!!</a:t>
            </a:r>
            <a:endParaRPr b="0" i="1" lang="en-US" sz="5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жатое изложение </a:t>
            </a:r>
            <a:endParaRPr b="0" i="1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лжно быть </a:t>
            </a:r>
            <a:endParaRPr b="0" i="1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отким</a:t>
            </a: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о форме, </a:t>
            </a:r>
            <a:endParaRPr b="0" i="1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 </a:t>
            </a:r>
            <a:endParaRPr b="0" i="1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бедным </a:t>
            </a: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содержанию.</a:t>
            </a:r>
            <a:br>
              <a:rPr sz="4800"/>
            </a:br>
            <a:br>
              <a:rPr sz="4800"/>
            </a:br>
            <a:endParaRPr b="0" i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1"/>
          <p:cNvSpPr/>
          <p:nvPr/>
        </p:nvSpPr>
        <p:spPr>
          <a:xfrm>
            <a:off x="500040" y="1000080"/>
            <a:ext cx="84646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030a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так, чтобы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ЖАТЬ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зложение, нужно 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БОТАТЬ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рослушанный текст, а именно: </a:t>
            </a: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indent="457200"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брать всё лишнее, подробности, детали.</a:t>
            </a: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Оставить только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ГЛАВНОЕ, ВАЖНОЕ, СУТЬ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.</a:t>
            </a: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214200" y="1214280"/>
            <a:ext cx="8821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особы сжатия текста</a:t>
            </a:r>
            <a:endParaRPr b="0" i="1" lang="en-US" sz="5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214200" y="2967120"/>
            <a:ext cx="892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Исключение </a:t>
            </a:r>
            <a:endParaRPr b="0" i="1" lang="en-US" sz="5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Обобщение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Упрощение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i="1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9:07:59Z</dcterms:created>
  <dc:creator>Admin</dc:creator>
  <dc:description/>
  <dc:language>en-US</dc:language>
  <cp:lastModifiedBy>Людмила</cp:lastModifiedBy>
  <dcterms:modified xsi:type="dcterms:W3CDTF">2016-02-17T03:49:47Z</dcterms:modified>
  <cp:revision>85</cp:revision>
  <dc:subject/>
  <dc:title>Технология подготовки к ГИА по русскому языку в 9 клас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</Properties>
</file>