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9.jpeg" ContentType="image/jpeg"/>
  <Override PartName="/ppt/media/image11.jpeg" ContentType="image/jpeg"/>
  <Override PartName="/ppt/media/image4.jpeg" ContentType="image/jpeg"/>
  <Override PartName="/ppt/media/image40.png" ContentType="image/png"/>
  <Override PartName="/ppt/media/image30.jpeg" ContentType="image/jpeg"/>
  <Override PartName="/ppt/media/image24.jpeg" ContentType="image/jpeg"/>
  <Override PartName="/ppt/media/image43.png" ContentType="image/pn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F874-77D5-442F-A4E7-41406CEF5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E32B-A931-4833-9C6A-8D5F53A06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DCDD-DCB3-446F-8B14-8CF70CD96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5F93-173C-4716-B23B-2DD3E1D9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C750-E722-47D8-9B67-501CA92C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B561-A024-4081-BB70-78901A58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B4D2-F1C3-489A-9B76-D98ADD1E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83A9-7805-4F2F-859B-C8769CFCA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0C40-96FB-4390-8A07-8D0766D06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755C-5D45-4076-B063-730D4605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6B6A-8181-4E55-AB90-559B50DE2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F316-58CD-4DC7-BFBE-71CD21A6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2047-88F9-431D-AC85-B8FF331959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s54.radikal.ru/i146/0809/a4/665bf1ae337c.jpg" TargetMode="External"/><Relationship Id="rId2" Type="http://schemas.openxmlformats.org/officeDocument/2006/relationships/image" Target="../media/image17.jpeg"/><Relationship Id="rId3" Type="http://schemas.openxmlformats.org/officeDocument/2006/relationships/hyperlink" Target="http://img0.liveinternet.ru/images/attach/c/0/42/759/42759581_salad.jpg" TargetMode="External"/><Relationship Id="rId4" Type="http://schemas.openxmlformats.org/officeDocument/2006/relationships/image" Target="../media/image18.jpeg"/><Relationship Id="rId5" Type="http://schemas.openxmlformats.org/officeDocument/2006/relationships/hyperlink" Target="http://blu.stb.s-msn.com/i/F9/68B2EC7E97634A1ADFC18D381DF062.jpg" TargetMode="External"/><Relationship Id="rId6" Type="http://schemas.openxmlformats.org/officeDocument/2006/relationships/image" Target="../media/image19.jpeg"/><Relationship Id="rId7" Type="http://schemas.openxmlformats.org/officeDocument/2006/relationships/image" Target="../media/image20.pn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hyperlink" Target="http://polys7.ru/foto/38236.jpg" TargetMode="External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image" Target="../media/image29.jpeg"/><Relationship Id="rId9" Type="http://schemas.openxmlformats.org/officeDocument/2006/relationships/image" Target="../media/image30.jpeg"/><Relationship Id="rId10" Type="http://schemas.openxmlformats.org/officeDocument/2006/relationships/image" Target="../media/image31.jpe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hyperlink" Target="http://shkolazhizni.ru/img/content/i62/62139_or.jpg" TargetMode="External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hyperlink" Target="http://samsebelekar.ru/Img/21bfe609ded7.jpg" TargetMode="External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image" Target="../media/image39.jpeg"/><Relationship Id="rId11" Type="http://schemas.openxmlformats.org/officeDocument/2006/relationships/image" Target="../media/image40.png"/><Relationship Id="rId12" Type="http://schemas.openxmlformats.org/officeDocument/2006/relationships/image" Target="../media/image41.jpeg"/><Relationship Id="rId13" Type="http://schemas.openxmlformats.org/officeDocument/2006/relationships/hyperlink" Target="http://www.pachd.com/free-images/food-images/tomatoes-01.jpg" TargetMode="External"/><Relationship Id="rId14" Type="http://schemas.openxmlformats.org/officeDocument/2006/relationships/image" Target="../media/image42.jpeg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kitchenheadquarters.org/images/Recipes/Beetroot/Beets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nfovisual.info/01/photo/radish.jpg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292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70c0"/>
                </a:solidFill>
                <a:latin typeface="Calibri"/>
              </a:rPr>
              <a:t>Овощи и фрукты –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витаминные продукты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28680" y="5214600"/>
            <a:ext cx="507204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Подготовила воспитатель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Лукьянчук Евгения Никола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МБДОУ «Центр развития ребенка – детский сад № 168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2786040" y="1857240"/>
            <a:ext cx="4214880" cy="27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3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ff0000"/>
                </a:solidFill>
                <a:latin typeface="Calibri"/>
              </a:rPr>
              <a:t>Яблоки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— самый ценный фрукт из наших отечественных плодов. Среди фруктов это, можно сказать, наш хлеб насущный. Свежие яблоки у нас не переводятся почти целый год. Они придают силу, продлевают молодость и помогают бороться с болезням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Картинка 2 из 416936"/>
          <p:cNvPicPr/>
          <p:nvPr/>
        </p:nvPicPr>
        <p:blipFill>
          <a:blip r:embed="rId1"/>
          <a:stretch/>
        </p:blipFill>
        <p:spPr>
          <a:xfrm>
            <a:off x="2571840" y="3252960"/>
            <a:ext cx="3643200" cy="274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После яблок </a:t>
            </a:r>
            <a:r>
              <a:rPr b="0" i="1" lang="ru-RU" sz="2500" spc="-1" strike="noStrike">
                <a:solidFill>
                  <a:srgbClr val="ff0000"/>
                </a:solidFill>
                <a:latin typeface="Calibri"/>
              </a:rPr>
              <a:t>груши</a:t>
            </a: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у нас самые распространённые фрукты. О груше узнали позже, чем о яблоне.</a:t>
            </a:r>
            <a:br>
              <a:rPr sz="2500"/>
            </a:b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ru-RU" sz="2500" spc="-1" strike="noStrike">
                <a:solidFill>
                  <a:srgbClr val="002060"/>
                </a:solidFill>
                <a:latin typeface="Calibri"/>
              </a:rPr>
              <a:t>Древние медики использовали грушевый сок для утоления жажды у больных с повышенной температурой тела. Грушевым соком и отваром лечили расстройство желудка. В грушах много витаминов В и С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Картинка 240 из 76897"/>
          <p:cNvPicPr/>
          <p:nvPr/>
        </p:nvPicPr>
        <p:blipFill>
          <a:blip r:embed="rId1"/>
          <a:stretch/>
        </p:blipFill>
        <p:spPr>
          <a:xfrm>
            <a:off x="2571840" y="3000240"/>
            <a:ext cx="4071960" cy="30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Лимон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 богат аскорбиновой кислотой, то есть витамином С, который повышает сопротивляемость организма к инфекционным болезням, особенно простудам. </a:t>
            </a:r>
            <a:br>
              <a:rPr sz="2400"/>
            </a:b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от почему врачи рекомендуют лимон как профилактическое средство от гриппа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Картинка 12 из 136345"/>
          <p:cNvPicPr/>
          <p:nvPr/>
        </p:nvPicPr>
        <p:blipFill>
          <a:blip r:embed="rId1"/>
          <a:stretch/>
        </p:blipFill>
        <p:spPr>
          <a:xfrm>
            <a:off x="2571840" y="2786040"/>
            <a:ext cx="4214880" cy="31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208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Апельсины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оявились в России в </a:t>
            </a:r>
            <a:r>
              <a:rPr b="0" lang="en-US" sz="2400" spc="-1" strike="noStrike">
                <a:solidFill>
                  <a:srgbClr val="002060"/>
                </a:solidFill>
                <a:latin typeface="Calibri"/>
              </a:rPr>
              <a:t>XVIII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еке. Но само растение не выносит холодов. Поэтому вырастить их можно только в оранжереях — теплицах.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Картинка 42 из 151272"/>
          <p:cNvPicPr/>
          <p:nvPr/>
        </p:nvPicPr>
        <p:blipFill>
          <a:blip r:embed="rId1"/>
          <a:stretch/>
        </p:blipFill>
        <p:spPr>
          <a:xfrm>
            <a:off x="2286000" y="2500200"/>
            <a:ext cx="4214880" cy="31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858160" cy="315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а протяжении многих веков 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виноград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ривлекал внимание человека. Пользовался его любовью. Для лечения многих заболеваний человек использовал не только ягоды, но и листья. В виноградных ягодах содержится большое количество аскорбиновой кислоты (витамина С) и витамина В. Свежий виноградный сок принадлежит к числу самых полезных и вкусных напит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Картинка 29 из 88261"/>
          <p:cNvPicPr/>
          <p:nvPr/>
        </p:nvPicPr>
        <p:blipFill>
          <a:blip r:embed="rId1"/>
          <a:stretch/>
        </p:blipFill>
        <p:spPr>
          <a:xfrm>
            <a:off x="3000240" y="3571920"/>
            <a:ext cx="3571920" cy="26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26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Дыня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— ценный пищевой и диетический продукт. Плоды её употребляют в пищу не только в свежем, но и вяленом, и сушеном виде, из них готовят также вкусные варенье, джемы, цукаты и маринады. В дыне содержится много витамина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Картинка 188 из 24067"/>
          <p:cNvPicPr/>
          <p:nvPr/>
        </p:nvPicPr>
        <p:blipFill>
          <a:blip r:embed="rId1"/>
          <a:stretch/>
        </p:blipFill>
        <p:spPr>
          <a:xfrm>
            <a:off x="2500200" y="2732040"/>
            <a:ext cx="4071960" cy="305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506040" y="538200"/>
            <a:ext cx="4060440" cy="1065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Если вы хотите хорошо расти, хорошо видеть и иметь крепкие зубы, вам нужен </a:t>
            </a: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Витамин 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i-main-pic" descr="Картинка 4 из 57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4200" y="1311120"/>
            <a:ext cx="2143080" cy="1741680"/>
          </a:xfrm>
          <a:prstGeom prst="rect">
            <a:avLst/>
          </a:prstGeom>
          <a:ln w="0">
            <a:noFill/>
          </a:ln>
        </p:spPr>
      </p:pic>
      <p:pic>
        <p:nvPicPr>
          <p:cNvPr id="75" name="i-main-pic" descr="Картинка 7 из 537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72160" y="2065320"/>
            <a:ext cx="2071800" cy="2254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Картинка 7 из 7423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143000" y="3714840"/>
            <a:ext cx="2286000" cy="26128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Картинка 80 из 5859"/>
          <p:cNvPicPr/>
          <p:nvPr/>
        </p:nvPicPr>
        <p:blipFill>
          <a:blip r:embed="rId7"/>
          <a:stretch/>
        </p:blipFill>
        <p:spPr>
          <a:xfrm>
            <a:off x="6572160" y="4857840"/>
            <a:ext cx="2181240" cy="1614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8" name="Picture 6" descr="http://lacucinadelcasale.files.wordpress.com/2011/03/cavolobianco_cabbage.jpg?w=300&amp;h=198"/>
          <p:cNvPicPr/>
          <p:nvPr/>
        </p:nvPicPr>
        <p:blipFill>
          <a:blip r:embed="rId8"/>
          <a:stretch/>
        </p:blipFill>
        <p:spPr>
          <a:xfrm>
            <a:off x="4000680" y="4857840"/>
            <a:ext cx="2428560" cy="16034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4" descr="http://minus5.ru/files/images/438-300.jpg"/>
          <p:cNvPicPr/>
          <p:nvPr/>
        </p:nvPicPr>
        <p:blipFill>
          <a:blip r:embed="rId9"/>
          <a:stretch/>
        </p:blipFill>
        <p:spPr>
          <a:xfrm>
            <a:off x="4214880" y="2643120"/>
            <a:ext cx="1857240" cy="1417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989640" y="669600"/>
            <a:ext cx="3313800" cy="1621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сли вы хотите быть сильными, иметь хороший аппетит и не хотите огорчаться по пустякам, вам нужен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итамин 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8" descr="http://static.zakon.kz/img/040310/040310452.JPG"/>
          <p:cNvPicPr/>
          <p:nvPr/>
        </p:nvPicPr>
        <p:blipFill>
          <a:blip r:embed="rId1"/>
          <a:stretch/>
        </p:blipFill>
        <p:spPr>
          <a:xfrm>
            <a:off x="6819840" y="430200"/>
            <a:ext cx="1895400" cy="14270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http://www.kyxapka.com/wp-content/uploads/2006/12/sushi_ris.jpg"/>
          <p:cNvPicPr/>
          <p:nvPr/>
        </p:nvPicPr>
        <p:blipFill>
          <a:blip r:embed="rId2"/>
          <a:stretch/>
        </p:blipFill>
        <p:spPr>
          <a:xfrm>
            <a:off x="142920" y="4822920"/>
            <a:ext cx="2357280" cy="1706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http://www.spep.ru/uploads/1286437581_265.jpg"/>
          <p:cNvPicPr/>
          <p:nvPr/>
        </p:nvPicPr>
        <p:blipFill>
          <a:blip r:embed="rId3"/>
          <a:stretch/>
        </p:blipFill>
        <p:spPr>
          <a:xfrm>
            <a:off x="5429160" y="5214960"/>
            <a:ext cx="1357560" cy="1017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http://shannonstanley.files.wordpress.com/2008/11/eggs.jpg?w=240&amp;h=159"/>
          <p:cNvPicPr/>
          <p:nvPr/>
        </p:nvPicPr>
        <p:blipFill>
          <a:blip r:embed="rId4"/>
          <a:stretch/>
        </p:blipFill>
        <p:spPr>
          <a:xfrm>
            <a:off x="128520" y="2905200"/>
            <a:ext cx="2086200" cy="1380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" descr="Картинка 12 из 16662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00920" y="4000680"/>
            <a:ext cx="2000160" cy="2666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http://onemeat.ru/images/cache/2deae5032e048f6b7cc08bfd376d2fd1.jpg"/>
          <p:cNvPicPr/>
          <p:nvPr/>
        </p:nvPicPr>
        <p:blipFill>
          <a:blip r:embed="rId7"/>
          <a:stretch/>
        </p:blipFill>
        <p:spPr>
          <a:xfrm>
            <a:off x="6929280" y="2101680"/>
            <a:ext cx="2071800" cy="14702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http://pzwsmigiel.neostrada.pl/ryby_pliki/image008.jpg"/>
          <p:cNvPicPr/>
          <p:nvPr/>
        </p:nvPicPr>
        <p:blipFill>
          <a:blip r:embed="rId8"/>
          <a:stretch/>
        </p:blipFill>
        <p:spPr>
          <a:xfrm>
            <a:off x="2428920" y="3086280"/>
            <a:ext cx="1785960" cy="1099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http://st.biglion.ru/upload/2011/09/sibir54_2.jpg"/>
          <p:cNvPicPr/>
          <p:nvPr/>
        </p:nvPicPr>
        <p:blipFill>
          <a:blip r:embed="rId9"/>
          <a:stretch/>
        </p:blipFill>
        <p:spPr>
          <a:xfrm>
            <a:off x="3071880" y="5010120"/>
            <a:ext cx="1857240" cy="1247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4" descr="http://ruprom-image.s3.amazonaws.com/1156795_w200_h200_plyatabroylernye260362311f.jpg"/>
          <p:cNvPicPr/>
          <p:nvPr/>
        </p:nvPicPr>
        <p:blipFill>
          <a:blip r:embed="rId10"/>
          <a:stretch/>
        </p:blipFill>
        <p:spPr>
          <a:xfrm>
            <a:off x="4500720" y="2946240"/>
            <a:ext cx="2357280" cy="176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8" descr="http://fast.ulmart.ru/good_pics/238098.jpg"/>
          <p:cNvPicPr/>
          <p:nvPr/>
        </p:nvPicPr>
        <p:blipFill>
          <a:blip r:embed="rId1"/>
          <a:stretch/>
        </p:blipFill>
        <p:spPr>
          <a:xfrm>
            <a:off x="1857240" y="1500120"/>
            <a:ext cx="1857600" cy="1857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http://static.myopera.com/upic/pool1/cs/agC/xC90O2526TwPVyaOMcausE/1366901_l.jpg"/>
          <p:cNvPicPr/>
          <p:nvPr/>
        </p:nvPicPr>
        <p:blipFill>
          <a:blip r:embed="rId2"/>
          <a:stretch/>
        </p:blipFill>
        <p:spPr>
          <a:xfrm>
            <a:off x="3571920" y="3357720"/>
            <a:ext cx="1857240" cy="13935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3783600" y="550800"/>
            <a:ext cx="3687120" cy="11656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Если вы хотите реже простужаться, быть бодрыми, быстрее выздоравливать при болезни, вам нужен 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Витамин С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Картинка 1 из 16129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2920" y="2000160"/>
            <a:ext cx="1785960" cy="1200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http://www.arsvest.ru/images/upl-2008/article_1225766539_38741.jpg"/>
          <p:cNvPicPr/>
          <p:nvPr/>
        </p:nvPicPr>
        <p:blipFill>
          <a:blip r:embed="rId5"/>
          <a:stretch/>
        </p:blipFill>
        <p:spPr>
          <a:xfrm>
            <a:off x="7000920" y="1857240"/>
            <a:ext cx="1785960" cy="1349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Картинка 83 из 106932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8760" y="4643280"/>
            <a:ext cx="1714320" cy="2025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http://www.arsvest.ru/images/upl-2010/article_1286349728_57531.jpg"/>
          <p:cNvPicPr/>
          <p:nvPr/>
        </p:nvPicPr>
        <p:blipFill>
          <a:blip r:embed="rId8"/>
          <a:stretch/>
        </p:blipFill>
        <p:spPr>
          <a:xfrm>
            <a:off x="2643120" y="492912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http://fitfourfight.blogg.se/images/2011/ttar_dill_bunch_v_126001676.jpg"/>
          <p:cNvPicPr/>
          <p:nvPr/>
        </p:nvPicPr>
        <p:blipFill>
          <a:blip r:embed="rId9"/>
          <a:stretch/>
        </p:blipFill>
        <p:spPr>
          <a:xfrm>
            <a:off x="6072120" y="3214800"/>
            <a:ext cx="1571760" cy="1736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http://a4.l3-images.myspacecdn.com/images01/29/130c7454322d8c1e4295490a45b07a7f/m.jpg"/>
          <p:cNvPicPr/>
          <p:nvPr/>
        </p:nvPicPr>
        <p:blipFill>
          <a:blip r:embed="rId10"/>
          <a:stretch/>
        </p:blipFill>
        <p:spPr>
          <a:xfrm>
            <a:off x="7072200" y="4572000"/>
            <a:ext cx="1785960" cy="1785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http://www.nashkedr.ru/img/currantsRed.gif"/>
          <p:cNvPicPr/>
          <p:nvPr/>
        </p:nvPicPr>
        <p:blipFill>
          <a:blip r:embed="rId11"/>
          <a:stretch/>
        </p:blipFill>
        <p:spPr>
          <a:xfrm>
            <a:off x="4857840" y="4786200"/>
            <a:ext cx="1643040" cy="1735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0" descr="http://im3-tub-ru.yandex.net/i?id=248267608-01-72"/>
          <p:cNvPicPr/>
          <p:nvPr/>
        </p:nvPicPr>
        <p:blipFill>
          <a:blip r:embed="rId12"/>
          <a:stretch/>
        </p:blipFill>
        <p:spPr>
          <a:xfrm>
            <a:off x="3786120" y="2143080"/>
            <a:ext cx="1428840" cy="1114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Картинка 46 из 175677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071720" y="3286080"/>
            <a:ext cx="1643040" cy="123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13840" y="2357280"/>
            <a:ext cx="864396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Если будешь есть морковку,  будешь бегать стометров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Если съешь ты огурец, будешь просто молодец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ложи лимончик в чай - выпей витаминный рай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Овощи и фрукты - витаминные продукты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ff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634920" y="499680"/>
            <a:ext cx="3658680" cy="1204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от какие полезные овощи и фрукты! Про них даже пословицы и поговорки придумали!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http://s58.radikal.ru/i162/0903/7f/9189ddcdf7d3.png"/>
          <p:cNvPicPr/>
          <p:nvPr/>
        </p:nvPicPr>
        <p:blipFill>
          <a:blip r:embed="rId1"/>
          <a:stretch/>
        </p:blipFill>
        <p:spPr>
          <a:xfrm>
            <a:off x="357120" y="142920"/>
            <a:ext cx="2071800" cy="2071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http://www.panaceamed.com/images/pm/000000125.jpg"/>
          <p:cNvPicPr/>
          <p:nvPr/>
        </p:nvPicPr>
        <p:blipFill>
          <a:blip r:embed="rId2"/>
          <a:stretch/>
        </p:blipFill>
        <p:spPr>
          <a:xfrm>
            <a:off x="2428920" y="4357800"/>
            <a:ext cx="3571920" cy="237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22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2060"/>
                </a:solidFill>
                <a:latin typeface="Calibri"/>
              </a:rPr>
              <a:t>Что такое </a:t>
            </a:r>
            <a:r>
              <a:rPr b="0" i="1" lang="ru-RU" sz="2900" spc="-1" strike="noStrike">
                <a:solidFill>
                  <a:srgbClr val="ff0000"/>
                </a:solidFill>
                <a:latin typeface="Calibri"/>
              </a:rPr>
              <a:t>витамины</a:t>
            </a:r>
            <a:r>
              <a:rPr b="0" lang="ru-RU" sz="2900" spc="-1" strike="noStrike">
                <a:solidFill>
                  <a:srgbClr val="002060"/>
                </a:solidFill>
                <a:latin typeface="Calibri"/>
              </a:rPr>
              <a:t>? Это вещества, необходимые для поддержания здоровья нашего организма. Этих веществ много именно в овощах и фруктах. В каких именно? Познакомимся с некоторыми из них.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http://static.pudra.com/generated/678/610x345/vitamin_mkle.jpg"/>
          <p:cNvPicPr/>
          <p:nvPr/>
        </p:nvPicPr>
        <p:blipFill>
          <a:blip r:embed="rId1"/>
          <a:stretch/>
        </p:blipFill>
        <p:spPr>
          <a:xfrm>
            <a:off x="1000080" y="2500200"/>
            <a:ext cx="6946920" cy="39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9680" y="0"/>
            <a:ext cx="835812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Содержимое 3" descr="026.jpg"/>
          <p:cNvPicPr/>
          <p:nvPr/>
        </p:nvPicPr>
        <p:blipFill>
          <a:blip r:embed="rId1"/>
          <a:stretch/>
        </p:blipFill>
        <p:spPr>
          <a:xfrm>
            <a:off x="1039680" y="571680"/>
            <a:ext cx="7104240" cy="555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30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Лук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чеснок 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с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давних пор славились своими лечебными свойствами. В этих овощах большое количество витамина С. Вдыхание паров лука и чеснока хорошо помогает при кашле, ангине. Кашица лука и чеснока помогает при насморке. Оба эти растения служат нам и пищей, и лекарство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Картинка 130 из 64315"/>
          <p:cNvPicPr/>
          <p:nvPr/>
        </p:nvPicPr>
        <p:blipFill>
          <a:blip r:embed="rId1"/>
          <a:stretch/>
        </p:blipFill>
        <p:spPr>
          <a:xfrm>
            <a:off x="5143680" y="4054320"/>
            <a:ext cx="3000240" cy="2249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Картинка 15 из 1089097"/>
          <p:cNvPicPr/>
          <p:nvPr/>
        </p:nvPicPr>
        <p:blipFill>
          <a:blip r:embed="rId2"/>
          <a:stretch/>
        </p:blipFill>
        <p:spPr>
          <a:xfrm>
            <a:off x="1071720" y="4143240"/>
            <a:ext cx="3000240" cy="22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Всего 400 лет назад наши предки и не знали о существовании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огурцов</a:t>
            </a:r>
            <a:r>
              <a:rPr b="0" i="1" lang="ru-RU" sz="2800" spc="-1" strike="noStrike">
                <a:solidFill>
                  <a:srgbClr val="002060"/>
                </a:solidFill>
                <a:latin typeface="Calibri"/>
              </a:rPr>
              <a:t>. </a:t>
            </a: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А сегодня, к кому бы вы ни зашли в гости, вам обязательно предложат какое-нибудь блюдо из огурцов: салат, винегрет или просто солёные огурчики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Картинка 21 из 52720"/>
          <p:cNvPicPr/>
          <p:nvPr/>
        </p:nvPicPr>
        <p:blipFill>
          <a:blip r:embed="rId1"/>
          <a:stretch/>
        </p:blipFill>
        <p:spPr>
          <a:xfrm>
            <a:off x="2857680" y="3286080"/>
            <a:ext cx="3429000" cy="257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786880" cy="258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 моркови содержится большое количество витамина А, который укрепляет организм и защищает его от инфекций, а так же положительно действует на зрение. Однако морковь — это не только копилка витамина А. В ней содержится чуть ли не весь витаминный алфави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Картинка 7 из 69627"/>
          <p:cNvPicPr/>
          <p:nvPr/>
        </p:nvPicPr>
        <p:blipFill>
          <a:blip r:embed="rId1"/>
          <a:stretch/>
        </p:blipFill>
        <p:spPr>
          <a:xfrm>
            <a:off x="2714760" y="3429000"/>
            <a:ext cx="3643200" cy="27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60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Столовая</a:t>
            </a:r>
            <a:r>
              <a:rPr b="0" lang="ru-RU" sz="2400" spc="-1" strike="noStrike">
                <a:solidFill>
                  <a:srgbClr val="948a54"/>
                </a:solidFill>
                <a:latin typeface="Calibri"/>
              </a:rPr>
              <a:t> 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свекла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принадлежит к числу самых полезных овощей. В ней много аскорбиновой кислоты (витамина С) и витамина В. Если мы хотим сохранить в свекле больше витаминов, то её надо есть сырую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Картинка 44 из 1516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7680" y="2928960"/>
            <a:ext cx="3429000" cy="277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2560" y="274680"/>
            <a:ext cx="8715240" cy="286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Помидор</a:t>
            </a:r>
            <a:r>
              <a:rPr b="0" i="1" lang="ru-RU" sz="24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или томат, попал к нам из Южной Америки. Сначала томат служил для украшения клумб и подоконников. Затем его стали выращивать как лекарственное растение, и только потом он поселился на огородах и его стали употреблять в пищу. В помидорах содержатся витамины С и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img-fotki.yandex.ru/get/4/yuliyabaklykova.2/0_15045_78c2cb7_XL"/>
          <p:cNvPicPr/>
          <p:nvPr/>
        </p:nvPicPr>
        <p:blipFill>
          <a:blip r:embed="rId1"/>
          <a:stretch/>
        </p:blipFill>
        <p:spPr>
          <a:xfrm>
            <a:off x="2571840" y="3214800"/>
            <a:ext cx="3857400" cy="25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5480" y="274680"/>
            <a:ext cx="8643960" cy="27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Редис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в быту мы часто называем редиской. Это один из первых свежих овощей, появляющихся на нашем столе после долгой зимы. В редисе содержится большое количество аскорбиновой кислоты, витамин 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Картинка 15 из 15434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57680" y="3071880"/>
            <a:ext cx="3929040" cy="26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8688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Репу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наши предки употребляют в пищу несколько веков. Едят её сырую, варёную, пареную. Это полезный овощ. Ему даже посвящена известная русская народная сказка «Репк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http://i001.radikal.ru/1103/2f/72eee69c5250.jpg"/>
          <p:cNvPicPr/>
          <p:nvPr/>
        </p:nvPicPr>
        <p:blipFill>
          <a:blip r:embed="rId1"/>
          <a:stretch/>
        </p:blipFill>
        <p:spPr>
          <a:xfrm>
            <a:off x="3286080" y="2714760"/>
            <a:ext cx="2428920" cy="2938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9T16:05:16Z</dcterms:created>
  <dc:creator>Admin</dc:creator>
  <dc:description/>
  <dc:language>en-US</dc:language>
  <cp:lastModifiedBy>acer</cp:lastModifiedBy>
  <dcterms:modified xsi:type="dcterms:W3CDTF">2018-08-01T10:02:19Z</dcterms:modified>
  <cp:revision>46</cp:revision>
  <dc:subject/>
  <dc:title>Загадки - витамины</dc:title>
</cp:coreProperties>
</file>