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24.jpeg" ContentType="image/jpeg"/>
  <Override PartName="/ppt/media/image43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4688-4A5D-4705-AC22-78CD5510F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B577-D56D-4F76-BF21-D1F48136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2AA1-C0D5-4452-AD86-35B83176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DC6-993A-4F1B-952F-7A5DF6CB1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EFDC-486D-4967-A72A-72EB445C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FF1E-51FE-4E83-9B53-E813958F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40A4-0CF0-4AA7-80C7-8192A081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C92D-795C-448B-A6B7-992260DE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A1D-C840-4C89-89CF-01534F01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5FB5-DC78-4D6A-BDC6-9E9AADBD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23E0-DC7D-478B-BCB8-3D5B1CFA9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BEB-8AD8-4AC4-AB73-E1B789A9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9753D-D265-4E29-B9DE-3291716ADE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54.radikal.ru/i146/0809/a4/665bf1ae337c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g0.liveinternet.ru/images/attach/c/0/42/759/42759581_salad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blu.stb.s-msn.com/i/F9/68B2EC7E97634A1ADFC18D381DF062.jpg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polys7.ru/foto/38236.jpg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hyperlink" Target="http://shkolazhizni.ru/img/content/i62/62139_or.jpg" TargetMode="External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hyperlink" Target="http://samsebelekar.ru/Img/21bfe609ded7.jpg" TargetMode="External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png"/><Relationship Id="rId12" Type="http://schemas.openxmlformats.org/officeDocument/2006/relationships/image" Target="../media/image41.jpeg"/><Relationship Id="rId13" Type="http://schemas.openxmlformats.org/officeDocument/2006/relationships/hyperlink" Target="http://www.pachd.com/free-images/food-images/tomatoes-01.jpg" TargetMode="External"/><Relationship Id="rId14" Type="http://schemas.openxmlformats.org/officeDocument/2006/relationships/image" Target="../media/image42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itchenheadquarters.org/images/Recipes/Beetroot/Beets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fovisual.info/01/photo/radish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Овощи и фрукты –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витаминные продукты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8680" y="5214600"/>
            <a:ext cx="50720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одготовила воспитатель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Лукьянчук Евгения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МБДОУ «Центр развития ребенка – детский сад № 168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786040" y="1857240"/>
            <a:ext cx="4214880" cy="27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Яблоки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— самый ценный фрукт из наших отечественных плодов. Среди фруктов это, можно сказать, наш хлеб насущный. Свежие яблоки у нас не переводятся почти целый год. Они придают силу, продлевают молодость и помогают бороться с болезня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Картинка 2 из 416936"/>
          <p:cNvPicPr/>
          <p:nvPr/>
        </p:nvPicPr>
        <p:blipFill>
          <a:blip r:embed="rId1"/>
          <a:stretch/>
        </p:blipFill>
        <p:spPr>
          <a:xfrm>
            <a:off x="2571840" y="3252960"/>
            <a:ext cx="3643200" cy="27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После яблок </a:t>
            </a: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груши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у нас самые распространённые фрукты. О груше узнали позже, чем о яблоне.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Древние медики использовали грушевый сок для утоления жажды у больных с повышенной температурой тела. Грушевым соком и отваром лечили расстройство желудка. В грушах много витаминов В и С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Картинка 240 из 76897"/>
          <p:cNvPicPr/>
          <p:nvPr/>
        </p:nvPicPr>
        <p:blipFill>
          <a:blip r:embed="rId1"/>
          <a:stretch/>
        </p:blipFill>
        <p:spPr>
          <a:xfrm>
            <a:off x="2571840" y="3000240"/>
            <a:ext cx="407196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Лимон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богат аскорбиновой кислотой, то есть витамином С, который повышает сопротивляемость организма к инфекционным болезням, особенно простудам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т почему врачи рекомендуют лимон как профилактическое средство от грипп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Картинка 12 из 136345"/>
          <p:cNvPicPr/>
          <p:nvPr/>
        </p:nvPicPr>
        <p:blipFill>
          <a:blip r:embed="rId1"/>
          <a:stretch/>
        </p:blipFill>
        <p:spPr>
          <a:xfrm>
            <a:off x="2571840" y="2786040"/>
            <a:ext cx="42148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Апельсины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явились в России в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XVIII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еке. Но само растение не выносит холодов. Поэтому вырастить их можно только в оранжереях — теплицах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Картинка 42 из 151272"/>
          <p:cNvPicPr/>
          <p:nvPr/>
        </p:nvPicPr>
        <p:blipFill>
          <a:blip r:embed="rId1"/>
          <a:stretch/>
        </p:blipFill>
        <p:spPr>
          <a:xfrm>
            <a:off x="2286000" y="2500200"/>
            <a:ext cx="421488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 протяжении многих веков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иноград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влекал внимание человека. Пользовался его любовью. Для лечения многих заболеваний человек использовал не только ягоды, но и листья. В виноградных ягодах содержится большое количество аскорбиновой кислоты (витамина С) и витамина В. Свежий виноградный сок принадлежит к числу самых полезных и вкусных напит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Картинка 29 из 88261"/>
          <p:cNvPicPr/>
          <p:nvPr/>
        </p:nvPicPr>
        <p:blipFill>
          <a:blip r:embed="rId1"/>
          <a:stretch/>
        </p:blipFill>
        <p:spPr>
          <a:xfrm>
            <a:off x="3000240" y="3571920"/>
            <a:ext cx="3571920" cy="26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Дын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— ценный пищевой и диетический продукт. Плоды её употребляют в пищу не только в свежем, но и вяленом, и сушеном виде, из них готовят также вкусные варенье, джемы, цукаты и маринады. В дыне содержится много витамина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Картинка 188 из 24067"/>
          <p:cNvPicPr/>
          <p:nvPr/>
        </p:nvPicPr>
        <p:blipFill>
          <a:blip r:embed="rId1"/>
          <a:stretch/>
        </p:blipFill>
        <p:spPr>
          <a:xfrm>
            <a:off x="2500200" y="2732040"/>
            <a:ext cx="407196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506040" y="538200"/>
            <a:ext cx="4060440" cy="1065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вы хотите хорошо расти, хорошо видеть и иметь крепкие зубы, вам нужен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итамин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-main-pic" descr="Картинка 4 из 5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311120"/>
            <a:ext cx="2143080" cy="1741680"/>
          </a:xfrm>
          <a:prstGeom prst="rect">
            <a:avLst/>
          </a:prstGeom>
          <a:ln w="0">
            <a:noFill/>
          </a:ln>
        </p:spPr>
      </p:pic>
      <p:pic>
        <p:nvPicPr>
          <p:cNvPr id="75" name="i-main-pic" descr="Картинка 7 из 53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72160" y="2065320"/>
            <a:ext cx="2071800" cy="225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артинка 7 из 742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3714840"/>
            <a:ext cx="2286000" cy="261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артинка 80 из 5859"/>
          <p:cNvPicPr/>
          <p:nvPr/>
        </p:nvPicPr>
        <p:blipFill>
          <a:blip r:embed="rId7"/>
          <a:stretch/>
        </p:blipFill>
        <p:spPr>
          <a:xfrm>
            <a:off x="6572160" y="4857840"/>
            <a:ext cx="2181240" cy="161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6" descr="http://lacucinadelcasale.files.wordpress.com/2011/03/cavolobianco_cabbage.jpg?w=300&amp;h=198"/>
          <p:cNvPicPr/>
          <p:nvPr/>
        </p:nvPicPr>
        <p:blipFill>
          <a:blip r:embed="rId8"/>
          <a:stretch/>
        </p:blipFill>
        <p:spPr>
          <a:xfrm>
            <a:off x="4000680" y="4857840"/>
            <a:ext cx="2428560" cy="160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http://minus5.ru/files/images/438-300.jpg"/>
          <p:cNvPicPr/>
          <p:nvPr/>
        </p:nvPicPr>
        <p:blipFill>
          <a:blip r:embed="rId9"/>
          <a:stretch/>
        </p:blipFill>
        <p:spPr>
          <a:xfrm>
            <a:off x="4214880" y="2643120"/>
            <a:ext cx="185724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89640" y="669600"/>
            <a:ext cx="3313800" cy="1621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вы хотите быть сильными, иметь хороший аппетит и не хотите огорчаться по пустякам, вам нужен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итамин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8" descr="http://static.zakon.kz/img/040310/040310452.JPG"/>
          <p:cNvPicPr/>
          <p:nvPr/>
        </p:nvPicPr>
        <p:blipFill>
          <a:blip r:embed="rId1"/>
          <a:stretch/>
        </p:blipFill>
        <p:spPr>
          <a:xfrm>
            <a:off x="6819840" y="430200"/>
            <a:ext cx="1895400" cy="1427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http://www.kyxapka.com/wp-content/uploads/2006/12/sushi_ris.jpg"/>
          <p:cNvPicPr/>
          <p:nvPr/>
        </p:nvPicPr>
        <p:blipFill>
          <a:blip r:embed="rId2"/>
          <a:stretch/>
        </p:blipFill>
        <p:spPr>
          <a:xfrm>
            <a:off x="142920" y="4822920"/>
            <a:ext cx="2357280" cy="1706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http://www.spep.ru/uploads/1286437581_265.jpg"/>
          <p:cNvPicPr/>
          <p:nvPr/>
        </p:nvPicPr>
        <p:blipFill>
          <a:blip r:embed="rId3"/>
          <a:stretch/>
        </p:blipFill>
        <p:spPr>
          <a:xfrm>
            <a:off x="5429160" y="521496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http://shannonstanley.files.wordpress.com/2008/11/eggs.jpg?w=240&amp;h=159"/>
          <p:cNvPicPr/>
          <p:nvPr/>
        </p:nvPicPr>
        <p:blipFill>
          <a:blip r:embed="rId4"/>
          <a:stretch/>
        </p:blipFill>
        <p:spPr>
          <a:xfrm>
            <a:off x="128520" y="2905200"/>
            <a:ext cx="208620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Картинка 12 из 16662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00920" y="400068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onemeat.ru/images/cache/2deae5032e048f6b7cc08bfd376d2fd1.jpg"/>
          <p:cNvPicPr/>
          <p:nvPr/>
        </p:nvPicPr>
        <p:blipFill>
          <a:blip r:embed="rId7"/>
          <a:stretch/>
        </p:blipFill>
        <p:spPr>
          <a:xfrm>
            <a:off x="6929280" y="2101680"/>
            <a:ext cx="2071800" cy="147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http://pzwsmigiel.neostrada.pl/ryby_pliki/image008.jpg"/>
          <p:cNvPicPr/>
          <p:nvPr/>
        </p:nvPicPr>
        <p:blipFill>
          <a:blip r:embed="rId8"/>
          <a:stretch/>
        </p:blipFill>
        <p:spPr>
          <a:xfrm>
            <a:off x="2428920" y="3086280"/>
            <a:ext cx="1785960" cy="109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http://st.biglion.ru/upload/2011/09/sibir54_2.jpg"/>
          <p:cNvPicPr/>
          <p:nvPr/>
        </p:nvPicPr>
        <p:blipFill>
          <a:blip r:embed="rId9"/>
          <a:stretch/>
        </p:blipFill>
        <p:spPr>
          <a:xfrm>
            <a:off x="3071880" y="5010120"/>
            <a:ext cx="1857240" cy="124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http://ruprom-image.s3.amazonaws.com/1156795_w200_h200_plyatabroylernye260362311f.jpg"/>
          <p:cNvPicPr/>
          <p:nvPr/>
        </p:nvPicPr>
        <p:blipFill>
          <a:blip r:embed="rId10"/>
          <a:stretch/>
        </p:blipFill>
        <p:spPr>
          <a:xfrm>
            <a:off x="4500720" y="2946240"/>
            <a:ext cx="2357280" cy="17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8" descr="http://fast.ulmart.ru/good_pics/238098.jpg"/>
          <p:cNvPicPr/>
          <p:nvPr/>
        </p:nvPicPr>
        <p:blipFill>
          <a:blip r:embed="rId1"/>
          <a:stretch/>
        </p:blipFill>
        <p:spPr>
          <a:xfrm>
            <a:off x="1857240" y="150012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static.myopera.com/upic/pool1/cs/agC/xC90O2526TwPVyaOMcausE/1366901_l.jpg"/>
          <p:cNvPicPr/>
          <p:nvPr/>
        </p:nvPicPr>
        <p:blipFill>
          <a:blip r:embed="rId2"/>
          <a:stretch/>
        </p:blipFill>
        <p:spPr>
          <a:xfrm>
            <a:off x="3571920" y="3357720"/>
            <a:ext cx="1857240" cy="1393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83600" y="550800"/>
            <a:ext cx="3687120" cy="1165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вы хотите реже простужаться, быть бодрыми, быстрее выздоравливать при болезни, вам нужен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итамин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Картинка 1 из 1612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2000160"/>
            <a:ext cx="1785960" cy="12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arsvest.ru/images/upl-2008/article_1225766539_38741.jpg"/>
          <p:cNvPicPr/>
          <p:nvPr/>
        </p:nvPicPr>
        <p:blipFill>
          <a:blip r:embed="rId5"/>
          <a:stretch/>
        </p:blipFill>
        <p:spPr>
          <a:xfrm>
            <a:off x="7000920" y="1857240"/>
            <a:ext cx="1785960" cy="134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Картинка 83 из 10693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4643280"/>
            <a:ext cx="1714320" cy="202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http://www.arsvest.ru/images/upl-2010/article_1286349728_57531.jpg"/>
          <p:cNvPicPr/>
          <p:nvPr/>
        </p:nvPicPr>
        <p:blipFill>
          <a:blip r:embed="rId8"/>
          <a:stretch/>
        </p:blipFill>
        <p:spPr>
          <a:xfrm>
            <a:off x="2643120" y="492912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ttp://fitfourfight.blogg.se/images/2011/ttar_dill_bunch_v_126001676.jpg"/>
          <p:cNvPicPr/>
          <p:nvPr/>
        </p:nvPicPr>
        <p:blipFill>
          <a:blip r:embed="rId9"/>
          <a:stretch/>
        </p:blipFill>
        <p:spPr>
          <a:xfrm>
            <a:off x="6072120" y="3214800"/>
            <a:ext cx="1571760" cy="173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ttp://a4.l3-images.myspacecdn.com/images01/29/130c7454322d8c1e4295490a45b07a7f/m.jpg"/>
          <p:cNvPicPr/>
          <p:nvPr/>
        </p:nvPicPr>
        <p:blipFill>
          <a:blip r:embed="rId10"/>
          <a:stretch/>
        </p:blipFill>
        <p:spPr>
          <a:xfrm>
            <a:off x="7072200" y="4572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ttp://www.nashkedr.ru/img/currantsRed.gif"/>
          <p:cNvPicPr/>
          <p:nvPr/>
        </p:nvPicPr>
        <p:blipFill>
          <a:blip r:embed="rId11"/>
          <a:stretch/>
        </p:blipFill>
        <p:spPr>
          <a:xfrm>
            <a:off x="4857840" y="4786200"/>
            <a:ext cx="1643040" cy="173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http://im3-tub-ru.yandex.net/i?id=248267608-01-72"/>
          <p:cNvPicPr/>
          <p:nvPr/>
        </p:nvPicPr>
        <p:blipFill>
          <a:blip r:embed="rId12"/>
          <a:stretch/>
        </p:blipFill>
        <p:spPr>
          <a:xfrm>
            <a:off x="3786120" y="2143080"/>
            <a:ext cx="1428840" cy="11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Картинка 46 из 17567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71720" y="3286080"/>
            <a:ext cx="164304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13840" y="2357280"/>
            <a:ext cx="8643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сли будешь есть морковку,  будешь бегать стометро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сли съешь ты огурец, будешь просто молодец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ложи лимончик в чай - выпей витаминный ра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вощи и фрукты - витаминные продукт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34920" y="499680"/>
            <a:ext cx="3658680" cy="1204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т какие полезные овощи и фрукты! Про них даже пословицы и поговорки придумали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http://s58.radikal.ru/i162/0903/7f/9189ddcdf7d3.png"/>
          <p:cNvPicPr/>
          <p:nvPr/>
        </p:nvPicPr>
        <p:blipFill>
          <a:blip r:embed="rId1"/>
          <a:stretch/>
        </p:blipFill>
        <p:spPr>
          <a:xfrm>
            <a:off x="357120" y="142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http://www.panaceamed.com/images/pm/000000125.jpg"/>
          <p:cNvPicPr/>
          <p:nvPr/>
        </p:nvPicPr>
        <p:blipFill>
          <a:blip r:embed="rId2"/>
          <a:stretch/>
        </p:blipFill>
        <p:spPr>
          <a:xfrm>
            <a:off x="2428920" y="4357800"/>
            <a:ext cx="357192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Что такое </a:t>
            </a:r>
            <a:r>
              <a:rPr b="0" i="1" lang="ru-RU" sz="2900" spc="-1" strike="noStrike">
                <a:solidFill>
                  <a:srgbClr val="ff0000"/>
                </a:solidFill>
                <a:latin typeface="Calibri"/>
              </a:rPr>
              <a:t>витамины</a:t>
            </a: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? Это вещества, необходимые для поддержания здоровья нашего организма. Этих веществ много именно в овощах и фруктах. В каких именно? Познакомимся с некоторыми из ни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static.pudra.com/generated/678/610x345/vitamin_mkle.jpg"/>
          <p:cNvPicPr/>
          <p:nvPr/>
        </p:nvPicPr>
        <p:blipFill>
          <a:blip r:embed="rId1"/>
          <a:stretch/>
        </p:blipFill>
        <p:spPr>
          <a:xfrm>
            <a:off x="1000080" y="2500200"/>
            <a:ext cx="694692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026.jpg"/>
          <p:cNvPicPr/>
          <p:nvPr/>
        </p:nvPicPr>
        <p:blipFill>
          <a:blip r:embed="rId1"/>
          <a:stretch/>
        </p:blipFill>
        <p:spPr>
          <a:xfrm>
            <a:off x="1039680" y="571680"/>
            <a:ext cx="7104240" cy="55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Лук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чеснок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с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авних пор славились своими лечебными свойствами. В этих овощах большое количество витамина С. Вдыхание паров лука и чеснока хорошо помогает при кашле, ангине. Кашица лука и чеснока помогает при насморке. Оба эти растения служат нам и пищей, и лекарст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Картинка 130 из 64315"/>
          <p:cNvPicPr/>
          <p:nvPr/>
        </p:nvPicPr>
        <p:blipFill>
          <a:blip r:embed="rId1"/>
          <a:stretch/>
        </p:blipFill>
        <p:spPr>
          <a:xfrm>
            <a:off x="5143680" y="4054320"/>
            <a:ext cx="3000240" cy="224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Картинка 15 из 1089097"/>
          <p:cNvPicPr/>
          <p:nvPr/>
        </p:nvPicPr>
        <p:blipFill>
          <a:blip r:embed="rId2"/>
          <a:stretch/>
        </p:blipFill>
        <p:spPr>
          <a:xfrm>
            <a:off x="1071720" y="414324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сего 400 лет назад наши предки и не знали о существовании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огурцов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 сегодня, к кому бы вы ни зашли в гости, вам обязательно предложат какое-нибудь блюдо из огурцов: салат, винегрет или просто солёные огурчик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21 из 52720"/>
          <p:cNvPicPr/>
          <p:nvPr/>
        </p:nvPicPr>
        <p:blipFill>
          <a:blip r:embed="rId1"/>
          <a:stretch/>
        </p:blipFill>
        <p:spPr>
          <a:xfrm>
            <a:off x="2857680" y="3286080"/>
            <a:ext cx="3429000" cy="25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моркови содержится большое количество витамина А, который укрепляет организм и защищает его от инфекций, а так же положительно действует на зрение. Однако морковь — это не только копилка витамина А. В ней содержится чуть ли не весь витаминный алфав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Картинка 7 из 69627"/>
          <p:cNvPicPr/>
          <p:nvPr/>
        </p:nvPicPr>
        <p:blipFill>
          <a:blip r:embed="rId1"/>
          <a:stretch/>
        </p:blipFill>
        <p:spPr>
          <a:xfrm>
            <a:off x="2714760" y="3429000"/>
            <a:ext cx="364320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толовая</a:t>
            </a:r>
            <a:r>
              <a:rPr b="0" lang="ru-RU" sz="2400" spc="-1" strike="noStrike">
                <a:solidFill>
                  <a:srgbClr val="948a54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свекла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надлежит к числу самых полезных овощей. В ней много аскорбиновой кислоты (витамина С) и витамина В. Если мы хотим сохранить в свекле больше витаминов, то её надо есть сыру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Картинка 44 из 1516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2928960"/>
            <a:ext cx="342900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71524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Помидор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ли томат, попал к нам из Южной Америки. Сначала томат служил для украшения клумб и подоконников. Затем его стали выращивать как лекарственное растение, и только потом он поселился на огородах и его стали употреблять в пищу. В помидорах содержатся витамины С и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img-fotki.yandex.ru/get/4/yuliyabaklykova.2/0_15045_78c2cb7_XL"/>
          <p:cNvPicPr/>
          <p:nvPr/>
        </p:nvPicPr>
        <p:blipFill>
          <a:blip r:embed="rId1"/>
          <a:stretch/>
        </p:blipFill>
        <p:spPr>
          <a:xfrm>
            <a:off x="2571840" y="3214800"/>
            <a:ext cx="385740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643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едис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быту мы часто называем редиской. Это один из первых свежих овощей, появляющихся на нашем столе после долгой зимы. В редисе содержится большое количество аскорбиновой кислоты, витамин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Картинка 15 из 1543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3071880"/>
            <a:ext cx="39290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еп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ши предки употребляют в пищу несколько веков. Едят её сырую, варёную, пареную. Это полезный овощ. Ему даже посвящена известная русская народная сказка «Реп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i001.radikal.ru/1103/2f/72eee69c5250.jpg"/>
          <p:cNvPicPr/>
          <p:nvPr/>
        </p:nvPicPr>
        <p:blipFill>
          <a:blip r:embed="rId1"/>
          <a:stretch/>
        </p:blipFill>
        <p:spPr>
          <a:xfrm>
            <a:off x="3286080" y="2714760"/>
            <a:ext cx="2428920" cy="293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05:16Z</dcterms:created>
  <dc:creator>Admin</dc:creator>
  <dc:description/>
  <dc:language>en-US</dc:language>
  <cp:lastModifiedBy>acer</cp:lastModifiedBy>
  <dcterms:modified xsi:type="dcterms:W3CDTF">2018-08-01T10:02:19Z</dcterms:modified>
  <cp:revision>46</cp:revision>
  <dc:subject/>
  <dc:title>Загадки - витамины</dc:title>
</cp:coreProperties>
</file>