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1F2-1125-4B1F-AABF-15E163B6FC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CFD3-E0AA-4221-A9C1-2A80E37A34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584E-9BC3-40E2-A241-FF0B8D6B8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6F0-154A-4887-BCB1-C70A8AE4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FF1-1CF4-4D9A-B2EE-8E3441A5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856A-B0B6-4E1E-93D9-8795225A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8F14-452A-4C3B-837B-68DE1833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E85A-A3D7-40A2-A20B-7A93250B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7706-62E1-4978-AB6A-8056A5FB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F50E-74E7-46B0-A93B-EC26EF40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9B64-B8A4-4716-9715-71F5BB6D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E5E4-CF34-4E10-BB83-FA0D5023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383E-EBF9-4E61-90D2-FAD7CF46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4EDC-CF37-4BB2-80F0-3E4F564F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B1AA-7FD2-4F13-B786-26A393EA3F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6.png"/><Relationship Id="rId9" Type="http://schemas.openxmlformats.org/officeDocument/2006/relationships/image" Target="../media/image17.png"/><Relationship Id="rId10" Type="http://schemas.openxmlformats.org/officeDocument/2006/relationships/image" Target="../media/image10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image" Target="../media/image22.png"/><Relationship Id="rId16" Type="http://schemas.openxmlformats.org/officeDocument/2006/relationships/image" Target="../media/image13.png"/><Relationship Id="rId17" Type="http://schemas.openxmlformats.org/officeDocument/2006/relationships/image" Target="../media/image12.png"/><Relationship Id="rId18" Type="http://schemas.openxmlformats.org/officeDocument/2006/relationships/image" Target="../media/image11.png"/><Relationship Id="rId19" Type="http://schemas.openxmlformats.org/officeDocument/2006/relationships/image" Target="../media/image14.png"/><Relationship Id="rId20" Type="http://schemas.openxmlformats.org/officeDocument/2006/relationships/image" Target="../media/image6.png"/><Relationship Id="rId21" Type="http://schemas.openxmlformats.org/officeDocument/2006/relationships/image" Target="../media/image15.png"/><Relationship Id="rId22" Type="http://schemas.openxmlformats.org/officeDocument/2006/relationships/image" Target="../media/image16.png"/><Relationship Id="rId23" Type="http://schemas.openxmlformats.org/officeDocument/2006/relationships/image" Target="../media/image17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3.png"/><Relationship Id="rId3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egalega.ucoz.ru/news/obuchajushhie_i_razvivajushhie_kartochki_dlja_detej_najdi_oshibku/2012-05-17-279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1628640"/>
            <a:ext cx="85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ОБЕРИ ФРУКТЫ В ВАЗ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7956720" y="6165720"/>
            <a:ext cx="898200" cy="466920"/>
          </a:xfrm>
          <a:custGeom>
            <a:avLst/>
            <a:gdLst>
              <a:gd name="textAreaLeft" fmla="*/ 30240 w 898200"/>
              <a:gd name="textAreaRight" fmla="*/ 867960 w 898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41536" h="21600">
                <a:moveTo>
                  <a:pt x="0" y="0"/>
                </a:moveTo>
                <a:lnTo>
                  <a:pt x="41536" y="0"/>
                </a:lnTo>
                <a:lnTo>
                  <a:pt x="41536" y="21600"/>
                </a:lnTo>
                <a:lnTo>
                  <a:pt x="0" y="21600"/>
                </a:lnTo>
                <a:close/>
              </a:path>
              <a:path fill="lightenLess" w="41536" h="21600">
                <a:moveTo>
                  <a:pt x="0" y="0"/>
                </a:moveTo>
                <a:lnTo>
                  <a:pt x="41536" y="0"/>
                </a:lnTo>
                <a:lnTo>
                  <a:pt x="40136" y="1400"/>
                </a:lnTo>
                <a:lnTo>
                  <a:pt x="1400" y="1400"/>
                </a:lnTo>
                <a:close/>
              </a:path>
              <a:path fill="darken" w="41536" h="21600">
                <a:moveTo>
                  <a:pt x="41536" y="0"/>
                </a:moveTo>
                <a:lnTo>
                  <a:pt x="41536" y="21600"/>
                </a:lnTo>
                <a:lnTo>
                  <a:pt x="40136" y="20200"/>
                </a:lnTo>
                <a:lnTo>
                  <a:pt x="40136" y="1400"/>
                </a:lnTo>
                <a:close/>
              </a:path>
              <a:path fill="darkenLess" w="41536" h="21600">
                <a:moveTo>
                  <a:pt x="41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136" y="20200"/>
                </a:lnTo>
                <a:close/>
              </a:path>
              <a:path fill="lighten" w="41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536" h="21600">
                <a:moveTo>
                  <a:pt x="13761" y="3794"/>
                </a:moveTo>
                <a:lnTo>
                  <a:pt x="27774" y="10800"/>
                </a:lnTo>
                <a:lnTo>
                  <a:pt x="1376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30"/>
          <p:cNvPicPr/>
          <p:nvPr/>
        </p:nvPicPr>
        <p:blipFill>
          <a:blip r:embed="rId1"/>
          <a:stretch/>
        </p:blipFill>
        <p:spPr>
          <a:xfrm>
            <a:off x="2268360" y="3068640"/>
            <a:ext cx="1944720" cy="1241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31"/>
          <p:cNvPicPr/>
          <p:nvPr/>
        </p:nvPicPr>
        <p:blipFill>
          <a:blip r:embed="rId2"/>
          <a:stretch/>
        </p:blipFill>
        <p:spPr>
          <a:xfrm>
            <a:off x="324000" y="333360"/>
            <a:ext cx="1871640" cy="131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32"/>
          <p:cNvPicPr/>
          <p:nvPr/>
        </p:nvPicPr>
        <p:blipFill>
          <a:blip r:embed="rId3"/>
          <a:stretch/>
        </p:blipFill>
        <p:spPr>
          <a:xfrm>
            <a:off x="684360" y="4365720"/>
            <a:ext cx="1055520" cy="17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33"/>
          <p:cNvPicPr/>
          <p:nvPr/>
        </p:nvPicPr>
        <p:blipFill>
          <a:blip r:embed="rId4"/>
          <a:stretch/>
        </p:blipFill>
        <p:spPr>
          <a:xfrm>
            <a:off x="5076720" y="3211560"/>
            <a:ext cx="1656000" cy="98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35"/>
          <p:cNvPicPr/>
          <p:nvPr/>
        </p:nvPicPr>
        <p:blipFill>
          <a:blip r:embed="rId5"/>
          <a:stretch/>
        </p:blipFill>
        <p:spPr>
          <a:xfrm>
            <a:off x="7236000" y="0"/>
            <a:ext cx="1687320" cy="1727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36"/>
          <p:cNvPicPr/>
          <p:nvPr/>
        </p:nvPicPr>
        <p:blipFill>
          <a:blip r:embed="rId6"/>
          <a:stretch/>
        </p:blipFill>
        <p:spPr>
          <a:xfrm>
            <a:off x="2627280" y="501336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37"/>
          <p:cNvPicPr/>
          <p:nvPr/>
        </p:nvPicPr>
        <p:blipFill>
          <a:blip r:embed="rId7"/>
          <a:stretch/>
        </p:blipFill>
        <p:spPr>
          <a:xfrm>
            <a:off x="7632720" y="4292640"/>
            <a:ext cx="1046160" cy="1297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40"/>
          <p:cNvPicPr/>
          <p:nvPr/>
        </p:nvPicPr>
        <p:blipFill>
          <a:blip r:embed="rId8"/>
          <a:stretch/>
        </p:blipFill>
        <p:spPr>
          <a:xfrm>
            <a:off x="5580000" y="4797360"/>
            <a:ext cx="118908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41"/>
          <p:cNvPicPr/>
          <p:nvPr/>
        </p:nvPicPr>
        <p:blipFill>
          <a:blip r:embed="rId9"/>
          <a:stretch/>
        </p:blipFill>
        <p:spPr>
          <a:xfrm>
            <a:off x="3643200" y="714240"/>
            <a:ext cx="1824120" cy="1360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018600" y="214200"/>
            <a:ext cx="30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тивная иг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234720" y="6215040"/>
            <a:ext cx="43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лкина Елена Михайловна - воспи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0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9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9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0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1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2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3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7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8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9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1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2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4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5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6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7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8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9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0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1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2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3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4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6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8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2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3992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" dur="1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992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6" dur="1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3992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" dur="1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3992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3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4" dur="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992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474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745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" dur="474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0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474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3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474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4745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43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4745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0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99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82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83" dur="1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3992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196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197" dur="1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3992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9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10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11" dur="1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" dur="3992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224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225" dur="1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399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4745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44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4745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9" dur="4745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9" dur="4745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8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4745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3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94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4745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3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304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4745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4745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8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30" dur="1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3992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2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43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44" dur="1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4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4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3992" fill="hold"/>
                                        <p:tgtEl>
                                          <p:spTgt spid="1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6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57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58" dur="1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5" dur="3992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6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367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71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72" dur="1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7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3992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385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386" dur="1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8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3992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0" dur="4745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0" dur="4745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0" dur="4745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0" dur="4745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3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4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445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0" dur="4745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4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55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4745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6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7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4745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40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41">
            <a:hlinkClick r:id="" action="ppaction://hlinkshowjump?jump=nextslide"/>
          </p:cNvPr>
          <p:cNvSpPr/>
          <p:nvPr/>
        </p:nvSpPr>
        <p:spPr>
          <a:xfrm>
            <a:off x="179280" y="189000"/>
            <a:ext cx="865440" cy="431640"/>
          </a:xfrm>
          <a:custGeom>
            <a:avLst/>
            <a:gdLst>
              <a:gd name="textAreaLeft" fmla="*/ 27720 w 865440"/>
              <a:gd name="textAreaRight" fmla="*/ 837720 w 865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90" h="21600">
                <a:moveTo>
                  <a:pt x="0" y="0"/>
                </a:moveTo>
                <a:lnTo>
                  <a:pt x="43290" y="0"/>
                </a:lnTo>
                <a:lnTo>
                  <a:pt x="43290" y="21600"/>
                </a:lnTo>
                <a:lnTo>
                  <a:pt x="0" y="21600"/>
                </a:lnTo>
                <a:close/>
              </a:path>
              <a:path fill="lightenLess" w="43290" h="21600">
                <a:moveTo>
                  <a:pt x="0" y="0"/>
                </a:moveTo>
                <a:lnTo>
                  <a:pt x="43290" y="0"/>
                </a:lnTo>
                <a:lnTo>
                  <a:pt x="41890" y="1400"/>
                </a:lnTo>
                <a:lnTo>
                  <a:pt x="1400" y="1400"/>
                </a:lnTo>
                <a:close/>
              </a:path>
              <a:path fill="darken" w="43290" h="21600">
                <a:moveTo>
                  <a:pt x="43290" y="0"/>
                </a:moveTo>
                <a:lnTo>
                  <a:pt x="43290" y="21600"/>
                </a:lnTo>
                <a:lnTo>
                  <a:pt x="41890" y="20200"/>
                </a:lnTo>
                <a:lnTo>
                  <a:pt x="41890" y="1400"/>
                </a:lnTo>
                <a:close/>
              </a:path>
              <a:path fill="darkenLess" w="43290" h="21600">
                <a:moveTo>
                  <a:pt x="43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90" y="20200"/>
                </a:lnTo>
                <a:close/>
              </a:path>
              <a:path fill="lighten" w="43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90" h="21600">
                <a:moveTo>
                  <a:pt x="14639" y="7493"/>
                </a:moveTo>
                <a:lnTo>
                  <a:pt x="18146" y="7493"/>
                </a:lnTo>
                <a:lnTo>
                  <a:pt x="18146" y="12828"/>
                </a:lnTo>
                <a:cubicBezTo>
                  <a:pt x="18146" y="13751"/>
                  <a:pt x="18947" y="14482"/>
                  <a:pt x="19983" y="14482"/>
                </a:cubicBezTo>
                <a:lnTo>
                  <a:pt x="21645" y="14482"/>
                </a:lnTo>
                <a:cubicBezTo>
                  <a:pt x="22681" y="14482"/>
                  <a:pt x="23481" y="13751"/>
                  <a:pt x="23481" y="12828"/>
                </a:cubicBezTo>
                <a:lnTo>
                  <a:pt x="23481" y="7493"/>
                </a:lnTo>
                <a:lnTo>
                  <a:pt x="21645" y="7493"/>
                </a:lnTo>
                <a:lnTo>
                  <a:pt x="25153" y="3985"/>
                </a:lnTo>
                <a:lnTo>
                  <a:pt x="28826" y="7493"/>
                </a:lnTo>
                <a:lnTo>
                  <a:pt x="26989" y="7493"/>
                </a:lnTo>
                <a:lnTo>
                  <a:pt x="26989" y="12828"/>
                </a:lnTo>
                <a:cubicBezTo>
                  <a:pt x="26989" y="15596"/>
                  <a:pt x="24413" y="18155"/>
                  <a:pt x="21645" y="18155"/>
                </a:cubicBezTo>
                <a:lnTo>
                  <a:pt x="19983" y="18155"/>
                </a:lnTo>
                <a:cubicBezTo>
                  <a:pt x="17215" y="18155"/>
                  <a:pt x="14639" y="15596"/>
                  <a:pt x="14639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490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491" dur="1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8" dur="3992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50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3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04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05" dur="1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3992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514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7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18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19" dur="1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6" dur="399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1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32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33" dur="1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3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3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3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0" dur="3992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1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42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5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546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547" dur="1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4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4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5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5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3992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4745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6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1" dur="4745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4745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86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5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96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1" dur="4745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1" dur="4745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1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1" dur="4745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2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1" dur="4745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1" dur="4745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33"/>
          <p:cNvPicPr/>
          <p:nvPr/>
        </p:nvPicPr>
        <p:blipFill>
          <a:blip r:embed="rId1"/>
          <a:stretch/>
        </p:blipFill>
        <p:spPr>
          <a:xfrm>
            <a:off x="2700360" y="404640"/>
            <a:ext cx="1784160" cy="10652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3"/>
          <p:cNvSpPr/>
          <p:nvPr/>
        </p:nvSpPr>
        <p:spPr>
          <a:xfrm rot="16200000">
            <a:off x="3924360" y="-387720"/>
            <a:ext cx="934920" cy="525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869" y="2178"/>
                  <a:pt x="12138" y="5080"/>
                  <a:pt x="12138" y="10800"/>
                </a:cubicBezTo>
                <a:cubicBezTo>
                  <a:pt x="12138" y="16520"/>
                  <a:pt x="16869" y="1942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37"/>
          <p:cNvPicPr/>
          <p:nvPr/>
        </p:nvPicPr>
        <p:blipFill>
          <a:blip r:embed="rId2"/>
          <a:stretch/>
        </p:blipFill>
        <p:spPr>
          <a:xfrm>
            <a:off x="468360" y="2349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30"/>
          <p:cNvPicPr/>
          <p:nvPr/>
        </p:nvPicPr>
        <p:blipFill>
          <a:blip r:embed="rId3"/>
          <a:stretch/>
        </p:blipFill>
        <p:spPr>
          <a:xfrm>
            <a:off x="4572000" y="386064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41"/>
          <p:cNvPicPr/>
          <p:nvPr/>
        </p:nvPicPr>
        <p:blipFill>
          <a:blip r:embed="rId4"/>
          <a:stretch/>
        </p:blipFill>
        <p:spPr>
          <a:xfrm>
            <a:off x="1619280" y="2565360"/>
            <a:ext cx="1555560" cy="1160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40"/>
          <p:cNvPicPr/>
          <p:nvPr/>
        </p:nvPicPr>
        <p:blipFill>
          <a:blip r:embed="rId5"/>
          <a:stretch/>
        </p:blipFill>
        <p:spPr>
          <a:xfrm>
            <a:off x="4211640" y="5229360"/>
            <a:ext cx="1400040" cy="1439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32"/>
          <p:cNvPicPr/>
          <p:nvPr/>
        </p:nvPicPr>
        <p:blipFill>
          <a:blip r:embed="rId6"/>
          <a:stretch/>
        </p:blipFill>
        <p:spPr>
          <a:xfrm>
            <a:off x="7740720" y="4797360"/>
            <a:ext cx="1003320" cy="1636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31"/>
          <p:cNvPicPr/>
          <p:nvPr/>
        </p:nvPicPr>
        <p:blipFill>
          <a:blip r:embed="rId7"/>
          <a:stretch/>
        </p:blipFill>
        <p:spPr>
          <a:xfrm>
            <a:off x="3203640" y="3068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36"/>
          <p:cNvPicPr/>
          <p:nvPr/>
        </p:nvPicPr>
        <p:blipFill>
          <a:blip r:embed="rId8"/>
          <a:stretch/>
        </p:blipFill>
        <p:spPr>
          <a:xfrm>
            <a:off x="6588000" y="4076640"/>
            <a:ext cx="1224000" cy="10587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35"/>
          <p:cNvPicPr/>
          <p:nvPr/>
        </p:nvPicPr>
        <p:blipFill>
          <a:blip r:embed="rId9"/>
          <a:stretch/>
        </p:blipFill>
        <p:spPr>
          <a:xfrm>
            <a:off x="7642080" y="285264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2" descr="33"/>
          <p:cNvPicPr/>
          <p:nvPr/>
        </p:nvPicPr>
        <p:blipFill>
          <a:blip r:embed="rId10"/>
          <a:stretch/>
        </p:blipFill>
        <p:spPr>
          <a:xfrm>
            <a:off x="2124000" y="5300640"/>
            <a:ext cx="1784520" cy="106524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"/>
          <p:cNvPicPr/>
          <p:nvPr/>
        </p:nvPicPr>
        <p:blipFill>
          <a:blip r:embed="rId11"/>
          <a:stretch/>
        </p:blipFill>
        <p:spPr>
          <a:xfrm>
            <a:off x="6084720" y="2781360"/>
            <a:ext cx="1368720" cy="1353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"/>
          <p:cNvPicPr/>
          <p:nvPr/>
        </p:nvPicPr>
        <p:blipFill>
          <a:blip r:embed="rId12"/>
          <a:stretch/>
        </p:blipFill>
        <p:spPr>
          <a:xfrm>
            <a:off x="2556000" y="4005360"/>
            <a:ext cx="1224000" cy="1057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5" descr=""/>
          <p:cNvPicPr/>
          <p:nvPr/>
        </p:nvPicPr>
        <p:blipFill>
          <a:blip r:embed="rId13"/>
          <a:stretch/>
        </p:blipFill>
        <p:spPr>
          <a:xfrm>
            <a:off x="395280" y="3789360"/>
            <a:ext cx="2016000" cy="8031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6" descr=""/>
          <p:cNvPicPr/>
          <p:nvPr/>
        </p:nvPicPr>
        <p:blipFill>
          <a:blip r:embed="rId14"/>
          <a:stretch/>
        </p:blipFill>
        <p:spPr>
          <a:xfrm rot="18984600">
            <a:off x="250560" y="5516280"/>
            <a:ext cx="1763640" cy="4665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7" descr=""/>
          <p:cNvPicPr/>
          <p:nvPr/>
        </p:nvPicPr>
        <p:blipFill>
          <a:blip r:embed="rId15"/>
          <a:stretch/>
        </p:blipFill>
        <p:spPr>
          <a:xfrm>
            <a:off x="6084720" y="5013360"/>
            <a:ext cx="887760" cy="15462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8" descr="41"/>
          <p:cNvPicPr/>
          <p:nvPr/>
        </p:nvPicPr>
        <p:blipFill>
          <a:blip r:embed="rId16"/>
          <a:stretch/>
        </p:blipFill>
        <p:spPr>
          <a:xfrm>
            <a:off x="5651640" y="836640"/>
            <a:ext cx="1555560" cy="1160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9" descr="30"/>
          <p:cNvPicPr/>
          <p:nvPr/>
        </p:nvPicPr>
        <p:blipFill>
          <a:blip r:embed="rId17"/>
          <a:stretch/>
        </p:blipFill>
        <p:spPr>
          <a:xfrm>
            <a:off x="1332000" y="692280"/>
            <a:ext cx="1944720" cy="1239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0" descr="37"/>
          <p:cNvPicPr/>
          <p:nvPr/>
        </p:nvPicPr>
        <p:blipFill>
          <a:blip r:embed="rId18"/>
          <a:stretch/>
        </p:blipFill>
        <p:spPr>
          <a:xfrm>
            <a:off x="3276720" y="1125360"/>
            <a:ext cx="931680" cy="1152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1" descr="40"/>
          <p:cNvPicPr/>
          <p:nvPr/>
        </p:nvPicPr>
        <p:blipFill>
          <a:blip r:embed="rId19"/>
          <a:stretch/>
        </p:blipFill>
        <p:spPr>
          <a:xfrm>
            <a:off x="4284720" y="260280"/>
            <a:ext cx="1400040" cy="1440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2" descr="36"/>
          <p:cNvPicPr/>
          <p:nvPr/>
        </p:nvPicPr>
        <p:blipFill>
          <a:blip r:embed="rId20"/>
          <a:stretch/>
        </p:blipFill>
        <p:spPr>
          <a:xfrm>
            <a:off x="4788000" y="1125360"/>
            <a:ext cx="1224000" cy="10591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3" descr="32"/>
          <p:cNvPicPr/>
          <p:nvPr/>
        </p:nvPicPr>
        <p:blipFill>
          <a:blip r:embed="rId21"/>
          <a:stretch/>
        </p:blipFill>
        <p:spPr>
          <a:xfrm>
            <a:off x="2556000" y="692280"/>
            <a:ext cx="1003320" cy="16365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4" descr="31"/>
          <p:cNvPicPr/>
          <p:nvPr/>
        </p:nvPicPr>
        <p:blipFill>
          <a:blip r:embed="rId22"/>
          <a:stretch/>
        </p:blipFill>
        <p:spPr>
          <a:xfrm>
            <a:off x="3708360" y="1052640"/>
            <a:ext cx="1690560" cy="118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5" descr="35"/>
          <p:cNvPicPr/>
          <p:nvPr/>
        </p:nvPicPr>
        <p:blipFill>
          <a:blip r:embed="rId23"/>
          <a:stretch/>
        </p:blipFill>
        <p:spPr>
          <a:xfrm rot="1924800">
            <a:off x="5364000" y="260280"/>
            <a:ext cx="1501920" cy="1535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6" descr=""/>
          <p:cNvPicPr/>
          <p:nvPr/>
        </p:nvPicPr>
        <p:blipFill>
          <a:blip r:embed="rId24"/>
          <a:stretch/>
        </p:blipFill>
        <p:spPr>
          <a:xfrm>
            <a:off x="6659640" y="3357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7" descr=""/>
          <p:cNvPicPr/>
          <p:nvPr/>
        </p:nvPicPr>
        <p:blipFill>
          <a:blip r:embed="rId25"/>
          <a:stretch/>
        </p:blipFill>
        <p:spPr>
          <a:xfrm>
            <a:off x="644364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8" descr=""/>
          <p:cNvPicPr/>
          <p:nvPr/>
        </p:nvPicPr>
        <p:blipFill>
          <a:blip r:embed="rId26"/>
          <a:stretch/>
        </p:blipFill>
        <p:spPr>
          <a:xfrm>
            <a:off x="900000" y="566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9" descr=""/>
          <p:cNvPicPr/>
          <p:nvPr/>
        </p:nvPicPr>
        <p:blipFill>
          <a:blip r:embed="rId27"/>
          <a:stretch/>
        </p:blipFill>
        <p:spPr>
          <a:xfrm>
            <a:off x="1187280" y="4005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0" descr=""/>
          <p:cNvPicPr/>
          <p:nvPr/>
        </p:nvPicPr>
        <p:blipFill>
          <a:blip r:embed="rId28"/>
          <a:stretch/>
        </p:blipFill>
        <p:spPr>
          <a:xfrm>
            <a:off x="8028000" y="573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1" descr=""/>
          <p:cNvPicPr/>
          <p:nvPr/>
        </p:nvPicPr>
        <p:blipFill>
          <a:blip r:embed="rId29"/>
          <a:stretch/>
        </p:blipFill>
        <p:spPr>
          <a:xfrm>
            <a:off x="3059280" y="4437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2" descr=""/>
          <p:cNvPicPr/>
          <p:nvPr/>
        </p:nvPicPr>
        <p:blipFill>
          <a:blip r:embed="rId30"/>
          <a:stretch/>
        </p:blipFill>
        <p:spPr>
          <a:xfrm>
            <a:off x="3780000" y="371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3" descr=""/>
          <p:cNvPicPr/>
          <p:nvPr/>
        </p:nvPicPr>
        <p:blipFill>
          <a:blip r:embed="rId31"/>
          <a:stretch/>
        </p:blipFill>
        <p:spPr>
          <a:xfrm>
            <a:off x="2050920" y="306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4" descr=""/>
          <p:cNvPicPr/>
          <p:nvPr/>
        </p:nvPicPr>
        <p:blipFill>
          <a:blip r:embed="rId32"/>
          <a:stretch/>
        </p:blipFill>
        <p:spPr>
          <a:xfrm>
            <a:off x="8172360" y="350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35" descr=""/>
          <p:cNvPicPr/>
          <p:nvPr/>
        </p:nvPicPr>
        <p:blipFill>
          <a:blip r:embed="rId33"/>
          <a:stretch/>
        </p:blipFill>
        <p:spPr>
          <a:xfrm>
            <a:off x="7020000" y="458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6" descr=""/>
          <p:cNvPicPr/>
          <p:nvPr/>
        </p:nvPicPr>
        <p:blipFill>
          <a:blip r:embed="rId34"/>
          <a:stretch/>
        </p:blipFill>
        <p:spPr>
          <a:xfrm>
            <a:off x="5364000" y="4292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7" descr=""/>
          <p:cNvPicPr/>
          <p:nvPr/>
        </p:nvPicPr>
        <p:blipFill>
          <a:blip r:embed="rId35"/>
          <a:stretch/>
        </p:blipFill>
        <p:spPr>
          <a:xfrm>
            <a:off x="478800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8" descr=""/>
          <p:cNvPicPr/>
          <p:nvPr/>
        </p:nvPicPr>
        <p:blipFill>
          <a:blip r:embed="rId36"/>
          <a:stretch/>
        </p:blipFill>
        <p:spPr>
          <a:xfrm>
            <a:off x="755640" y="2924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9" descr=""/>
          <p:cNvPicPr/>
          <p:nvPr/>
        </p:nvPicPr>
        <p:blipFill>
          <a:blip r:embed="rId37"/>
          <a:stretch/>
        </p:blipFill>
        <p:spPr>
          <a:xfrm>
            <a:off x="262728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9" name="AutoShape 41">
            <a:hlinkClick r:id="" action="ppaction://hlinkshowjump?jump=endshow"/>
          </p:cNvPr>
          <p:cNvSpPr/>
          <p:nvPr/>
        </p:nvSpPr>
        <p:spPr>
          <a:xfrm>
            <a:off x="8028000" y="333360"/>
            <a:ext cx="900000" cy="431640"/>
          </a:xfrm>
          <a:custGeom>
            <a:avLst/>
            <a:gdLst>
              <a:gd name="textAreaLeft" fmla="*/ 27720 w 900000"/>
              <a:gd name="textAreaRight" fmla="*/ 872280 w 900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5018" h="21600">
                <a:moveTo>
                  <a:pt x="0" y="0"/>
                </a:moveTo>
                <a:lnTo>
                  <a:pt x="45018" y="0"/>
                </a:lnTo>
                <a:lnTo>
                  <a:pt x="45018" y="21600"/>
                </a:lnTo>
                <a:lnTo>
                  <a:pt x="0" y="21600"/>
                </a:lnTo>
                <a:close/>
              </a:path>
              <a:path fill="lightenLess" w="45018" h="21600">
                <a:moveTo>
                  <a:pt x="0" y="0"/>
                </a:moveTo>
                <a:lnTo>
                  <a:pt x="45018" y="0"/>
                </a:lnTo>
                <a:lnTo>
                  <a:pt x="43618" y="1400"/>
                </a:lnTo>
                <a:lnTo>
                  <a:pt x="1400" y="1400"/>
                </a:lnTo>
                <a:close/>
              </a:path>
              <a:path fill="darken" w="45018" h="21600">
                <a:moveTo>
                  <a:pt x="45018" y="0"/>
                </a:moveTo>
                <a:lnTo>
                  <a:pt x="45018" y="21600"/>
                </a:lnTo>
                <a:lnTo>
                  <a:pt x="43618" y="20200"/>
                </a:lnTo>
                <a:lnTo>
                  <a:pt x="43618" y="1400"/>
                </a:lnTo>
                <a:close/>
              </a:path>
              <a:path fill="darkenLess" w="45018" h="21600">
                <a:moveTo>
                  <a:pt x="450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18" y="20200"/>
                </a:lnTo>
                <a:close/>
              </a:path>
              <a:path fill="lighten" w="450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647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0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51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52" dur="1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3992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0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661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4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65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66" dur="1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7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3" dur="3992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675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8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79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80" dur="1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8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8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3992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2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693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694" dur="1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69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9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1" dur="3992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06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animClr clrSpc="rgb">
                                      <p:cBhvr>
                                        <p:cTn id="707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ff"/>
                                      </p:to>
                                    </p:animClr>
                                    <p:set>
                                      <p:cBhvr>
                                        <p:cTn id="708" dur="1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5" dur="3992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6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17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2" dur="4745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2" dur="4745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2" dur="4745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6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747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2" dur="4745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4745" fill="hold"/>
                                        <p:tgtEl>
                                          <p:spTgt spid="2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76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2" dur="4745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6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777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2" dur="4745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2" dur="4745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6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797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2" dur="4745" fill="hold"/>
                                        <p:tgtEl>
                                          <p:spTgt spid="2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 использованных сай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egalega.ucoz.ru/news/obuchajushhie_i_razvivajushhie_kartochki_dlja_detej_najdi_oshibku/2012-05-17-2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а, апельсин, слива, морковь, огурец, помид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hotoshopchik.ucoz.ru/load/55-1-0-1175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allgfx.net/tags/%E3%F0%F3%F8%E0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иноград, вишня, яблоко, абрик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deslib.ru/wp-content/gallery/Eat/Ananas/ananas_1112kb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нан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vector-images.com/clipart/clp313790/?lang=ru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ук, капу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1T09:38:56Z</dcterms:created>
  <dc:creator>User</dc:creator>
  <dc:description/>
  <dc:language>en-US</dc:language>
  <cp:lastModifiedBy>пользователь</cp:lastModifiedBy>
  <dcterms:modified xsi:type="dcterms:W3CDTF">2018-05-01T09:17:57Z</dcterms:modified>
  <cp:revision>12</cp:revision>
  <dc:subject/>
  <dc:title>Слайд 1</dc:title>
</cp:coreProperties>
</file>