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775D-FEAC-4828-8ED5-B703CB6F5B30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акшеев Голубая вес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Это особенные цветы - ???эферойды - они торопятся расцвести пока на деревьях не выросли листья и не закрыли солнышко 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ИСААК  ИЛЬИЧ</a:t>
            </a:r>
            <a:br>
              <a:rPr sz="1200"/>
            </a:b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ЛЕВИТАН</a:t>
            </a:r>
            <a:br>
              <a:rPr sz="2000"/>
            </a:br>
            <a:r>
              <a:rPr b="1" lang="ru-RU" sz="400" spc="-1" strike="noStrike">
                <a:solidFill>
                  <a:srgbClr val="000000"/>
                </a:solidFill>
                <a:latin typeface="Times New Roman"/>
              </a:rPr>
              <a:t>Цветущие яблони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исов-Муссатов. Майские цв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ey Savrasov. Early Spring.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витан. Большая в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АЛЕКСЕЙ</a:t>
            </a:r>
            <a:br>
              <a:rPr sz="1200"/>
            </a:b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КОНДРАТЬЕВИЧ</a:t>
            </a:r>
            <a:br>
              <a:rPr sz="1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САВРАС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Грачи прилетели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B8C-281C-45D2-9F74-E22C40B2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A28-10F5-4E43-BCA7-D7D03991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7BE-2CC1-4F32-A9A6-D963016E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F19-DB24-4EBE-9F8E-92754A1A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04F-784D-4FD7-B94F-B65D0016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51C-62FB-428B-AE04-AB7A6663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2AE-1A74-4D88-A623-BBE6996D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4EE-51A3-4C9C-BFAA-27C52BEB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018-DD4E-4E2B-B67B-B4CC4E42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767-9A62-4A0B-8FFD-355C5F03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68F-7786-43AB-B9B1-A2B1C720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334-156F-4DAF-8BE3-DF97D7C4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4910-9425-4D7E-BCA9-F211E73F34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Дерево%20Весной" descr=""/>
          <p:cNvPicPr/>
          <p:nvPr/>
        </p:nvPicPr>
        <p:blipFill>
          <a:blip r:embed="rId1"/>
          <a:stretch/>
        </p:blipFill>
        <p:spPr>
          <a:xfrm>
            <a:off x="177840" y="380880"/>
            <a:ext cx="4546440" cy="601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cc00"/>
                </a:solidFill>
                <a:latin typeface="Arial"/>
              </a:rPr>
              <a:t>ВЕ</a:t>
            </a:r>
            <a:r>
              <a:rPr b="1" lang="ru-RU" sz="8000" spc="-1" strike="noStrike">
                <a:solidFill>
                  <a:srgbClr val="66ff99"/>
                </a:solidFill>
                <a:latin typeface="Arial"/>
              </a:rPr>
              <a:t>С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весна2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022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от середина весны. Снег везде растаял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Бакшеев%20Голубая%20весна%201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сменить теплые зимние одежды на курточки и плащи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прогулки по лужам одеваем резиновые сапог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весна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801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800960" y="457200"/>
            <a:ext cx="3053520" cy="4681440"/>
            <a:chOff x="4800960" y="457200"/>
            <a:chExt cx="3053520" cy="4681440"/>
          </a:xfrm>
        </p:grpSpPr>
        <p:sp>
          <p:nvSpPr>
            <p:cNvPr id="74" name=""/>
            <p:cNvSpPr/>
            <p:nvPr/>
          </p:nvSpPr>
          <p:spPr>
            <a:xfrm>
              <a:off x="4800960" y="4496040"/>
              <a:ext cx="305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ВЕ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РИ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НИ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Ц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ветриницы" descr=""/>
            <p:cNvPicPr/>
            <p:nvPr/>
          </p:nvPicPr>
          <p:blipFill>
            <a:blip r:embed="rId1"/>
            <a:stretch/>
          </p:blipFill>
          <p:spPr>
            <a:xfrm>
              <a:off x="4815000" y="457200"/>
              <a:ext cx="3033720" cy="403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1752840" y="762120"/>
            <a:ext cx="3502800" cy="4757040"/>
            <a:chOff x="1752840" y="762120"/>
            <a:chExt cx="3502800" cy="4757040"/>
          </a:xfrm>
        </p:grpSpPr>
        <p:pic>
          <p:nvPicPr>
            <p:cNvPr id="77" name="Гусиный%20лук%20жёлтый" descr=""/>
            <p:cNvPicPr/>
            <p:nvPr/>
          </p:nvPicPr>
          <p:blipFill>
            <a:blip r:embed="rId2"/>
            <a:stretch/>
          </p:blipFill>
          <p:spPr>
            <a:xfrm>
              <a:off x="2136600" y="762120"/>
              <a:ext cx="2435400" cy="40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752840" y="4876560"/>
              <a:ext cx="350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ГУ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СИ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НЫ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Й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ЛУ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066680" y="1905120"/>
            <a:ext cx="4343400" cy="3899880"/>
            <a:chOff x="1066680" y="1905120"/>
            <a:chExt cx="4343400" cy="3899880"/>
          </a:xfrm>
        </p:grpSpPr>
        <p:pic>
          <p:nvPicPr>
            <p:cNvPr id="80" name="мать%20и%20мачеха%202" descr=""/>
            <p:cNvPicPr/>
            <p:nvPr/>
          </p:nvPicPr>
          <p:blipFill>
            <a:blip r:embed="rId3"/>
            <a:stretch/>
          </p:blipFill>
          <p:spPr>
            <a:xfrm>
              <a:off x="1066680" y="1905120"/>
              <a:ext cx="4343400" cy="32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176840" y="5162400"/>
              <a:ext cx="405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МА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Ь И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МА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ЧЕ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Х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962520" y="380880"/>
            <a:ext cx="2687040" cy="4268520"/>
            <a:chOff x="3962520" y="380880"/>
            <a:chExt cx="2687040" cy="4268520"/>
          </a:xfrm>
        </p:grpSpPr>
        <p:sp>
          <p:nvSpPr>
            <p:cNvPr id="83" name=""/>
            <p:cNvSpPr/>
            <p:nvPr/>
          </p:nvSpPr>
          <p:spPr>
            <a:xfrm>
              <a:off x="3964680" y="4006800"/>
              <a:ext cx="268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ХО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Х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ЛА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К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Хохлатка%20плотная%202" descr=""/>
            <p:cNvPicPr/>
            <p:nvPr/>
          </p:nvPicPr>
          <p:blipFill>
            <a:blip r:embed="rId4"/>
            <a:stretch/>
          </p:blipFill>
          <p:spPr>
            <a:xfrm>
              <a:off x="3962520" y="380880"/>
              <a:ext cx="2679840" cy="372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инает появляться свежая травка и первые цветы.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так и называют – первоцвет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0" y="2362320"/>
            <a:ext cx="3962520" cy="3385440"/>
            <a:chOff x="4572000" y="2362320"/>
            <a:chExt cx="3962520" cy="3385440"/>
          </a:xfrm>
        </p:grpSpPr>
        <p:pic>
          <p:nvPicPr>
            <p:cNvPr id="87" name="Чистяк%20весенний%202" descr=""/>
            <p:cNvPicPr/>
            <p:nvPr/>
          </p:nvPicPr>
          <p:blipFill>
            <a:blip r:embed="rId5"/>
            <a:stretch/>
          </p:blipFill>
          <p:spPr>
            <a:xfrm>
              <a:off x="4572000" y="2362320"/>
              <a:ext cx="3962520" cy="27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493600" y="5105160"/>
              <a:ext cx="204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ЧИ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С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ТЯ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тоже оживают после зим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ветках начинают набухать почки, 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Листья%20разворачиваются" descr=""/>
          <p:cNvPicPr/>
          <p:nvPr/>
        </p:nvPicPr>
        <p:blipFill>
          <a:blip r:embed="rId1"/>
          <a:srcRect l="896" t="1400" r="896" b="984"/>
          <a:stretch/>
        </p:blipFill>
        <p:spPr>
          <a:xfrm>
            <a:off x="304920" y="311040"/>
            <a:ext cx="861048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из них появляться новые листоч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весна%2016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которые деревья вначале одеваются в цветы, а потом уже добавляют к ним листья. Посмотри как красиво цветет яблон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228600"/>
            <a:ext cx="792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весны уже тепло и в солнечные дни можно носить легкие кофточки и плать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Victor%20Borisov-Musatov.%20May%20Flowers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3432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на - это переход от зимы к лет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Дерево%20Зимой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2895480" cy="4019400"/>
          </a:xfrm>
          <a:prstGeom prst="rect">
            <a:avLst/>
          </a:prstGeom>
          <a:ln w="0">
            <a:noFill/>
          </a:ln>
        </p:spPr>
      </p:pic>
      <p:pic>
        <p:nvPicPr>
          <p:cNvPr id="53" name="Дерево%20Весной" descr=""/>
          <p:cNvPicPr/>
          <p:nvPr/>
        </p:nvPicPr>
        <p:blipFill>
          <a:blip r:embed="rId2"/>
          <a:srcRect l="0" t="0" r="0" b="-700"/>
          <a:stretch/>
        </p:blipFill>
        <p:spPr>
          <a:xfrm>
            <a:off x="3048120" y="1905120"/>
            <a:ext cx="3028680" cy="4038480"/>
          </a:xfrm>
          <a:prstGeom prst="rect">
            <a:avLst/>
          </a:prstGeom>
          <a:ln w="0">
            <a:noFill/>
          </a:ln>
        </p:spPr>
      </p:pic>
      <p:pic>
        <p:nvPicPr>
          <p:cNvPr id="54" name="Дерево%20Летом" descr=""/>
          <p:cNvPicPr/>
          <p:nvPr/>
        </p:nvPicPr>
        <p:blipFill>
          <a:blip r:embed="rId3"/>
          <a:stretch/>
        </p:blipFill>
        <p:spPr>
          <a:xfrm>
            <a:off x="6019920" y="1914480"/>
            <a:ext cx="30477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ачале весны еще холодно. Лежит снег. Но солнышко греет все жарч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нег на солнышке начинает таять. Он превращается в в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lexey%20Savrasov.%20Early%20Spring.%20Thaw" descr=""/>
          <p:cNvPicPr/>
          <p:nvPr/>
        </p:nvPicPr>
        <p:blipFill>
          <a:blip r:embed="rId1"/>
          <a:srcRect l="0" t="11540" r="0" b="0"/>
          <a:stretch/>
        </p:blipFill>
        <p:spPr>
          <a:xfrm>
            <a:off x="1790640" y="0"/>
            <a:ext cx="5321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растаявшего снега получаются веселые ручейки и большие луж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00120" y="95400"/>
            <a:ext cx="559764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д на речках тоже тает. Вначале он раскалывает на льдин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Ледоход%20на%20Неве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39621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каясь и ломаясь они плывут вниз по речк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ворят, что на реке 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ЛЕ</a:t>
            </a:r>
            <a:r>
              <a:rPr b="1" lang="ru-RU" sz="3600" spc="-1" strike="noStrike">
                <a:solidFill>
                  <a:srgbClr val="0099ff"/>
                </a:solidFill>
                <a:latin typeface="Arial"/>
              </a:rPr>
              <a:t>Д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3600" spc="-1" strike="noStrike">
                <a:solidFill>
                  <a:srgbClr val="0099ff"/>
                </a:solidFill>
                <a:latin typeface="Arial"/>
              </a:rPr>
              <a:t>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Ледоход%20в%20Архангельске2" descr=""/>
          <p:cNvPicPr/>
          <p:nvPr/>
        </p:nvPicPr>
        <p:blipFill>
          <a:blip r:embed="rId1"/>
          <a:srcRect l="0" t="0" r="0" b="6476"/>
          <a:stretch/>
        </p:blipFill>
        <p:spPr>
          <a:xfrm>
            <a:off x="609480" y="209520"/>
            <a:ext cx="78487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теплых краев возвращаются птицы, которые улетели туда осенью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ими из первых возвращаются грач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95400"/>
            <a:ext cx="45194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лезают из своих зимних домиков животные-сони, которые проспали всю зиму: большой медведь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nsects045" descr=""/>
          <p:cNvPicPr/>
          <p:nvPr/>
        </p:nvPicPr>
        <p:blipFill>
          <a:blip r:embed="rId1"/>
          <a:srcRect l="998" t="1331" r="998" b="1331"/>
          <a:stretch/>
        </p:blipFill>
        <p:spPr>
          <a:xfrm>
            <a:off x="685800" y="304920"/>
            <a:ext cx="7467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ёлый бурундучо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ab&amp;Squir071" descr=""/>
          <p:cNvPicPr/>
          <p:nvPr/>
        </p:nvPicPr>
        <p:blipFill>
          <a:blip r:embed="rId1"/>
          <a:srcRect l="1039" t="1386" r="1039" b="2780"/>
          <a:stretch/>
        </p:blipFill>
        <p:spPr>
          <a:xfrm>
            <a:off x="685800" y="304920"/>
            <a:ext cx="792468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Admin</cp:lastModifiedBy>
  <dcterms:modified xsi:type="dcterms:W3CDTF">2004-02-24T06:50:06Z</dcterms:modified>
  <cp:revision>47</cp:revision>
  <dc:subject/>
  <dc:title>ЗИМА</dc:title>
</cp:coreProperties>
</file>