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3EE6-86B2-43C6-A939-33F37046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A680-1996-49D1-AD26-6467D0FC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B006-68FD-4BC0-9501-FC9687EC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9326-3490-485F-854D-83402C27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644C-5CB9-402C-B797-280D336D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7FA5-7441-4860-8F40-E30B3DA2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C459-A6F8-4DFE-A8DE-234653F0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C5B8-84E9-4FB5-AC46-0417D364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DD40-2D3B-4C72-A4B0-D0640B22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1C51-A2CA-4989-9535-18FA45D6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BA1C-E117-4705-B5D2-C49DD41E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DA00-9A51-415A-B84A-0207991C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13A2-5D36-47E6-973B-DE607749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132C-A896-4000-9835-052151EB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0E17-6B90-41EE-A5BF-B36978EE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70FA-2277-4DAB-A9B0-B1491A91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93D9-DF9A-4EC0-BFD5-C5DD0C50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7AE-2628-4E77-8E19-9AB1903B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CAD-18F5-451A-9D5B-5479D706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2D4D-84A5-40D1-B5D0-3719C629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31D5-77C3-44B2-930C-C618E1BE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2C00-804C-48D5-9F57-5F942609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B25B-924D-4712-A01C-0BE73D76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FD6A-C433-4E81-970D-27D0D7FA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59E0-A653-4214-A620-2704A36D046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28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2880"/>
              <a:ext cx="1203120" cy="685476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2680"/>
                <a:chOff x="8381880" y="360"/>
                <a:chExt cx="762120" cy="227268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324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19440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6956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1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06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2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2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2360"/>
                <a:ext cx="828720" cy="4707360"/>
                <a:chOff x="7848720" y="1602360"/>
                <a:chExt cx="828720" cy="470736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2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60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4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7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4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5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7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9320"/>
              <a:ext cx="1190520" cy="193896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8960"/>
                <a:gd name="textAreaBottom" fmla="*/ 1939320 h 193896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560"/>
              <a:ext cx="1219320" cy="199908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080"/>
                <a:gd name="textAreaBottom" fmla="*/ 1999440 h 199908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9520"/>
              <a:ext cx="1231920" cy="403488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4880"/>
                <a:gd name="textAreaBottom" fmla="*/ 4035240 h 403488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9880"/>
              <a:ext cx="979560" cy="218340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400"/>
                <a:gd name="textAreaBottom" fmla="*/ 2183760 h 218340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9840"/>
              <a:ext cx="914400" cy="50457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5760"/>
                <a:gd name="textAreaBottom" fmla="*/ 5046120 h 504576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4960"/>
              <a:ext cx="909720" cy="30697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9720"/>
                <a:gd name="textAreaBottom" fmla="*/ 3070080 h 30697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2880"/>
              <a:ext cx="576360" cy="33508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0880"/>
                <a:gd name="textAreaBottom" fmla="*/ 3351240 h 33508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4320"/>
              <a:ext cx="300240" cy="33512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1240"/>
                <a:gd name="textAreaBottom" fmla="*/ 3351600 h 33512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4320"/>
              <a:ext cx="88920" cy="68547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5760" y="3317400"/>
              <a:ext cx="6854760" cy="22536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9397-F4A3-470B-B125-55A5990852A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632720" cy="25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            </a:t>
            </a: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ВИДЫ И ЖАНРЫ </a:t>
            </a:r>
            <a:br>
              <a:rPr sz="3600"/>
            </a:b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       ИЗОБРАЗИТЕЛЬНОГО </a:t>
            </a:r>
            <a:br>
              <a:rPr sz="3600"/>
            </a:b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               ИСКУССТВА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                                                         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2556000" y="414972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СКУЛЬП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Содержимое 3" descr="89d4687eb615.jpg"/>
          <p:cNvPicPr/>
          <p:nvPr/>
        </p:nvPicPr>
        <p:blipFill>
          <a:blip r:embed="rId1"/>
          <a:stretch/>
        </p:blipFill>
        <p:spPr>
          <a:xfrm>
            <a:off x="755640" y="907920"/>
            <a:ext cx="6458040" cy="54565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"/>
          <p:cNvSpPr/>
          <p:nvPr/>
        </p:nvSpPr>
        <p:spPr>
          <a:xfrm flipH="1">
            <a:off x="1116000" y="26028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иатюрная скульптура из слоновой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50920" y="189000"/>
            <a:ext cx="73864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кульпту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96155"/>
                </a:solidFill>
                <a:latin typeface="Arial"/>
              </a:rPr>
              <a:t>- ваяние, пластика – вид изобразительного искусства, произведения которого имеют объёмную форму и выполняются из твёрдых или пластических матери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4" descr="1590_b.jpg"/>
          <p:cNvPicPr/>
          <p:nvPr/>
        </p:nvPicPr>
        <p:blipFill>
          <a:blip r:embed="rId1"/>
          <a:stretch/>
        </p:blipFill>
        <p:spPr>
          <a:xfrm>
            <a:off x="1187280" y="2205000"/>
            <a:ext cx="569124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Монументальная скульптура </a:t>
            </a:r>
            <a:r>
              <a:rPr b="0" lang="ru-RU" sz="2000" spc="-1" strike="noStrike">
                <a:solidFill>
                  <a:srgbClr val="30605a"/>
                </a:solidFill>
                <a:latin typeface="Arial"/>
              </a:rPr>
              <a:t>– это монументы, памятники, скульптурные комплексы, которые или дополняют и обогащают архитектуру или самостоятельно выражают и пропагандируют монументальный образ, но не без помощи архитектуры (постамент, организация площадки вокруг памятника).</a:t>
            </a:r>
            <a:endParaRPr b="0" lang="en-US" sz="20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197" name="Рисунок 3" descr="img111453005.png"/>
          <p:cNvPicPr/>
          <p:nvPr/>
        </p:nvPicPr>
        <p:blipFill>
          <a:blip r:embed="rId1"/>
          <a:stretch/>
        </p:blipFill>
        <p:spPr>
          <a:xfrm>
            <a:off x="1116000" y="2276640"/>
            <a:ext cx="57466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50920" y="1155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Монуме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96155"/>
                </a:solidFill>
                <a:latin typeface="Arial"/>
              </a:rPr>
              <a:t>— памятник , сооружение, предназначенное для увековечивания событий, личностей, иногда вымышленных персонажей и живот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6" descr="originnal_0d7abcf099a0e5daeb0bc2514f1bf194.jpg"/>
          <p:cNvPicPr/>
          <p:nvPr/>
        </p:nvPicPr>
        <p:blipFill>
          <a:blip r:embed="rId1"/>
          <a:stretch/>
        </p:blipFill>
        <p:spPr>
          <a:xfrm>
            <a:off x="755640" y="1341360"/>
            <a:ext cx="66247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95280" y="404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сочная скульпт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Рисунок 3" descr="0501twitter_8.jpg"/>
          <p:cNvPicPr/>
          <p:nvPr/>
        </p:nvPicPr>
        <p:blipFill>
          <a:blip r:embed="rId1"/>
          <a:stretch/>
        </p:blipFill>
        <p:spPr>
          <a:xfrm>
            <a:off x="395280" y="836640"/>
            <a:ext cx="69454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95280" y="404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дяная скульпт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3" descr="65.jpg"/>
          <p:cNvPicPr/>
          <p:nvPr/>
        </p:nvPicPr>
        <p:blipFill>
          <a:blip r:embed="rId1"/>
          <a:stretch/>
        </p:blipFill>
        <p:spPr>
          <a:xfrm>
            <a:off x="324000" y="836640"/>
            <a:ext cx="74120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33300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96155"/>
                </a:solidFill>
                <a:latin typeface="Arial"/>
              </a:rPr>
              <a:t>Станковая скульптура рассчитана на восприятие с близкого расстояния, не связана с предметным окружением и архитекту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Рисунок 3" descr="317bd155.jpg"/>
          <p:cNvPicPr/>
          <p:nvPr/>
        </p:nvPicPr>
        <p:blipFill>
          <a:blip r:embed="rId1"/>
          <a:stretch/>
        </p:blipFill>
        <p:spPr>
          <a:xfrm>
            <a:off x="1116000" y="1628640"/>
            <a:ext cx="569268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78920" y="18864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Бюст </a:t>
            </a:r>
            <a:r>
              <a:rPr b="0" lang="ru-RU" sz="2000" spc="-1" strike="noStrike">
                <a:solidFill>
                  <a:srgbClr val="396155"/>
                </a:solidFill>
                <a:latin typeface="Arial"/>
              </a:rPr>
              <a:t>— скульптура, изображающая грудь, плечи и голову человека, обычно на подстав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Рисунок 5" descr="Konstantinovo 1.jpg"/>
          <p:cNvPicPr/>
          <p:nvPr/>
        </p:nvPicPr>
        <p:blipFill>
          <a:blip r:embed="rId1"/>
          <a:stretch/>
        </p:blipFill>
        <p:spPr>
          <a:xfrm>
            <a:off x="1908000" y="1197000"/>
            <a:ext cx="38880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78920" y="25992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Мелкая пластика </a:t>
            </a:r>
            <a:r>
              <a:rPr b="0" lang="ru-RU" sz="2000" spc="-1" strike="noStrike">
                <a:solidFill>
                  <a:srgbClr val="396155"/>
                </a:solidFill>
                <a:latin typeface="Arial"/>
              </a:rPr>
              <a:t>-это скульптура малых фор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Рисунок 4" descr="090e6367a5143c92452bda5e0e83d55d.jpeg"/>
          <p:cNvPicPr/>
          <p:nvPr/>
        </p:nvPicPr>
        <p:blipFill>
          <a:blip r:embed="rId1"/>
          <a:stretch/>
        </p:blipFill>
        <p:spPr>
          <a:xfrm>
            <a:off x="1042920" y="620640"/>
            <a:ext cx="5556240" cy="43322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6"/>
          <p:cNvSpPr/>
          <p:nvPr/>
        </p:nvSpPr>
        <p:spPr>
          <a:xfrm>
            <a:off x="468360" y="5157720"/>
            <a:ext cx="66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э́цкэ (яп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根付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etsuke, нэцукэ) — миниатюрная скульптура, произведение японского декоративно-прикладного искусства, представляющее собой небольшой резной бре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4:17:13Z</dcterms:created>
  <dc:creator>Oleg</dc:creator>
  <dc:description/>
  <dc:language>en-US</dc:language>
  <cp:lastModifiedBy>Oleg</cp:lastModifiedBy>
  <dcterms:modified xsi:type="dcterms:W3CDTF">2014-03-29T11:47:41Z</dcterms:modified>
  <cp:revision>113</cp:revision>
  <dc:subject/>
  <dc:title>ВИДЫ И ЖАНРЫ         ИЗОБРАЗИТЕЛЬНОГО                 ИСКУССТВА</dc:title>
</cp:coreProperties>
</file>