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0F4-8368-40D5-BA7A-F0E5F4AD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188-EB6E-4ED2-AB5B-1BEA8ABC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AE4-D9A9-4046-844B-7A6A032E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503-E94D-4859-8CE0-8D7FD1FB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1C7C-990A-45A2-8BF6-1900C876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EF11-1331-4E3C-B48B-5728D0BC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C7CA-1F7F-43CF-A70B-E0A862A9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73F3-A419-4579-B2E0-55E49C96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10E1-1233-4F09-8EC3-132DE80C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53D4-2719-4567-B5CC-F08EDF78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982B-9223-4A98-877E-3E36DF92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667-B15C-4B8A-8930-1DE9FC99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940E-57F4-4E11-9AC8-E3C692DE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F827-2EAC-4580-AD43-C584A62D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782F-322B-482B-9941-C4B85417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AA10-1044-4489-A1E2-47FDA6AA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6232-91CF-44C4-AF15-CA11A34E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23F-BB03-44DC-B989-3BBC4298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725-8B2E-4368-A08D-D0B27CF7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FC7-5A1E-4EC6-937D-5285441B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B82-2153-4E09-9C69-62D51854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A08-76AE-444A-B730-BC1E1622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DD8-F35A-4FAA-ADF2-7BDB4B0E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4C5-D5DE-49D1-B0DC-B27E242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9990-AE38-4095-8ACE-D03DB4F3DA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9080"/>
                <a:gd name="textAreaBottom" fmla="*/ 1999440 h 199908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4880"/>
                <a:gd name="textAreaBottom" fmla="*/ 4035240 h 403488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5760"/>
                <a:gd name="textAreaBottom" fmla="*/ 5046120 h 504576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9720"/>
                <a:gd name="textAreaBottom" fmla="*/ 3070080 h 3069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0880"/>
                <a:gd name="textAreaBottom" fmla="*/ 3351240 h 33508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1240"/>
                <a:gd name="textAreaBottom" fmla="*/ 3351600 h 33512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8DA6-3C15-4987-AC6E-4E7DABA59D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632720" cy="25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ВИДЫ И ЖАНРЫ 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      ИЗОБРАЗИТЕЛЬНОГО 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              ИСКУССТВ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                                                       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2556000" y="4149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СКУЛЬП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3" descr="89d4687eb615.jpg"/>
          <p:cNvPicPr/>
          <p:nvPr/>
        </p:nvPicPr>
        <p:blipFill>
          <a:blip r:embed="rId1"/>
          <a:stretch/>
        </p:blipFill>
        <p:spPr>
          <a:xfrm>
            <a:off x="755640" y="907920"/>
            <a:ext cx="6458040" cy="54565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 flipH="1">
            <a:off x="1116000" y="26028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атюрная скульптура из слоновой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50920" y="189000"/>
            <a:ext cx="73864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кульп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96155"/>
                </a:solidFill>
                <a:latin typeface="Arial"/>
              </a:rPr>
              <a:t>- ваяние, пластика – вид изобразительного искусства, произведения которого имеют объёмную форму и выполняются из твёрдых или пластических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" descr="1590_b.jpg"/>
          <p:cNvPicPr/>
          <p:nvPr/>
        </p:nvPicPr>
        <p:blipFill>
          <a:blip r:embed="rId1"/>
          <a:stretch/>
        </p:blipFill>
        <p:spPr>
          <a:xfrm>
            <a:off x="1187280" y="2205000"/>
            <a:ext cx="56912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онументальная скульптура </a:t>
            </a:r>
            <a:r>
              <a:rPr b="0" lang="ru-RU" sz="2000" spc="-1" strike="noStrike">
                <a:solidFill>
                  <a:srgbClr val="30605a"/>
                </a:solidFill>
                <a:latin typeface="Arial"/>
              </a:rPr>
              <a:t>– это монументы, памятники, скульптурные комплексы, которые или дополняют и обогащают архитектуру или самостоятельно выражают и пропагандируют монументальный образ, но не без помощи архитектуры (постамент, организация площадки вокруг памятника).</a:t>
            </a: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7" name="Рисунок 3" descr="img111453005.png"/>
          <p:cNvPicPr/>
          <p:nvPr/>
        </p:nvPicPr>
        <p:blipFill>
          <a:blip r:embed="rId1"/>
          <a:stretch/>
        </p:blipFill>
        <p:spPr>
          <a:xfrm>
            <a:off x="1116000" y="2276640"/>
            <a:ext cx="57466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50920" y="1155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ону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96155"/>
                </a:solidFill>
                <a:latin typeface="Arial"/>
              </a:rPr>
              <a:t>— памятник , сооружение, предназначенное для увековечивания событий, личностей, иногда вымышленных персонажей и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6" descr="originnal_0d7abcf099a0e5daeb0bc2514f1bf194.jpg"/>
          <p:cNvPicPr/>
          <p:nvPr/>
        </p:nvPicPr>
        <p:blipFill>
          <a:blip r:embed="rId1"/>
          <a:stretch/>
        </p:blipFill>
        <p:spPr>
          <a:xfrm>
            <a:off x="755640" y="1341360"/>
            <a:ext cx="66247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5280" y="40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сочная скульп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3" descr="0501twitter_8.jpg"/>
          <p:cNvPicPr/>
          <p:nvPr/>
        </p:nvPicPr>
        <p:blipFill>
          <a:blip r:embed="rId1"/>
          <a:stretch/>
        </p:blipFill>
        <p:spPr>
          <a:xfrm>
            <a:off x="395280" y="836640"/>
            <a:ext cx="6945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5280" y="40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яная скульп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3" descr="65.jpg"/>
          <p:cNvPicPr/>
          <p:nvPr/>
        </p:nvPicPr>
        <p:blipFill>
          <a:blip r:embed="rId1"/>
          <a:stretch/>
        </p:blipFill>
        <p:spPr>
          <a:xfrm>
            <a:off x="324000" y="836640"/>
            <a:ext cx="7412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333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96155"/>
                </a:solidFill>
                <a:latin typeface="Arial"/>
              </a:rPr>
              <a:t>Станковая скульптура рассчитана на восприятие с близкого расстояния, не связана с предметным окружением и архитекту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3" descr="317bd155.jpg"/>
          <p:cNvPicPr/>
          <p:nvPr/>
        </p:nvPicPr>
        <p:blipFill>
          <a:blip r:embed="rId1"/>
          <a:stretch/>
        </p:blipFill>
        <p:spPr>
          <a:xfrm>
            <a:off x="1116000" y="1628640"/>
            <a:ext cx="569268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8920" y="188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Бюст </a:t>
            </a:r>
            <a:r>
              <a:rPr b="0" lang="ru-RU" sz="2000" spc="-1" strike="noStrike">
                <a:solidFill>
                  <a:srgbClr val="396155"/>
                </a:solidFill>
                <a:latin typeface="Arial"/>
              </a:rPr>
              <a:t>— скульптура, изображающая грудь, плечи и голову человека, обычно на под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5" descr="Konstantinovo 1.jpg"/>
          <p:cNvPicPr/>
          <p:nvPr/>
        </p:nvPicPr>
        <p:blipFill>
          <a:blip r:embed="rId1"/>
          <a:stretch/>
        </p:blipFill>
        <p:spPr>
          <a:xfrm>
            <a:off x="1908000" y="1197000"/>
            <a:ext cx="38880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78920" y="25992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елкая пластика </a:t>
            </a:r>
            <a:r>
              <a:rPr b="0" lang="ru-RU" sz="2000" spc="-1" strike="noStrike">
                <a:solidFill>
                  <a:srgbClr val="396155"/>
                </a:solidFill>
                <a:latin typeface="Arial"/>
              </a:rPr>
              <a:t>-это скульптура малых 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4" descr="090e6367a5143c92452bda5e0e83d55d.jpeg"/>
          <p:cNvPicPr/>
          <p:nvPr/>
        </p:nvPicPr>
        <p:blipFill>
          <a:blip r:embed="rId1"/>
          <a:stretch/>
        </p:blipFill>
        <p:spPr>
          <a:xfrm>
            <a:off x="1042920" y="620640"/>
            <a:ext cx="5556240" cy="43322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6"/>
          <p:cNvSpPr/>
          <p:nvPr/>
        </p:nvSpPr>
        <p:spPr>
          <a:xfrm>
            <a:off x="468360" y="5157720"/>
            <a:ext cx="66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э́цкэ (яп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根付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etsuke, нэцукэ) — миниатюрная скульптура, произведение японского декоративно-прикладного искусства, представляющее собой небольшой резной б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4:17:13Z</dcterms:created>
  <dc:creator>Oleg</dc:creator>
  <dc:description/>
  <dc:language>en-US</dc:language>
  <cp:lastModifiedBy>Oleg</cp:lastModifiedBy>
  <dcterms:modified xsi:type="dcterms:W3CDTF">2014-03-29T11:47:41Z</dcterms:modified>
  <cp:revision>113</cp:revision>
  <dc:subject/>
  <dc:title>ВИДЫ И ЖАНРЫ         ИЗОБРАЗИТЕЛЬНОГО                 ИСКУССТВА</dc:title>
</cp:coreProperties>
</file>