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DE64-1896-4F1B-820B-FC846DF9C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03F8-7EEA-4066-B0E4-F8970C7B3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210км навстречу друг другу одновременно выехали два автомобиля. Вычислите время встречи, если скорость одного автомобиля 45 км/ч, а другого на 15 км/ч больш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0B59-8915-49B8-9ABD-45517230B4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03C2-CAA9-46A7-BB55-33A9A882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5C8-AA30-42D8-AAB4-C4E4B433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93A-8FB4-40DD-88C6-D1C3A69E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ABAB-A361-486F-BB7E-9862B37B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0C9-EAE6-4C18-904E-40F6FA9E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992-A179-4AA2-8C78-FEFF150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0E2-36AB-4383-A7B8-3E4B2858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CB3-CB88-407E-A178-65AA63D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78E3-5461-4363-AFD3-22717A03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DBD-96BC-4842-BA10-FE53CABF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45E-C2F0-4F85-8820-181E8C20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E38-2CA6-4CFA-A31E-263F111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C196-0E40-4450-B6A4-680586F21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681640" y="250920"/>
            <a:ext cx="43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на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23920" y="1371600"/>
            <a:ext cx="40388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вижение из одного пункта в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800600" y="2209680"/>
            <a:ext cx="322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=v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=s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=s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95280" y="134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казания к задачам на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2692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480" y="2120760"/>
            <a:ext cx="3745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танавливаем, какая из величин по условию задачи является изве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бираем одну из величин, которая по условию задачи является неизве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ражаем неизвестную величину с помощью форм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ли два тела начинают движение одновременно или догоняют друг друга, то затрачивают одинаковое врем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ли тела начинают движение в разное время то, которое выходит раньше затрачивает времени боль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3933720"/>
          <a:ext cx="4038840" cy="238464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33200"/>
                <a:gridCol w="986040"/>
              </a:tblGrid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м/ч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34" descr="TRA095"/>
          <p:cNvPicPr/>
          <p:nvPr/>
        </p:nvPicPr>
        <p:blipFill>
          <a:blip r:embed="rId1"/>
          <a:stretch/>
        </p:blipFill>
        <p:spPr>
          <a:xfrm>
            <a:off x="4724280" y="5715000"/>
            <a:ext cx="863640" cy="50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5" descr="TRA093"/>
          <p:cNvPicPr/>
          <p:nvPr/>
        </p:nvPicPr>
        <p:blipFill>
          <a:blip r:embed="rId2"/>
          <a:stretch/>
        </p:blipFill>
        <p:spPr>
          <a:xfrm>
            <a:off x="4724280" y="5029200"/>
            <a:ext cx="8636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на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368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6m2"/>
          <p:cNvPicPr/>
          <p:nvPr/>
        </p:nvPicPr>
        <p:blipFill>
          <a:blip r:embed="rId6"/>
          <a:stretch/>
        </p:blipFill>
        <p:spPr>
          <a:xfrm>
            <a:off x="5867280" y="1600200"/>
            <a:ext cx="293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 прошёл до водопо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за 6 часов. С какой скоростью он ш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34m5"/>
          <p:cNvPicPr/>
          <p:nvPr/>
        </p:nvPicPr>
        <p:blipFill>
          <a:blip r:embed="rId1"/>
          <a:stretch/>
        </p:blipFill>
        <p:spPr>
          <a:xfrm>
            <a:off x="838080" y="3429000"/>
            <a:ext cx="1600200" cy="1312920"/>
          </a:xfrm>
          <a:prstGeom prst="rect">
            <a:avLst/>
          </a:prstGeom>
          <a:ln w="0">
            <a:noFill/>
          </a:ln>
        </p:spPr>
      </p:pic>
      <p:sp>
        <p:nvSpPr>
          <p:cNvPr id="65" name="Line 5"/>
          <p:cNvSpPr/>
          <p:nvPr/>
        </p:nvSpPr>
        <p:spPr>
          <a:xfrm>
            <a:off x="755640" y="4724280"/>
            <a:ext cx="7777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99072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900000" y="508464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579840" y="5362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8880" y="3581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6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>
            <a:hlinkClick r:id="rId2" action="ppaction://hlinksldjump"/>
          </p:cNvPr>
          <p:cNvSpPr/>
          <p:nvPr/>
        </p:nvSpPr>
        <p:spPr>
          <a:xfrm>
            <a:off x="7391520" y="60199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295280" y="259092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 rot="237600">
            <a:off x="-151920" y="4038480"/>
            <a:ext cx="9448560" cy="122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5228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304920" y="533520"/>
            <a:ext cx="2962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228600" y="1752480"/>
            <a:ext cx="8291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расстояние проедет автомобиль за 4 ч, если его скорость 95 км в 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15228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088400" y="246384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95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 rot="237600">
            <a:off x="-228600" y="4038480"/>
            <a:ext cx="9542520" cy="12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52r1"/>
          <p:cNvPicPr/>
          <p:nvPr/>
        </p:nvPicPr>
        <p:blipFill>
          <a:blip r:embed="rId1"/>
          <a:stretch/>
        </p:blipFill>
        <p:spPr>
          <a:xfrm>
            <a:off x="2895480" y="1676520"/>
            <a:ext cx="538200" cy="147636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 flipH="1">
            <a:off x="6933960" y="3276720"/>
            <a:ext cx="17319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895480" y="548640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 = 4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820960" y="83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-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0" y="4272120"/>
            <a:ext cx="9475920" cy="7156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3"/>
          <p:cNvPicPr/>
          <p:nvPr/>
        </p:nvPicPr>
        <p:blipFill>
          <a:blip r:embed="rId2"/>
          <a:stretch/>
        </p:blipFill>
        <p:spPr>
          <a:xfrm flipH="1" rot="416400">
            <a:off x="6868440" y="3962160"/>
            <a:ext cx="2274840" cy="952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7620120" y="586728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7620120" y="586728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7620120" y="586728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-0.00509 L -0.43281 -0.05343 E">
                                      <p:cBhvr>
                                        <p:cTn id="9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3"/>
          <p:cNvSpPr/>
          <p:nvPr/>
        </p:nvSpPr>
        <p:spPr>
          <a:xfrm rot="237600">
            <a:off x="-152280" y="4191120"/>
            <a:ext cx="94485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исты отправились в поход. Сначала они ехали 3 часа на автомобиле со скоростью 89 км в час, а потом 4 часа ехали на поезде со скоростью 84 км в час. Какой путь проделали турис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 rot="237600">
            <a:off x="-152280" y="4191120"/>
            <a:ext cx="94485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-33192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6120" y="5211360"/>
            <a:ext cx="9153000" cy="1036080"/>
            <a:chOff x="6120" y="5211360"/>
            <a:chExt cx="9153000" cy="1036080"/>
          </a:xfrm>
        </p:grpSpPr>
        <p:sp>
          <p:nvSpPr>
            <p:cNvPr id="94" name="Freeform 11"/>
            <p:cNvSpPr/>
            <p:nvPr/>
          </p:nvSpPr>
          <p:spPr>
            <a:xfrm rot="371400">
              <a:off x="7548480" y="578124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 rot="371400">
              <a:off x="7809120" y="5792760"/>
              <a:ext cx="414720" cy="416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rot="371400">
              <a:off x="8105760" y="579348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rot="371400">
              <a:off x="8414640" y="5809680"/>
              <a:ext cx="413640" cy="416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 rot="371400">
              <a:off x="8724240" y="5805720"/>
              <a:ext cx="41364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 rot="371400">
              <a:off x="1629720" y="540576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 rot="371400">
              <a:off x="144720" y="523224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 rot="371400">
              <a:off x="427320" y="526284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 rot="371400">
              <a:off x="779400" y="530100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1105560" y="5318640"/>
              <a:ext cx="6601320" cy="896760"/>
              <a:chOff x="1105560" y="5318640"/>
              <a:chExt cx="6601320" cy="896760"/>
            </a:xfrm>
          </p:grpSpPr>
          <p:sp>
            <p:nvSpPr>
              <p:cNvPr id="104" name="Freeform 21"/>
              <p:cNvSpPr/>
              <p:nvPr/>
            </p:nvSpPr>
            <p:spPr>
              <a:xfrm rot="371400">
                <a:off x="1393200" y="5392080"/>
                <a:ext cx="439560" cy="3744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371400">
                <a:off x="1970280" y="54320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371400">
                <a:off x="2323440" y="54702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 rot="371400">
                <a:off x="2676600" y="54871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371400">
                <a:off x="3034800" y="54684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371400">
                <a:off x="3315600" y="54990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371400">
                <a:off x="3670200" y="5500800"/>
                <a:ext cx="414720" cy="4158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8"/>
              <p:cNvSpPr/>
              <p:nvPr/>
            </p:nvSpPr>
            <p:spPr>
              <a:xfrm rot="371400">
                <a:off x="3951720" y="5533920"/>
                <a:ext cx="413280" cy="4158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 rot="371400">
                <a:off x="4304880" y="555084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rot="371400">
                <a:off x="4588920" y="558036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rot="371400">
                <a:off x="5013000" y="559008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"/>
              <p:cNvSpPr/>
              <p:nvPr/>
            </p:nvSpPr>
            <p:spPr>
              <a:xfrm rot="371400">
                <a:off x="5293440" y="562032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3"/>
              <p:cNvSpPr/>
              <p:nvPr/>
            </p:nvSpPr>
            <p:spPr>
              <a:xfrm rot="371400">
                <a:off x="5579640" y="563112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rot="371400">
                <a:off x="5857920" y="56826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rot="371400">
                <a:off x="6143760" y="56923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6"/>
              <p:cNvSpPr/>
              <p:nvPr/>
            </p:nvSpPr>
            <p:spPr>
              <a:xfrm rot="371400">
                <a:off x="6427080" y="56858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7"/>
              <p:cNvSpPr/>
              <p:nvPr/>
            </p:nvSpPr>
            <p:spPr>
              <a:xfrm rot="371400">
                <a:off x="6707880" y="5717160"/>
                <a:ext cx="413280" cy="416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8"/>
              <p:cNvSpPr/>
              <p:nvPr/>
            </p:nvSpPr>
            <p:spPr>
              <a:xfrm rot="371400">
                <a:off x="6990480" y="5747760"/>
                <a:ext cx="412920" cy="416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 rot="371400">
                <a:off x="7272360" y="577728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 rot="371400">
                <a:off x="1126800" y="53395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Line 41"/>
            <p:cNvSpPr/>
            <p:nvPr/>
          </p:nvSpPr>
          <p:spPr>
            <a:xfrm flipH="1" flipV="1">
              <a:off x="6120" y="5422680"/>
              <a:ext cx="9119160" cy="59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2"/>
            <p:cNvSpPr/>
            <p:nvPr/>
          </p:nvSpPr>
          <p:spPr>
            <a:xfrm flipH="1" flipV="1">
              <a:off x="63360" y="5543280"/>
              <a:ext cx="9049680" cy="58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44"/>
          <p:cNvSpPr/>
          <p:nvPr/>
        </p:nvSpPr>
        <p:spPr>
          <a:xfrm>
            <a:off x="-33192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7"/>
          <p:cNvGrpSpPr/>
          <p:nvPr/>
        </p:nvGrpSpPr>
        <p:grpSpPr>
          <a:xfrm>
            <a:off x="-3240" y="4298760"/>
            <a:ext cx="9161640" cy="611280"/>
            <a:chOff x="-3240" y="4298760"/>
            <a:chExt cx="9161640" cy="611280"/>
          </a:xfrm>
        </p:grpSpPr>
        <p:sp>
          <p:nvSpPr>
            <p:cNvPr id="130" name="Freeform 38"/>
            <p:cNvSpPr/>
            <p:nvPr/>
          </p:nvSpPr>
          <p:spPr>
            <a:xfrm rot="191400">
              <a:off x="7557480" y="447228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 rot="191400">
              <a:off x="7818840" y="4468320"/>
              <a:ext cx="414720" cy="4154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 rot="191400">
              <a:off x="8114760" y="445464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 rot="191400">
              <a:off x="8424000" y="4454280"/>
              <a:ext cx="413640" cy="4158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 rot="191400">
              <a:off x="8733240" y="443412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 rot="191400">
              <a:off x="1628640" y="440712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 rot="191400">
              <a:off x="135360" y="430992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 rot="191400">
              <a:off x="419040" y="432576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 rot="191400">
              <a:off x="772560" y="434700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7"/>
            <p:cNvGrpSpPr/>
            <p:nvPr/>
          </p:nvGrpSpPr>
          <p:grpSpPr>
            <a:xfrm>
              <a:off x="1110960" y="4353840"/>
              <a:ext cx="6595560" cy="556200"/>
              <a:chOff x="1110960" y="4353840"/>
              <a:chExt cx="6595560" cy="556200"/>
            </a:xfrm>
          </p:grpSpPr>
          <p:sp>
            <p:nvSpPr>
              <p:cNvPr id="140" name="Freeform 48"/>
              <p:cNvSpPr/>
              <p:nvPr/>
            </p:nvSpPr>
            <p:spPr>
              <a:xfrm rot="191400">
                <a:off x="1389600" y="4403160"/>
                <a:ext cx="439560" cy="3744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9"/>
              <p:cNvSpPr/>
              <p:nvPr/>
            </p:nvSpPr>
            <p:spPr>
              <a:xfrm rot="191400">
                <a:off x="1970280" y="441216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0"/>
              <p:cNvSpPr/>
              <p:nvPr/>
            </p:nvSpPr>
            <p:spPr>
              <a:xfrm rot="191400">
                <a:off x="2322360" y="44330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1"/>
              <p:cNvSpPr/>
              <p:nvPr/>
            </p:nvSpPr>
            <p:spPr>
              <a:xfrm rot="191400">
                <a:off x="2678400" y="44316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2"/>
              <p:cNvSpPr/>
              <p:nvPr/>
            </p:nvSpPr>
            <p:spPr>
              <a:xfrm rot="191400">
                <a:off x="3033720" y="439524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3"/>
              <p:cNvSpPr/>
              <p:nvPr/>
            </p:nvSpPr>
            <p:spPr>
              <a:xfrm rot="191400">
                <a:off x="3315600" y="44096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4"/>
              <p:cNvSpPr/>
              <p:nvPr/>
            </p:nvSpPr>
            <p:spPr>
              <a:xfrm rot="191400">
                <a:off x="3671280" y="4394520"/>
                <a:ext cx="414720" cy="4158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5"/>
              <p:cNvSpPr/>
              <p:nvPr/>
            </p:nvSpPr>
            <p:spPr>
              <a:xfrm rot="191400">
                <a:off x="3955320" y="4411800"/>
                <a:ext cx="412920" cy="415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6"/>
              <p:cNvSpPr/>
              <p:nvPr/>
            </p:nvSpPr>
            <p:spPr>
              <a:xfrm rot="191400">
                <a:off x="4307760" y="44100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7"/>
              <p:cNvSpPr/>
              <p:nvPr/>
            </p:nvSpPr>
            <p:spPr>
              <a:xfrm rot="191400">
                <a:off x="4592520" y="44258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8"/>
              <p:cNvSpPr/>
              <p:nvPr/>
            </p:nvSpPr>
            <p:spPr>
              <a:xfrm rot="191400">
                <a:off x="5018760" y="4412160"/>
                <a:ext cx="414720" cy="416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9"/>
              <p:cNvSpPr/>
              <p:nvPr/>
            </p:nvSpPr>
            <p:spPr>
              <a:xfrm rot="191400">
                <a:off x="5299200" y="442908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0"/>
              <p:cNvSpPr/>
              <p:nvPr/>
            </p:nvSpPr>
            <p:spPr>
              <a:xfrm rot="191400">
                <a:off x="5585400" y="442368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61"/>
              <p:cNvSpPr/>
              <p:nvPr/>
            </p:nvSpPr>
            <p:spPr>
              <a:xfrm rot="191400">
                <a:off x="5865840" y="44604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62"/>
              <p:cNvSpPr/>
              <p:nvPr/>
            </p:nvSpPr>
            <p:spPr>
              <a:xfrm rot="191400">
                <a:off x="6148800" y="445500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63"/>
              <p:cNvSpPr/>
              <p:nvPr/>
            </p:nvSpPr>
            <p:spPr>
              <a:xfrm rot="191400">
                <a:off x="6432840" y="44348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4"/>
              <p:cNvSpPr/>
              <p:nvPr/>
            </p:nvSpPr>
            <p:spPr>
              <a:xfrm rot="191400">
                <a:off x="6716880" y="445068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5"/>
              <p:cNvSpPr/>
              <p:nvPr/>
            </p:nvSpPr>
            <p:spPr>
              <a:xfrm rot="191400">
                <a:off x="6999840" y="44665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6"/>
              <p:cNvSpPr/>
              <p:nvPr/>
            </p:nvSpPr>
            <p:spPr>
              <a:xfrm rot="191400">
                <a:off x="7281720" y="44820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7"/>
              <p:cNvSpPr/>
              <p:nvPr/>
            </p:nvSpPr>
            <p:spPr>
              <a:xfrm rot="191400">
                <a:off x="1121760" y="43650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68"/>
            <p:cNvSpPr/>
            <p:nvPr/>
          </p:nvSpPr>
          <p:spPr>
            <a:xfrm flipH="1" flipV="1">
              <a:off x="-3240" y="4517640"/>
              <a:ext cx="913716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9"/>
            <p:cNvSpPr/>
            <p:nvPr/>
          </p:nvSpPr>
          <p:spPr>
            <a:xfrm flipH="1" flipV="1">
              <a:off x="60120" y="4635360"/>
              <a:ext cx="906768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70"/>
          <p:cNvSpPr/>
          <p:nvPr/>
        </p:nvSpPr>
        <p:spPr>
          <a:xfrm>
            <a:off x="-152280" y="2895480"/>
            <a:ext cx="94485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2"/>
          <p:cNvSpPr/>
          <p:nvPr/>
        </p:nvSpPr>
        <p:spPr>
          <a:xfrm>
            <a:off x="0" y="3276720"/>
            <a:ext cx="9372600" cy="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7" descr="car37"/>
          <p:cNvPicPr/>
          <p:nvPr/>
        </p:nvPicPr>
        <p:blipFill>
          <a:blip r:embed="rId1"/>
          <a:stretch/>
        </p:blipFill>
        <p:spPr>
          <a:xfrm rot="21424800">
            <a:off x="151920" y="2743200"/>
            <a:ext cx="1873440" cy="74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8" descr="afficher_image145"/>
          <p:cNvPicPr/>
          <p:nvPr/>
        </p:nvPicPr>
        <p:blipFill>
          <a:blip r:embed="rId2"/>
          <a:stretch/>
        </p:blipFill>
        <p:spPr>
          <a:xfrm flipH="1" rot="21545400">
            <a:off x="4876560" y="3580920"/>
            <a:ext cx="3303360" cy="1130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9"/>
          <p:cNvSpPr/>
          <p:nvPr/>
        </p:nvSpPr>
        <p:spPr>
          <a:xfrm rot="5400000">
            <a:off x="4168080" y="708480"/>
            <a:ext cx="807840" cy="9144000"/>
          </a:xfrm>
          <a:custGeom>
            <a:avLst/>
            <a:gdLst>
              <a:gd name="textAreaLeft" fmla="*/ 0 w 807840"/>
              <a:gd name="textAreaRight" fmla="*/ 291600 w 807840"/>
              <a:gd name="textAreaTop" fmla="*/ 348120 h 9144000"/>
              <a:gd name="textAreaBottom" fmla="*/ 879588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5"/>
                  <a:pt x="10800" y="2630"/>
                </a:cubicBezTo>
                <a:lnTo>
                  <a:pt x="10800" y="8190"/>
                </a:lnTo>
                <a:cubicBezTo>
                  <a:pt x="10800" y="9505"/>
                  <a:pt x="16200" y="10820"/>
                  <a:pt x="21600" y="10820"/>
                </a:cubicBezTo>
                <a:cubicBezTo>
                  <a:pt x="16200" y="10820"/>
                  <a:pt x="10800" y="12135"/>
                  <a:pt x="10800" y="13450"/>
                </a:cubicBezTo>
                <a:lnTo>
                  <a:pt x="10800" y="18970"/>
                </a:lnTo>
                <a:cubicBezTo>
                  <a:pt x="10800" y="2028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0"/>
          <p:cNvSpPr/>
          <p:nvPr/>
        </p:nvSpPr>
        <p:spPr>
          <a:xfrm>
            <a:off x="4040280" y="57913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-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1"/>
          <p:cNvSpPr/>
          <p:nvPr/>
        </p:nvSpPr>
        <p:spPr>
          <a:xfrm>
            <a:off x="304920" y="236232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6172200" y="373392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3"/>
          <p:cNvSpPr/>
          <p:nvPr/>
        </p:nvSpPr>
        <p:spPr>
          <a:xfrm>
            <a:off x="229680" y="16002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=3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 V=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89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4"/>
          <p:cNvSpPr/>
          <p:nvPr/>
        </p:nvSpPr>
        <p:spPr>
          <a:xfrm>
            <a:off x="5487480" y="2286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=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4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 V=84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7"/>
          <p:cNvSpPr/>
          <p:nvPr/>
        </p:nvSpPr>
        <p:spPr>
          <a:xfrm>
            <a:off x="7391520" y="60199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8"/>
          <p:cNvSpPr/>
          <p:nvPr/>
        </p:nvSpPr>
        <p:spPr>
          <a:xfrm>
            <a:off x="7391520" y="60199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0, стр.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те схему и решите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315200" y="5715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1, № 5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4:27:19Z</dcterms:created>
  <dc:creator>Людмила</dc:creator>
  <dc:description/>
  <dc:language>en-US</dc:language>
  <cp:lastModifiedBy>user</cp:lastModifiedBy>
  <dcterms:modified xsi:type="dcterms:W3CDTF">2015-01-26T03:14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