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D65A-23AC-40F6-9A51-E5C9D53EE7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3ACF-D0BF-4537-9082-D53C9B05C0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двух городов, расстояние между которыми 210км навстречу друг другу одновременно выехали два автомобиля. Вычислите время встречи, если скорость одного автомобиля 45 км/ч, а другого на 15 км/ч больш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8C94-42BF-4BBD-9914-C81E91B580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5D9F-26D0-4A60-A0E2-8843E000F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BFD0-2482-453D-A9E9-9354499F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7D57-24D1-44A8-8409-F036E50B6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4336-FEDD-4775-B3B8-AD40BE047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F783-6754-4178-8EAB-85145A1A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2AA7-51C2-4610-A638-43A91111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25E4-CFB3-4172-B156-347C7DAD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D6B9-2FA5-4121-89DD-5C61ECF8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0367-C972-4603-A35B-3F831A51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16F1-30C5-4ED8-818C-A928ADF7C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297F-716D-40E4-BE7F-778B8797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56D5-03BD-4C34-860A-31C515C7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0124C-9FD6-4767-B578-560A75ED17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681640" y="250920"/>
            <a:ext cx="431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и на дви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723920" y="1371600"/>
            <a:ext cx="40388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вижение из одного пункта в друг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4800600" y="2209680"/>
            <a:ext cx="322272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=v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*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v=s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t=s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395280" y="1341360"/>
            <a:ext cx="40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Указания к задачам на дви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826920" y="2492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609480" y="2120760"/>
            <a:ext cx="37450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Устанавливаем, какая из величин по условию задачи является извест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ыбираем одну из величин, которая по условию задачи является неизвест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ыражаем неизвестную величину с помощью форму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Если два тела начинают движение одновременно или догоняют друг друга, то затрачивают одинаковое врем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Если тела начинают движение в разное время то, которое выходит раньше затрачивает времени больш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43280" y="3933720"/>
          <a:ext cx="4038840" cy="2384640"/>
        </p:xfrm>
        <a:graphic>
          <a:graphicData uri="http://schemas.openxmlformats.org/drawingml/2006/table">
            <a:tbl>
              <a:tblPr/>
              <a:tblGrid>
                <a:gridCol w="1009800"/>
                <a:gridCol w="1009800"/>
                <a:gridCol w="1033200"/>
                <a:gridCol w="986040"/>
              </a:tblGrid>
              <a:tr h="945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к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км/ч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ч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7" name="Picture 34" descr="TRA095"/>
          <p:cNvPicPr/>
          <p:nvPr/>
        </p:nvPicPr>
        <p:blipFill>
          <a:blip r:embed="rId1"/>
          <a:stretch/>
        </p:blipFill>
        <p:spPr>
          <a:xfrm>
            <a:off x="4724280" y="5715000"/>
            <a:ext cx="863640" cy="509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5" descr="TRA093"/>
          <p:cNvPicPr/>
          <p:nvPr/>
        </p:nvPicPr>
        <p:blipFill>
          <a:blip r:embed="rId2"/>
          <a:stretch/>
        </p:blipFill>
        <p:spPr>
          <a:xfrm>
            <a:off x="4724280" y="5029200"/>
            <a:ext cx="86364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627520" cy="97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дачи на дви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3683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Задача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Задача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Задача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Работа с учебн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36m2"/>
          <p:cNvPicPr/>
          <p:nvPr/>
        </p:nvPicPr>
        <p:blipFill>
          <a:blip r:embed="rId6"/>
          <a:stretch/>
        </p:blipFill>
        <p:spPr>
          <a:xfrm>
            <a:off x="5867280" y="1600200"/>
            <a:ext cx="2934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962440" cy="4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а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915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н прошёл до водопо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м за 6 часов. С какой скоростью он шё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34m5"/>
          <p:cNvPicPr/>
          <p:nvPr/>
        </p:nvPicPr>
        <p:blipFill>
          <a:blip r:embed="rId1"/>
          <a:stretch/>
        </p:blipFill>
        <p:spPr>
          <a:xfrm>
            <a:off x="838080" y="3429000"/>
            <a:ext cx="1600200" cy="1312920"/>
          </a:xfrm>
          <a:prstGeom prst="rect">
            <a:avLst/>
          </a:prstGeom>
          <a:ln w="0">
            <a:noFill/>
          </a:ln>
        </p:spPr>
      </p:pic>
      <p:sp>
        <p:nvSpPr>
          <p:cNvPr id="65" name="Line 5"/>
          <p:cNvSpPr/>
          <p:nvPr/>
        </p:nvSpPr>
        <p:spPr>
          <a:xfrm>
            <a:off x="755640" y="4724280"/>
            <a:ext cx="77770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>
            <a:off x="990720" y="3276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>
            <a:off x="900000" y="5084640"/>
            <a:ext cx="741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3579840" y="5362560"/>
            <a:ext cx="16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7238880" y="35812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6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0">
            <a:hlinkClick r:id="rId2" action="ppaction://hlinksldjump"/>
          </p:cNvPr>
          <p:cNvSpPr/>
          <p:nvPr/>
        </p:nvSpPr>
        <p:spPr>
          <a:xfrm>
            <a:off x="7391520" y="6019920"/>
            <a:ext cx="863640" cy="503280"/>
          </a:xfrm>
          <a:prstGeom prst="leftArrow">
            <a:avLst>
              <a:gd name="adj1" fmla="val 50000"/>
              <a:gd name="adj2" fmla="val 42901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1295280" y="2590920"/>
            <a:ext cx="106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 rot="237600">
            <a:off x="-151920" y="4038480"/>
            <a:ext cx="9448560" cy="122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866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1"/>
          <p:cNvSpPr/>
          <p:nvPr/>
        </p:nvSpPr>
        <p:spPr>
          <a:xfrm>
            <a:off x="152280" y="4267080"/>
            <a:ext cx="9475920" cy="716040"/>
          </a:xfrm>
          <a:prstGeom prst="line">
            <a:avLst/>
          </a:prstGeom>
          <a:ln w="7632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5"/>
          <p:cNvSpPr/>
          <p:nvPr/>
        </p:nvSpPr>
        <p:spPr>
          <a:xfrm>
            <a:off x="304920" y="533520"/>
            <a:ext cx="296208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а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7"/>
          <p:cNvSpPr/>
          <p:nvPr/>
        </p:nvSpPr>
        <p:spPr>
          <a:xfrm>
            <a:off x="228600" y="1752480"/>
            <a:ext cx="82915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 расстояние проедет автомобиль за 4 ч, если его скорость 95 км в час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8"/>
          <p:cNvSpPr/>
          <p:nvPr/>
        </p:nvSpPr>
        <p:spPr>
          <a:xfrm>
            <a:off x="152280" y="4267080"/>
            <a:ext cx="9475920" cy="716040"/>
          </a:xfrm>
          <a:prstGeom prst="line">
            <a:avLst/>
          </a:prstGeom>
          <a:ln w="7632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7088400" y="2463840"/>
            <a:ext cx="159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95км/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 rot="237600">
            <a:off x="-228600" y="4038480"/>
            <a:ext cx="9542520" cy="128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866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52r1"/>
          <p:cNvPicPr/>
          <p:nvPr/>
        </p:nvPicPr>
        <p:blipFill>
          <a:blip r:embed="rId1"/>
          <a:stretch/>
        </p:blipFill>
        <p:spPr>
          <a:xfrm>
            <a:off x="2895480" y="1676520"/>
            <a:ext cx="538200" cy="1476360"/>
          </a:xfrm>
          <a:prstGeom prst="rect">
            <a:avLst/>
          </a:prstGeom>
          <a:ln w="0">
            <a:noFill/>
          </a:ln>
        </p:spPr>
      </p:pic>
      <p:sp>
        <p:nvSpPr>
          <p:cNvPr id="80" name="Line 6"/>
          <p:cNvSpPr/>
          <p:nvPr/>
        </p:nvSpPr>
        <p:spPr>
          <a:xfrm flipH="1">
            <a:off x="6933960" y="3276720"/>
            <a:ext cx="173196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2895480" y="5486400"/>
            <a:ext cx="28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t = 4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2820960" y="83808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-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1"/>
          <p:cNvSpPr/>
          <p:nvPr/>
        </p:nvSpPr>
        <p:spPr>
          <a:xfrm>
            <a:off x="0" y="4272120"/>
            <a:ext cx="9475920" cy="715680"/>
          </a:xfrm>
          <a:prstGeom prst="line">
            <a:avLst/>
          </a:prstGeom>
          <a:ln w="7632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2" descr="3"/>
          <p:cNvPicPr/>
          <p:nvPr/>
        </p:nvPicPr>
        <p:blipFill>
          <a:blip r:embed="rId2"/>
          <a:stretch/>
        </p:blipFill>
        <p:spPr>
          <a:xfrm flipH="1" rot="416400">
            <a:off x="6868440" y="3962160"/>
            <a:ext cx="2274840" cy="95256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4"/>
          <p:cNvSpPr/>
          <p:nvPr/>
        </p:nvSpPr>
        <p:spPr>
          <a:xfrm>
            <a:off x="7620120" y="5867280"/>
            <a:ext cx="863640" cy="503280"/>
          </a:xfrm>
          <a:prstGeom prst="leftArrow">
            <a:avLst>
              <a:gd name="adj1" fmla="val 50000"/>
              <a:gd name="adj2" fmla="val 42901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5"/>
          <p:cNvSpPr/>
          <p:nvPr/>
        </p:nvSpPr>
        <p:spPr>
          <a:xfrm>
            <a:off x="7620120" y="5867280"/>
            <a:ext cx="863640" cy="503280"/>
          </a:xfrm>
          <a:prstGeom prst="leftArrow">
            <a:avLst>
              <a:gd name="adj1" fmla="val 50000"/>
              <a:gd name="adj2" fmla="val 42901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6"/>
          <p:cNvSpPr/>
          <p:nvPr/>
        </p:nvSpPr>
        <p:spPr>
          <a:xfrm>
            <a:off x="7620120" y="5867280"/>
            <a:ext cx="863640" cy="503280"/>
          </a:xfrm>
          <a:prstGeom prst="leftArrow">
            <a:avLst>
              <a:gd name="adj1" fmla="val 50000"/>
              <a:gd name="adj2" fmla="val 42901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2 -0.00509 L -0.43281 -0.05343 E">
                                      <p:cBhvr>
                                        <p:cTn id="92" dur="5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3"/>
          <p:cNvSpPr/>
          <p:nvPr/>
        </p:nvSpPr>
        <p:spPr>
          <a:xfrm rot="237600">
            <a:off x="-152280" y="4191120"/>
            <a:ext cx="944856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866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а 3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уристы отправились в поход. Сначала они ехали 3 часа на автомобиле со скоростью 89 км в час, а потом 4 часа ехали на поезде со скоростью 84 км в час. Какой путь проделали турис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 rot="237600">
            <a:off x="-152280" y="4191120"/>
            <a:ext cx="944856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866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-331920" y="4267080"/>
            <a:ext cx="9475920" cy="716040"/>
          </a:xfrm>
          <a:prstGeom prst="line">
            <a:avLst/>
          </a:prstGeom>
          <a:ln w="7632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0"/>
          <p:cNvGrpSpPr/>
          <p:nvPr/>
        </p:nvGrpSpPr>
        <p:grpSpPr>
          <a:xfrm>
            <a:off x="6120" y="5211360"/>
            <a:ext cx="9153000" cy="1036080"/>
            <a:chOff x="6120" y="5211360"/>
            <a:chExt cx="9153000" cy="1036080"/>
          </a:xfrm>
        </p:grpSpPr>
        <p:sp>
          <p:nvSpPr>
            <p:cNvPr id="94" name="Freeform 11"/>
            <p:cNvSpPr/>
            <p:nvPr/>
          </p:nvSpPr>
          <p:spPr>
            <a:xfrm rot="371400">
              <a:off x="7548480" y="5781240"/>
              <a:ext cx="414720" cy="41760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576869"/>
                </a:gs>
                <a:gs pos="100000">
                  <a:srgbClr val="bbe0e3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2"/>
            <p:cNvSpPr/>
            <p:nvPr/>
          </p:nvSpPr>
          <p:spPr>
            <a:xfrm rot="371400">
              <a:off x="7809120" y="5792760"/>
              <a:ext cx="414720" cy="41652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576869"/>
                </a:gs>
                <a:gs pos="100000">
                  <a:srgbClr val="bbe0e3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3"/>
            <p:cNvSpPr/>
            <p:nvPr/>
          </p:nvSpPr>
          <p:spPr>
            <a:xfrm rot="371400">
              <a:off x="8105760" y="5793480"/>
              <a:ext cx="414720" cy="41760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576869"/>
                </a:gs>
                <a:gs pos="100000">
                  <a:srgbClr val="bbe0e3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4"/>
            <p:cNvSpPr/>
            <p:nvPr/>
          </p:nvSpPr>
          <p:spPr>
            <a:xfrm rot="371400">
              <a:off x="8414640" y="5809680"/>
              <a:ext cx="413640" cy="41652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576869"/>
                </a:gs>
                <a:gs pos="100000">
                  <a:srgbClr val="bbe0e3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5"/>
            <p:cNvSpPr/>
            <p:nvPr/>
          </p:nvSpPr>
          <p:spPr>
            <a:xfrm rot="371400">
              <a:off x="8724240" y="5805720"/>
              <a:ext cx="413640" cy="41760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576869"/>
                </a:gs>
                <a:gs pos="100000">
                  <a:srgbClr val="bbe0e3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6"/>
            <p:cNvSpPr/>
            <p:nvPr/>
          </p:nvSpPr>
          <p:spPr>
            <a:xfrm rot="371400">
              <a:off x="1629720" y="5405760"/>
              <a:ext cx="414720" cy="41760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576869"/>
                </a:gs>
                <a:gs pos="100000">
                  <a:srgbClr val="bbe0e3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7"/>
            <p:cNvSpPr/>
            <p:nvPr/>
          </p:nvSpPr>
          <p:spPr>
            <a:xfrm rot="371400">
              <a:off x="144720" y="5232240"/>
              <a:ext cx="414720" cy="41760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c6600"/>
                </a:gs>
                <a:gs pos="100000">
                  <a:srgbClr val="ffffff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8"/>
            <p:cNvSpPr/>
            <p:nvPr/>
          </p:nvSpPr>
          <p:spPr>
            <a:xfrm rot="371400">
              <a:off x="427320" y="5262840"/>
              <a:ext cx="414720" cy="41760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c6600"/>
                </a:gs>
                <a:gs pos="100000">
                  <a:srgbClr val="ffffff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9"/>
            <p:cNvSpPr/>
            <p:nvPr/>
          </p:nvSpPr>
          <p:spPr>
            <a:xfrm rot="371400">
              <a:off x="779400" y="5301000"/>
              <a:ext cx="414720" cy="41760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c6600"/>
                </a:gs>
                <a:gs pos="100000">
                  <a:srgbClr val="ffffff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20"/>
            <p:cNvGrpSpPr/>
            <p:nvPr/>
          </p:nvGrpSpPr>
          <p:grpSpPr>
            <a:xfrm>
              <a:off x="1105560" y="5318640"/>
              <a:ext cx="6601320" cy="896760"/>
              <a:chOff x="1105560" y="5318640"/>
              <a:chExt cx="6601320" cy="896760"/>
            </a:xfrm>
          </p:grpSpPr>
          <p:sp>
            <p:nvSpPr>
              <p:cNvPr id="104" name="Freeform 21"/>
              <p:cNvSpPr/>
              <p:nvPr/>
            </p:nvSpPr>
            <p:spPr>
              <a:xfrm rot="371400">
                <a:off x="1393200" y="5392080"/>
                <a:ext cx="439560" cy="37440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22"/>
              <p:cNvSpPr/>
              <p:nvPr/>
            </p:nvSpPr>
            <p:spPr>
              <a:xfrm rot="371400">
                <a:off x="1970280" y="5432040"/>
                <a:ext cx="41328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23"/>
              <p:cNvSpPr/>
              <p:nvPr/>
            </p:nvSpPr>
            <p:spPr>
              <a:xfrm rot="371400">
                <a:off x="2323440" y="5470200"/>
                <a:ext cx="41328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24"/>
              <p:cNvSpPr/>
              <p:nvPr/>
            </p:nvSpPr>
            <p:spPr>
              <a:xfrm rot="371400">
                <a:off x="2676600" y="5487120"/>
                <a:ext cx="41328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25"/>
              <p:cNvSpPr/>
              <p:nvPr/>
            </p:nvSpPr>
            <p:spPr>
              <a:xfrm rot="371400">
                <a:off x="3034800" y="5468400"/>
                <a:ext cx="41472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26"/>
              <p:cNvSpPr/>
              <p:nvPr/>
            </p:nvSpPr>
            <p:spPr>
              <a:xfrm rot="371400">
                <a:off x="3315600" y="5499000"/>
                <a:ext cx="41328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27"/>
              <p:cNvSpPr/>
              <p:nvPr/>
            </p:nvSpPr>
            <p:spPr>
              <a:xfrm rot="371400">
                <a:off x="3670200" y="5500800"/>
                <a:ext cx="414720" cy="41580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28"/>
              <p:cNvSpPr/>
              <p:nvPr/>
            </p:nvSpPr>
            <p:spPr>
              <a:xfrm rot="371400">
                <a:off x="3951720" y="5533920"/>
                <a:ext cx="413280" cy="41580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29"/>
              <p:cNvSpPr/>
              <p:nvPr/>
            </p:nvSpPr>
            <p:spPr>
              <a:xfrm rot="371400">
                <a:off x="4304880" y="5550840"/>
                <a:ext cx="41472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30"/>
              <p:cNvSpPr/>
              <p:nvPr/>
            </p:nvSpPr>
            <p:spPr>
              <a:xfrm rot="371400">
                <a:off x="4588920" y="5580360"/>
                <a:ext cx="41328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31"/>
              <p:cNvSpPr/>
              <p:nvPr/>
            </p:nvSpPr>
            <p:spPr>
              <a:xfrm rot="371400">
                <a:off x="5013000" y="5590080"/>
                <a:ext cx="41472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32"/>
              <p:cNvSpPr/>
              <p:nvPr/>
            </p:nvSpPr>
            <p:spPr>
              <a:xfrm rot="371400">
                <a:off x="5293440" y="5620320"/>
                <a:ext cx="41472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33"/>
              <p:cNvSpPr/>
              <p:nvPr/>
            </p:nvSpPr>
            <p:spPr>
              <a:xfrm rot="371400">
                <a:off x="5579640" y="5631120"/>
                <a:ext cx="41472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34"/>
              <p:cNvSpPr/>
              <p:nvPr/>
            </p:nvSpPr>
            <p:spPr>
              <a:xfrm rot="371400">
                <a:off x="5857920" y="5682600"/>
                <a:ext cx="41472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35"/>
              <p:cNvSpPr/>
              <p:nvPr/>
            </p:nvSpPr>
            <p:spPr>
              <a:xfrm rot="371400">
                <a:off x="6143760" y="5692320"/>
                <a:ext cx="41328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36"/>
              <p:cNvSpPr/>
              <p:nvPr/>
            </p:nvSpPr>
            <p:spPr>
              <a:xfrm rot="371400">
                <a:off x="6427080" y="5685840"/>
                <a:ext cx="41328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37"/>
              <p:cNvSpPr/>
              <p:nvPr/>
            </p:nvSpPr>
            <p:spPr>
              <a:xfrm rot="371400">
                <a:off x="6707880" y="5717160"/>
                <a:ext cx="413280" cy="41652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38"/>
              <p:cNvSpPr/>
              <p:nvPr/>
            </p:nvSpPr>
            <p:spPr>
              <a:xfrm rot="371400">
                <a:off x="6990480" y="5747760"/>
                <a:ext cx="412920" cy="41652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39"/>
              <p:cNvSpPr/>
              <p:nvPr/>
            </p:nvSpPr>
            <p:spPr>
              <a:xfrm rot="371400">
                <a:off x="7272360" y="5777280"/>
                <a:ext cx="41328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40"/>
              <p:cNvSpPr/>
              <p:nvPr/>
            </p:nvSpPr>
            <p:spPr>
              <a:xfrm rot="371400">
                <a:off x="1126800" y="5339520"/>
                <a:ext cx="41328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Line 41"/>
            <p:cNvSpPr/>
            <p:nvPr/>
          </p:nvSpPr>
          <p:spPr>
            <a:xfrm flipH="1" flipV="1">
              <a:off x="6120" y="5422680"/>
              <a:ext cx="9119160" cy="59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42"/>
            <p:cNvSpPr/>
            <p:nvPr/>
          </p:nvSpPr>
          <p:spPr>
            <a:xfrm flipH="1" flipV="1">
              <a:off x="63360" y="5543280"/>
              <a:ext cx="9049680" cy="58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44"/>
          <p:cNvSpPr/>
          <p:nvPr/>
        </p:nvSpPr>
        <p:spPr>
          <a:xfrm>
            <a:off x="-331920" y="4267080"/>
            <a:ext cx="9475920" cy="716040"/>
          </a:xfrm>
          <a:prstGeom prst="line">
            <a:avLst/>
          </a:prstGeom>
          <a:ln w="7632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37"/>
          <p:cNvGrpSpPr/>
          <p:nvPr/>
        </p:nvGrpSpPr>
        <p:grpSpPr>
          <a:xfrm>
            <a:off x="-3240" y="4298760"/>
            <a:ext cx="9161640" cy="611280"/>
            <a:chOff x="-3240" y="4298760"/>
            <a:chExt cx="9161640" cy="611280"/>
          </a:xfrm>
        </p:grpSpPr>
        <p:sp>
          <p:nvSpPr>
            <p:cNvPr id="130" name="Freeform 38"/>
            <p:cNvSpPr/>
            <p:nvPr/>
          </p:nvSpPr>
          <p:spPr>
            <a:xfrm rot="191400">
              <a:off x="7557480" y="4472280"/>
              <a:ext cx="414720" cy="4168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576869"/>
                </a:gs>
                <a:gs pos="100000">
                  <a:srgbClr val="bbe0e3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39"/>
            <p:cNvSpPr/>
            <p:nvPr/>
          </p:nvSpPr>
          <p:spPr>
            <a:xfrm rot="191400">
              <a:off x="7818840" y="4468320"/>
              <a:ext cx="414720" cy="41544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576869"/>
                </a:gs>
                <a:gs pos="100000">
                  <a:srgbClr val="bbe0e3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40"/>
            <p:cNvSpPr/>
            <p:nvPr/>
          </p:nvSpPr>
          <p:spPr>
            <a:xfrm rot="191400">
              <a:off x="8114760" y="4454640"/>
              <a:ext cx="414720" cy="4168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576869"/>
                </a:gs>
                <a:gs pos="100000">
                  <a:srgbClr val="bbe0e3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41"/>
            <p:cNvSpPr/>
            <p:nvPr/>
          </p:nvSpPr>
          <p:spPr>
            <a:xfrm rot="191400">
              <a:off x="8424000" y="4454280"/>
              <a:ext cx="413640" cy="41580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576869"/>
                </a:gs>
                <a:gs pos="100000">
                  <a:srgbClr val="bbe0e3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42"/>
            <p:cNvSpPr/>
            <p:nvPr/>
          </p:nvSpPr>
          <p:spPr>
            <a:xfrm rot="191400">
              <a:off x="8733240" y="4434120"/>
              <a:ext cx="413640" cy="4168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576869"/>
                </a:gs>
                <a:gs pos="100000">
                  <a:srgbClr val="bbe0e3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43"/>
            <p:cNvSpPr/>
            <p:nvPr/>
          </p:nvSpPr>
          <p:spPr>
            <a:xfrm rot="191400">
              <a:off x="1628640" y="4407120"/>
              <a:ext cx="414720" cy="4168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50000">
                  <a:srgbClr val="576869"/>
                </a:gs>
                <a:gs pos="100000">
                  <a:srgbClr val="bbe0e3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44"/>
            <p:cNvSpPr/>
            <p:nvPr/>
          </p:nvSpPr>
          <p:spPr>
            <a:xfrm rot="191400">
              <a:off x="135360" y="4309920"/>
              <a:ext cx="414720" cy="4168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c6600"/>
                </a:gs>
                <a:gs pos="100000">
                  <a:srgbClr val="ffffff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45"/>
            <p:cNvSpPr/>
            <p:nvPr/>
          </p:nvSpPr>
          <p:spPr>
            <a:xfrm rot="191400">
              <a:off x="419040" y="4325760"/>
              <a:ext cx="414720" cy="4168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c6600"/>
                </a:gs>
                <a:gs pos="100000">
                  <a:srgbClr val="ffffff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46"/>
            <p:cNvSpPr/>
            <p:nvPr/>
          </p:nvSpPr>
          <p:spPr>
            <a:xfrm rot="191400">
              <a:off x="772560" y="4347000"/>
              <a:ext cx="414720" cy="416880"/>
            </a:xfrm>
            <a:custGeom>
              <a:avLst/>
              <a:gdLst/>
              <a:ahLst/>
              <a:rect l="l" t="t" r="r" b="b"/>
              <a:pathLst>
                <a:path w="265" h="334">
                  <a:moveTo>
                    <a:pt x="0" y="334"/>
                  </a:moveTo>
                  <a:lnTo>
                    <a:pt x="197" y="0"/>
                  </a:lnTo>
                  <a:lnTo>
                    <a:pt x="265" y="8"/>
                  </a:lnTo>
                  <a:lnTo>
                    <a:pt x="91" y="326"/>
                  </a:lnTo>
                  <a:lnTo>
                    <a:pt x="0" y="33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c6600"/>
                </a:gs>
                <a:gs pos="100000">
                  <a:srgbClr val="ffffff"/>
                </a:gs>
              </a:gsLst>
              <a:lin ang="18900000"/>
            </a:gradFill>
            <a:ln w="1260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" name="Group 47"/>
            <p:cNvGrpSpPr/>
            <p:nvPr/>
          </p:nvGrpSpPr>
          <p:grpSpPr>
            <a:xfrm>
              <a:off x="1110960" y="4353840"/>
              <a:ext cx="6595560" cy="556200"/>
              <a:chOff x="1110960" y="4353840"/>
              <a:chExt cx="6595560" cy="556200"/>
            </a:xfrm>
          </p:grpSpPr>
          <p:sp>
            <p:nvSpPr>
              <p:cNvPr id="140" name="Freeform 48"/>
              <p:cNvSpPr/>
              <p:nvPr/>
            </p:nvSpPr>
            <p:spPr>
              <a:xfrm rot="191400">
                <a:off x="1389600" y="4403160"/>
                <a:ext cx="439560" cy="37440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49"/>
              <p:cNvSpPr/>
              <p:nvPr/>
            </p:nvSpPr>
            <p:spPr>
              <a:xfrm rot="191400">
                <a:off x="1970280" y="4412160"/>
                <a:ext cx="41328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50"/>
              <p:cNvSpPr/>
              <p:nvPr/>
            </p:nvSpPr>
            <p:spPr>
              <a:xfrm rot="191400">
                <a:off x="2322360" y="4433040"/>
                <a:ext cx="41328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51"/>
              <p:cNvSpPr/>
              <p:nvPr/>
            </p:nvSpPr>
            <p:spPr>
              <a:xfrm rot="191400">
                <a:off x="2678400" y="4431600"/>
                <a:ext cx="41328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52"/>
              <p:cNvSpPr/>
              <p:nvPr/>
            </p:nvSpPr>
            <p:spPr>
              <a:xfrm rot="191400">
                <a:off x="3033720" y="4395240"/>
                <a:ext cx="41472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53"/>
              <p:cNvSpPr/>
              <p:nvPr/>
            </p:nvSpPr>
            <p:spPr>
              <a:xfrm rot="191400">
                <a:off x="3315600" y="4409640"/>
                <a:ext cx="41328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54"/>
              <p:cNvSpPr/>
              <p:nvPr/>
            </p:nvSpPr>
            <p:spPr>
              <a:xfrm rot="191400">
                <a:off x="3671280" y="4394520"/>
                <a:ext cx="414720" cy="41580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55"/>
              <p:cNvSpPr/>
              <p:nvPr/>
            </p:nvSpPr>
            <p:spPr>
              <a:xfrm rot="191400">
                <a:off x="3955320" y="4411800"/>
                <a:ext cx="412920" cy="41544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56"/>
              <p:cNvSpPr/>
              <p:nvPr/>
            </p:nvSpPr>
            <p:spPr>
              <a:xfrm rot="191400">
                <a:off x="4307760" y="4410000"/>
                <a:ext cx="41472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57"/>
              <p:cNvSpPr/>
              <p:nvPr/>
            </p:nvSpPr>
            <p:spPr>
              <a:xfrm rot="191400">
                <a:off x="4592520" y="4425840"/>
                <a:ext cx="41328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58"/>
              <p:cNvSpPr/>
              <p:nvPr/>
            </p:nvSpPr>
            <p:spPr>
              <a:xfrm rot="191400">
                <a:off x="5018760" y="4412160"/>
                <a:ext cx="414720" cy="41652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59"/>
              <p:cNvSpPr/>
              <p:nvPr/>
            </p:nvSpPr>
            <p:spPr>
              <a:xfrm rot="191400">
                <a:off x="5299200" y="4429080"/>
                <a:ext cx="41472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60"/>
              <p:cNvSpPr/>
              <p:nvPr/>
            </p:nvSpPr>
            <p:spPr>
              <a:xfrm rot="191400">
                <a:off x="5585400" y="4423680"/>
                <a:ext cx="41472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61"/>
              <p:cNvSpPr/>
              <p:nvPr/>
            </p:nvSpPr>
            <p:spPr>
              <a:xfrm rot="191400">
                <a:off x="5865840" y="4460400"/>
                <a:ext cx="41472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62"/>
              <p:cNvSpPr/>
              <p:nvPr/>
            </p:nvSpPr>
            <p:spPr>
              <a:xfrm rot="191400">
                <a:off x="6148800" y="4455000"/>
                <a:ext cx="41292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63"/>
              <p:cNvSpPr/>
              <p:nvPr/>
            </p:nvSpPr>
            <p:spPr>
              <a:xfrm rot="191400">
                <a:off x="6432840" y="4434840"/>
                <a:ext cx="41328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64"/>
              <p:cNvSpPr/>
              <p:nvPr/>
            </p:nvSpPr>
            <p:spPr>
              <a:xfrm rot="191400">
                <a:off x="6716880" y="4450680"/>
                <a:ext cx="41292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65"/>
              <p:cNvSpPr/>
              <p:nvPr/>
            </p:nvSpPr>
            <p:spPr>
              <a:xfrm rot="191400">
                <a:off x="6999840" y="4466520"/>
                <a:ext cx="41328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66"/>
              <p:cNvSpPr/>
              <p:nvPr/>
            </p:nvSpPr>
            <p:spPr>
              <a:xfrm rot="191400">
                <a:off x="7281720" y="4482000"/>
                <a:ext cx="41328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67"/>
              <p:cNvSpPr/>
              <p:nvPr/>
            </p:nvSpPr>
            <p:spPr>
              <a:xfrm rot="191400">
                <a:off x="1121760" y="4365000"/>
                <a:ext cx="413280" cy="416880"/>
              </a:xfrm>
              <a:custGeom>
                <a:avLst/>
                <a:gdLst/>
                <a:ahLst/>
                <a:rect l="l" t="t" r="r" b="b"/>
                <a:pathLst>
                  <a:path w="265" h="334">
                    <a:moveTo>
                      <a:pt x="0" y="334"/>
                    </a:moveTo>
                    <a:lnTo>
                      <a:pt x="197" y="0"/>
                    </a:lnTo>
                    <a:lnTo>
                      <a:pt x="265" y="8"/>
                    </a:lnTo>
                    <a:lnTo>
                      <a:pt x="91" y="326"/>
                    </a:lnTo>
                    <a:lnTo>
                      <a:pt x="0" y="3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cc6600"/>
                  </a:gs>
                  <a:gs pos="100000">
                    <a:srgbClr val="ffffff"/>
                  </a:gs>
                </a:gsLst>
                <a:lin ang="18900000"/>
              </a:gradFill>
              <a:ln w="12600">
                <a:solidFill>
                  <a:srgbClr val="99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68"/>
            <p:cNvSpPr/>
            <p:nvPr/>
          </p:nvSpPr>
          <p:spPr>
            <a:xfrm flipH="1" flipV="1">
              <a:off x="-3240" y="4517640"/>
              <a:ext cx="9137160" cy="11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69"/>
            <p:cNvSpPr/>
            <p:nvPr/>
          </p:nvSpPr>
          <p:spPr>
            <a:xfrm flipH="1" flipV="1">
              <a:off x="60120" y="4635360"/>
              <a:ext cx="9067680" cy="10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Rectangle 70"/>
          <p:cNvSpPr/>
          <p:nvPr/>
        </p:nvSpPr>
        <p:spPr>
          <a:xfrm>
            <a:off x="-152280" y="2895480"/>
            <a:ext cx="944856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89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72"/>
          <p:cNvSpPr/>
          <p:nvPr/>
        </p:nvSpPr>
        <p:spPr>
          <a:xfrm>
            <a:off x="0" y="3276720"/>
            <a:ext cx="9372600" cy="0"/>
          </a:xfrm>
          <a:prstGeom prst="line">
            <a:avLst/>
          </a:prstGeom>
          <a:ln w="7632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7" descr="car37"/>
          <p:cNvPicPr/>
          <p:nvPr/>
        </p:nvPicPr>
        <p:blipFill>
          <a:blip r:embed="rId1"/>
          <a:stretch/>
        </p:blipFill>
        <p:spPr>
          <a:xfrm rot="21424800">
            <a:off x="151920" y="2743200"/>
            <a:ext cx="1873440" cy="749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8" descr="afficher_image145"/>
          <p:cNvPicPr/>
          <p:nvPr/>
        </p:nvPicPr>
        <p:blipFill>
          <a:blip r:embed="rId2"/>
          <a:stretch/>
        </p:blipFill>
        <p:spPr>
          <a:xfrm flipH="1" rot="21545400">
            <a:off x="4876560" y="3580920"/>
            <a:ext cx="3303360" cy="113004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79"/>
          <p:cNvSpPr/>
          <p:nvPr/>
        </p:nvSpPr>
        <p:spPr>
          <a:xfrm rot="5400000">
            <a:off x="4168080" y="708480"/>
            <a:ext cx="807840" cy="9144000"/>
          </a:xfrm>
          <a:custGeom>
            <a:avLst/>
            <a:gdLst>
              <a:gd name="textAreaLeft" fmla="*/ 0 w 807840"/>
              <a:gd name="textAreaRight" fmla="*/ 291600 w 807840"/>
              <a:gd name="textAreaTop" fmla="*/ 348120 h 9144000"/>
              <a:gd name="textAreaBottom" fmla="*/ 8795880 h 914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15"/>
                  <a:pt x="10800" y="2630"/>
                </a:cubicBezTo>
                <a:lnTo>
                  <a:pt x="10800" y="8190"/>
                </a:lnTo>
                <a:cubicBezTo>
                  <a:pt x="10800" y="9505"/>
                  <a:pt x="16200" y="10820"/>
                  <a:pt x="21600" y="10820"/>
                </a:cubicBezTo>
                <a:cubicBezTo>
                  <a:pt x="16200" y="10820"/>
                  <a:pt x="10800" y="12135"/>
                  <a:pt x="10800" y="13450"/>
                </a:cubicBezTo>
                <a:lnTo>
                  <a:pt x="10800" y="18970"/>
                </a:lnTo>
                <a:cubicBezTo>
                  <a:pt x="10800" y="20285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0"/>
          <p:cNvSpPr/>
          <p:nvPr/>
        </p:nvSpPr>
        <p:spPr>
          <a:xfrm>
            <a:off x="4040280" y="5791320"/>
            <a:ext cx="113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Times New Roman"/>
              </a:rPr>
              <a:t>S</a:t>
            </a:r>
            <a:r>
              <a:rPr b="1" lang="ru-RU" sz="5400" spc="-1" strike="noStrike">
                <a:solidFill>
                  <a:srgbClr val="0000ff"/>
                </a:solidFill>
                <a:latin typeface="Times New Roman"/>
              </a:rPr>
              <a:t>-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1"/>
          <p:cNvSpPr/>
          <p:nvPr/>
        </p:nvSpPr>
        <p:spPr>
          <a:xfrm>
            <a:off x="304920" y="2362320"/>
            <a:ext cx="16002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82"/>
          <p:cNvSpPr/>
          <p:nvPr/>
        </p:nvSpPr>
        <p:spPr>
          <a:xfrm>
            <a:off x="6172200" y="3733920"/>
            <a:ext cx="16002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83"/>
          <p:cNvSpPr/>
          <p:nvPr/>
        </p:nvSpPr>
        <p:spPr>
          <a:xfrm>
            <a:off x="229680" y="1600200"/>
            <a:ext cx="34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=3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ч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, V=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89 км/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84"/>
          <p:cNvSpPr/>
          <p:nvPr/>
        </p:nvSpPr>
        <p:spPr>
          <a:xfrm>
            <a:off x="5487480" y="2286000"/>
            <a:ext cx="342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=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4ч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, V=84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км/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87"/>
          <p:cNvSpPr/>
          <p:nvPr/>
        </p:nvSpPr>
        <p:spPr>
          <a:xfrm>
            <a:off x="7391520" y="6019920"/>
            <a:ext cx="863640" cy="503280"/>
          </a:xfrm>
          <a:prstGeom prst="leftArrow">
            <a:avLst>
              <a:gd name="adj1" fmla="val 50000"/>
              <a:gd name="adj2" fmla="val 42901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88"/>
          <p:cNvSpPr/>
          <p:nvPr/>
        </p:nvSpPr>
        <p:spPr>
          <a:xfrm>
            <a:off x="7391520" y="6019920"/>
            <a:ext cx="863640" cy="503280"/>
          </a:xfrm>
          <a:prstGeom prst="leftArrow">
            <a:avLst>
              <a:gd name="adj1" fmla="val 50000"/>
              <a:gd name="adj2" fmla="val 42901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35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47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бота с учебн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80, стр. 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чертите схему и решите задач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7315200" y="5715000"/>
            <a:ext cx="863640" cy="503280"/>
          </a:xfrm>
          <a:prstGeom prst="leftArrow">
            <a:avLst>
              <a:gd name="adj1" fmla="val 50000"/>
              <a:gd name="adj2" fmla="val 42901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81, № 5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7T04:27:19Z</dcterms:created>
  <dc:creator>Людмила</dc:creator>
  <dc:description/>
  <dc:language>en-US</dc:language>
  <cp:lastModifiedBy>user</cp:lastModifiedBy>
  <dcterms:modified xsi:type="dcterms:W3CDTF">2015-01-26T03:14:34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