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9430-08A2-4983-AA43-F8EAE1A0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4C4-2B0A-4802-9791-62C9D23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D9F1-1C76-4B78-BA95-9A97266A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B2E6-47A2-4007-BF7F-B9234D23E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9457-05B0-409A-A082-859E97172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D0ECC-FC79-48FA-958B-35DF4938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EAB5A-E7C5-4B8C-B4D2-F8EA93B3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A28FA-AA4F-4D64-81E0-0D8EE6C7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8932-5F13-490B-BB1A-32332383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A1ADD-8FA3-429A-92AE-6005AAF9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308E-943C-430B-9028-BF18D0A4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3ED6-02A2-4E0D-887E-C4DF64F5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FB16-9274-4254-A902-762159156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97136-E00F-4DF1-8D32-0A4CCC5B3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AB12-6091-4C9D-AEDB-5710E54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CA50-9A34-48D8-BEB5-FB4597147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DFB4C-8845-49C8-AC5B-98312B3C3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0375-7F36-4CBD-AFA5-60E3AC711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091B-CEB6-4C3F-B77D-077E491F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2D0-78AA-43C5-89E9-5A40EE8C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DFE-6BF8-497D-B457-CF16D89DC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4B3E-4073-492F-AF39-9C8A741A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5B29-3643-45B4-B3AE-607B840F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B33-3CBD-46ED-997A-0BA41C64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436B-DD78-4DB2-8176-16B3592915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F50D7-F84C-4513-AFFD-1A26504925F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лово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«КИСЛОТА»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- это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ФУНКЦ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вещества, а не этикетка  с  названием.  Термин  скорее  указывает не  на  формулу  вещества,  а  на его  </a:t>
            </a:r>
            <a:r>
              <a:rPr b="0" lang="ru-RU" sz="4400" spc="-1" strike="noStrike">
                <a:solidFill>
                  <a:srgbClr val="ffcc00"/>
                </a:solidFill>
                <a:latin typeface="Tahoma"/>
              </a:rPr>
              <a:t>СПОСОБНОСТИ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.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И.В.Тананаев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ислородные соединения азот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веселящий газ», без цвет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олеобразующий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з без цвета и запаха, несолеобра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ующ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ядовитый газ бурого цвет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 + 2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= 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5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оответствует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HNO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с.о. атома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N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+5 – высша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Азотная кисло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та окисляет металлы за счет азота в высшей степени окисления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3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7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1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1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82" dur="1000" autoRev="1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5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86" dur="1000" autoRev="1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animClr clrSpc="rgb">
                                      <p:cBhvr>
                                        <p:cTn id="189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3366"/>
                                      </p:to>
                                    </p:animClr>
                                    <p:set>
                                      <p:cBhvr>
                                        <p:cTn id="190" dur="1000" autoRev="1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Особенности взаимодей-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твия азотной кислоты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разной концентрации</a:t>
            </a:r>
            <a:br>
              <a:rPr sz="4400"/>
            </a:br>
            <a:r>
              <a:rPr b="0" lang="ru-RU" sz="4400" spc="-1" strike="noStrike">
                <a:solidFill>
                  <a:srgbClr val="ff3300"/>
                </a:solidFill>
                <a:latin typeface="Tahoma"/>
              </a:rPr>
              <a:t>с металлами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2848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Лабораторный опыт.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заимодействие конц. азотно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ислоты с медью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Cu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895480" y="266688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4" dur="1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Лабораторный опыт.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Взаимодействие конц. азотной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ислоты с ртутью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.</a:t>
            </a: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 (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Hg)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0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91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Особенности взаимодействия азотной кислоты разной концентрации с металлам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395280" y="1628640"/>
          <a:ext cx="8229600" cy="514188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9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. ме-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i - M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 сред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кт-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 - P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лоак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u - A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лаг-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еталл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t,A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61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N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</a:t>
                      </a:r>
                      <a:r>
                        <a:rPr b="0" lang="ru-RU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реагиру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NO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H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4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O, </a:t>
                      </a:r>
                      <a:r>
                        <a:rPr b="0" lang="en-US" sz="24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Соль</a:t>
                      </a: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9900"/>
                          </a:solidFill>
                          <a:latin typeface="Tahoma"/>
                        </a:rPr>
                        <a:t>NO+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Вод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Н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Tahoma"/>
                        </a:rPr>
                        <a:t>реагируе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3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Конц. азотная кислота пассивирует</a:t>
            </a:r>
            <a:br>
              <a:rPr sz="3200"/>
            </a:b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металлы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AL,Fe,Cr.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48120" y="28954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0" dur="1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11592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еталлы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 с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зотной кислотой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оевали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7850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В одной сказочной стране был город  мастер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Жили в нем очень трудолюбивые и талантливые жители – металл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 по соседству с городом мастеров было царство герцогин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зотной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Герцогиня считала себя сильной и могущественной. Давно хотелось ей покорить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еталлы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. И решила Азотная пойти войн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Узнав о надвигающейся беде, металлы решили защищаться! Ведь среди них было немало храбрых рыцарей. А еще у них был проворный разведчик – индикатор. Он узнавал о количестве войс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9036000" cy="67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Герцогини Азотной и предупреждал металл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И вот, настал первый день сражения. Индикатор сообщил, что войска противника немногочисленны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центрация их слабая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Цинк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цинковых доспехах решил дать отпор кислотному войску. Но, он пал на поле боя. Воздух наполнился странным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зом со сладковатым запахом, без цвета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И, хотя  товарищам жаль было героя, всех охватил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удорожный смех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! Металлы, почувствовав опасность, решили отступать. Азотная была неска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занно рада. Как легко дается ей победа! Но, на вся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кий случай она усилила свои отряды, о чем незамед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лительно металлам сообщил индикатор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Настал второй день войны. На защиту города ма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еров вышел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упр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сияющих медных до-</a:t>
            </a:r>
            <a:br>
              <a:rPr sz="2800"/>
            </a:b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8856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ехах. Но, он не устоял. А в воздухе появилс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оксичный газ без цвета и  запаха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Опять металлам стало нехорошо. И они отступили!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Герцогиня Азотная подумала, что она непобеди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ма, уже видны были крепостные стены города мастеров. Кислотные войска были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ксимально усилены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, и началась осада крепости металлов. Раз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чик индикатор доложил, чт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концентрация войск Азотной очень велика.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И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рген-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ослепительных серебряных доспехах решил вступить в бой. Он был храбр и долго сопротивлял-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я, но герцогин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зотная задушила его «лисьим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хвостом» своей шуб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    У металлов оставалось совсем немного шансов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пасти свой город. Тогда рыцарь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урум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 в доспехах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036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из чистого золота, сверкающих в лучах осеннего солнца, вышел в бой. Он доблестно сражался, ему даже удалось потеснить кислотные войска. У герцогини Азотной впервые появились сомнения в победе. Послала она за помощью к своей сестре гра-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фине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яно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, просила у нее самые отборные войска. Помощь от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ляно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пришла быстро, рыцар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урум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не смог устоять и погиб! Металлы совсем поуныли, но сдаваться не собирались!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Пришла зима с лютыми морозами. Осада продолжалась. И тут на военный совет металлов пришли рыцар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еррум, Алюминий и Хром.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Они ска-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зали, что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 наступлением холодов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смогут побороться с войскам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зотной кислоты.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    И вот 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розный ясный</a:t>
            </a: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 день три доблестных рыцаря вышли на бой. Он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збили войска Азотной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на три части и одержали победу!!! Герцогиня была повержена!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Tahoma"/>
              </a:rPr>
              <a:t>Город был спасен и металлы стали вновь жить счастливо!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85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 algn="ctr">
              <a:buClr>
                <a:srgbClr val="e5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Какие общие способности (свойства) объединяют кислоты?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2. Почему у всех кислот есть общие (характерные) свойства?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Подтвердите уравнениями диссоциации.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284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Как металлы азотную кислоту победили!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8578800" cy="60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Zn + 10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p.) = N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 + 4Zn(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                       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+ 5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Cu + 8H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p.) = 2NO + 3Cu(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4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Ag + 2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(k.) = Ag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 + H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k.)+3HCL(k.) = AuC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+ NO +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+ 2H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NO3 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конц. на холоде пассивирует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металлы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L, Cr, Fe –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ни покрываются прочной оксидной пленкой и реакция не идет дальше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необходимо нагревание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99880" y="-36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рименение азотной кисло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4000" y="1341360"/>
            <a:ext cx="2555640" cy="25560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132000" y="836640"/>
            <a:ext cx="2845080" cy="21337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250920" y="414972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5580000" y="3429000"/>
            <a:ext cx="3349800" cy="17892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3203640" y="4672080"/>
            <a:ext cx="3141720" cy="218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6205680" y="1633680"/>
            <a:ext cx="2938320" cy="17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0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500"/>
                            </p:stCondLst>
                            <p:childTnLst>
                              <p:par>
                                <p:cTn id="3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30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11556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олучение азотной кислоты из аммиа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8000" y="764640"/>
            <a:ext cx="89280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1      2        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Tahoma"/>
              </a:rPr>
              <a:t>Аммак ---- ? ------ ? ------ азотная кисло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1.Напишите уравнения реакций, укажит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ромежуточные продукты (справка стр. 114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                                      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 119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*2. Охарактеризуйте каждую стадию произ-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500"/>
                            </p:stCondLst>
                            <p:childTnLst>
                              <p:par>
                                <p:cTn id="3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7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500"/>
                            </p:stCondLst>
                            <p:childTnLst>
                              <p:par>
                                <p:cTn id="39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3500"/>
                            </p:stCondLst>
                            <p:childTnLst>
                              <p:par>
                                <p:cTn id="40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3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836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Получение азотной кислоты из аммиа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4176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33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N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5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= 2NO + 6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NO + 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2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+ 2H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O</a:t>
            </a: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4HNO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771280" y="3284280"/>
            <a:ext cx="720720" cy="286920"/>
            <a:chOff x="2771280" y="3284280"/>
            <a:chExt cx="720720" cy="286920"/>
          </a:xfrm>
        </p:grpSpPr>
        <p:sp>
          <p:nvSpPr>
            <p:cNvPr id="144" name=""/>
            <p:cNvSpPr/>
            <p:nvPr/>
          </p:nvSpPr>
          <p:spPr>
            <a:xfrm>
              <a:off x="2851200" y="334188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410640" y="3284280"/>
              <a:ext cx="8100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410640" y="3341880"/>
              <a:ext cx="81000" cy="56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71640" y="351432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771280" y="3513960"/>
              <a:ext cx="7956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2771280" y="3457440"/>
              <a:ext cx="79560" cy="58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427280" y="4436640"/>
            <a:ext cx="720720" cy="286920"/>
            <a:chOff x="4427280" y="4436640"/>
            <a:chExt cx="720720" cy="286920"/>
          </a:xfrm>
        </p:grpSpPr>
        <p:sp>
          <p:nvSpPr>
            <p:cNvPr id="151" name=""/>
            <p:cNvSpPr/>
            <p:nvPr/>
          </p:nvSpPr>
          <p:spPr>
            <a:xfrm>
              <a:off x="4507200" y="449424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 flipV="1">
              <a:off x="5066640" y="4436640"/>
              <a:ext cx="8100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066640" y="4494240"/>
              <a:ext cx="81000" cy="56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427640" y="4666680"/>
              <a:ext cx="64080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>
              <a:off x="4427280" y="4666320"/>
              <a:ext cx="79560" cy="5724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427280" y="4609800"/>
              <a:ext cx="79560" cy="5832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00"/>
                            </p:stCondLst>
                            <p:childTnLst>
                              <p:par>
                                <p:cTn id="4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1000"/>
                            </p:stCondLst>
                            <p:childTnLst>
                              <p:par>
                                <p:cTn id="4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5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ыводы по теме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785440" cy="61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акие особенности проявляет азотная кислота при взаимодействии с металлами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продукты получаются при взаимодействии азотной кислоты с металлами и от чего зависит состав продуктов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Какие металлы и при каких условиях пассивируются азотной кислотой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ем обусловлены сильные окислительные свойства азотной кислоты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Из чего в промышленности получают азотную кислоту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6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4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4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2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собенности взаимодействия азотной кислоты разной концентрации с метал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Уме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исать уравнения хим. реакц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 Уме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при помощи ОВ баланса расставлять коэффици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пособ получения азотной кислоты из амми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Применя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знания в новых ситуа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* Характеризовать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стадии 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роизводств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Цели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0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500"/>
                            </p:stCondLst>
                            <p:childTnLst>
                              <p:par>
                                <p:cTn id="48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4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2000"/>
                            </p:stCondLst>
                            <p:childTnLst>
                              <p:par>
                                <p:cTn id="48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2500"/>
                            </p:stCondLst>
                            <p:childTnLst>
                              <p:par>
                                <p:cTn id="49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2848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Домашнее задание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Воспроизве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араграф 26, упр.5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Проблемная задач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отри карточку №1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Творческое зад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мотри карточку №2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500"/>
                            </p:stCondLst>
                            <p:childTnLst>
                              <p:par>
                                <p:cTn id="50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500"/>
                            </p:stCondLst>
                            <p:childTnLst>
                              <p:par>
                                <p:cTn id="50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2500"/>
                            </p:stCondLst>
                            <p:childTnLst>
                              <p:par>
                                <p:cTn id="5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3500"/>
                            </p:stCondLst>
                            <p:childTnLst>
                              <p:par>
                                <p:cTn id="51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4500"/>
                            </p:stCondLst>
                            <p:childTnLst>
                              <p:par>
                                <p:cTn id="5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1000" fill="hold"/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500"/>
                            </p:stCondLst>
                            <p:childTnLst>
                              <p:par>
                                <p:cTn id="5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3600" spc="-1" strike="noStrike" u="sng">
                <a:solidFill>
                  <a:srgbClr val="e5ffff"/>
                </a:solidFill>
                <a:uFillTx/>
                <a:latin typeface="Tahoma"/>
              </a:rPr>
              <a:t>Общие  свойства  кислот: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1. Реакция на индикатор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2. взаимодействие с металлам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3. взаимодействие с оксидами металлов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4.взаимодействие с основаниями;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5. взаимодействие с солями (более слабой кислоты).</a:t>
            </a:r>
            <a:br>
              <a:rPr sz="40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564000" y="404640"/>
            <a:ext cx="3672000" cy="503280"/>
            <a:chOff x="3564000" y="404640"/>
            <a:chExt cx="3672000" cy="503280"/>
          </a:xfrm>
        </p:grpSpPr>
        <p:sp>
          <p:nvSpPr>
            <p:cNvPr id="86" name=""/>
            <p:cNvSpPr/>
            <p:nvPr/>
          </p:nvSpPr>
          <p:spPr>
            <a:xfrm>
              <a:off x="3635280" y="620640"/>
              <a:ext cx="57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 flipV="1">
              <a:off x="4138200" y="549360"/>
              <a:ext cx="73080" cy="7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138200" y="620640"/>
              <a:ext cx="73080" cy="71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64000" y="836640"/>
              <a:ext cx="57636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564000" y="836640"/>
              <a:ext cx="71280" cy="71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3564000" y="765000"/>
              <a:ext cx="71280" cy="730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9280" y="404640"/>
              <a:ext cx="0" cy="2876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14920" y="549360"/>
              <a:ext cx="28728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20000" y="549360"/>
              <a:ext cx="2160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468360" y="112536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3        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H   +   NO</a:t>
            </a: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86920" y="2637000"/>
            <a:ext cx="5349960" cy="129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Н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  О 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ru-RU" sz="60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 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227640" y="1557360"/>
            <a:ext cx="1224000" cy="93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3933720"/>
            <a:ext cx="1224000" cy="936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ffff"/>
                </a:solidFill>
                <a:latin typeface="Tahoma"/>
              </a:rPr>
              <a:t>О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38920" y="2276280"/>
            <a:ext cx="504720" cy="64764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938920" y="3645000"/>
            <a:ext cx="576360" cy="57600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011640" y="2492280"/>
            <a:ext cx="647640" cy="792360"/>
          </a:xfrm>
          <a:prstGeom prst="line">
            <a:avLst/>
          </a:prstGeom>
          <a:ln w="5724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2000" y="3284640"/>
            <a:ext cx="718920" cy="720720"/>
          </a:xfrm>
          <a:prstGeom prst="line">
            <a:avLst/>
          </a:prstGeom>
          <a:ln w="57240">
            <a:solidFill>
              <a:srgbClr val="e5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3284640"/>
            <a:ext cx="649440" cy="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56000" y="3284640"/>
            <a:ext cx="647640" cy="0"/>
          </a:xfrm>
          <a:prstGeom prst="line">
            <a:avLst/>
          </a:prstGeom>
          <a:ln w="57240">
            <a:solidFill>
              <a:srgbClr val="e5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АЗОТНАЯ  КИСЛОТА  КАК  ОКИСЛИТЕЛЬ.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ПОЛУЧЕНИЕ  АЗОТНОЙ  КИСЛОТЫ  ИЗ  АММИАК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268280"/>
            <a:ext cx="8229600" cy="548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План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Особенности взаимодействия азотной кислоты разной концентрации с металл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Получение азотной кислоты из аммиа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Формы работы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:запоминать, воспроизв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ить, наблюдать, анализировать, дел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воды, писать уравнения, характеризо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ать стадии производства, применять зн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новых ситуация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ЗНАТЬ,  УМЕТЬ,  ПРИМЕНЯ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500"/>
                            </p:stCondLst>
                            <p:childTnLst>
                              <p:par>
                                <p:cTn id="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Цели урока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особенности взаимодействия азотной кислоты разной концентрации с метал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Уме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исать уравнения хим. реакц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Уме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при помощи ОВ баланса расставлять коэффициент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Зн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пособ получения азотной кислоты из аммиа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Применя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знания в новых ситуац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 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* Характеризоват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стадии производств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Особенности строения азотной кислоты.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76464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1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1,+2.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х (стр.118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2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3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8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3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4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9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4 гр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-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составь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формулы оксидов азота со с.о. +4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Охарактеризуйт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их (стр.119).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Напишите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формулу соответствующей кислоты (если есть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-243360"/>
            <a:ext cx="8229600" cy="71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Tahoma"/>
              </a:rPr>
              <a:t>Особенности строения азотной кислоты.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1. Соотнесите:</a:t>
            </a: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.о. атома азота      формула оксида азота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+1, б)+2, в)+3,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1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NO, 2)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, 3)NO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2,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г)+4, д)+5.                   4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,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 5)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. Укажите формулу оксида азота, в которой азот проявляет высшую с.о..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  б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в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г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д)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3. Соотнесите: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а) несолеобразующие оксиды        1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б) оксиду соотв-ет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3       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 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2) 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в) оксиду соотв-ет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H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                   </a:t>
            </a: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3) N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5</a:t>
            </a:r>
            <a:br>
              <a:rPr sz="20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г) «веселящий газ»                        4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д) яд. газ рыжего цвета                 5) </a:t>
            </a: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NO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7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Ответы на вопросы теста.</a:t>
            </a:r>
            <a:br>
              <a:rPr sz="4000"/>
            </a:br>
            <a:br>
              <a:rPr sz="40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1.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) – 5),  б) – 1),  в) – 2), г) – 3), д) - 4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2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ответ  в)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Вопрос 3.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а) – 2) и 4),   б) – 3),  в) – 1), г) – 2),</a:t>
            </a:r>
            <a:br>
              <a:rPr sz="32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                  д) – 5. 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5T16:54:53Z</dcterms:created>
  <dc:creator>Serg</dc:creator>
  <dc:description/>
  <dc:language>en-US</dc:language>
  <cp:lastModifiedBy>Admin</cp:lastModifiedBy>
  <dcterms:modified xsi:type="dcterms:W3CDTF">2009-01-19T18:45:46Z</dcterms:modified>
  <cp:revision>59</cp:revision>
  <dc:subject/>
  <dc:title>АЗОТНАЯ  КИСЛОТА  КАК  ОКИСЛИТЕЛЬ.   ПОЛУЧЕНИЕ  АЗОТНОЙ  КИСЛОТЫ  ИЗ  АММИАКА.  </dc:title>
</cp:coreProperties>
</file>