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8F9-F705-4F38-B2B8-92F4A3C3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049B-CD8F-4BC6-BD20-F9171EA7D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C48-D062-46A1-896C-57D0FDCEF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EE3-6D95-43B3-8DDA-A4854B9C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D12C-EE4A-4B45-8E4D-201EB936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90FB-8588-46F1-BE57-CD66B2E4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C7C5-65A4-440E-A0C1-E2009A9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D434-A41F-4ECE-A44A-C5CE20CF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59A83-9B87-4289-B3E5-9D4F1B54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0A82-F8B3-4A72-B088-977F7B761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390FB-6DB5-4631-A820-5E6DC751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171-3FAB-4977-BF04-FD1E0EE7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F19F-B3F9-474C-BDE7-90991BC2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DC1A-5ECE-4489-8AE1-44F4BB4A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105B-13E6-4074-91B1-672F207E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4DD6-2059-4C4F-B3E1-DED9069A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500-71F7-450D-A224-F9C465107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BD97-3EE5-4832-9990-254C454D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894B-E56C-4724-BA41-7D3A1EF5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5174-A290-4A4B-9571-1EC4F201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FA13-D325-4AE1-97D8-0DA9ECB7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A28C-AEDB-413C-A7C2-A9EA2BC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CDC-22FC-4AD9-8010-FB51E897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D5DA-8C58-4E4A-86ED-DE2A4AFF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EE9D-582B-41B8-AB39-0191ED381A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ED75-D148-4742-8931-1BD14BDC6F9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лово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«КИСЛОТА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- это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ФУНКЦ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вещества, а не этикетка  с  названием.  Термин  скорее  указывает не  на  формулу  вещества,  а  на его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ПОСОБНО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.В.Тананае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ислородные соединения азот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еселящий газ», без цвет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олеобразующ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 без цвета и запаха, несолеобр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ующ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довитый газ бурого цв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 + 2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= 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ветствует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HNO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.о. атома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+5 – высш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зотная кисло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а окисляет металлы за счет азота в высшей степени окис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0" autoRev="1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181" dur="1000" autoRev="1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182" dur="1000" autoRev="1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autoRev="1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185" dur="1000" autoRev="1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186" dur="1000" autoRev="1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0" autoRev="1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189" dur="1000" autoRev="1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190" dur="1000" autoRev="1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Особенности взаимодей-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твия азотной кислоты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разной концентрации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 металлам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84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Лабораторный опыт.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заимодействие конц. азотной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ислоты с медью 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u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Лабораторный опыт.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заимодействие конц. азотной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ислоты с ртутью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Hg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Особенности взаимодействия азотной кислоты разной концентрации с металлам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229600" cy="5141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т. ме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 -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 сре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т-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 - 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о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- 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аг-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t,A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O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</a:t>
                      </a: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реагиру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N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H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O,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реагиру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онц. азотная кислота пассивирует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металлы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L,Fe,Cr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аллы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с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зотной кислотой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оевал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78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одной сказочной стране был город  маст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Жили в нем очень трудолюбивые и талантливые жители – метал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 по соседству с городом мастеров было царство герцогин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зотной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Герцогиня считала себя сильной и могущественной. Давно хотелось ей покори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таллы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И решила Азотная пойти вой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Узнав о надвигающейся беде, металлы решили защищаться! Ведь среди них было немало храбрых рыцарей. А еще у них был проворный разведчик – индикатор. Он узнавал о количестве вой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ерцогини Азотной и предупреждал металлы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И вот, настал первый день сражения. Индикатор сообщил, что войска противника немногочисленны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центрация их слаба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Тогда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инк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цинковых доспехах решил дать отпор кислотному войску. Но, он пал на поле боя. Воздух наполнился стран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зом со сладковатым запахом, без цвета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И, хотя  товарищам жаль было героя, всех охватил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рожный смех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! Металлы, почувствовав опасность, решили отступать. Азотная была неска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занно рада. Как легко дается ей победа! Но, на вся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ий случай она усилила свои отряды, о чем незамед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лительно металлам сообщил индикатор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Настал второй день войны. На защиту города ма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еров вышел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упрум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сияющих медных до-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пехах. Но, он не устоял. А в воздухе появилс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ксичный газ без цвета и  запах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Опять металлам стало нехорошо. И они отступили!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Герцогиня Азотная подумала, что она непобеди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а, уже видны были крепостные стены города мастеров. Кислотные войска был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симально усилены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 началась осада крепости металлов. Раз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чик индикатор доложил, чт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центрация войск Азотной очень велика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И тогда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рген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ум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ослепительных серебряных доспехах решил вступить в бой. Он был храбр и долго сопротивлял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я, но герцогин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зотная задушила его «лисьи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востом» своей шубы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У металлов оставалось совсем немного шансов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пасти свой город. Тогда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урум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доспеха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з чистого золота, сверкающих в лучах осеннего солнца, вышел в бой. Он доблестно сражался, ему даже удалось потеснить кислотные войска. У герцогини Азотной впервые появились сомнения в победе. Послала она за помощью к своей сестре гра-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ин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яной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, просила у нее самые отборные войска. Помощь о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яной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пришла быстро, рыцар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рум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не смог устоять и погиб! Металлы совсем поуныли, но сдаваться не собирались!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Пришла зима с лютыми морозами. Осада продолжалась. И тут на военный совет металлов пришли рыцар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ррум, Алюминий и Хром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Они ска-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зали, чт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наступлением холодов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смогут побороться с войска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зотной кислоты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И вот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озный ясный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день три доблестных рыцаря вышли на бой. Он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били войска Азотной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а три части и одержали победу!!! Герцогиня была повержена!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Город был спасен и металлы стали вновь жить счастливо!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кие общие способности (свойства) объединяют кислоты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. Почему у всех кислот есть общие (характерные) свойства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дтвердите уравнениями диссоциац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к металлы азотную кислоту победили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8578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Zn + 10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p.) = N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 + 4Zn(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        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+ 5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Cu + 8H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.) = 2NO + 3Cu(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4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 + 2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k.) = Ag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 + H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k.)+3HCL(k.) = AuC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NO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2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NO3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нц. на холоде пассивируе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еталлы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, Cr, Fe –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ни покрываются прочной оксидной пленкой и реакция не идет дальше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еобходимо нагрев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9880" y="-36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рименение азотной кислот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3349800" cy="178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203640" y="4672080"/>
            <a:ext cx="314172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205680" y="1633680"/>
            <a:ext cx="2938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олучение азотной кислоты из аммиа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8000" y="764640"/>
            <a:ext cx="8928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     2        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Аммак ---- ? ------ ? ------ азотная кисл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1.Напишите уравнения реакций, укаж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межуточные продукты (справка стр. 114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 119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2. Охарактеризуйте каждую стадию произ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олучение азотной кислоты из аммиа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1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N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5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= 2NO + 6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NO + 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2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1280" y="3284280"/>
            <a:ext cx="720720" cy="286920"/>
            <a:chOff x="2771280" y="3284280"/>
            <a:chExt cx="720720" cy="286920"/>
          </a:xfrm>
        </p:grpSpPr>
        <p:sp>
          <p:nvSpPr>
            <p:cNvPr id="144" name=""/>
            <p:cNvSpPr/>
            <p:nvPr/>
          </p:nvSpPr>
          <p:spPr>
            <a:xfrm>
              <a:off x="2851200" y="334188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410640" y="3284280"/>
              <a:ext cx="8100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10640" y="3341880"/>
              <a:ext cx="81000" cy="56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71640" y="351432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771280" y="3513960"/>
              <a:ext cx="7956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771280" y="3457440"/>
              <a:ext cx="79560" cy="58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427280" y="4436640"/>
            <a:ext cx="720720" cy="286920"/>
            <a:chOff x="4427280" y="4436640"/>
            <a:chExt cx="720720" cy="286920"/>
          </a:xfrm>
        </p:grpSpPr>
        <p:sp>
          <p:nvSpPr>
            <p:cNvPr id="151" name=""/>
            <p:cNvSpPr/>
            <p:nvPr/>
          </p:nvSpPr>
          <p:spPr>
            <a:xfrm>
              <a:off x="4507200" y="449424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066640" y="4436640"/>
              <a:ext cx="8100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066640" y="4494240"/>
              <a:ext cx="81000" cy="56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7640" y="466668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427280" y="4666320"/>
              <a:ext cx="7956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427280" y="4609800"/>
              <a:ext cx="79560" cy="58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ыводы по теме уро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акие особенности проявляет азотная кислота при взаимодействии с металл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родукты получаются при взаимодействии азотной кислоты с металлами и от чего зависит состав продукт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акие металлы и при каких условиях пассивируются азотной кислот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м обусловлены сильные окислительные свойства азотной кисло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з чего в промышленности получают азотную кислот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собенности взаимодействия азотной кислоты разной концентрации с метал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Уме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исать уравнения хим. реак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 Уме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и помощи ОВ баланса расставлять коэффици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пособ получения азотной кислоты из амми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Применя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знания в новых ситуа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 Характеризов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тадии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Цели уро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оспроизве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араграф 26, упр.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Проблемная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мотри карточку №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Творческо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мотри карточку №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500"/>
                            </p:stCondLst>
                            <p:childTnLst>
                              <p:par>
                                <p:cTn id="5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Общие  свойства  кислот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1. Реакция на индикатор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2. взаимодействие с металлам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3. взаимодействие с оксидами металлов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4.взаимодействие с основаниям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5. взаимодействие с солями (более слабой кислоты).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64000" y="404640"/>
            <a:ext cx="3672000" cy="503280"/>
            <a:chOff x="3564000" y="404640"/>
            <a:chExt cx="3672000" cy="503280"/>
          </a:xfrm>
        </p:grpSpPr>
        <p:sp>
          <p:nvSpPr>
            <p:cNvPr id="86" name=""/>
            <p:cNvSpPr/>
            <p:nvPr/>
          </p:nvSpPr>
          <p:spPr>
            <a:xfrm>
              <a:off x="3635280" y="620640"/>
              <a:ext cx="57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4138200" y="549360"/>
              <a:ext cx="73080" cy="7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138200" y="620640"/>
              <a:ext cx="73080" cy="7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64000" y="836640"/>
              <a:ext cx="57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564000" y="836640"/>
              <a:ext cx="71280" cy="7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564000" y="765000"/>
              <a:ext cx="71280" cy="7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9280" y="404640"/>
              <a:ext cx="0" cy="28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14920" y="54936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20000" y="549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8360" y="1125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NO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3      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   +   NO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637000"/>
            <a:ext cx="5349960" cy="129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Н</a:t>
            </a: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   О </a:t>
            </a: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557360"/>
            <a:ext cx="1224000" cy="93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3933720"/>
            <a:ext cx="1224000" cy="93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38920" y="2276280"/>
            <a:ext cx="504720" cy="64764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8920" y="3645000"/>
            <a:ext cx="576360" cy="57600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11640" y="2492280"/>
            <a:ext cx="647640" cy="792360"/>
          </a:xfrm>
          <a:prstGeom prst="line">
            <a:avLst/>
          </a:prstGeom>
          <a:ln w="5724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3284640"/>
            <a:ext cx="718920" cy="720720"/>
          </a:xfrm>
          <a:prstGeom prst="line">
            <a:avLst/>
          </a:prstGeom>
          <a:ln w="5724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284640"/>
            <a:ext cx="649440" cy="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3284640"/>
            <a:ext cx="647640" cy="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ЗОТНАЯ  КИСЛОТА  КАК  ОКИСЛИТЕЛЬ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ЛУЧЕНИЕ  АЗОТНОЙ  КИСЛОТЫ  ИЗ  АММИАК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54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План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собенности взаимодействия азотной кислоты разной концентрации с метал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лучение азотной кислоты из амми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Формы рабо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запоминать, воспроизв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ть, наблюдать, анализировать, дел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воды, писать уравнения, характериз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ть стадии производства, применять зн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вых ситуа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НАТЬ,  УМЕТЬ,  ПРИМЕН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Цели уро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особенности взаимодействия азотной кислоты разной концентрации с метал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Уме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исать уравнения хим. реак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Уме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и помощи ОВ баланса расставлять коэффици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пособ получения азотной кислоты из аммиа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Применя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знания в новых ситуац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Характеризов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тад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Особенности строения азотной кислот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1,+2.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х (стр.118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3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х (стр.118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3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4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х (стр.119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4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4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х (стр.119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Особенности строения азотной кислоты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1. Соотнесите: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.о. атома азота      формула оксида азота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) +1, б)+2, в)+3,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NO, 2)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, 3)NO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2,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г)+4, д)+5.                   4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5,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5)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Укажите формулу оксида азота, в которой азот проявляет высшую с.о..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б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в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г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д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3. Соотнесите: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) несолеобразующие оксиды        1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б) оксиду соотв-ет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H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              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2) 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) оксиду соотв-ет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H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               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) 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2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г) «веселящий газ»                        4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д) яд. газ рыжего цвета                 5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Ответы на вопросы теста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прос 1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) – 5),  б) – 1),  в) – 2), г) – 3), д) - 4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прос 2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ответ  в)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прос 3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) – 2) и 4),   б) – 3),  в) – 1), г) – 2),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                д) – 5.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54:53Z</dcterms:created>
  <dc:creator>Serg</dc:creator>
  <dc:description/>
  <dc:language>en-US</dc:language>
  <cp:lastModifiedBy>Admin</cp:lastModifiedBy>
  <dcterms:modified xsi:type="dcterms:W3CDTF">2009-01-19T18:45:46Z</dcterms:modified>
  <cp:revision>59</cp:revision>
  <dc:subject/>
  <dc:title>АЗОТНАЯ  КИСЛОТА  КАК  ОКИСЛИТЕЛЬ.   ПОЛУЧЕНИЕ  АЗОТНОЙ  КИСЛОТЫ  ИЗ  АММИАКА.  </dc:title>
</cp:coreProperties>
</file>