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C62-0EFA-480F-B7BF-99F5B04C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C75-EFB8-4EB4-8DA6-99D2E309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A86-5E2C-47CC-A0A1-95A5ADC6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1ECD-8EDC-4B1C-99E7-67F81580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F9D0-F7DF-479A-8D2D-8CF338A3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E7A-53AD-42DC-ABD2-E1DD6DDE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303-7604-435A-B066-8FA23982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A85-B52A-4DFC-9DBC-F453ED35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F36-B51A-4169-AAA2-7A40F1AC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E0B8-75BF-40A0-B885-386891D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09F-4ABA-44DA-8BEC-5D6E6D16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0A4-5C2A-433B-B994-312F1FCC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A60B-1E3B-404A-BDDE-44266F4C6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облож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879280" y="364320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Цель: развитие восприятия, вни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1357200"/>
            <a:ext cx="792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мотри внимательно на картину и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нтур каких предметов ты видиш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285840" y="214200"/>
            <a:ext cx="87138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285840" y="357120"/>
            <a:ext cx="8497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285840" y="357120"/>
            <a:ext cx="83977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285840" y="357120"/>
            <a:ext cx="839952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4:21:38Z</dcterms:created>
  <dc:creator>storm</dc:creator>
  <dc:description/>
  <dc:language>en-US</dc:language>
  <cp:lastModifiedBy>Психолог</cp:lastModifiedBy>
  <dcterms:modified xsi:type="dcterms:W3CDTF">2018-01-29T03:42:20Z</dcterms:modified>
  <cp:revision>3</cp:revision>
  <dc:subject/>
  <dc:title>Слайд 1</dc:title>
</cp:coreProperties>
</file>