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A111-F1FE-459C-B612-F64BA7F9B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EC36-5AFF-4A10-B451-AB5BC83FC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19C4-C560-4E01-ABB6-B1C2BDD0C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5F70-A45A-411C-B277-B7C89D100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D9B5-A7B0-4FE9-A721-7A7684C55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39FA-E849-483B-AC90-B3F167B16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B31D-D756-46AD-B1EB-4C91A452C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549F-1E9B-40D4-8F56-4BEDE5C0E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5897-7F9C-4BBA-997B-D7C41772F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AC77-1ED0-4C03-84C1-F3CEB9536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AE44-A255-485F-92E0-43965DD0C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924D-8F39-41AA-A721-A3DE6ABF4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EFB3B-9D6D-471C-9A14-AB797DFFC6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обложк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2879280" y="3643200"/>
            <a:ext cx="391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Calibri"/>
              </a:rPr>
              <a:t>Цель: развитие восприятия, вним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785880" y="1357200"/>
            <a:ext cx="7929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Зд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Посмотри внимательно на картину и скаж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контур каких предметов ты видиш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Безимени-1.jpg"/>
          <p:cNvPicPr/>
          <p:nvPr/>
        </p:nvPicPr>
        <p:blipFill>
          <a:blip r:embed="rId1"/>
          <a:stretch/>
        </p:blipFill>
        <p:spPr>
          <a:xfrm>
            <a:off x="285840" y="214200"/>
            <a:ext cx="8713800" cy="62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1" descr="Безимени-2.jpg"/>
          <p:cNvPicPr/>
          <p:nvPr/>
        </p:nvPicPr>
        <p:blipFill>
          <a:blip r:embed="rId1"/>
          <a:stretch/>
        </p:blipFill>
        <p:spPr>
          <a:xfrm>
            <a:off x="285840" y="357120"/>
            <a:ext cx="849780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Безимени-3.jpg"/>
          <p:cNvPicPr/>
          <p:nvPr/>
        </p:nvPicPr>
        <p:blipFill>
          <a:blip r:embed="rId1"/>
          <a:stretch/>
        </p:blipFill>
        <p:spPr>
          <a:xfrm>
            <a:off x="357120" y="357120"/>
            <a:ext cx="8501040" cy="607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1" descr="Безимени-5.jpg"/>
          <p:cNvPicPr/>
          <p:nvPr/>
        </p:nvPicPr>
        <p:blipFill>
          <a:blip r:embed="rId1"/>
          <a:stretch/>
        </p:blipFill>
        <p:spPr>
          <a:xfrm>
            <a:off x="285840" y="357120"/>
            <a:ext cx="839772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Безимени-6.jpg"/>
          <p:cNvPicPr/>
          <p:nvPr/>
        </p:nvPicPr>
        <p:blipFill>
          <a:blip r:embed="rId1"/>
          <a:stretch/>
        </p:blipFill>
        <p:spPr>
          <a:xfrm>
            <a:off x="285840" y="357120"/>
            <a:ext cx="8399520" cy="60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8T04:21:38Z</dcterms:created>
  <dc:creator>storm</dc:creator>
  <dc:description/>
  <dc:language>en-US</dc:language>
  <cp:lastModifiedBy>Психолог</cp:lastModifiedBy>
  <dcterms:modified xsi:type="dcterms:W3CDTF">2018-01-29T03:42:20Z</dcterms:modified>
  <cp:revision>3</cp:revision>
  <dc:subject/>
  <dc:title>Слайд 1</dc:title>
</cp:coreProperties>
</file>