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4EF-27A2-4C4F-9B9C-D0B11444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2D9-5D7D-41E2-995B-B89340CF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72B-2725-4AEA-B118-8ADFC001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E20-75D5-48B0-9A5D-BC18A328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BCC-129E-44EB-982C-A64FAE35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163-1C43-497E-9524-B6F1620C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9412-615C-4A79-8A9B-7843C830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2C57-CE9A-48CE-80F1-86FF7EC2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9AF-E6CD-4963-B38A-4E32AD0D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98F-9C3D-445D-8C70-51BACEF4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8C1-D435-4A64-B3F6-8A05D9F1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8DB5-230A-48FE-8BDC-923F9070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2991-26CE-45AF-A1E2-96143BC4D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59560" y="1500120"/>
            <a:ext cx="543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a_AlbionicTtlRg&amp;Bt"/>
              </a:rPr>
              <a:t>Развивающ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a_AlbionicTtlRg&amp;Bt"/>
              </a:rPr>
              <a:t>«Что лишнее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235600" y="3357720"/>
            <a:ext cx="54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Calibri"/>
              </a:rPr>
              <a:t>Цель: развитие зрительной памя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285920" y="500040"/>
            <a:ext cx="1428840" cy="221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2"/>
          <p:cNvSpPr/>
          <p:nvPr/>
        </p:nvSpPr>
        <p:spPr>
          <a:xfrm>
            <a:off x="3571920" y="1071720"/>
            <a:ext cx="1928880" cy="178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6643800" y="1071720"/>
            <a:ext cx="1643040" cy="164304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500280" y="4572000"/>
            <a:ext cx="1643400" cy="164304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964960" y="335772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_AlbionicTtlRg&amp;Bt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  <p:sndAc>
      <p:stSnd>
        <p:snd r:embed="rId1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Равнобедренный треугольник 1"/>
          <p:cNvSpPr/>
          <p:nvPr/>
        </p:nvSpPr>
        <p:spPr>
          <a:xfrm>
            <a:off x="928800" y="1643040"/>
            <a:ext cx="1643040" cy="19288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2"/>
          <p:cNvSpPr/>
          <p:nvPr/>
        </p:nvSpPr>
        <p:spPr>
          <a:xfrm>
            <a:off x="3357720" y="1643040"/>
            <a:ext cx="2143080" cy="207180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6500880" y="1714680"/>
            <a:ext cx="1785960" cy="19285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Равнобедренный треугольник 1"/>
          <p:cNvSpPr/>
          <p:nvPr/>
        </p:nvSpPr>
        <p:spPr>
          <a:xfrm>
            <a:off x="714240" y="1928880"/>
            <a:ext cx="1285920" cy="15001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2"/>
          <p:cNvSpPr/>
          <p:nvPr/>
        </p:nvSpPr>
        <p:spPr>
          <a:xfrm>
            <a:off x="2786040" y="2071800"/>
            <a:ext cx="1500120" cy="150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6929280" y="2214720"/>
            <a:ext cx="1357560" cy="12855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4"/>
          <p:cNvSpPr/>
          <p:nvPr/>
        </p:nvSpPr>
        <p:spPr>
          <a:xfrm>
            <a:off x="5000760" y="2000160"/>
            <a:ext cx="107136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299760" y="1357200"/>
            <a:ext cx="262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Неверно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2"/>
          <p:cNvSpPr/>
          <p:nvPr/>
        </p:nvSpPr>
        <p:spPr>
          <a:xfrm>
            <a:off x="2786040" y="2571840"/>
            <a:ext cx="3370320" cy="2643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пробу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Ещ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d"/>
    <p:sndAc>
      <p:stSnd>
        <p:snd r:embed="rId1" name="explod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Равнобедренный треугольник 1"/>
          <p:cNvSpPr/>
          <p:nvPr/>
        </p:nvSpPr>
        <p:spPr>
          <a:xfrm>
            <a:off x="642960" y="428760"/>
            <a:ext cx="2071800" cy="214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2"/>
          <p:cNvSpPr/>
          <p:nvPr/>
        </p:nvSpPr>
        <p:spPr>
          <a:xfrm>
            <a:off x="3429000" y="571680"/>
            <a:ext cx="2071800" cy="207144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6143760" y="714240"/>
            <a:ext cx="1785960" cy="1785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Овал 4"/>
          <p:cNvSpPr/>
          <p:nvPr/>
        </p:nvSpPr>
        <p:spPr>
          <a:xfrm>
            <a:off x="3786120" y="4286160"/>
            <a:ext cx="128592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3046320" y="3286080"/>
            <a:ext cx="283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1"/>
          <a:stretch/>
        </p:blipFill>
        <p:spPr>
          <a:xfrm>
            <a:off x="6480" y="1017720"/>
            <a:ext cx="9198000" cy="367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1214280" y="1500120"/>
            <a:ext cx="2428920" cy="228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5000760" y="1643040"/>
            <a:ext cx="3286080" cy="20718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>
            <a:hlinkClick r:id="rId1" action="ppaction://hlinksldjump"/>
          </p:cNvPr>
          <p:cNvSpPr/>
          <p:nvPr/>
        </p:nvSpPr>
        <p:spPr>
          <a:xfrm>
            <a:off x="5929200" y="2428920"/>
            <a:ext cx="2000520" cy="121428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Овал 2">
            <a:hlinkClick r:id="rId2" action="ppaction://hlinksldjump"/>
          </p:cNvPr>
          <p:cNvSpPr/>
          <p:nvPr/>
        </p:nvSpPr>
        <p:spPr>
          <a:xfrm>
            <a:off x="3571920" y="2428920"/>
            <a:ext cx="121428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Равнобедренный треугольник 3">
            <a:hlinkClick r:id="rId3" action="ppaction://hlinksldjump"/>
          </p:cNvPr>
          <p:cNvSpPr/>
          <p:nvPr/>
        </p:nvSpPr>
        <p:spPr>
          <a:xfrm>
            <a:off x="714240" y="2214720"/>
            <a:ext cx="1857600" cy="1500120"/>
          </a:xfrm>
          <a:prstGeom prst="triangle">
            <a:avLst>
              <a:gd name="adj" fmla="val 500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299760" y="1357200"/>
            <a:ext cx="262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Неверно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2"/>
          <p:cNvSpPr/>
          <p:nvPr/>
        </p:nvSpPr>
        <p:spPr>
          <a:xfrm>
            <a:off x="2786040" y="2571840"/>
            <a:ext cx="3441600" cy="2643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пробу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Еще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  <p:sndAc>
      <p:stSnd>
        <p:snd r:embed="rId2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572000" y="857160"/>
            <a:ext cx="2500200" cy="171468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2"/>
          <p:cNvSpPr/>
          <p:nvPr/>
        </p:nvSpPr>
        <p:spPr>
          <a:xfrm>
            <a:off x="1643040" y="857160"/>
            <a:ext cx="1785960" cy="178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Равнобедренный треугольник 3"/>
          <p:cNvSpPr/>
          <p:nvPr/>
        </p:nvSpPr>
        <p:spPr>
          <a:xfrm>
            <a:off x="3143160" y="3857760"/>
            <a:ext cx="2286000" cy="1928520"/>
          </a:xfrm>
          <a:prstGeom prst="triangle">
            <a:avLst>
              <a:gd name="adj" fmla="val 500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854440" y="28576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a_AlbionicTtlRg&amp;Bt"/>
              </a:rPr>
              <a:t>Правиль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428840" y="1357200"/>
            <a:ext cx="1428840" cy="221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3643200" y="1928880"/>
            <a:ext cx="1928880" cy="178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6715080" y="1928880"/>
            <a:ext cx="1643040" cy="164304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>
            <a:hlinkClick r:id="rId1" action="ppaction://hlinksldjump"/>
          </p:cNvPr>
          <p:cNvSpPr/>
          <p:nvPr/>
        </p:nvSpPr>
        <p:spPr>
          <a:xfrm>
            <a:off x="428760" y="1357200"/>
            <a:ext cx="1428480" cy="221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">
            <a:hlinkClick r:id="rId2" action="ppaction://hlinksldjump"/>
          </p:cNvPr>
          <p:cNvSpPr/>
          <p:nvPr/>
        </p:nvSpPr>
        <p:spPr>
          <a:xfrm>
            <a:off x="4143240" y="1928880"/>
            <a:ext cx="1928880" cy="178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143080" y="1928880"/>
            <a:ext cx="1643040" cy="164304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6572160" y="1928880"/>
            <a:ext cx="1643040" cy="164304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299760" y="1357200"/>
            <a:ext cx="262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Неверно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2"/>
          <p:cNvSpPr/>
          <p:nvPr/>
        </p:nvSpPr>
        <p:spPr>
          <a:xfrm>
            <a:off x="2786040" y="2571840"/>
            <a:ext cx="3441600" cy="2643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пробу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Ещ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29:38Z</dcterms:created>
  <dc:creator>storm</dc:creator>
  <dc:description/>
  <dc:language>en-US</dc:language>
  <cp:lastModifiedBy>ОЕМ</cp:lastModifiedBy>
  <dcterms:modified xsi:type="dcterms:W3CDTF">2009-08-10T00:21:24Z</dcterms:modified>
  <cp:revision>3</cp:revision>
  <dc:subject/>
  <dc:title>Слайд 1</dc:title>
</cp:coreProperties>
</file>