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0D2-A330-4F48-8142-84887AA9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443-C949-47CA-9CC3-20C0843F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8BA-BCEB-4B4E-9173-1614EC84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A53-151C-44DC-96C0-6CA7CD63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528-1A59-497B-AE69-5A96C04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531-0A57-427E-98F7-116AC041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AF3-1A92-4B8A-BA1A-D9362C4F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77D-9C60-4844-A7F4-0042E1075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0EC-EB9D-4E62-BEA8-348BCA8F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3721-64CF-4354-B953-8D5BC9D7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568-7B32-4DA9-8F8A-766BA116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786-3F0C-437A-8038-66D2BFFE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EAF5-836D-42B5-8A04-914AB438B2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1676520" y="1378080"/>
            <a:ext cx="6381720" cy="135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379160" y="3143160"/>
            <a:ext cx="69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ntiqua"/>
              </a:rPr>
              <a:t>Цель: развивать умение ориентироваться на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j49379_1246858299.png"/>
          <p:cNvPicPr/>
          <p:nvPr/>
        </p:nvPicPr>
        <p:blipFill>
          <a:blip r:embed="rId3"/>
          <a:stretch/>
        </p:blipFill>
        <p:spPr>
          <a:xfrm>
            <a:off x="3286080" y="3357720"/>
            <a:ext cx="2457360" cy="3071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14920" y="407196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j54190_1231180876.png"/>
          <p:cNvPicPr/>
          <p:nvPr/>
        </p:nvPicPr>
        <p:blipFill>
          <a:blip r:embed="rId6"/>
          <a:stretch/>
        </p:blipFill>
        <p:spPr>
          <a:xfrm>
            <a:off x="1643040" y="3643200"/>
            <a:ext cx="2935440" cy="29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верх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j49379_1246858299.png"/>
          <p:cNvPicPr/>
          <p:nvPr/>
        </p:nvPicPr>
        <p:blipFill>
          <a:blip r:embed="rId1"/>
          <a:stretch/>
        </p:blipFill>
        <p:spPr>
          <a:xfrm>
            <a:off x="2928960" y="2000160"/>
            <a:ext cx="3386160" cy="42325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267264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j54190_1231180876.png"/>
          <p:cNvPicPr/>
          <p:nvPr/>
        </p:nvPicPr>
        <p:blipFill>
          <a:blip r:embed="rId6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правом верхне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j68067_123451977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86040" y="23572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856600" y="128592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3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j54190_1231180876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j54190_1231180876.png"/>
          <p:cNvPicPr/>
          <p:nvPr/>
        </p:nvPicPr>
        <p:blipFill>
          <a:blip r:embed="rId1"/>
          <a:stretch/>
        </p:blipFill>
        <p:spPr>
          <a:xfrm>
            <a:off x="2357280" y="2143080"/>
            <a:ext cx="4149720" cy="4149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2286000" y="1071720"/>
            <a:ext cx="48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91ed58879d0f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j49379_1246858299.png"/>
          <p:cNvPicPr/>
          <p:nvPr/>
        </p:nvPicPr>
        <p:blipFill>
          <a:blip r:embed="rId3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post-30397-1234556612.png"/>
          <p:cNvPicPr/>
          <p:nvPr/>
        </p:nvPicPr>
        <p:blipFill>
          <a:blip r:embed="rId4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j68067_123451977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j54190_1231180876.png"/>
          <p:cNvPicPr/>
          <p:nvPr/>
        </p:nvPicPr>
        <p:blipFill>
          <a:blip r:embed="rId7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пра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91ed58879d0f.png"/>
          <p:cNvPicPr/>
          <p:nvPr/>
        </p:nvPicPr>
        <p:blipFill>
          <a:blip r:embed="rId1"/>
          <a:stretch/>
        </p:blipFill>
        <p:spPr>
          <a:xfrm>
            <a:off x="3000240" y="1643040"/>
            <a:ext cx="2648160" cy="46148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458440" y="50004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серед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post-30397-1234556612.png"/>
          <p:cNvPicPr/>
          <p:nvPr/>
        </p:nvPicPr>
        <p:blipFill>
          <a:blip r:embed="rId1"/>
          <a:stretch/>
        </p:blipFill>
        <p:spPr>
          <a:xfrm>
            <a:off x="2857680" y="1928880"/>
            <a:ext cx="4485960" cy="44863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7442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42:25Z</dcterms:created>
  <dc:creator>storm</dc:creator>
  <dc:description/>
  <dc:language>en-US</dc:language>
  <cp:lastModifiedBy>ОЕМ</cp:lastModifiedBy>
  <dcterms:modified xsi:type="dcterms:W3CDTF">2010-01-21T07:09:26Z</dcterms:modified>
  <cp:revision>5</cp:revision>
  <dc:subject/>
  <dc:title>Слайд 1</dc:title>
</cp:coreProperties>
</file>