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341-CA51-41C9-9053-F76EEFE7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AFE0-1021-420A-BB34-238C5E7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F1914-0D3F-4BFC-BC20-97CAECA2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F104A-6B95-4BD0-95ED-BEF8083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EE2B-70BB-4FF3-B71A-0E6853AB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3DC6B-CE35-4A76-8A8A-3AF5A48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FC0A2-9647-430F-8F34-246AAD18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9B0CB-BE27-4F58-9CC3-03E83CE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F2E74-258F-4309-9BBC-66F521A9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9BAF2-012F-4B94-8318-865B322F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31646-B197-4002-B00F-92251ED6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FBF-54E0-4DF1-9FA4-A597C969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DAF-D75F-4AA0-976D-ABAE4E09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497F-E083-4FEF-AEE4-8A109673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57B4-0A28-4220-A843-3473CE3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22A-62E9-49C5-9528-16915A96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EF75-3B0E-4D9E-A9E2-29800E2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D1C-E6C9-481B-9A1D-F81E6E3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0A13-FC2B-4E9E-87F2-7BE4FAF9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1BC4-DF48-4AAB-821B-3B1F8FE9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60E4-E19B-4D25-8FB1-A3A6DA86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2D56-542A-432C-AAC2-9114C26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7045-202D-444B-AAB8-B07610F3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C518-AA60-4B09-B485-DE4B49CC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9898-14F6-483D-B704-81846F12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8CCA-8840-478A-AAFA-988B4E99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0C02-7CF5-425E-AAAA-8CDE2867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1BA9-76B7-4BB7-BE56-4426CFF3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84024-1D4E-4B63-8762-BAD1BD8C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95D8F-25E8-4A72-B120-08FC087E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AA0DE-5A0D-444F-8298-1FAA36E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F9A-26F1-4DA7-A531-EDDB847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CAF5-A49E-4832-937C-3AE391B8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735A-27BF-4949-90D9-3EDD1D7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CAC4-6193-4F69-B518-099197F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FB2E-16D7-4CDB-AB93-05BEC4F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8D71-1581-4448-9E9F-B64B153C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5E478-C4BE-4CA6-ABAA-E6F5213C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F424-3B1B-4320-BEBB-B5604288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C603-6F42-478E-8FCF-03A2436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D545-8396-4C09-B63C-2A9C468F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274C-C6F1-44CC-A59E-A6E2203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470-BBA6-4C8A-AC43-0DC36419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1647-DEA1-4636-BD0A-053197A1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FEAB9-51F8-4056-B6B6-180013C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FE096-1CB8-417A-9D24-1A086491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EB90B-5268-4D0D-9A73-484DAC9B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8972-7928-4475-91E0-1B65B93E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FA25-2033-4172-AF0B-C0DB2169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D2A1-8E54-4D07-A1BA-1B4F8ABF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80D46-258C-4604-8FFF-11A9D6A1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ECF3-E6B8-4A2E-96A9-3877ABFB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BA93B-B52F-4BC0-8075-0A8B538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062-F46A-4C49-A8DD-0D0FF19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5C09E-FAEA-4025-AEEE-CEDD63E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0304F-ECBB-467D-B988-7DB8BE4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A5D58-6E4B-4807-B51F-FE8627C1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AF283-A809-42A0-84C0-ECDE834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3EB32-F614-47CE-81E9-66FD0C1A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ADA0-1931-4F9C-93FF-26D27DB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42C8-B587-44C4-A34F-6ED9548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FD584-31A2-452E-A495-70932DA8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F6245-7F8D-4377-A61B-3750281E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4EB5-821D-42E5-BE41-7A699CCE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F8A-5786-44B2-A929-661ADF3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C62A9-7F80-4DCE-871A-01223CAC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FD5BB-3CF8-419B-BC27-0BFC49ED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AB410-6AE7-4D41-B846-9B4C6486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B5ADB-349B-4959-B30F-0EF251BC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F123-E266-405A-AF00-98DE6E0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FAF22-4B95-4F94-B25B-D76872F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6D173-253B-4C9E-936D-3BDA156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84965-D97B-40F1-8774-F84C3CEB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D23FD-144D-4465-9385-6F177C4C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1433E-95D4-47AE-8DA4-5EB7A096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294-D774-46DB-8B5C-DE25FFAF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FAE7-6945-4DE5-AEBA-74633D91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93714-5053-4064-B350-D9AB17A1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BE73-370F-4D55-AE27-C0F069BC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11FE3-DDAE-4FEA-868D-BC0D6227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CE1C7-B631-4D2D-B64A-8A47DE3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6395-DD96-4126-AFC5-26968701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B2D7-AA42-43D2-89AB-DD434BE3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D6F7B-3F79-4FF7-97E6-156483F1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FDA5-641C-4FB4-ADAD-0B88CB2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175DE-D462-4FB5-8CB1-3CB82BE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FBC-B66B-4563-858F-407DD9D2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2152-AD05-40A2-9C6E-CAB5538F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97EFB-68B1-42A7-B065-5BF6BF08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EE66-E728-4E90-B343-BAC5944B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FD3DA-D386-4A79-9869-7CF4AE1C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B3D9-15CE-424D-A093-22411CE87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36546-26F5-40EF-A057-223562282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51E5B-B371-4019-8896-86055397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AE209-E91B-4B6C-B969-14CF0E62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9DBBD-78A1-4335-954F-4FD45480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EA530-14F1-4820-A469-F646773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E9C-4215-4B55-B6EA-F6E0BBB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E68E-3114-4693-A6D3-109BFDF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03EA8-1889-4D53-92E8-7438CADC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509B5-A8A9-424D-A7E3-341C955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44BA0-4197-4EF0-90ED-439BDA1B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B8B83-9297-43B5-9EE0-3C3E261E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1B69-3C44-458E-BF98-DB8A4A1B0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26B6-D36C-4EE4-BA31-A26C0B08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0F107-DEAE-4455-AEC5-A1017B3B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E8529-6245-4774-A765-2CC2FE1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E2369-BC29-4AFA-9B03-63D0CAC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7908-5CE6-4B55-858B-A70AD793A66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DEF1-B9B6-4410-A627-A3FBE6A7BBE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1986-287B-4CFB-BF7C-C22924C8B49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20B9-5657-4250-ACC0-D0A1343C620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28CD-368B-4485-AF6E-CB18561A4EC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A47B-42C4-403A-ACDB-81F6D5B6C63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5C3E-A078-49F7-B302-C51A87C1CC8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8368-652A-4834-8C3C-DC3ED08BB1D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5FB-EC0E-4833-B6B7-116AF4EF55D6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9080" y="1079640"/>
            <a:ext cx="6686640" cy="2455560"/>
            <a:chOff x="1189080" y="1079640"/>
            <a:chExt cx="6686640" cy="245556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9080" y="1079640"/>
              <a:ext cx="6686640" cy="24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3759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3759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3775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3791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/>
          <p:cNvPicPr/>
          <p:nvPr/>
        </p:nvPicPr>
        <p:blipFill>
          <a:blip r:embed="rId16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3806.wav" descr=""/>
          <p:cNvPicPr/>
          <p:nvPr/>
        </p:nvPicPr>
        <p:blipFill>
          <a:blip r:embed="rId17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/>
          <p:cNvPicPr/>
          <p:nvPr/>
        </p:nvPicPr>
        <p:blipFill>
          <a:blip r:embed="rId18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3822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859120" y="2146320"/>
            <a:ext cx="3054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Психолог</cp:lastModifiedBy>
  <dcterms:modified xsi:type="dcterms:W3CDTF">2018-02-26T07:18:41Z</dcterms:modified>
  <cp:revision>16</cp:revision>
  <dc:subject/>
  <dc:title>Слайд 1</dc:title>
</cp:coreProperties>
</file>