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841-A876-49C0-9A58-73E2E4F8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5C8-EF30-4FE3-8F01-EFBA44A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BEF-D9A9-4289-9D7F-FD56DD2E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623-431F-4BBF-9CF8-44CE3FC4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39A-7190-417F-8AB7-23AD9550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F70-A0D0-443A-8794-656F74C9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DDE-BD78-41CD-BC0B-9DD8A4F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30ED-1F1C-433E-BD2F-654C9C3E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9372-F79E-4525-BE01-DB51D647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32FE-DBD3-4F55-8653-4ABD4A3D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B8A-FBC4-458E-9A59-E10F778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CCE-DD10-4A7C-BC72-D8A612D3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57DE-BE35-4EB4-9DE5-105FEF3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E64-9FAF-43AE-8280-AE3F16E7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AEA5-EEAB-4A80-B423-82E80B7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39EC-132D-40B1-B2DE-0BC29134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338-462A-40EA-993C-293AE8F9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9C06-158D-4F71-91D4-00B12003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E389-39DF-4E04-9E4E-868B6DD5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C352-AF47-417E-BAED-E80B9DB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AFD6-19E2-45E0-ABDC-8779B75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9AA5-4CEB-4106-9BE4-363A584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2E4-667B-46A8-B416-46F915B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F6AA-8404-449B-8AF7-7BF8DB4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D881-E1EB-4452-A775-A66166F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646A-9580-4B65-A55A-6E05973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3ED3-DDF6-44DF-9C16-BBC5740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C56A-0558-44D3-ABE1-F471E1B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BB62-5A9F-434E-99A6-6FFBADA1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80F2-DDC8-4C51-86A1-F2D710F0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B62-D1F3-4B71-9EB7-F85D8018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CEE-5185-466A-9A00-BF6EF3E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04C-9DFC-477B-A570-0ABA8D73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10A-EC99-47AD-BE4F-17E61BF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5E0-5991-48AB-98B2-F5E9D5A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0ED-848B-4CFB-8006-7ABB7B5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D2AC-CB6A-44F5-8C7E-92C826FDB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0D1-1AFC-4BB7-B58D-CB0E5146F38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7E9-5796-47EB-A89C-9519E30BC54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picture"/>
          <p:cNvPicPr/>
          <p:nvPr/>
        </p:nvPicPr>
        <p:blipFill>
          <a:blip r:embed="rId1"/>
          <a:stretch/>
        </p:blipFill>
        <p:spPr>
          <a:xfrm>
            <a:off x="0" y="0"/>
            <a:ext cx="64674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3" name="Text Box 5"/>
          <p:cNvSpPr/>
          <p:nvPr/>
        </p:nvSpPr>
        <p:spPr>
          <a:xfrm>
            <a:off x="4048200" y="1865160"/>
            <a:ext cx="48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 rot="216600">
            <a:off x="1619280" y="428760"/>
            <a:ext cx="6697800" cy="642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нологической речи на баз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удожественног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611280" y="189000"/>
            <a:ext cx="409572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nglish I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ader: Lesson 2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 Little Dog Wolf”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184464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Цели урока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. Учебна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Формирование  навыков устной речи, ч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адаптированного художественного текст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извлечением конкретной   информации.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. Практическая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Активизация в употреблении в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учащихся  ранее изученной лекс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 частности по теме «Animals».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. Образов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расширение кругозора,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способности анализировать,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ыражать своё м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Задачи</a:t>
            </a:r>
            <a:r>
              <a:rPr b="1" i="1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урока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03dff"/>
                </a:solidFill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ведение нового и закрепление пройд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лексического и грамматическ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2.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Формирование  навыков чтения и пере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3. Активизация в употреблении лексики по теме «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Animals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обучение пересказу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Учебные пособ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интерактивная до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презентация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по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теме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 “My little Wol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403280" y="1126800"/>
            <a:ext cx="6840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Georgia"/>
              </a:rPr>
              <a:t>волк</a:t>
            </a:r>
            <a:r>
              <a:rPr b="0" i="1" lang="en-US" sz="2800" spc="-1" strike="noStrike">
                <a:solidFill>
                  <a:srgbClr val="00b200"/>
                </a:solidFill>
                <a:latin typeface="Georgia"/>
              </a:rPr>
              <a:t>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 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жить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.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будка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 do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однажды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one day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выбегать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из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run ou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встречать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убегать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run away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за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ними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ft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счастливый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happy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курица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   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1332000" y="189000"/>
            <a:ext cx="52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ad the words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211640" y="1557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Match the English and Russian vari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69608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. a wolf                   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.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стречать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2. to live                    b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ж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3. a doghouse               c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за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н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4. one day                  d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5. to run out of            e.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счастлив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6. to meet                  f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ыбегать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и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7. to run away              g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кур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. Little Wolf lives in a ……    doghouse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2. One day Wolf runs out of   his ……. 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3. He wants to play with 2 little …… 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Kitt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4. Wolf meets 5 little …..  chicks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Hous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5. Mother Hen doesn’t …. away from the dog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6. Little Wolf likes his…..  doghou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404640"/>
            <a:ext cx="691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mplete the sentences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1116000" y="189000"/>
            <a:ext cx="65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00ff"/>
                </a:solidFill>
                <a:latin typeface="Impact"/>
              </a:rPr>
              <a:t>Match the parts of the sentence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00ff"/>
              </a:solidFill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257480" y="4757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826920" y="1291320"/>
            <a:ext cx="83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. Wolf 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a) to run and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2. He liv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b) five little yellow chic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3. Wolf w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c) a brown and white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4. He me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d) in a little doghou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5. But the kitt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e) like h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6. Wolf me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f) afte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7. But th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g) to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8. Suddenly he meet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h) two little kitt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9. She run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i) run away from him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0. Wolf doesn’t wa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j) Mother 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1. He want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k) run away from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12. There is no 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) to go home to his green dog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820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1.Wolf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 живёт в маленьком зелёном доме.</a:t>
            </a:r>
            <a:r>
              <a:rPr b="0" i="1" lang="ru-RU" sz="28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2. Однажды он хочет побегать и  поиграть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3. 2 котят не хотят с ним играть.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4. 5 цыплят убегают от него тоже.</a:t>
            </a:r>
            <a:r>
              <a:rPr b="0" i="1" lang="ru-RU" sz="2400" spc="-1" strike="noStrike">
                <a:solidFill>
                  <a:srgbClr val="00b2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5.Мама Курица бежит за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Wolf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6.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Он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хочет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идти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домо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684360" y="47628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ranslate from Russian into Englis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258920" y="5950080"/>
            <a:ext cx="7705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lives in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wants 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don</a:t>
            </a:r>
            <a:r>
              <a:rPr b="0" i="1" lang="ru-RU" sz="1800" spc="-1" strike="noStrike">
                <a:solidFill>
                  <a:srgbClr val="666699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t want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un away from </a:t>
            </a:r>
            <a:r>
              <a:rPr b="0" i="1" lang="en-US" sz="1800" spc="-1" strike="noStrike">
                <a:solidFill>
                  <a:srgbClr val="cc99ff"/>
                </a:solidFill>
                <a:latin typeface="Arial"/>
              </a:rPr>
              <a:t>runs 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wants to go 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 rot="21157800">
            <a:off x="394920" y="1844640"/>
            <a:ext cx="791856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tell the story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6:13:28Z</dcterms:created>
  <dc:creator>***</dc:creator>
  <dc:description/>
  <dc:language>en-US</dc:language>
  <cp:lastModifiedBy>Трям</cp:lastModifiedBy>
  <dcterms:modified xsi:type="dcterms:W3CDTF">2018-08-20T11:13:47Z</dcterms:modified>
  <cp:revision>3</cp:revision>
  <dc:subject/>
  <dc:title>Слайд 1</dc:title>
</cp:coreProperties>
</file>