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3E7-26D2-4D71-BAF1-B18DB3B4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56D-81A9-499D-BB85-D2F73898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225-F513-41DD-86F5-178D5FCB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7BEA-BB16-4F40-8A70-45950DD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10D-C715-4C6E-98A8-4B0465D0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311-9B72-4B36-A04A-6DD67E8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C23-23D3-4AA2-832C-1B6EAF6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BFA4-BA5F-4B70-8907-906F629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6582-E21F-4528-A14E-734A16F0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619A-F8CB-4256-908C-52DA70B9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440D-408F-4261-AF52-334AB1D0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FF1-BF8A-46B3-AB5D-1A664100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CDAD-9F24-4CF2-BEBE-6EDED40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ED7C-1EE1-4673-9CF3-2DD525A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8119-4C62-4679-B96C-1B1538EC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F027-288F-4DEF-9C08-5DC600F8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5C6-35E0-4BA8-946D-7B14E1CAF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18AF6-57AD-4F9B-A447-582CE79C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6FBD-B295-40F5-B8AB-64530243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41E0-621D-4C6E-9CDB-FB6EB45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36DDA-57E1-46E9-AAC0-E331BB89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810D-1D0C-4D4A-B8C0-DFECEC1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B87-B4FB-43E9-9F6C-09ADC4D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EC741-EC34-4C21-AF02-46141883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3CA2-D947-4655-9777-A145800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F5B1-BAC2-407C-9D62-DFC913A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08B7-0A69-4F8D-9480-56FDAAA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4581-3008-47B0-9DA2-6FC3A916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40EC1-654F-4810-85AA-C71E7EBE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482B-8410-4846-B394-26422D16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61E35-F5CD-40CE-A7D7-94FBEFAC8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A15E-D936-42AF-A757-8887E9D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DA57-38AC-487F-B2D0-859F5F0B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856-58FF-41CB-A031-3395FC9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13788-617E-4D03-A654-FFC874D9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4ED8-D771-4B4B-8E2C-34C488A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9698B-3246-47B9-BB26-B105A6E3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6DA0E-4EBA-4F0F-9323-74D9B11D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F2CDA-29DB-421E-B175-4C5125C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EC92-DC3D-4A97-9F70-053FDEE3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74BB-6397-4949-9E7B-1867E10A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195A-BA5A-499D-BF34-26EDF2FE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6377D-40A1-4AE5-925A-4D7D76A6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9289A-7E88-43E2-B4C7-B6896BF2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D0B4-C224-4D01-8460-4C4F572C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4B8DE-CF2F-4AB3-8C72-392DA1C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2387-F89F-486B-A928-60A98F9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48E9E-B527-4007-B0AF-306C5D85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0E1C3-9CA5-423C-BDE8-82750C3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56DA9-0E6D-4AD9-84BE-389D8ABE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9058-75B3-4D40-B500-82786588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FFF0-846F-4C20-A8BB-0812799C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4FF2D-A0DD-401D-98DB-BDEDA645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0B469-65AF-4464-AE74-3A43F9E9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68A6-7FF1-47CE-814C-EE420CC2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0B5-B5F4-481D-B64E-B5600FE9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05E0D-76CF-422F-9BCD-CD9C9812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3CA-F936-4304-88FB-9417E46C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B8FA-8FD7-4814-8B85-4E230B27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820-C7BF-45E4-AFD7-08C4200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915-AFDF-4592-AF59-4D3836D2D4D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1180-6FB7-4836-B038-484C2A25CD0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6C1-900D-4C15-9929-52D942D6E5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96AD-90AB-4AE5-B2D9-9B72C5AD69C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99C2-C91F-4D7F-85BB-F0CFED820E9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2 «В» класс, 2017-2018 уч. год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12 апре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одительское собр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Содержимое 3" descr="спорт.jpg"/>
          <p:cNvPicPr/>
          <p:nvPr/>
        </p:nvPicPr>
        <p:blipFill>
          <a:blip r:embed="rId1"/>
          <a:stretch/>
        </p:blipFill>
        <p:spPr>
          <a:xfrm>
            <a:off x="250920" y="404640"/>
            <a:ext cx="86821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Содержимое 3" descr="спорт 1.jpg"/>
          <p:cNvPicPr/>
          <p:nvPr/>
        </p:nvPicPr>
        <p:blipFill>
          <a:blip r:embed="rId1"/>
          <a:stretch/>
        </p:blipFill>
        <p:spPr>
          <a:xfrm>
            <a:off x="755640" y="620640"/>
            <a:ext cx="75661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Содержимое 3" descr="спорт 2.png"/>
          <p:cNvPicPr/>
          <p:nvPr/>
        </p:nvPicPr>
        <p:blipFill>
          <a:blip r:embed="rId1"/>
          <a:stretch/>
        </p:blipFill>
        <p:spPr>
          <a:xfrm>
            <a:off x="539640" y="544680"/>
            <a:ext cx="7920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1280" y="765000"/>
            <a:ext cx="89251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10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72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71280" y="404640"/>
            <a:ext cx="89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4:56:03Z</dcterms:created>
  <dc:creator>Андрей</dc:creator>
  <dc:description/>
  <dc:language>en-US</dc:language>
  <cp:lastModifiedBy>Андрей</cp:lastModifiedBy>
  <dcterms:modified xsi:type="dcterms:W3CDTF">2018-08-20T08:53:48Z</dcterms:modified>
  <cp:revision>22</cp:revision>
  <dc:subject/>
  <dc:title>Родительское собрание</dc:title>
</cp:coreProperties>
</file>