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3993-2BFE-460B-A807-D66F49444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C98-E7AD-457A-AD34-FDCC61DE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B54B-3DFE-449B-BB5F-1D9F8F29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FC3A-E3EC-4394-A439-026C4B6F5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5BF1-9DA3-41F0-9107-5CE93319C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7CDF-15B8-4807-B04D-7B5B2BA6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3BA9B-6085-4EA0-8C63-2DE6D5D4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59216-7692-4D6E-B6BB-35CF129B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A9C3-6404-46B6-B174-03788EAB9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8BCF-6CD5-4EC2-9302-7E46EE682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5B9C8-5E6B-41B5-A2D9-0CB19A62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F44F-BC86-4F66-AA74-8EC4C092E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C7A9A-19B8-4A2D-A73A-0A74AB79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BA51-0C68-4D33-BF1A-8B7D34DB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E45BD-39E3-4977-A471-DE8541B5F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F3BE9-30CE-4C2E-9FC9-0C4131FC0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FDB8-589A-4F9A-BE54-EC0608950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9FD25-F66F-4FA3-B7CA-8A4DC9314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ABA37-7171-4D24-8EAC-776DC899A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49E39-B0B1-4A4D-9AF2-8BE5ED040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792D1-ED09-4EEE-A11F-2E892E8C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A1C8E-0D11-46FB-AFA8-5FB1D6924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F889-6570-4330-A2C7-440993E3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A15A9-0869-4A8A-9F07-2D81D7B42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7809-5C73-4910-A0D4-717998BF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ABA25-755F-40FD-A070-7BD40963F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903888-196A-4444-99FB-28C7E6DEB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5EA66-565F-426B-9215-465C30C6F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341B2-BDEA-4272-8BFE-751EBD48E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0DCD5-1D0A-4044-B627-2E1AB5DBF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F6F4B-52F4-464F-9394-937F1228F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0D8F-9D21-4641-8DD2-AB5402DA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D1309-429A-4113-A2BB-8A9A925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9538-C3B9-4DFA-85E4-43883FCBF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5D64-4C69-4515-9C60-9D941019C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F2375-1E0D-4787-B29C-29F85572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3626-EA78-4B4E-A608-4AEDBC3B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831BE-6B1B-47BA-AF9D-2036DE528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DD0BD-CEAA-4D19-BA1E-9C77CA3D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BA9D-78ED-4D88-9FC4-64A2BF00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E956D-F59E-4FFF-B90B-83AED60FD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C0C121-3959-4DF2-BDAE-24517F79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89E3-2961-426A-81C5-04997E405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AA95B-AB25-4376-9E28-2C2CEF743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F2E2-124B-4431-B91C-20C43F7B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854395-DAD2-4139-847F-F4759BFC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F6D17-CD55-4EC4-87FD-2A032532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E1943E-F016-4014-B4AB-4F15DD9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FDD52-1691-4F15-92A3-6FF9314C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B682F7-990E-4A0D-98C9-7977EDC0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3C9C1-22B7-412A-B28C-BA329A58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3F98F-E0AF-4801-9442-68D16D97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3CCA1-52CA-461D-B92A-2A0FBA7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9A9E3-992D-406B-AE7E-1286DD99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E6D8-E669-4BF7-A84B-4368A883D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5B87-1A02-4B36-9FF7-FC38D1FB3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29E1E-109F-4FCA-8DA8-930FD3EA5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48FA-5301-4FC8-B815-4A91B8D4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502-0A13-47EE-9700-F578F8139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F87-5D75-4A19-9FFD-2EFB8F039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51C6-AE1A-49C7-BD5B-032C9BFCAAE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F16C-EC80-4C7C-A205-6C4248CECA6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231E-CF21-4B41-98F4-AE81BFC5FCEC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9BE4-0810-492E-B1B8-F50EFD1CB7F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7A4A-22B2-4BE9-AC46-C7EF39ABB5A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2 «В» класс, 2017-2018 уч. год</a:t>
            </a: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Cambria"/>
              </a:rPr>
              <a:t>12 апрел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Calibri"/>
              </a:rPr>
              <a:t>Родительское собрание</a:t>
            </a:r>
            <a:endParaRPr b="0" lang="en-US" sz="6000" spc="-1" strike="noStrike">
              <a:solidFill>
                <a:srgbClr val="696464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1" name="Содержимое 3" descr="спорт.jpg"/>
          <p:cNvPicPr/>
          <p:nvPr/>
        </p:nvPicPr>
        <p:blipFill>
          <a:blip r:embed="rId1"/>
          <a:stretch/>
        </p:blipFill>
        <p:spPr>
          <a:xfrm>
            <a:off x="250920" y="404640"/>
            <a:ext cx="868212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3" name="Содержимое 3" descr="спорт 1.jpg"/>
          <p:cNvPicPr/>
          <p:nvPr/>
        </p:nvPicPr>
        <p:blipFill>
          <a:blip r:embed="rId1"/>
          <a:stretch/>
        </p:blipFill>
        <p:spPr>
          <a:xfrm>
            <a:off x="755640" y="620640"/>
            <a:ext cx="756612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35" name="Содержимое 3" descr="спорт 2.png"/>
          <p:cNvPicPr/>
          <p:nvPr/>
        </p:nvPicPr>
        <p:blipFill>
          <a:blip r:embed="rId1"/>
          <a:stretch/>
        </p:blipFill>
        <p:spPr>
          <a:xfrm>
            <a:off x="539640" y="544680"/>
            <a:ext cx="7920000" cy="55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71280" y="765000"/>
            <a:ext cx="892512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91072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1723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71280" y="404640"/>
            <a:ext cx="896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0T14:56:03Z</dcterms:created>
  <dc:creator>Андрей</dc:creator>
  <dc:description/>
  <dc:language>en-US</dc:language>
  <cp:lastModifiedBy>Андрей</cp:lastModifiedBy>
  <dcterms:modified xsi:type="dcterms:W3CDTF">2018-08-20T08:53:48Z</dcterms:modified>
  <cp:revision>22</cp:revision>
  <dc:subject/>
  <dc:title>Родительское собрание</dc:title>
</cp:coreProperties>
</file>