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24C-C5DE-44B4-91A0-3E7BFF46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F775-4A0A-4AA2-A6FA-874EA97A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B87C-B0FE-4406-9535-9D78106BC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2F8-EDFA-4631-8C0B-ACFE894DA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7AE1-4889-462B-BAF8-52572DB34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EC429-1D70-4471-A984-7EC4EEAC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ADDF-4CD0-42AD-BE16-E22120D1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AAA4-8247-483A-85EE-16F7F96B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7865-C3CC-49CA-8FB1-E1D182DA2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7A49-4F26-49AA-B896-A6C1D2DD5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AADE-B808-44A1-8730-3046DBE0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D7DB-FB09-469E-B140-6820D512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4E80-DEE5-4008-B2E5-FB3DF502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16530-0181-429D-8F65-552CD793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94DD-3320-4F34-8AE2-1327E48F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6DAD-0D46-439C-AE7A-5C18D6261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71A5-5128-472F-A92C-1F4CF51B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7FE61-BAF5-4AC2-984B-BE699A0C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A5A7C-A0E4-450A-956F-C1148F6C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1D7B5-162C-41D6-924D-2AFF7F29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F713E-CF98-4738-827C-8CEA4895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C2D14-2BA1-43D9-AD11-6A103518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7276-3779-4C61-ABD0-5F05EF0D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7255-2863-4AC8-8FDA-B0A67D3C4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0BEFC-B4FA-40E3-9284-060BD27E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430FA-5D24-452F-95C4-CDB8EE0F1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7660-E122-4F36-80E5-6D2025BA5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D7E8A-02A4-46D4-A095-A6C84062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FACE-4DA0-4917-94F4-01CBE2411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94CA7-201A-4B89-8F23-3E13A8ECB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3EC95-DD4E-4063-B8AC-C9347F05E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5EBE22-B234-46D0-A48A-C025AFD6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4B603-ACC5-4A17-9F3B-9EA37992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EDAE-13B5-4876-A508-39268895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9E4E-EBA3-4842-BFEF-12B1B793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5BD54-3A6E-4260-80F5-5E098A1AB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DE03C-9933-46A4-97C0-DA59BBCB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25D80-28D7-408A-8A3C-D185206F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83A46-A5F5-4575-94C6-8A121A2B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43EE7-8AA8-4946-BF8E-BD7E43B6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EBD73-22E2-4F84-B2D2-5C110DCA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0665D-ACEB-4C4D-853C-CBA64FBF8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85C00-9AC8-473B-B7E6-4BEB2FB44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333E-5AF0-468C-8F55-BE6507F1E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586B-B660-46B6-856D-F0B8D8BC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E78-5B1B-42CE-8A9B-F5CC090C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C26-2030-4D0C-B631-C4F545E9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C7F-C0AB-44F3-9045-A43594E1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22B2-F52B-40DC-A07D-94DC133E3E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8E777-5A8D-40A2-A09F-CFC5397C08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53B1-A8E9-466C-966A-19565637EA5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9759-7FF1-4421-8279-DA5840FB4B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forum.akademroditel.ru/" TargetMode="External"/><Relationship Id="rId2" Type="http://schemas.openxmlformats.org/officeDocument/2006/relationships/hyperlink" Target="http://go.mail.ru/" TargetMode="External"/><Relationship Id="rId3" Type="http://schemas.openxmlformats.org/officeDocument/2006/relationships/hyperlink" Target="http://www.teacherjournal.ru/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urvinat.ru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чки детям не игрушк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95280" y="5214600"/>
            <a:ext cx="813744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7f00fe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МКДОУ «Вишенка» №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                                                                                          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пгт Яблоновк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Подгоовила: Зенина М.В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Антон\Downloads\images (2).jpg"/>
          <p:cNvPicPr/>
          <p:nvPr/>
        </p:nvPicPr>
        <p:blipFill>
          <a:blip r:embed="rId1"/>
          <a:stretch/>
        </p:blipFill>
        <p:spPr>
          <a:xfrm>
            <a:off x="0" y="0"/>
            <a:ext cx="5564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оги соседя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C:\Users\Антон\Downloads\images (6).jpg"/>
          <p:cNvPicPr/>
          <p:nvPr/>
        </p:nvPicPr>
        <p:blipFill>
          <a:blip r:embed="rId1"/>
          <a:stretch/>
        </p:blipFill>
        <p:spPr>
          <a:xfrm>
            <a:off x="4356000" y="1989000"/>
            <a:ext cx="4103640" cy="45039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4"/>
          <p:cNvSpPr txBox="1"/>
          <p:nvPr/>
        </p:nvSpPr>
        <p:spPr>
          <a:xfrm>
            <a:off x="826920" y="3860640"/>
            <a:ext cx="30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ички детям не игруш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стно скажем вам, друзь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спичка загоритс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жет в дом прийти бе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жарная машина придёт на помощ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dob.1september.ru/2002/15/12.jpg"/>
          <p:cNvPicPr/>
          <p:nvPr/>
        </p:nvPicPr>
        <p:blipFill>
          <a:blip r:embed="rId1"/>
          <a:stretch/>
        </p:blipFill>
        <p:spPr>
          <a:xfrm>
            <a:off x="3851280" y="263700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193" name="WordArt 4"/>
          <p:cNvSpPr txBox="1"/>
          <p:nvPr/>
        </p:nvSpPr>
        <p:spPr>
          <a:xfrm>
            <a:off x="395280" y="3573360"/>
            <a:ext cx="341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ы пожарников отря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ки весело гор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локольчики звен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пустить скорей веля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003d"/>
                </a:solidFill>
                <a:latin typeface="arial cyr"/>
                <a:ea typeface="Times New Roman"/>
              </a:rPr>
              <a:t>Тили-бом, тили-бом! Загорелся Кошкин дом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468360" y="3157920"/>
            <a:ext cx="820728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Не секрет, что пожары чаще всего происходят от беспечного отношения к огню самих людей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Значительная часть пожаров происходит в жилье. Здесь гибель и травматизм людей от дыма и огня составляет 9 случаев из 10. По данным Центра пожарной статистики в России при пожарах среди 1 миллиона потерпевших погибает более 100 человек. Это в 6 раз больше, чем в США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Основными причинами пожаров в быту являются: неосторожное обращение с огнем при курении и приготовлении пищи, использование электробытовых приборов, теле-, видео- и аудиотехники, не адаптированной к отечественной электросети или неисправных, проведение электросварочных работ при ремонтных работах в квартирах, детские шалости 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с огне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кварт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684360" y="314172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е балуйся дома со спичками и зажигалками. Это одна из причин пожар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е оставляй без присмотра включенные электроприборы, особенно утюги, обогреватели, телевизор, светильники и др. Уходя из дома, не забудь их выключ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е суши белье над плитой. Оно может загореть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е забывай выключить газовую плиту. Если почувствовал запах газа, не зажигай спичек и не включай свет. Срочно проветри квартир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5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и в коем случае не зажигай фейерверки, свечи или бенгальские огни дома без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дерев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395280" y="36450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деревне или на даче без взрослых не подходи к печи и не открывай печную дверцу. Оттуда могут выскочить раскаленный уголек или искра и стать причиной пожар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икогда не прикасайся голыми руками к металлическим частям печки. Ты можешь получить серьезный ожо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е трогай без разрешения взрослых печную заслонку. Если ее закрыть раньше времени, в доме скопится угарный газ, и можно задохну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лес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539640" y="38606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ожар — самая большая опасность в лесу. Поэтому не разводи костер без взрослы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е балуйся с огнем. В сухую жаркую погоду достаточно одной спички или искры от фейерверка, чтобы лес загорел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Если пожар все-таки начался, немедленно выбегай из леса. Старайся бежать в ту сторону, откуда дует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ыйдя из леса, обязательно сообщи о пожаре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Если начался пожар, а взрослых дома нет, поступай так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324000" y="321300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Если огонь небольшой, можно попробовать сразу же затушить его, набросив на него плотную ткань или одеяло, заливая водой или засыпая пес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Если огонь сразу не погас, немедленно убегай из дома в безопасное место. И только после этого позвони в пожарную охрану по телефону «01» или попроси об этом сос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Если не можешь убежать из горящей квартиры, сразу же позвони по телефону «01» и сообщи пожарным точный адрес и номер своей квартиры. После этого зови из окна на помощь соседей и прохож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ри пожаре дым гораздо опаснее огня. Большинство людей при пожаре гибнут от дыма. Если чувствуешь, что задыхаешься, опустись на корточки или продвигайся к выходу ползком — внизу дыма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324000" y="328464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5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Если в помещение проник дым, надо смочить водой одежду, покрыть голову мокрой салфеткой и выходить пригнувшись или полз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6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Обязательно закрой форточку и дверь в комнате, где начался пожар. Закрытая дверь может не только задержать проникновение дыма, но иногда и погасить ого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7.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олни водой ванну, ведра, тазы. Можешь облить водой двери и п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8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ри пожаре в подъезде никогда не садись в лифт. Он может отключиться и ты задохнеш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9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Когда приедут пожарные, во всем их слушайся и не бойся. Они лучше знают, как тебя сп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429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Не поддавайтесь панике и не теряйте самообладания!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24000" y="691920"/>
            <a:ext cx="6562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ь внимателен!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забудь выключить утюг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C:\Users\Антон\Downloads\images (7).jpg"/>
          <p:cNvPicPr/>
          <p:nvPr/>
        </p:nvPicPr>
        <p:blipFill>
          <a:blip r:embed="rId1"/>
          <a:stretch/>
        </p:blipFill>
        <p:spPr>
          <a:xfrm>
            <a:off x="4211640" y="3141720"/>
            <a:ext cx="3903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 спичками играть опас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Антон\Downloads\images.jpg"/>
          <p:cNvPicPr/>
          <p:nvPr/>
        </p:nvPicPr>
        <p:blipFill>
          <a:blip r:embed="rId1"/>
          <a:stretch/>
        </p:blipFill>
        <p:spPr>
          <a:xfrm>
            <a:off x="0" y="0"/>
            <a:ext cx="4321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чки детям не дават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http://sch91nov.narod.ru/images/im002.jpg"/>
          <p:cNvPicPr/>
          <p:nvPr/>
        </p:nvPicPr>
        <p:blipFill>
          <a:blip r:embed="rId1"/>
          <a:stretch/>
        </p:blipFill>
        <p:spPr>
          <a:xfrm>
            <a:off x="3851280" y="1628640"/>
            <a:ext cx="4416480" cy="345600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755640" y="4292640"/>
            <a:ext cx="3492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тям спички не да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оме долго прож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е оставляй в лесу, горящий ого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sch91nov.narod.ru/images/im006.jpg"/>
          <p:cNvPicPr/>
          <p:nvPr/>
        </p:nvPicPr>
        <p:blipFill>
          <a:blip r:embed="rId1"/>
          <a:stretch/>
        </p:blipFill>
        <p:spPr>
          <a:xfrm>
            <a:off x="4284720" y="2637000"/>
            <a:ext cx="4227480" cy="3456000"/>
          </a:xfrm>
          <a:prstGeom prst="rect">
            <a:avLst/>
          </a:prstGeom>
          <a:ln w="0">
            <a:noFill/>
          </a:ln>
        </p:spPr>
      </p:pic>
      <p:sp>
        <p:nvSpPr>
          <p:cNvPr id="214" name="WordArt 4"/>
          <p:cNvSpPr txBox="1"/>
          <p:nvPr/>
        </p:nvSpPr>
        <p:spPr>
          <a:xfrm>
            <a:off x="179280" y="3789360"/>
            <a:ext cx="39960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лугу траву сожгл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букашки, таракашки не ушл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гибали от ог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ростят они мен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ельзя пользоваться газом детям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http://sch91nov.narod.ru/images/im008.jpg"/>
          <p:cNvPicPr/>
          <p:nvPr/>
        </p:nvPicPr>
        <p:blipFill>
          <a:blip r:embed="rId1"/>
          <a:stretch/>
        </p:blipFill>
        <p:spPr>
          <a:xfrm>
            <a:off x="4140360" y="2492280"/>
            <a:ext cx="4700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бери от газовой плиты всё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http://www.1408.ru/Image/image013(1).jpg"/>
          <p:cNvPicPr/>
          <p:nvPr/>
        </p:nvPicPr>
        <p:blipFill>
          <a:blip r:embed="rId1"/>
          <a:stretch/>
        </p:blipFill>
        <p:spPr>
          <a:xfrm>
            <a:off x="4932360" y="1341360"/>
            <a:ext cx="34560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 возникновении пожара нельзя прятаться! Если в квартире есть телефон, то набирай 01. Если телефона нет – убегай из квартиры к соседям. Если огонь не даёт выйти – кричи из окна, зови на помощь.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http://sch91nov.narod.ru/images/ima012.jpg"/>
          <p:cNvPicPr/>
          <p:nvPr/>
        </p:nvPicPr>
        <p:blipFill>
          <a:blip r:embed="rId1"/>
          <a:stretch/>
        </p:blipFill>
        <p:spPr>
          <a:xfrm>
            <a:off x="5076720" y="476280"/>
            <a:ext cx="34768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ИЧИНЫ ПОЖАР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496440" y="3479040"/>
            <a:ext cx="82332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cc"/>
                </a:solidFill>
                <a:latin typeface="Arial"/>
              </a:rPr>
              <a:t>игры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короткое замык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осторожное обращение со спи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А ВЫЗОВА ЭКСТРЕННЫХ СЛУЖБ ПО ТЕЛЕФО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468360" y="4005360"/>
            <a:ext cx="8136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общите кратко следующ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чину вызова (пож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чный адрес (улица, номер дома и    квартиры, этаж, подъезд, ко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шу фамилию и номер телефона, откуда передается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тельно запишите фамилию дежурного, принявшего ваш вы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сь огн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250920" y="386064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жар — самое распространенное бедствие. Подсчитано, что в нашей стране в среднем один пожар происходит раз в две минуты. И каждый час в огне погибают два или три человека и еще один или двое получают травмы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льшинство пожаров происходят в квартирах. Причина многих их них — детская шалость с огнем. Отсюда главное правило, которое нужно соблюдать всегда и везде: никогда не играй с огнем, не позволяй играть с ним другим ребятам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, что просмотрели эту презентацию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3" descr="C:\Users\Антон\Downloads\images (8).jpg"/>
          <p:cNvPicPr/>
          <p:nvPr/>
        </p:nvPicPr>
        <p:blipFill>
          <a:blip r:embed="rId1"/>
          <a:stretch/>
        </p:blipFill>
        <p:spPr>
          <a:xfrm>
            <a:off x="4500720" y="22050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http://900igr.net/datas/obg/Pri-pozhare/0016-016-Pomn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хи сочинил Кавылин Андрей Александрови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468360" y="4005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4589280" y="155736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forum.akademrodite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4653360" y="206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go.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4654800" y="2421000"/>
            <a:ext cx="30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teacherjourna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т к чему это приводи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Антон\Downloads\images (1).jpg"/>
          <p:cNvPicPr/>
          <p:nvPr/>
        </p:nvPicPr>
        <p:blipFill>
          <a:blip r:embed="rId1"/>
          <a:stretch/>
        </p:blipFill>
        <p:spPr>
          <a:xfrm>
            <a:off x="4716360" y="1628640"/>
            <a:ext cx="3808440" cy="439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324000" y="3860640"/>
            <a:ext cx="4103640" cy="24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ша гладила штани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весёлого, для миш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о забыла про утюг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от мишки остались одни лишь углиш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олок противопожарной безопасности должен быть в каждой школ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Антон\Downloads\images (3).jpg"/>
          <p:cNvPicPr/>
          <p:nvPr/>
        </p:nvPicPr>
        <p:blipFill>
          <a:blip r:embed="rId1"/>
          <a:stretch/>
        </p:blipFill>
        <p:spPr>
          <a:xfrm>
            <a:off x="4572000" y="1700280"/>
            <a:ext cx="4325760" cy="3240000"/>
          </a:xfrm>
          <a:prstGeom prst="rect">
            <a:avLst/>
          </a:prstGeom>
          <a:ln w="0">
            <a:noFill/>
          </a:ln>
        </p:spPr>
      </p:pic>
      <p:sp>
        <p:nvSpPr>
          <p:cNvPr id="177" name="WordArt 4"/>
          <p:cNvSpPr txBox="1"/>
          <p:nvPr/>
        </p:nvSpPr>
        <p:spPr>
          <a:xfrm>
            <a:off x="179280" y="4005360"/>
            <a:ext cx="4753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нструменты на щ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ам всегда помогу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ать отпор большой бе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гонь потушить помогу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ставка рисунков детей начальных класс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Users\Антон\Downloads\images (4).jpg"/>
          <p:cNvPicPr/>
          <p:nvPr/>
        </p:nvPicPr>
        <p:blipFill>
          <a:blip r:embed="rId1"/>
          <a:stretch/>
        </p:blipFill>
        <p:spPr>
          <a:xfrm>
            <a:off x="4284720" y="476280"/>
            <a:ext cx="4578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был затушить костёр?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http://survinat.ru/wp-content/uploads/HLIC/7c3cce8c0dac07668a8359afb0675a6e.jpg"/>
          <p:cNvPicPr/>
          <p:nvPr/>
        </p:nvPicPr>
        <p:blipFill>
          <a:blip r:embed="rId1"/>
          <a:stretch/>
        </p:blipFill>
        <p:spPr>
          <a:xfrm>
            <a:off x="4067280" y="285264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4"/>
          <p:cNvSpPr txBox="1"/>
          <p:nvPr/>
        </p:nvSpPr>
        <p:spPr>
          <a:xfrm>
            <a:off x="539640" y="3716280"/>
            <a:ext cx="3240360" cy="28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ва туриста: Саша с Яш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ожгли костёр в лес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стех пор в тех кра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оют птицы на ветвя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сли в доме случилась бед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http://shibakova.ucoz.ru/_nw/0/05749643.jpg"/>
          <p:cNvPicPr/>
          <p:nvPr/>
        </p:nvPicPr>
        <p:blipFill>
          <a:blip r:embed="rId1"/>
          <a:stretch/>
        </p:blipFill>
        <p:spPr>
          <a:xfrm>
            <a:off x="4572000" y="1363680"/>
            <a:ext cx="3887640" cy="5494320"/>
          </a:xfrm>
          <a:prstGeom prst="rect">
            <a:avLst/>
          </a:prstGeom>
          <a:ln w="0">
            <a:noFill/>
          </a:ln>
        </p:spPr>
      </p:pic>
      <p:sp>
        <p:nvSpPr>
          <p:cNvPr id="185" name="WordArt 4"/>
          <p:cNvSpPr txBox="1"/>
          <p:nvPr/>
        </p:nvSpPr>
        <p:spPr>
          <a:xfrm>
            <a:off x="900000" y="3500280"/>
            <a:ext cx="295128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ют все и стар и мал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б с огнём не балов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не то беда при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с собой всё унес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уберечься от лесного пожа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539640" y="292428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сные пожары происходят в основном в летнее время, и их причиной зачастую являются плохо затушенные походные костры, брошенные сигареты, спички и самовоспламеняющиеся предметы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хо затушенные костры могут очень долгое время не разгораться, а всего лишь тихо тлеть. Но малейшее дуновение ветра способно превратить эти тлеющие угольки в огромный костер, который очень быстро перебросится на находящиеся недалеко от него сухие ветки и травы и в считанные минуты охватит огромную террито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учается, что пожар разгорается от смолистых пней и корней или же на местах утечки природного газа или нефти. Чаще всего лесные пожары начинаются в самых сухих участках леса, где для этого созданы идеальные условия. Это старые сосняки и ельники, выгоревшие на солнце поляны или же заброшенные стога сена, которые были накошены очень давно, но до сих пор не убраны. От дождя эти стога начинают тлеть и быстро становятся причиной пож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Александр</cp:lastModifiedBy>
  <dcterms:modified xsi:type="dcterms:W3CDTF">2018-06-23T11:29:05Z</dcterms:modified>
  <cp:revision>22</cp:revision>
  <dc:subject/>
  <dc:title>Слайд 1</dc:title>
</cp:coreProperties>
</file>