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677-BFBB-4456-812D-E206AA313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404-6009-4454-B482-E4F2D14F6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11D7-874B-47E1-8D7D-76692195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ACB-CEFC-4F32-8C53-50EA29171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0252A-F7FC-401F-9A30-6BFDEDB1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4A110-B008-45EE-A6B8-D28F3593D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11162-F064-4857-8901-73F39983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F73F-A637-42EE-9F26-DF2E6206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6245-ADC6-439E-8B95-63096BAF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4A14-BEFE-41D1-8321-EC26C0B3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EB63F-2ADC-4EA2-A790-117C61190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1B03-38AA-4B1B-926F-0CA65E7BE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632E-A6C4-49C9-A56D-8A9F8792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3EA9-1DF7-49B3-867B-5B8232D9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2073-D3E0-4592-AF5A-9A1F131A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CFFD-9668-4C94-A844-CE1D54145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686C-8A76-488E-88C0-472983E20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A08753-5CF2-4CC8-8959-7EEC67A35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127AE5-CBF7-4983-9932-363A494E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47B9B-1158-4FAD-81F1-E7877BA03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FD002-BF63-421B-A86E-AC5E0027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C25DB-76B0-4B85-84A0-BCD45EBF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367E-60B7-48D2-9FA5-790133FE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7433D2-31F6-4B1F-A49E-258F50B5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1C7B3-5C66-4F28-A12B-D528D1302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6E0DA-A737-4E00-9AF0-38F3213A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455C7-6F82-40C4-B70D-4C6692B15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1F182-FE6E-41E4-B9E8-2563254F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91E08-470D-4D15-A112-4F391B49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2A649-B4EB-4D3F-9B06-69982AC2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746F0F-5479-4D00-95B9-C472DDBE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39921A-1891-406B-A7F4-75B84E1A7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6F0492-2047-4339-89AD-43C6573D6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A1B8-BCDE-46A1-8B40-516193E6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9F43D-9B91-4237-B9F8-45C63150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C7D9C-B3B6-48A7-A23D-B77B84E65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E91B8-C50D-40EE-BEF4-7C0E5441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76EFA5-8260-4B81-B286-20913D296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ABE34-BE5C-441E-ACE9-75F88879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911B6-27C0-4B5C-BA39-880492DB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D3F29-8719-4E08-9567-4C7D76628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75EE5-AE62-499C-A146-722900234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81A90-FB9A-43D5-8C1D-947614A0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9CA0-CCFD-4F7E-B8C6-EFCC9A71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AF69-2AE5-4560-B25A-58A44F38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B7E7-4BCC-4BA6-809F-116A787D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2F74-D8E4-4FD7-B113-AFBDC970D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C25-37C6-4B05-B57D-9206C9E3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36BDF-C7F2-452C-B866-69630D07DA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9DC41-3821-4402-9EB3-2AC5EB219C5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42F05-01F2-43E8-8331-E87608B855C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DCC7-3D21-4B29-920D-E66A01A248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forum.akademroditel.ru/" TargetMode="External"/><Relationship Id="rId2" Type="http://schemas.openxmlformats.org/officeDocument/2006/relationships/hyperlink" Target="http://go.mail.ru/" TargetMode="External"/><Relationship Id="rId3" Type="http://schemas.openxmlformats.org/officeDocument/2006/relationships/hyperlink" Target="http://www.teacherjournal.ru/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urvinat.ru/" TargetMode="Externa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4360" y="3644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чки детям не игрушки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395280" y="5214600"/>
            <a:ext cx="813744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7f00fe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МКДОУ «Вишенка» №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                                                                                           </a:t>
            </a: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пгт Яблоновк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Calibri"/>
              </a:rPr>
              <a:t>Подгоовила: Зенина М.В. 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2" descr="C:\Users\Антон\Downloads\images (2).jpg"/>
          <p:cNvPicPr/>
          <p:nvPr/>
        </p:nvPicPr>
        <p:blipFill>
          <a:blip r:embed="rId1"/>
          <a:stretch/>
        </p:blipFill>
        <p:spPr>
          <a:xfrm>
            <a:off x="0" y="0"/>
            <a:ext cx="556416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омоги соседя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C:\Users\Антон\Downloads\images (6).jpg"/>
          <p:cNvPicPr/>
          <p:nvPr/>
        </p:nvPicPr>
        <p:blipFill>
          <a:blip r:embed="rId1"/>
          <a:stretch/>
        </p:blipFill>
        <p:spPr>
          <a:xfrm>
            <a:off x="4356000" y="1989000"/>
            <a:ext cx="4103640" cy="4503960"/>
          </a:xfrm>
          <a:prstGeom prst="rect">
            <a:avLst/>
          </a:prstGeom>
          <a:ln w="0">
            <a:noFill/>
          </a:ln>
        </p:spPr>
      </p:pic>
      <p:sp>
        <p:nvSpPr>
          <p:cNvPr id="190" name="WordArt 4"/>
          <p:cNvSpPr txBox="1"/>
          <p:nvPr/>
        </p:nvSpPr>
        <p:spPr>
          <a:xfrm>
            <a:off x="826920" y="3860640"/>
            <a:ext cx="302436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пички детям не игрушк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естно скажем вам, друзь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сли спичка загорится,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ожет в дом прийти беда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жарная машина придёт на помощь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2" name="Picture 2" descr="http://dob.1september.ru/2002/15/12.jpg"/>
          <p:cNvPicPr/>
          <p:nvPr/>
        </p:nvPicPr>
        <p:blipFill>
          <a:blip r:embed="rId1"/>
          <a:stretch/>
        </p:blipFill>
        <p:spPr>
          <a:xfrm>
            <a:off x="3851280" y="263700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193" name="WordArt 4"/>
          <p:cNvSpPr txBox="1"/>
          <p:nvPr/>
        </p:nvSpPr>
        <p:spPr>
          <a:xfrm>
            <a:off x="395280" y="3573360"/>
            <a:ext cx="341964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ы пожарников отряд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ски весело горя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олокольчики звеня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опустить скорей веля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7003d"/>
                </a:solidFill>
                <a:latin typeface="arial cyr"/>
                <a:ea typeface="Times New Roman"/>
              </a:rPr>
              <a:t>Тили-бом, тили-бом! Загорелся Кошкин дом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1"/>
          <p:cNvSpPr/>
          <p:nvPr/>
        </p:nvSpPr>
        <p:spPr>
          <a:xfrm>
            <a:off x="468360" y="3157920"/>
            <a:ext cx="8207280" cy="33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Не секрет, что пожары чаще всего происходят от беспечного отношения к огню самих людей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Значительная часть пожаров происходит в жилье. Здесь гибель и травматизм людей от дыма и огня составляет 9 случаев из 10. По данным Центра пожарной статистики в России при пожарах среди 1 миллиона потерпевших погибает более 100 человек. Это в 6 раз больше, чем в США.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Основными причинами пожаров в быту являются: неосторожное обращение с огнем при курении и приготовлении пищи, использование электробытовых приборов, теле-, видео- и аудиотехники, не адаптированной к отечественной электросети или неисправных, проведение электросварочных работ при ремонтных работах в квартирах, детские шалости 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 cyr"/>
                <a:ea typeface="Times New Roman"/>
              </a:rPr>
              <a:t>с огнем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жарная безопасность в квартир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ямоугольник 2"/>
          <p:cNvSpPr/>
          <p:nvPr/>
        </p:nvSpPr>
        <p:spPr>
          <a:xfrm>
            <a:off x="684360" y="3141720"/>
            <a:ext cx="7920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е балуйся дома со спичками и зажигалками. Это одна из причин пожар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е оставляй без присмотра включенные электроприборы, особенно утюги, обогреватели, телевизор, светильники и др. Уходя из дома, не забудь их выключить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е суши белье над плитой. Оно может загореть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е забывай выключить газовую плиту. Если почувствовал запах газа, не зажигай спичек и не включай свет. Срочно проветри квартиру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5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и в коем случае не зажигай фейерверки, свечи или бенгальские огни дома без взросл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жарная безопасность в дерев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Прямоугольник 2"/>
          <p:cNvSpPr/>
          <p:nvPr/>
        </p:nvSpPr>
        <p:spPr>
          <a:xfrm>
            <a:off x="395280" y="36450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деревне или на даче без взрослых не подходи к печи и не открывай печную дверцу. Оттуда могут выскочить раскаленный уголек или искра и стать причиной пожара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икогда не прикасайся голыми руками к металлическим частям печки. Ты можешь получить серьезный ожог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е трогай без разрешения взрослых печную заслонку. Если ее закрыть раньше времени, в доме скопится угарный газ, и можно задохну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ожарная безопасность в лесу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Прямоугольник 2"/>
          <p:cNvSpPr/>
          <p:nvPr/>
        </p:nvSpPr>
        <p:spPr>
          <a:xfrm>
            <a:off x="539640" y="386064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ожар — самая большая опасность в лесу. Поэтому не разводи костер без взрослых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Не балуйся с огнем. В сухую жаркую погоду достаточно одной спички или искры от фейерверка, чтобы лес загорелся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Если пожар все-таки начался, немедленно выбегай из леса. Старайся бежать в ту сторону, откуда дует ветер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— 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ыйдя из леса, обязательно сообщи о пожаре взросл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Calibri"/>
              </a:rPr>
              <a:t>Если начался пожар, а взрослых дома нет, поступай так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Прямоугольник 2"/>
          <p:cNvSpPr/>
          <p:nvPr/>
        </p:nvSpPr>
        <p:spPr>
          <a:xfrm>
            <a:off x="324000" y="3213000"/>
            <a:ext cx="8208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1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Если огонь небольшой, можно попробовать сразу же затушить его, набросив на него плотную ткань или одеяло, заливая водой или засыпая пес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2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Если огонь сразу не погас, немедленно убегай из дома в безопасное место. И только после этого позвони в пожарную охрану по телефону «01» или попроси об этом сосед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3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Если не можешь убежать из горящей квартиры, сразу же позвони по телефону «01» и сообщи пожарным точный адрес и номер своей квартиры. После этого зови из окна на помощь соседей и прохож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4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ри пожаре дым гораздо опаснее огня. Большинство людей при пожаре гибнут от дыма. Если чувствуешь, что задыхаешься, опустись на корточки или продвигайся к выходу ползком — внизу дыма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324000" y="328464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5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Если в помещение проник дым, надо смочить водой одежду, покрыть голову мокрой салфеткой и выходить пригнувшись или полз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6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Обязательно закрой форточку и дверь в комнате, где начался пожар. Закрытая дверь может не только задержать проникновение дыма, но иногда и погасить огон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7. 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полни водой ванну, ведра, тазы. Можешь облить водой двери и п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8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ри пожаре в подъезде никогда не садись в лифт. Он может отключиться и ты задохнеш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равило № 9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Когда приедут пожарные, во всем их слушайся и не бойся. Они лучше знают, как тебя сп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5280" y="429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«Не поддавайтесь панике и не теряйте самообладания!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24000" y="691920"/>
            <a:ext cx="65628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удь внимателен!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Не забудь выключить утюг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C:\Users\Антон\Downloads\images (7).jpg"/>
          <p:cNvPicPr/>
          <p:nvPr/>
        </p:nvPicPr>
        <p:blipFill>
          <a:blip r:embed="rId1"/>
          <a:stretch/>
        </p:blipFill>
        <p:spPr>
          <a:xfrm>
            <a:off x="4211640" y="3141720"/>
            <a:ext cx="390384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4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50920" y="49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 спичками играть опасно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2" descr="C:\Users\Антон\Downloads\images.jpg"/>
          <p:cNvPicPr/>
          <p:nvPr/>
        </p:nvPicPr>
        <p:blipFill>
          <a:blip r:embed="rId1"/>
          <a:stretch/>
        </p:blipFill>
        <p:spPr>
          <a:xfrm>
            <a:off x="0" y="0"/>
            <a:ext cx="4321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чки детям не давать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http://sch91nov.narod.ru/images/im002.jpg"/>
          <p:cNvPicPr/>
          <p:nvPr/>
        </p:nvPicPr>
        <p:blipFill>
          <a:blip r:embed="rId1"/>
          <a:stretch/>
        </p:blipFill>
        <p:spPr>
          <a:xfrm>
            <a:off x="3851280" y="1628640"/>
            <a:ext cx="4416480" cy="3456000"/>
          </a:xfrm>
          <a:prstGeom prst="rect">
            <a:avLst/>
          </a:prstGeom>
          <a:ln w="0">
            <a:noFill/>
          </a:ln>
        </p:spPr>
      </p:pic>
      <p:sp>
        <p:nvSpPr>
          <p:cNvPr id="211" name="WordArt 4"/>
          <p:cNvSpPr txBox="1"/>
          <p:nvPr/>
        </p:nvSpPr>
        <p:spPr>
          <a:xfrm>
            <a:off x="755640" y="4292640"/>
            <a:ext cx="349236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етям спички не да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 доме долго проживать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о: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е оставляй в лесу, горящий огонь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http://sch91nov.narod.ru/images/im006.jpg"/>
          <p:cNvPicPr/>
          <p:nvPr/>
        </p:nvPicPr>
        <p:blipFill>
          <a:blip r:embed="rId1"/>
          <a:stretch/>
        </p:blipFill>
        <p:spPr>
          <a:xfrm>
            <a:off x="4284720" y="2637000"/>
            <a:ext cx="4227480" cy="3456000"/>
          </a:xfrm>
          <a:prstGeom prst="rect">
            <a:avLst/>
          </a:prstGeom>
          <a:ln w="0">
            <a:noFill/>
          </a:ln>
        </p:spPr>
      </p:pic>
      <p:sp>
        <p:nvSpPr>
          <p:cNvPr id="214" name="WordArt 4"/>
          <p:cNvSpPr txBox="1"/>
          <p:nvPr/>
        </p:nvSpPr>
        <p:spPr>
          <a:xfrm>
            <a:off x="179280" y="3789360"/>
            <a:ext cx="399600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а лугу траву сожгли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букашки, таракашки не ушл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гибали от огн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простят они меня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о: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Нельзя пользоваться газом детям дошкольного возра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http://sch91nov.narod.ru/images/im008.jpg"/>
          <p:cNvPicPr/>
          <p:nvPr/>
        </p:nvPicPr>
        <p:blipFill>
          <a:blip r:embed="rId1"/>
          <a:stretch/>
        </p:blipFill>
        <p:spPr>
          <a:xfrm>
            <a:off x="4140360" y="2492280"/>
            <a:ext cx="4700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5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бери от газовой плиты всё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http://www.1408.ru/Image/image013(1).jpg"/>
          <p:cNvPicPr/>
          <p:nvPr/>
        </p:nvPicPr>
        <p:blipFill>
          <a:blip r:embed="rId1"/>
          <a:stretch/>
        </p:blipFill>
        <p:spPr>
          <a:xfrm>
            <a:off x="4932360" y="1341360"/>
            <a:ext cx="345600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95280" y="4365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авило:</a:t>
            </a:r>
            <a:br>
              <a:rPr sz="2800"/>
            </a:b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При возникновении пожара нельзя прятаться! Если в квартире есть телефон, то набирай 01. Если телефона нет – убегай из квартиры к соседям. Если огонь не даёт выйти – кричи из окна, зови на помощь.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0" name="Picture 2" descr="http://sch91nov.narod.ru/images/ima012.jpg"/>
          <p:cNvPicPr/>
          <p:nvPr/>
        </p:nvPicPr>
        <p:blipFill>
          <a:blip r:embed="rId1"/>
          <a:stretch/>
        </p:blipFill>
        <p:spPr>
          <a:xfrm>
            <a:off x="5076720" y="476280"/>
            <a:ext cx="347688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Arial"/>
                <a:ea typeface="Arial"/>
              </a:rPr>
              <a:t>ПРИЧИНЫ ПОЖАРОВ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1"/>
          <p:cNvSpPr/>
          <p:nvPr/>
        </p:nvSpPr>
        <p:spPr>
          <a:xfrm>
            <a:off x="496440" y="3479040"/>
            <a:ext cx="8233200" cy="28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99cc"/>
                </a:solidFill>
                <a:latin typeface="Arial"/>
              </a:rPr>
              <a:t>игры де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66"/>
                </a:solidFill>
                <a:latin typeface="Arial"/>
              </a:rPr>
              <a:t>короткое замык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Arial"/>
              </a:rPr>
              <a:t>неосторожное обращение со спич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Calibri"/>
              </a:rPr>
              <a:t>ПРАВИЛА ВЫЗОВА ЭКСТРЕННЫХ СЛУЖБ ПО ТЕЛЕФОН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Прямоугольник 2"/>
          <p:cNvSpPr/>
          <p:nvPr/>
        </p:nvSpPr>
        <p:spPr>
          <a:xfrm>
            <a:off x="468360" y="4005360"/>
            <a:ext cx="81360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ообщите кратко следующе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ичину вызова (пожа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точный адрес (улица, номер дома и    квартиры, этаж, подъезд, ко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ашу фамилию и номер телефона, откуда передается сооб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язательно запишите фамилию дежурного, принявшего ваш выз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регись огня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Прямоугольник 2"/>
          <p:cNvSpPr/>
          <p:nvPr/>
        </p:nvSpPr>
        <p:spPr>
          <a:xfrm>
            <a:off x="250920" y="386064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жар — самое распространенное бедствие. Подсчитано, что в нашей стране в среднем один пожар происходит раз в две минуты. И каждый час в огне погибают два или три человека и еще один или двое получают травмы. 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Большинство пожаров происходят в квартирах. Причина многих их них — детская шалость с огнем. Отсюда главное правило, которое нужно соблюдать всегда и везде: никогда не играй с огнем, не позволяй играть с ним другим ребятам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асибо, что просмотрели эту презентацию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3" descr="C:\Users\Антон\Downloads\images (8).jpg"/>
          <p:cNvPicPr/>
          <p:nvPr/>
        </p:nvPicPr>
        <p:blipFill>
          <a:blip r:embed="rId1"/>
          <a:stretch/>
        </p:blipFill>
        <p:spPr>
          <a:xfrm>
            <a:off x="4500720" y="22050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Picture 2" descr="http://900igr.net/datas/obg/Pri-pozhare/0016-016-Pomn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Интернет ресур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ихи сочинил Кавылин Андрей Александрович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Прямоугольник 2"/>
          <p:cNvSpPr/>
          <p:nvPr/>
        </p:nvSpPr>
        <p:spPr>
          <a:xfrm>
            <a:off x="468360" y="400536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Прямоугольник 3"/>
          <p:cNvSpPr/>
          <p:nvPr/>
        </p:nvSpPr>
        <p:spPr>
          <a:xfrm>
            <a:off x="4589280" y="155736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forum.akademrodite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4"/>
          <p:cNvSpPr/>
          <p:nvPr/>
        </p:nvSpPr>
        <p:spPr>
          <a:xfrm>
            <a:off x="4653360" y="206064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go.mai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5"/>
          <p:cNvSpPr/>
          <p:nvPr/>
        </p:nvSpPr>
        <p:spPr>
          <a:xfrm>
            <a:off x="4654800" y="2421000"/>
            <a:ext cx="30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://www.teacherjournal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от к чему это приводит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C:\Users\Антон\Downloads\images (1).jpg"/>
          <p:cNvPicPr/>
          <p:nvPr/>
        </p:nvPicPr>
        <p:blipFill>
          <a:blip r:embed="rId1"/>
          <a:stretch/>
        </p:blipFill>
        <p:spPr>
          <a:xfrm>
            <a:off x="4716360" y="1628640"/>
            <a:ext cx="3808440" cy="4392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WordArt 4"/>
          <p:cNvSpPr txBox="1"/>
          <p:nvPr/>
        </p:nvSpPr>
        <p:spPr>
          <a:xfrm>
            <a:off x="324000" y="3860640"/>
            <a:ext cx="4103640" cy="241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Маша гладила штанишк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весёлого, для мишки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о забыла про утюг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от мишки остались одни лишь углишк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голок противопожарной безопасности должен быть в каждой школе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C:\Users\Антон\Downloads\images (3).jpg"/>
          <p:cNvPicPr/>
          <p:nvPr/>
        </p:nvPicPr>
        <p:blipFill>
          <a:blip r:embed="rId1"/>
          <a:stretch/>
        </p:blipFill>
        <p:spPr>
          <a:xfrm>
            <a:off x="4572000" y="1700280"/>
            <a:ext cx="4325760" cy="3240000"/>
          </a:xfrm>
          <a:prstGeom prst="rect">
            <a:avLst/>
          </a:prstGeom>
          <a:ln w="0">
            <a:noFill/>
          </a:ln>
        </p:spPr>
      </p:pic>
      <p:sp>
        <p:nvSpPr>
          <p:cNvPr id="177" name="WordArt 4"/>
          <p:cNvSpPr txBox="1"/>
          <p:nvPr/>
        </p:nvSpPr>
        <p:spPr>
          <a:xfrm>
            <a:off x="179280" y="4005360"/>
            <a:ext cx="4753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Инструменты на щит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Вам всегда помогу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Дать отпор большой бед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Огонь потушить помогу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5280" y="47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ыставка рисунков детей начальных классо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9" name="Picture 2" descr="C:\Users\Антон\Downloads\images (4).jpg"/>
          <p:cNvPicPr/>
          <p:nvPr/>
        </p:nvPicPr>
        <p:blipFill>
          <a:blip r:embed="rId1"/>
          <a:stretch/>
        </p:blipFill>
        <p:spPr>
          <a:xfrm>
            <a:off x="4284720" y="476280"/>
            <a:ext cx="457812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был затушить костёр?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http://survinat.ru/wp-content/uploads/HLIC/7c3cce8c0dac07668a8359afb0675a6e.jpg"/>
          <p:cNvPicPr/>
          <p:nvPr/>
        </p:nvPicPr>
        <p:blipFill>
          <a:blip r:embed="rId1"/>
          <a:stretch/>
        </p:blipFill>
        <p:spPr>
          <a:xfrm>
            <a:off x="4067280" y="2852640"/>
            <a:ext cx="4608360" cy="3456000"/>
          </a:xfrm>
          <a:prstGeom prst="rect">
            <a:avLst/>
          </a:prstGeom>
          <a:ln w="0">
            <a:noFill/>
          </a:ln>
        </p:spPr>
      </p:pic>
      <p:sp>
        <p:nvSpPr>
          <p:cNvPr id="182" name="WordArt 4"/>
          <p:cNvSpPr txBox="1"/>
          <p:nvPr/>
        </p:nvSpPr>
        <p:spPr>
          <a:xfrm>
            <a:off x="539640" y="3716280"/>
            <a:ext cx="3240360" cy="28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ва туриста: Саша с Яше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азожгли костёр в лес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стех пор в тех края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Не поют птицы на ветвях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Если в доме случилась беда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http://shibakova.ucoz.ru/_nw/0/05749643.jpg"/>
          <p:cNvPicPr/>
          <p:nvPr/>
        </p:nvPicPr>
        <p:blipFill>
          <a:blip r:embed="rId1"/>
          <a:stretch/>
        </p:blipFill>
        <p:spPr>
          <a:xfrm>
            <a:off x="4572000" y="1363680"/>
            <a:ext cx="3887640" cy="5494320"/>
          </a:xfrm>
          <a:prstGeom prst="rect">
            <a:avLst/>
          </a:prstGeom>
          <a:ln w="0">
            <a:noFill/>
          </a:ln>
        </p:spPr>
      </p:pic>
      <p:sp>
        <p:nvSpPr>
          <p:cNvPr id="185" name="WordArt 4"/>
          <p:cNvSpPr txBox="1"/>
          <p:nvPr/>
        </p:nvSpPr>
        <p:spPr>
          <a:xfrm>
            <a:off x="900000" y="3500280"/>
            <a:ext cx="2951280" cy="29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Знают все и стар и мал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Чтоб с огнём не баловал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А не то беда придёт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с собой всё унесёт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ак уберечься от лесного пожа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Прямоугольник 2"/>
          <p:cNvSpPr/>
          <p:nvPr/>
        </p:nvSpPr>
        <p:spPr>
          <a:xfrm>
            <a:off x="539640" y="292428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Лесные пожары происходят в основном в летнее время, и их причиной зачастую являются плохо затушенные походные костры, брошенные сигареты, спички и самовоспламеняющиеся предметы</a:t>
            </a: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.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лохо затушенные костры могут очень долгое время не разгораться, а всего лишь тихо тлеть. Но малейшее дуновение ветра способно превратить эти тлеющие угольки в огромный костер, который очень быстро перебросится на находящиеся недалеко от него сухие ветки и травы и в считанные минуты охватит огромную территор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учается, что пожар разгорается от смолистых пней и корней или же на местах утечки природного газа или нефти. Чаще всего лесные пожары начинаются в самых сухих участках леса, где для этого созданы идеальные условия. Это старые сосняки и ельники, выгоревшие на солнце поляны или же заброшенные стога сена, которые были накошены очень давно, но до сих пор не убраны. От дождя эти стога начинают тлеть и быстро становятся причиной пожа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нтон</dc:creator>
  <dc:description/>
  <dc:language>en-US</dc:language>
  <cp:lastModifiedBy>Александр</cp:lastModifiedBy>
  <dcterms:modified xsi:type="dcterms:W3CDTF">2018-06-23T11:29:05Z</dcterms:modified>
  <cp:revision>22</cp:revision>
  <dc:subject/>
  <dc:title>Слайд 1</dc:title>
</cp:coreProperties>
</file>