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1E00-F5B4-4380-8629-59F4A2E1F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276-EDCF-4330-A69D-1C9FBE68A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20ED-4D31-49D3-A71D-64CB9718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59A5-2A51-4460-AF4D-F9EC81315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969D-BC32-44A9-950B-1A32EAD5E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E1883-2081-408F-9658-FED649D0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D9734-7D5F-4001-A91A-4488BC552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A9343-5632-46AA-AB67-2F60DD8D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FF6E-442D-4B27-814A-6C2C0DDA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40B5-C81C-4E4E-84E4-B101F490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6E5C5-D7DE-403E-97D2-C7ADD856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CB4A-E3B6-4A8D-8257-8BAC1B86A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2838-AF3A-4E52-9D93-DC3FF0B9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29CD-9397-4CC1-A2A2-5E4872DB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FE14-339F-4C66-A88C-B43EF7D4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0F92-D4EB-4E21-9AD9-44F10127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2E32-D11A-46A9-8FCC-B616E3C9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5FAC-B1FE-47AD-A865-4936119A5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845E-4A01-4FA9-8203-470BD41D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3292-4F01-4BEB-B24D-C204881B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3C24-D29E-4F84-B649-DD692F18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A5B7-A68D-4944-B748-BFC344D9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683C-D04E-42E4-964E-0EDA0DF7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902-3E85-4061-B75B-36EE060B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E46D-BE4F-4653-ABCC-EE087A211B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E325-3E63-468A-8C51-44E55DA2D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The food pyramid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к 6 Д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СОШ №68 г. Хабаров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ов Ив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000" y="260280"/>
            <a:ext cx="8388360" cy="5851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ÐÐ°ÑÑÐ¸Ð½ÐºÐ¸ Ð¿Ð¾ Ð·Ð°Ð¿ÑÐ¾ÑÑ food pyramid project"/>
          <p:cNvPicPr/>
          <p:nvPr/>
        </p:nvPicPr>
        <p:blipFill>
          <a:blip r:embed="rId2"/>
          <a:stretch/>
        </p:blipFill>
        <p:spPr>
          <a:xfrm>
            <a:off x="826920" y="765000"/>
            <a:ext cx="81439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There are 6 different groups of food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11640" y="3573000"/>
            <a:ext cx="463392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bottom-rice, bread, pa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good idea to eat them a l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611280" y="1989000"/>
            <a:ext cx="1857240" cy="2457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ÐÐ°ÑÑÐ¸Ð½ÐºÐ¸ Ð¿Ð¾ Ð·Ð°Ð¿ÑÐ¾ÑÑ bread rice pasta group"/>
          <p:cNvPicPr/>
          <p:nvPr/>
        </p:nvPicPr>
        <p:blipFill>
          <a:blip r:embed="rId2"/>
          <a:stretch/>
        </p:blipFill>
        <p:spPr>
          <a:xfrm>
            <a:off x="324000" y="4149720"/>
            <a:ext cx="31366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Group F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top-sweets, chocolate and things with oil. You shouldn`t eat them too much. It includes also hamburgers and fizzy drin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59280" y="191592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4859280" y="1413000"/>
            <a:ext cx="4284720" cy="2855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ÐÐ°ÑÑÐ¸Ð½ÐºÐ¸ Ð¿Ð¾ Ð·Ð°Ð¿ÑÐ¾ÑÑ Ð²ÑÐµÐ´Ð½Ð°Ñ ÐµÐ´Ð° ÐºÐ°ÑÑÐ¸Ð½ÐºÐ¸"/>
          <p:cNvPicPr/>
          <p:nvPr/>
        </p:nvPicPr>
        <p:blipFill>
          <a:blip r:embed="rId3"/>
          <a:stretch/>
        </p:blipFill>
        <p:spPr>
          <a:xfrm>
            <a:off x="4932360" y="4292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Groups D and 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bles ( carrots, cabbage, onions, tomatoes, etc) and fruits (bananas, apples, oranges) are good foe your heal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356000" y="3573000"/>
            <a:ext cx="3672000" cy="2522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ÐÐ°ÑÑÐ¸Ð½ÐºÐ¸ Ð¿Ð¾ Ð·Ð°Ð¿ÑÐ¾ÑÑ fruits and vegetables"/>
          <p:cNvPicPr/>
          <p:nvPr/>
        </p:nvPicPr>
        <p:blipFill>
          <a:blip r:embed="rId2"/>
          <a:stretch/>
        </p:blipFill>
        <p:spPr>
          <a:xfrm>
            <a:off x="1308240" y="3500280"/>
            <a:ext cx="2849400" cy="3206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ÐÐ¾ÑÐ¾Ð¶ÐµÐµ Ð¸Ð·Ð¾Ð±ÑÐ°Ð¶ÐµÐ½Ð¸Ðµ"/>
          <p:cNvPicPr/>
          <p:nvPr/>
        </p:nvPicPr>
        <p:blipFill>
          <a:blip r:embed="rId3"/>
          <a:stretch/>
        </p:blipFill>
        <p:spPr>
          <a:xfrm>
            <a:off x="6877080" y="2852640"/>
            <a:ext cx="202896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Groups B and C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6560" y="1915920"/>
            <a:ext cx="8007480" cy="20192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t and fish, and eggs and cheese are OK, but not too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ÐÐ°ÑÑÐ¸Ð½ÐºÐ¸ Ð¿Ð¾ Ð·Ð°Ð¿ÑÐ¾ÑÑ meat fish eggs"/>
          <p:cNvPicPr/>
          <p:nvPr/>
        </p:nvPicPr>
        <p:blipFill>
          <a:blip r:embed="rId2"/>
          <a:stretch/>
        </p:blipFill>
        <p:spPr>
          <a:xfrm>
            <a:off x="2700360" y="1484280"/>
            <a:ext cx="4716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560" y="76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yramid gives us an idea about proportion of food for healthy, balanced di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`s a good idea for teenagers to eat a balance of the different group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Use the food pyramid-eat well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Your diet is important!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1835280" y="3429000"/>
            <a:ext cx="619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0T09:06:14Z</dcterms:created>
  <dc:creator>AN</dc:creator>
  <dc:description/>
  <dc:language>en-US</dc:language>
  <cp:lastModifiedBy>AN</cp:lastModifiedBy>
  <dcterms:modified xsi:type="dcterms:W3CDTF">2018-08-20T10:34:00Z</dcterms:modified>
  <cp:revision>3</cp:revision>
  <dc:subject/>
  <dc:title>Monarchy in Britain</dc:title>
</cp:coreProperties>
</file>