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328B-95FD-44E5-8C0B-A3C36377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CD5-99C1-4775-BD58-CF6040658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976-5F15-41C9-B4A2-1D61DC56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1E51-7691-4748-BD6B-B0EE4244C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7CE7-F0CF-495D-907C-BDCBDF52E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8A8D7-7328-4BC6-BBDB-4DF06C59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8BCF-8CC9-4609-9CE0-46D14972A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59A8-E705-4EEB-BB8B-55B2EB9A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3ED3-FE89-4B59-AE57-E53ACFC78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4695E-4163-4AEB-B671-13B18349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0FE1-22E8-46B7-B9E7-79B3825C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B64D-53F3-42EC-A663-34EC4DCB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5DF7B-DD3A-4401-82A1-A19454451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8066-EDA0-4467-BCFD-9FD931C2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E24B-8E34-4BAC-9C2B-E98557DA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6E91-648A-415E-8F12-E1B715455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9A8-C52E-49AE-BCA1-DEF580B81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A07-FD47-40F8-A7A6-1C14BA40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5C88-8061-434F-AC99-198CCD1C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6A9B-458B-496A-808F-F14F350F1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B133-5E9D-4F64-AA5D-A34AD79A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3BA8-E7B6-40CA-8B4A-57B40E08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10CB-7C7F-4078-9621-50E7E93B7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7239-4BA8-41A6-92B7-8C5161352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984FB-0A36-4822-B579-8E60072E9D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aec1c2"/>
                </a:gs>
                <a:gs pos="100000">
                  <a:srgbClr val="d6edee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daeeef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B8FE-DD84-4C58-8008-022FBE05D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 Black"/>
              </a:rPr>
              <a:t>The food pyramid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еник 6 Д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СОШ №68 г. Хабаров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ободнов Ив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68000" y="260280"/>
            <a:ext cx="8388360" cy="5851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ÐÐ°ÑÑÐ¸Ð½ÐºÐ¸ Ð¿Ð¾ Ð·Ð°Ð¿ÑÐ¾ÑÑ food pyramid project"/>
          <p:cNvPicPr/>
          <p:nvPr/>
        </p:nvPicPr>
        <p:blipFill>
          <a:blip r:embed="rId2"/>
          <a:stretch/>
        </p:blipFill>
        <p:spPr>
          <a:xfrm>
            <a:off x="826920" y="765000"/>
            <a:ext cx="814392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There are 6 different groups of food.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1640" y="3573000"/>
            <a:ext cx="4633920" cy="25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the bottom-rice, bread, pa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a good idea to eat them a l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611280" y="1989000"/>
            <a:ext cx="1857240" cy="2457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ÐÐ°ÑÑÐ¸Ð½ÐºÐ¸ Ð¿Ð¾ Ð·Ð°Ð¿ÑÐ¾ÑÑ bread rice pasta group"/>
          <p:cNvPicPr/>
          <p:nvPr/>
        </p:nvPicPr>
        <p:blipFill>
          <a:blip r:embed="rId2"/>
          <a:stretch/>
        </p:blipFill>
        <p:spPr>
          <a:xfrm>
            <a:off x="324000" y="4149720"/>
            <a:ext cx="313668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 F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top-sweets, chocolate and things with oil. You shouldn`t eat them too much. It includes also hamburgers and fizzy dri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859280" y="191592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59280" y="1413000"/>
            <a:ext cx="4284720" cy="2855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ÐÐ°ÑÑÐ¸Ð½ÐºÐ¸ Ð¿Ð¾ Ð·Ð°Ð¿ÑÐ¾ÑÑ Ð²ÑÐµÐ´Ð½Ð°Ñ ÐµÐ´Ð° ÐºÐ°ÑÑÐ¸Ð½ÐºÐ¸"/>
          <p:cNvPicPr/>
          <p:nvPr/>
        </p:nvPicPr>
        <p:blipFill>
          <a:blip r:embed="rId3"/>
          <a:stretch/>
        </p:blipFill>
        <p:spPr>
          <a:xfrm>
            <a:off x="4932360" y="4292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s D and E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getables ( carrots, cabbage, onions, tomatoes, etc) and fruits (bananas, apples, oranges) are good foe your heal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356000" y="3573000"/>
            <a:ext cx="3672000" cy="2522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ÐÐ°ÑÑÐ¸Ð½ÐºÐ¸ Ð¿Ð¾ Ð·Ð°Ð¿ÑÐ¾ÑÑ fruits and vegetables"/>
          <p:cNvPicPr/>
          <p:nvPr/>
        </p:nvPicPr>
        <p:blipFill>
          <a:blip r:embed="rId2"/>
          <a:stretch/>
        </p:blipFill>
        <p:spPr>
          <a:xfrm>
            <a:off x="1308240" y="3500280"/>
            <a:ext cx="2849400" cy="3206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ÐÐ¾ÑÐ¾Ð¶ÐµÐµ Ð¸Ð·Ð¾Ð±ÑÐ°Ð¶ÐµÐ½Ð¸Ðµ"/>
          <p:cNvPicPr/>
          <p:nvPr/>
        </p:nvPicPr>
        <p:blipFill>
          <a:blip r:embed="rId3"/>
          <a:stretch/>
        </p:blipFill>
        <p:spPr>
          <a:xfrm>
            <a:off x="6877080" y="2852640"/>
            <a:ext cx="2028960" cy="30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Groups B and 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560" y="1915920"/>
            <a:ext cx="8007480" cy="20192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4076280"/>
            <a:ext cx="80074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t and fish, and eggs and cheese are OK, but not too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ÐÐ°ÑÑÐ¸Ð½ÐºÐ¸ Ð¿Ð¾ Ð·Ð°Ð¿ÑÐ¾ÑÑ meat fish eggs"/>
          <p:cNvPicPr/>
          <p:nvPr/>
        </p:nvPicPr>
        <p:blipFill>
          <a:blip r:embed="rId2"/>
          <a:stretch/>
        </p:blipFill>
        <p:spPr>
          <a:xfrm>
            <a:off x="2700360" y="1484280"/>
            <a:ext cx="471636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6560" y="765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yramid gives us an idea about proportion of food for healthy, balanced di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t`s a good idea for teenagers to eat a balance of the different group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Use the food pyramid-eat well!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Your diet is important!</a:t>
            </a:r>
            <a:endParaRPr b="1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ÐÐ¾ÑÐ¾Ð¶ÐµÐµ Ð¸Ð·Ð¾Ð±ÑÐ°Ð¶ÐµÐ½Ð¸Ðµ"/>
          <p:cNvPicPr/>
          <p:nvPr/>
        </p:nvPicPr>
        <p:blipFill>
          <a:blip r:embed="rId1"/>
          <a:stretch/>
        </p:blipFill>
        <p:spPr>
          <a:xfrm>
            <a:off x="1835280" y="3429000"/>
            <a:ext cx="6192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20T09:06:14Z</dcterms:created>
  <dc:creator>AN</dc:creator>
  <dc:description/>
  <dc:language>en-US</dc:language>
  <cp:lastModifiedBy>AN</cp:lastModifiedBy>
  <dcterms:modified xsi:type="dcterms:W3CDTF">2018-08-20T10:34:00Z</dcterms:modified>
  <cp:revision>3</cp:revision>
  <dc:subject/>
  <dc:title>Monarchy in Britain</dc:title>
</cp:coreProperties>
</file>