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C6FD-7774-49AA-9894-274B39AAB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82E-EFB9-408B-A244-F6DC0981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C28C-5E3F-4769-8C8D-DF0BE94D9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C02B-63DC-40D9-BE89-4C200B59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D7F31-29E2-4457-AC21-4E68E5E4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3483-ACFA-447E-8F36-A67AD49D4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5995C-7458-4CA5-BA82-F0249DF3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1523-A577-4C9C-B04E-CCC06256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5F753-35BA-4642-8E8B-BA89DE1E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DB44-BD59-4CC9-8E7A-8DBF7549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22C16-76DA-4221-9CB3-80327B36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6F1-074F-49D0-95C9-495E7925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4EAB5-84F4-4038-A12B-AEC6ABD01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6CD3-BC5C-46E0-9D04-B9EBE064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DCBA-F844-4EBC-9290-47975A09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1C05-D51F-4976-85FC-335717842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C939E-2C20-492F-83AD-DE7D4479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DE04-18D1-4255-8365-13CFC1B2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6121-FA0F-45D1-BD2C-6E7408143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0D0-B6F2-4C9A-BEED-D674C684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4C6A-E5F2-4199-8831-B5722EB7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04B5-7EC8-4976-B147-1D7FE6EF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92FD-61A2-4E34-AE39-FB00C21A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6A19-E4C4-426A-B7F8-EE58DE21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579E3-2EEF-4AB7-B575-E03C9E9BB6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EEB5-93A1-4D01-8088-501A14253482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МБОУ «НШ-ДС «Надежда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508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Исследование на тему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«Умей сказать себе стоп!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ыполнил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ученик 1-А класс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Иванов Дмитри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Руководитель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педагог-психолог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Петрова И.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2015 год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очему возник мой интерес к теме: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 «Умей сказать себе стоп!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. Из-за проблем в поведен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. При помощи рисунка «Несуществующее животное» узнал о своих личностных проблемах и захотел их исправит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3.Из-за своей агрессии и заносчивости остался без друз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4. Нравится наука психология хотел бы в дальнейшем узнать о ней подробне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5" descr="C:\Users\ПК\Desktop\pic3.jpg"/>
          <p:cNvPicPr/>
          <p:nvPr/>
        </p:nvPicPr>
        <p:blipFill>
          <a:blip r:embed="rId1"/>
          <a:stretch/>
        </p:blipFill>
        <p:spPr>
          <a:xfrm>
            <a:off x="7086600" y="51814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244000" cy="164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Я задумался как мне выйти из сложившейся ситуации и обратился к нашему школьному психологу за помощью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рина Александровна предложила мне психологический рисуночный тест А.Л.Венгера «Несуществующее животное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 его результатам я выяснил, какими качествами я обладаю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 сожалению у меня есть недостатки в поведении и в общении, я люблю спорить и даже могу обидеть словом другого челове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ервое, на что мы обратили внимание на пути моего изменения в поведении – это на создание тезисов, которые необходимо было выучить и выполнять ежедневн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Picture 4" descr="C:\Users\ПК\Desktop\m_27637217.jpg"/>
          <p:cNvPicPr/>
          <p:nvPr/>
        </p:nvPicPr>
        <p:blipFill>
          <a:blip r:embed="rId1"/>
          <a:stretch/>
        </p:blipFill>
        <p:spPr>
          <a:xfrm>
            <a:off x="7924680" y="1066680"/>
            <a:ext cx="7779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Рисунок моего несуществующего животного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Тенаназавр добрый и травоядный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Picture 4" descr="динозавррис"/>
          <p:cNvPicPr/>
          <p:nvPr/>
        </p:nvPicPr>
        <p:blipFill>
          <a:blip r:embed="rId1"/>
          <a:stretch/>
        </p:blipFill>
        <p:spPr>
          <a:xfrm>
            <a:off x="990720" y="2286000"/>
            <a:ext cx="57625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Умей  сказать себе стоп!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1. В начале дня умей настроится на хороше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2.Сказать себе: «Я смогу быть сегодня спокойным и выдержанным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3. Не буду реагировать на плохо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4. На уроке буду внимательно слушать учител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5. Во время урока поднимай руку для ответа, а не выкрикивай, когда захочется, понимать, что я не один ученик в классе, а нас много и учителю нужно выслушать всех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6. На переменах не нарушать дисциплину и не обижать тех, кто слабее мен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7. При грубом ко мне отношении одноклассников не смотреть на обидчиков, не слушать их, а сконцентрироваться только на хороше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8. Если слишком разозлюсь, отойду, попробую улыбнуться, выдохну, прижму руки к груди – это поза сильного, выдержанного человек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5" descr="C:\Users\ПК\Desktop\bVlMqcCq9Kg.jpg"/>
          <p:cNvPicPr/>
          <p:nvPr/>
        </p:nvPicPr>
        <p:blipFill>
          <a:blip r:embed="rId1"/>
          <a:stretch/>
        </p:blipFill>
        <p:spPr>
          <a:xfrm>
            <a:off x="7010280" y="5334120"/>
            <a:ext cx="1905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Так начался мой эксперимент по изменению в моем поведении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1. Я испытывал трудности в необычном моем поведен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2.Мне пришлось кроме ежедневного соблюдения тезисов дать себе честное мужское слово не нарушать и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3. Каждый день в своем календаре я отмечал свои удачи и неудач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4. Я помогаю некоторым ребятам из моего класса разбираться в своем поведении. И пытаюсь помоч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справитьс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4" descr="C:\Users\ПК\Desktop\календарный-метод-предохранения.jpeg"/>
          <p:cNvPicPr/>
          <p:nvPr/>
        </p:nvPicPr>
        <p:blipFill>
          <a:blip r:embed="rId1"/>
          <a:stretch/>
        </p:blipFill>
        <p:spPr>
          <a:xfrm>
            <a:off x="4343400" y="5257800"/>
            <a:ext cx="4419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C:\Users\ПК\Desktop\a78e2c3a-93cb-40e2-9b54-5b858fafd7e1.jpg"/>
          <p:cNvPicPr/>
          <p:nvPr/>
        </p:nvPicPr>
        <p:blipFill>
          <a:blip r:embed="rId1"/>
          <a:stretch/>
        </p:blipFill>
        <p:spPr>
          <a:xfrm>
            <a:off x="6705720" y="4638600"/>
            <a:ext cx="2219040" cy="22194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Чего я достиг на данный момент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1. На данный момент я почти научился в различных казусных ситуациях не вступать в конфликты, а контролировать свое поведение. У меня получается вовремя сказать себе: «Стоп!»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2. Я научился справедливо оценивать сложившиеся ситуации, не перечить и не грубить старшим, выполнять их просьбы ни когда мне захочется, а когда это необходим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3. Я понял, что я не один ученик в классе, у меня появилось такое качество личности, как терпеливость, теперь я не выкрикиваю с места ответы на вопросы, а жду своей очереди.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4. Мои отношения с товарищами улучшились, появились друзья, которые меня понимают и я тоже понимаю их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5. Проведенное мною исследование, несомненно, поможет мне в дальнейшей моей жизн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-4575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Вывод моего исследования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1. Этот эксперимент был мне нужен, так как помог мне задуматься над своими недостатками и попытаться их исправит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2. В ходе эксперимента я убедился, что могу сам себя заставить не совершать плохие поступ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7" descr="img"/>
          <p:cNvPicPr/>
          <p:nvPr/>
        </p:nvPicPr>
        <p:blipFill>
          <a:blip r:embed="rId1"/>
          <a:stretch/>
        </p:blipFill>
        <p:spPr>
          <a:xfrm>
            <a:off x="6095880" y="426708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05:50:49Z</dcterms:created>
  <dc:creator>Учитель</dc:creator>
  <dc:description/>
  <dc:language>en-US</dc:language>
  <cp:lastModifiedBy>НАДЕЖДА</cp:lastModifiedBy>
  <dcterms:modified xsi:type="dcterms:W3CDTF">2018-08-16T07:17:40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