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BDF8-5EC2-4377-BCE6-970FE3753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4624-E3B4-4111-B7AD-5CE6BDCF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41BD-D48E-40D9-B0B5-25B3A607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E010-091D-4D69-AFF9-75DFABB1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0C6E9-7892-4C62-BF8A-533855F3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9F07-5E3D-457F-902C-091EE22D7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B342-064F-4C3F-BA68-4625C9DC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4BA4-C669-4D91-99A7-A67F27094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E2A0F-5018-4070-9EDD-66D1495E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A241-745C-44A3-BF31-1F8533901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E4BDE-6CC0-41F1-928A-2A0CBCC5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6324-039B-4EEB-A1A5-5B726E1B1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1ABF7-F904-47A0-91AD-6A5A34B1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059A9-8721-4065-8405-F6279D616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8D6D1-8DE2-4626-BA23-3E8C903C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68A5-52B1-4A08-BCDF-E2872CCD3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3E70-350D-461D-AF57-99F7F62F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902-3C4A-470F-91B4-70AF28976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A115-56E7-425C-A38A-9643D39C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8124-82A3-4CDC-B667-3615E94A5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B6A2-7D5D-47F3-9943-8D07D7E0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F97B-5B50-4687-988D-9B2FF46A5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3358-BB32-4713-AEA3-302CC76B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2264-2BBD-4456-9739-118B33D7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B388-71CF-4615-BE91-0FA219ADC44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5403-F3B5-45D6-A9C5-214ECF2B2B96}" type="slidenum">
              <a:rPr b="0" lang="ru-RU" sz="14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1976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МБОУ «НШ-ДС «Надежда»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508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Исследование на тему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«Умей сказать себе стоп!»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Выполнил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ученик 1-А класса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Иванов Дмитрий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Руководитель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педагог-психолог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Петрова И.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2015 год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    </a:t>
            </a: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Почему возник мой интерес к теме: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 «Умей сказать себе стоп!»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1. Из-за проблем в поведении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2. При помощи рисунка «Несуществующее животное» узнал о своих личностных проблемах и захотел их исправить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3.Из-за своей агрессии и заносчивости остался без друзе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Verdana"/>
              </a:rPr>
              <a:t>4. Нравится наука психология хотел бы в дальнейшем узнать о ней подробнее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1" name="Picture 5" descr="C:\Users\ПК\Desktop\pic3.jpg"/>
          <p:cNvPicPr/>
          <p:nvPr/>
        </p:nvPicPr>
        <p:blipFill>
          <a:blip r:embed="rId1"/>
          <a:stretch/>
        </p:blipFill>
        <p:spPr>
          <a:xfrm>
            <a:off x="7086600" y="5181480"/>
            <a:ext cx="20574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244000" cy="1649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Я задумался как мне выйти из сложившейся ситуации и обратился к нашему школьному психологу за помощью.</a:t>
            </a:r>
            <a:endParaRPr b="0" lang="en-US" sz="2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рина Александровна предложила мне психологический рисуночный тест А.Л.Венгера «Несуществующее животное»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о его результатам я выяснил, какими качествами я обладаю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К сожалению у меня есть недостатки в поведении и в общении, я люблю спорить и даже могу обидеть словом другого человека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Первое, на что мы обратили внимание на пути моего изменения в поведении – это на создание тезисов, которые необходимо было выучить и выполнять ежедневно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Picture 4" descr="C:\Users\ПК\Desktop\m_27637217.jpg"/>
          <p:cNvPicPr/>
          <p:nvPr/>
        </p:nvPicPr>
        <p:blipFill>
          <a:blip r:embed="rId1"/>
          <a:stretch/>
        </p:blipFill>
        <p:spPr>
          <a:xfrm>
            <a:off x="7924680" y="1066680"/>
            <a:ext cx="77796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1573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Рисунок моего несуществующего животного</a:t>
            </a:r>
            <a:br>
              <a:rPr sz="2800"/>
            </a:br>
            <a:r>
              <a:rPr b="0" lang="ru-RU" sz="2800" spc="-1" strike="noStrike">
                <a:solidFill>
                  <a:srgbClr val="006666"/>
                </a:solidFill>
                <a:latin typeface="Verdana"/>
              </a:rPr>
              <a:t>Тенаназавр добрый и травоядный</a:t>
            </a: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Picture 4" descr="динозавррис"/>
          <p:cNvPicPr/>
          <p:nvPr/>
        </p:nvPicPr>
        <p:blipFill>
          <a:blip r:embed="rId1"/>
          <a:stretch/>
        </p:blipFill>
        <p:spPr>
          <a:xfrm>
            <a:off x="990720" y="2286000"/>
            <a:ext cx="57625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-30492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Умей  сказать себе стоп!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1. В начале дня умей настроится на хороше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2.Сказать себе: «Я смогу быть сегодня спокойным и выдержанным»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 Не буду реагировать на плохое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 На уроке буду внимательно слушать учител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5. Во время урока поднимай руку для ответа, а не выкрикивай, когда захочется, понимать, что я не один ученик в классе, а нас много и учителю нужно выслушать всех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6. На переменах не нарушать дисциплину и не обижать тех, кто слабее меня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7. При грубом ко мне отношении одноклассников не смотреть на обидчиков, не слушать их, а сконцентрироваться только на хороше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8. Если слишком разозлюсь, отойду, попробую улыбнуться, выдохну, прижму руки к груди – это поза сильного, выдержанного человек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1" name="Picture 5" descr="C:\Users\ПК\Desktop\bVlMqcCq9Kg.jpg"/>
          <p:cNvPicPr/>
          <p:nvPr/>
        </p:nvPicPr>
        <p:blipFill>
          <a:blip r:embed="rId1"/>
          <a:stretch/>
        </p:blipFill>
        <p:spPr>
          <a:xfrm>
            <a:off x="7010280" y="5334120"/>
            <a:ext cx="1905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Так начался мой эксперимент по изменению в моем поведении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1. Я испытывал трудности в необычном моем поведени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2.Мне пришлось кроме ежедневного соблюдения тезисов дать себе честное мужское слово не нарушать их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3. Каждый день в своем календаре я отмечал свои удачи и неудач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4. Я помогаю некоторым ребятам из моего класса разбираться в своем поведении. И пытаюсь помочь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исправиться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Picture 4" descr="C:\Users\ПК\Desktop\календарный-метод-предохранения.jpeg"/>
          <p:cNvPicPr/>
          <p:nvPr/>
        </p:nvPicPr>
        <p:blipFill>
          <a:blip r:embed="rId1"/>
          <a:stretch/>
        </p:blipFill>
        <p:spPr>
          <a:xfrm>
            <a:off x="4343400" y="5257800"/>
            <a:ext cx="44197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C:\Users\ПК\Desktop\a78e2c3a-93cb-40e2-9b54-5b858fafd7e1.jpg"/>
          <p:cNvPicPr/>
          <p:nvPr/>
        </p:nvPicPr>
        <p:blipFill>
          <a:blip r:embed="rId1"/>
          <a:stretch/>
        </p:blipFill>
        <p:spPr>
          <a:xfrm>
            <a:off x="6705720" y="4638600"/>
            <a:ext cx="2219040" cy="22194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-38124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Чего я достиг на данный момент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1. На данный момент я почти научился в различных казусных ситуациях не вступать в конфликты, а контролировать свое поведение. У меня получается вовремя сказать себе: «Стоп!»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2. Я научился справедливо оценивать сложившиеся ситуации, не перечить и не грубить старшим, выполнять их просьбы ни когда мне захочется, а когда это необходимо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3. Я понял, что я не один ученик в классе, у меня появилось такое качество личности, как терпеливость, теперь я не выкрикиваю с места ответы на вопросы, а жду своей очереди.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4. Мои отношения с товарищами улучшились, появились друзья, которые меня понимают и я тоже понимаю их. 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99"/>
                </a:solidFill>
                <a:latin typeface="Verdana"/>
              </a:rPr>
              <a:t>5. Проведенное мною исследование, несомненно, поможет мне в дальнейшей моей жизни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-4575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Verdana"/>
              </a:rPr>
              <a:t>Вывод моего исследования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1. Этот эксперимент был мне нужен, так как помог мне задуматься над своими недостатками и попытаться их исправить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99"/>
                </a:solidFill>
                <a:latin typeface="Verdana"/>
              </a:rPr>
              <a:t>2. В ходе эксперимента я убедился, что могу сам себя заставить не совершать плохие поступки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0" name="Picture 7" descr="img"/>
          <p:cNvPicPr/>
          <p:nvPr/>
        </p:nvPicPr>
        <p:blipFill>
          <a:blip r:embed="rId1"/>
          <a:stretch/>
        </p:blipFill>
        <p:spPr>
          <a:xfrm>
            <a:off x="6095880" y="4267080"/>
            <a:ext cx="27432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5T05:50:49Z</dcterms:created>
  <dc:creator>Учитель</dc:creator>
  <dc:description/>
  <dc:language>en-US</dc:language>
  <cp:lastModifiedBy>НАДЕЖДА</cp:lastModifiedBy>
  <dcterms:modified xsi:type="dcterms:W3CDTF">2018-08-16T07:17:40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