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AEB9-DBA1-4899-8759-307958B6F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E98-1CCD-40BE-A092-10ADCECD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C852-439B-457B-BF68-4EC0CA033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C46-31E7-4E5C-9F38-9260C76E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65B0-FD39-492E-B399-A068CFAD4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4883-D9EC-4991-9FA7-5B4F4ED0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F499-91AD-4FB6-980B-76CE41B8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771F-9588-4D73-A805-02701B1A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4266-B94E-4ED6-91E1-C6977DD7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F319-453D-4D1A-BE89-C9DD02208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6A19-10FC-45C6-8DFF-BA4E35B2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5743-E762-46BF-A806-70475BF4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6A05-05DC-4103-83D6-E3EEB17D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F8A6F-B38B-424B-B532-DC0D3A3F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8C317-4296-4CA7-88B9-C29B2FB5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49DC-4655-4998-85A5-3F6B1DF84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151A-057D-4C0E-9F2E-A6EEA085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016-3E88-4DF2-B9D4-9D9A4025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4FA6-27E8-4982-8A89-26F823BB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F2C-B9EA-4F7E-A8AF-3DDA52E9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764-FCBB-46CB-AC4B-3CB9D28B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A38D-6AC5-4390-9B71-6F746691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B020-1AE1-443E-9EAD-B7EAE5B0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0F1-D12F-4B29-BB34-04E1348F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26EC-2812-4B53-BF81-92A9E667FC6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32D4-8B82-44CA-BA93-9885A92E9C9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МБОУ «НШ – ДС «Надежда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сследование на  тему: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«Управление своими эмоциям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ла учениц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-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ексеева Ангел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ител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-психоло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трова И. 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014год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возник мой интерес к теме: «Эмоции?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з- за высказывание людей, с которыми я общаю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видела себя, при помощи упражнения «Зеркало» со сторо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ценила реакцию одноклассников и моих родных на различные проявления моего настроения(на то, как они реагируют, когда я счастливая и спокойная, и когда я злюсь и начинаю нервничать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4" descr="C:\Users\ПК\Desktop\m_27637217.jpg"/>
          <p:cNvPicPr/>
          <p:nvPr/>
        </p:nvPicPr>
        <p:blipFill>
          <a:blip r:embed="rId1"/>
          <a:stretch/>
        </p:blipFill>
        <p:spPr>
          <a:xfrm>
            <a:off x="8229600" y="228600"/>
            <a:ext cx="396720" cy="39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ПК\Desktop\pic3.jpg"/>
          <p:cNvPicPr/>
          <p:nvPr/>
        </p:nvPicPr>
        <p:blipFill>
          <a:blip r:embed="rId2"/>
          <a:stretch/>
        </p:blipFill>
        <p:spPr>
          <a:xfrm>
            <a:off x="7086600" y="51814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3123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енно создать себе хорошее настроение и испытывать только положительные эмоции каждый день, к сожалению, невозможно, но научиться управлять ими вполне реально.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пражнения тесно связанные с нашей силой воли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. «Возьми себя в руки!»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. «Подумай о хорошем и все будет хорошо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img"/>
          <p:cNvPicPr/>
          <p:nvPr/>
        </p:nvPicPr>
        <p:blipFill>
          <a:blip r:embed="rId1"/>
          <a:stretch/>
        </p:blipFill>
        <p:spPr>
          <a:xfrm>
            <a:off x="228600" y="434340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 начался мой эксперимент по управлению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своими эмоция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 по управлению своими эмоция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«Спокойствие, только спокойствие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Назвала я свой пл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1. Вспомнить, как вели себя в подобных ситуациях популярные положительные сказочные геро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Например, Карлсон, он говорил: «Спокойствие, только спокойствие! «Когда ему нужно было на чем-то сосредоточится!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2. При грубом ко мне отношении не смотреть на обидчика, не слушать его, а сконцентрироваться только на хорош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3. Если слишком разозлюсь, отойду, попробую улыбнуться, выдохну, прижму руки к груд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- это поза сильного, выдержанного чело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C:\Users\ПК\Desktop\календарный-метод-предохранения.jpeg"/>
          <p:cNvPicPr/>
          <p:nvPr/>
        </p:nvPicPr>
        <p:blipFill>
          <a:blip r:embed="rId1"/>
          <a:stretch/>
        </p:blipFill>
        <p:spPr>
          <a:xfrm>
            <a:off x="0" y="525780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ПК\Desktop\bVlMqcCq9Kg.jpg"/>
          <p:cNvPicPr/>
          <p:nvPr/>
        </p:nvPicPr>
        <p:blipFill>
          <a:blip r:embed="rId2"/>
          <a:stretch/>
        </p:blipFill>
        <p:spPr>
          <a:xfrm>
            <a:off x="6858000" y="53341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удалось в моем эксперименте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 различных казусных ситуациях, научилась не вступать в конфликты и во время сказать себе «Стоп!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Научилась не перечить и не грубить маме, выполнять ее просьбы ни тогда, когда мне захочется, а когда это необходим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е требовать то, что невозможно мне купи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118346"/>
          <p:cNvPicPr/>
          <p:nvPr/>
        </p:nvPicPr>
        <p:blipFill>
          <a:blip r:embed="rId1"/>
          <a:stretch/>
        </p:blipFill>
        <p:spPr>
          <a:xfrm>
            <a:off x="609480" y="388620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новной вывод моего исследов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 данный момент я умею контролировать свои эмоции, во время могу сказать себе: «Стоп!», отойти в нужную минуту, чтобы не завязался конфли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Я научилась справедливо оценивать сложившиеся ситу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веденное мною исследование и, несомненно, мои действия, помогут мне в дальнейшей моей жиз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C:\Users\ПК\Desktop\a78e2c3a-93cb-40e2-9b54-5b858fafd7e1.jpg"/>
          <p:cNvPicPr/>
          <p:nvPr/>
        </p:nvPicPr>
        <p:blipFill>
          <a:blip r:embed="rId1"/>
          <a:stretch/>
        </p:blipFill>
        <p:spPr>
          <a:xfrm>
            <a:off x="6924600" y="463860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я помощь ребятам, которые нуждаются в исправлении своих эмо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своего плана 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ла для ребят памят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Спокойствие, только спокойствие!», говорить себе тогда, когда нужно на чем - то сосредоточ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думай о хорошем и все будет хорошо! Твой девиз в жиз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слишком разозлишься, отойди, улыбнись, выдохни, прижми руки к груди - знай, что это поза сильного духом и выдержанного чело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и планы на будуще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й эксперимент находится только в начале пути, в будущем я хочу продолжать контролировать свои эмоции, тренировать свою силу воли и улучшать свой характер, а также помогать ребятам разбираться в своих эмоциях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C:\Users\ПК\Desktop\1287678168foto1_big.jpg"/>
          <p:cNvPicPr/>
          <p:nvPr/>
        </p:nvPicPr>
        <p:blipFill>
          <a:blip r:embed="rId1"/>
          <a:stretch/>
        </p:blipFill>
        <p:spPr>
          <a:xfrm>
            <a:off x="274320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22:01:07Z</dcterms:created>
  <dc:creator>Учитель</dc:creator>
  <dc:description/>
  <dc:language>en-US</dc:language>
  <cp:lastModifiedBy>НАДЕЖДА</cp:lastModifiedBy>
  <dcterms:modified xsi:type="dcterms:W3CDTF">2018-08-16T06:51:5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