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7671-B8FD-4224-8872-AC25B0EA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341-49C9-42E6-8811-75D8484EE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DFF1-9A72-4BAE-AD8F-7EE30A0C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2C22-860B-4121-8944-3CBA5E77C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371A-2073-40A7-B2DF-4F633CC3F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1317-5F72-40BC-9BD4-BC4F05E3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EE59-9B40-48A9-83FD-71943AA2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58BF-DB86-4F72-A388-E33B509CE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CE0F0-914C-4583-A029-87604F817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D1E9B-FA9A-40AE-B2D0-833DD6EC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1C69-A098-454D-9635-1CBFF86D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D594-10CC-48E4-AE6F-DAAD81F1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7DB71-B86B-4AB8-8565-38A656B49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7DE1A-4C26-4F3C-8ADE-7F78C0DA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9629-8535-46C1-9999-B02F39CE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0188-2238-4F44-B48A-79CCDFD4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FB697-86EB-4151-B904-66BA78A2C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F092-2FE9-4318-94D2-60DF209A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80B1-9ED2-4083-B4D8-5488F2C62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017-FEC6-4810-9B93-1A67062C1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8BB5-991E-48FB-A29C-6F3BB05D1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66F-007C-4228-9BCF-3045A57D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C99B-3828-4DC2-9D6F-0F29BDB90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55D1-F2AC-4E55-9542-9975288B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5742-AAF2-4A1E-9F06-16CFC769403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CA66-B8D2-40D5-8631-A34A9545E58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МБОУ «НШ – ДС «Надежда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сследование на  тему: </a:t>
            </a: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«Управление своими эмоциями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ыполнила ученица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3-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ласс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ексеева Ангели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итель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дагог-психолог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трова И. 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014год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очему возник мой интерес к теме: «Эмоции?»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Из- за высказывание людей, с которыми я общаю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видела себя, при помощи упражнения «Зеркало» со сторон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Оценила реакцию одноклассников и моих родных на различные проявления моего настроения(на то, как они реагируют, когда я счастливая и спокойная, и когда я злюсь и начинаю нервничать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9" name="Picture 4" descr="C:\Users\ПК\Desktop\m_27637217.jpg"/>
          <p:cNvPicPr/>
          <p:nvPr/>
        </p:nvPicPr>
        <p:blipFill>
          <a:blip r:embed="rId1"/>
          <a:stretch/>
        </p:blipFill>
        <p:spPr>
          <a:xfrm>
            <a:off x="8229600" y="228600"/>
            <a:ext cx="396720" cy="39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C:\Users\ПК\Desktop\pic3.jpg"/>
          <p:cNvPicPr/>
          <p:nvPr/>
        </p:nvPicPr>
        <p:blipFill>
          <a:blip r:embed="rId2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кусственно создать себе хорошее настроение и испытывать только положительные эмоции каждый день, к сожалению, невозможно, но научиться управлять ими вполне реально.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Упражнения тесно связанные с нашей силой воли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. «Возьми себя в руки!»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. «Подумай о хорошем и все будет хорошо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img"/>
          <p:cNvPicPr/>
          <p:nvPr/>
        </p:nvPicPr>
        <p:blipFill>
          <a:blip r:embed="rId1"/>
          <a:stretch/>
        </p:blipFill>
        <p:spPr>
          <a:xfrm>
            <a:off x="228600" y="434340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 начался мой эксперимент по управлению</a:t>
            </a: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своими эмоциями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лан по управлению своими эмоция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«Спокойствие, только спокойствие!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Verdana"/>
              </a:rPr>
              <a:t>Назвала я свой пла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Verdana"/>
              </a:rPr>
              <a:t>1. Вспомнить, как вели себя в подобных ситуациях популярные положительные сказочные геро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Например, Карлсон, он говорил: «Спокойствие, только спокойствие! «Когда ему нужно было на чем-то сосредоточится!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2. При грубом ко мне отношении не смотреть на обидчика, не слушать его, а сконцентрироваться только на хорошем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3. Если слишком разозлюсь, отойду, попробую улыбнуться, выдохну, прижму руки к груди</a:t>
            </a: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cc0000"/>
                </a:solidFill>
                <a:latin typeface="Verdana"/>
              </a:rPr>
              <a:t>- это поза сильного, выдержанного человек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4" descr="C:\Users\ПК\Desktop\календарный-метод-предохранения.jpeg"/>
          <p:cNvPicPr/>
          <p:nvPr/>
        </p:nvPicPr>
        <p:blipFill>
          <a:blip r:embed="rId1"/>
          <a:stretch/>
        </p:blipFill>
        <p:spPr>
          <a:xfrm>
            <a:off x="0" y="5257800"/>
            <a:ext cx="304812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ПК\Desktop\bVlMqcCq9Kg.jpg"/>
          <p:cNvPicPr/>
          <p:nvPr/>
        </p:nvPicPr>
        <p:blipFill>
          <a:blip r:embed="rId2"/>
          <a:stretch/>
        </p:blipFill>
        <p:spPr>
          <a:xfrm>
            <a:off x="6858000" y="5334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Что удалось в моем эксперименте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 различных казусных ситуациях, научилась не вступать в конфликты и во время сказать себе «Стоп!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Научилась не перечить и не грубить маме, выполнять ее просьбы ни тогда, когда мне захочется, а когда это необходимо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Не требовать то, что невозможно мне купит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118346"/>
          <p:cNvPicPr/>
          <p:nvPr/>
        </p:nvPicPr>
        <p:blipFill>
          <a:blip r:embed="rId1"/>
          <a:stretch/>
        </p:blipFill>
        <p:spPr>
          <a:xfrm>
            <a:off x="609480" y="3886200"/>
            <a:ext cx="25146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Основной вывод моего исследова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На данный момент я умею контролировать свои эмоции, во время могу сказать себе: «Стоп!», отойти в нужную минуту, чтобы не завязался конфликт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Я научилась справедливо оценивать сложившиеся ситуац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веденное мною исследование и, несомненно, мои действия, помогут мне в дальнейшей моей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4" descr="C:\Users\ПК\Desktop\a78e2c3a-93cb-40e2-9b54-5b858fafd7e1.jpg"/>
          <p:cNvPicPr/>
          <p:nvPr/>
        </p:nvPicPr>
        <p:blipFill>
          <a:blip r:embed="rId1"/>
          <a:stretch/>
        </p:blipFill>
        <p:spPr>
          <a:xfrm>
            <a:off x="6924600" y="4638600"/>
            <a:ext cx="221940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я помощь ребятам, которые нуждаются в исправлении своих эмоц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помощи своего плана 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сала для ребят памят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«Спокойствие, только спокойствие!», говорить себе тогда, когда нужно на чем - то сосредоточится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думай о хорошем и все будет хорошо! Твой девиз в жиз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Если слишком разозлишься, отойди, улыбнись, выдохни, прижми руки к груди - знай, что это поза сильного духом и выдержанного человек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Мои планы на будуще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й эксперимент находится только в начале пути, в будущем я хочу продолжать контролировать свои эмоции, тренировать свою силу воли и улучшать свой характер, а также помогать ребятам разбираться в своих эмоциях!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Picture 4" descr="C:\Users\ПК\Desktop\1287678168foto1_big.jpg"/>
          <p:cNvPicPr/>
          <p:nvPr/>
        </p:nvPicPr>
        <p:blipFill>
          <a:blip r:embed="rId1"/>
          <a:stretch/>
        </p:blipFill>
        <p:spPr>
          <a:xfrm>
            <a:off x="2743200" y="457200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22:01:07Z</dcterms:created>
  <dc:creator>Учитель</dc:creator>
  <dc:description/>
  <dc:language>en-US</dc:language>
  <cp:lastModifiedBy>НАДЕЖДА</cp:lastModifiedBy>
  <dcterms:modified xsi:type="dcterms:W3CDTF">2018-08-16T06:51:5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