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51C8-2A4D-4418-BF03-B102298A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04C7-6EAD-40C6-AD47-5C7C3B5E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3908-C10C-437E-85FD-48DA6ABD8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D50-F584-4BAC-9D98-5F6550DCE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6F5A-B0A5-40FD-9948-F6B8ACE0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BBB-29D0-422E-AAFF-01AB5254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F01F-ABB2-4FEB-8451-CD37B6A37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79DC-B098-4182-93A5-E4522D42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15F2-2722-4F2E-8CC8-62310438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2982-7CE8-4F10-AFB1-9BE9F208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13D8-D44E-46A5-8763-62D22D3A5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39CA-15FE-457C-B572-28CFD681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2F2B-DD86-49A3-8517-F02E4194DEB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cc"/>
                </a:solidFill>
                <a:uFillTx/>
                <a:latin typeface="Tahoma"/>
              </a:rPr>
              <a:t>Урок литературы в 11 классе</a:t>
            </a: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«Взывая к высоким чувствам…»</a:t>
            </a:r>
            <a:br>
              <a:rPr sz="3600"/>
            </a:b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(О творчестве В.И.Лихоносова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 МБОУ СОШ №12 х. Гарбузовая Балка Брюховецкого района Краснодарского края Вакарчук В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01. Fly.mp3" descr=""/>
          <p:cNvPicPr/>
          <p:nvPr/>
        </p:nvPicPr>
        <p:blipFill>
          <a:blip r:embed="rId1"/>
          <a:stretch/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228240"/>
            <a:ext cx="5410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оман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«Наш маленький Париж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24080" y="1382760"/>
            <a:ext cx="594360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необычайное и удивительное произведение. Роман охватывает огромную эпоху жизни Кубани - от начал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ека до наших дней. В нем Лихоносов собрал всё самое важное: любовь к своему народу, тихие открытия одиночества и жизнь. Писатель старался в своем романе воскресить старую казачью Русь, ее быт, обычаи, нравы- то, что было отвергнуто нашей идеологи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хоносов пишет не только о казаках на Кубани, но и о тех, кто покинул Россию после расказачивания. В эмиграцию уехало много казаков, одними из них были Дементий Бурсак и Петр Толстопят. Трудно было жить вдали от дома, все хотели вернуться. Каждый молил об одном: «Дай, Боже, чтоб под этим флагом мы собрались в родной Кубани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208080" y="1411200"/>
            <a:ext cx="2828880" cy="4624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Что я позабыл, что потерял в этой Тамани?»  («Осень в Тамани»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85840" y="15998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Мне не очень хотелось портить вечер на вымаливание у старика какой-то тетрадки. Видел я разные тетрадки, и ничего путного в них не писалось. Почему я не жил здесь до войны! Жил бы, копался в огороде, рыбачил, ничего не сочинял, а только записывал рассказы самых мудрых и памятных таманцев. Зачем в мире столько придуманных книг? Одной лишь чуткой душе прощаются вымыслы. И что же я тут позабыл? Любовь? Старушки были моей любовью. Да тени великих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971800" cy="4616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9360" y="576000"/>
            <a:ext cx="7777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Проза у него светится, как у Бунина»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А. Твардовский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263052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33840" y="1981080"/>
            <a:ext cx="5052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Всё, что он написал, написано свежо, музыкально, очень точно, и всё проникнуто острой, даже какой-то восторженно- печальной любовью к человеку», - отмечал известный русский писатель Ю. Каза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647640" y="2046240"/>
            <a:ext cx="2951280" cy="3894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иограф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62160" y="1904760"/>
            <a:ext cx="472428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ктор Иванович Лихоносов родился 30 апреля 1936 года на станции Топки Кемеровской области. В 1943 г. на фронте погиб отец. Детство  и юность провел в Новосибирс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56 г. по 1961 г. учился В Краснодарском педагогическом институте, после чего учительствовал в станицах Кубани. В 1963 году вышел первый рассказ «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рянск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, так было положено начало литературному творчеств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Объект 4" descr=""/>
          <p:cNvPicPr/>
          <p:nvPr/>
        </p:nvPicPr>
        <p:blipFill>
          <a:blip r:embed="rId1"/>
          <a:stretch/>
        </p:blipFill>
        <p:spPr>
          <a:xfrm>
            <a:off x="457200" y="1940040"/>
            <a:ext cx="29894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ворческий пу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а за другой   выходят в свет его повести «Чалдонки», «Люблю тебя светло», «Вечера», «Что-то будет», «На долгую память», «Чистые глаза», роман «Когда же мы встретимся». Рассказы и повести В. Лихоносова переводятся на румынский, чешский, болгарский, немецкий, английский, польский и другие язы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 Значит, было время, что люди жили так…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43040" y="19810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978 году замолкает на 10 лет, работая над романом о судьбе русского казачества «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енаписанные воспоминания. Наш маленький Париж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. В 1988г. за него В. Лихоносов получил Государственную премию РСФСР им. М. Горьког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и многие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исатели-деревенщи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е принял перестройку. Опубликовал книгу «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Тоска-кручи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2003 году получил премию «Ясная Полян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800600" y="175248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Место для изображения из Интернета 2" descr=""/>
          <p:cNvPicPr/>
          <p:nvPr/>
        </p:nvPicPr>
        <p:blipFill>
          <a:blip r:embed="rId1"/>
          <a:stretch/>
        </p:blipFill>
        <p:spPr>
          <a:xfrm>
            <a:off x="457200" y="2119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ворческий пу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84 году был выпущен двухтомник произведений писате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86 году опубликован роман «Ненаписанные воспоминания. Наш маленький Париж», повествующий об истории Кубани. Роман-осмысление времени, эпохи, исто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Знания… велики. Но накопленные без любви, они никого не согрели»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38120" y="2133360"/>
            <a:ext cx="449604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озе В. И. Лихоносова присутствую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легические, лирические и романтические мотивы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Благодаря этому, его нельзя однозначно отнести к деревенским писателям, но и сам автор и его герои, как правило, из простого народа, и мысли их совпадают с нравственными императивами писателей-деревенщ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2590560" cy="3956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дводим итог.Литературное творчество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23800" y="1987200"/>
            <a:ext cx="4851720" cy="38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63г.- первый рассказ «Брянски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66г.- книги «Вечера» и           «Что-то буд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67г.- сборник «Голоса в тишин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68г.- «Люблю тебя светло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69г.- повесть «На долгую память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73г.- «Чистые глаз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86г.- «Ненаписанные воспоминания. Наш маленький Париж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 rot="20036400">
            <a:off x="1185480" y="2090520"/>
            <a:ext cx="1266840" cy="2082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"/>
          <p:cNvPicPr/>
          <p:nvPr/>
        </p:nvPicPr>
        <p:blipFill>
          <a:blip r:embed="rId2"/>
          <a:stretch/>
        </p:blipFill>
        <p:spPr>
          <a:xfrm rot="660600">
            <a:off x="2244240" y="2522520"/>
            <a:ext cx="1195560" cy="18734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"/>
          <p:cNvPicPr/>
          <p:nvPr/>
        </p:nvPicPr>
        <p:blipFill>
          <a:blip r:embed="rId3"/>
          <a:stretch/>
        </p:blipFill>
        <p:spPr>
          <a:xfrm rot="20096400">
            <a:off x="845640" y="3404880"/>
            <a:ext cx="1409760" cy="19587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"/>
          <p:cNvPicPr/>
          <p:nvPr/>
        </p:nvPicPr>
        <p:blipFill>
          <a:blip r:embed="rId4"/>
          <a:stretch/>
        </p:blipFill>
        <p:spPr>
          <a:xfrm rot="2134200">
            <a:off x="2503080" y="3524040"/>
            <a:ext cx="1349280" cy="17254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"/>
          <p:cNvPicPr/>
          <p:nvPr/>
        </p:nvPicPr>
        <p:blipFill>
          <a:blip r:embed="rId5"/>
          <a:stretch/>
        </p:blipFill>
        <p:spPr>
          <a:xfrm>
            <a:off x="1747800" y="4135320"/>
            <a:ext cx="1136520" cy="1663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Когда же мы встретимся?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080" y="19051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омане В. И. Лихоносова рассказывается о формировании характера людей, посвятивших себя искусству. Перед читателем предстает фигура талантливого киноактера Егора Телепнева, в начале 50-х годов приехавшего в Москву из Сибири поступать в Щепкинское училище. Знакомство с историей русского искусства и культуры помогло герою вырасти в человека с большим сердцем. И Егору, и многим его друзьям присуще чувство ответственности перед  своей страной, перед современниками за  «дело, которому они служа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463680" y="2057400"/>
            <a:ext cx="2792160" cy="3838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mya</cp:lastModifiedBy>
  <dcterms:modified xsi:type="dcterms:W3CDTF">2018-08-20T12:52:14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