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4C95-2058-401F-9CDC-6C300DAB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CD82-E54D-4EA6-9EC7-07E8F372C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0DDD-9EB9-4B22-B6BC-61B579276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64A3-94B6-404E-BF21-D9DCA26EE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129A-1858-406A-A707-8D1DDD7A2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6B46-EA31-4B99-88F8-E8999BC53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590-BDA0-4E57-917D-6CC4CC7B5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6F65-EBC9-421C-B89E-219CEE92B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1B9B-24A3-4DB2-84DE-9C372BD3D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A6A-7FE6-472C-A079-087656A9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DF7E-9D9B-4869-BEFA-861CEC29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CB81-937C-43D1-ABF1-9CE6C1EE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9BC55-54E5-4395-BD32-366EDE159C2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16256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ffffcc"/>
                </a:solidFill>
                <a:uFillTx/>
                <a:latin typeface="Tahoma"/>
              </a:rPr>
              <a:t>Урок литературы в 11 классе</a:t>
            </a:r>
            <a:br>
              <a:rPr sz="3600"/>
            </a:br>
            <a:br>
              <a:rPr sz="3600"/>
            </a:b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«Взывая к высоким чувствам…»</a:t>
            </a:r>
            <a:br>
              <a:rPr sz="3600"/>
            </a:br>
            <a:r>
              <a:rPr b="0" i="1" lang="ru-RU" sz="3600" spc="-1" strike="noStrike">
                <a:solidFill>
                  <a:srgbClr val="ffffcc"/>
                </a:solidFill>
                <a:latin typeface="Tahoma"/>
              </a:rPr>
              <a:t>(О творчестве В.И.Лихоносова)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6572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русского языка и литературы МБОУ СОШ №12 х. Гарбузовая Балка Брюховецкого района Краснодарского края Вакарчук В.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3" name="01. Fly.mp3" descr=""/>
          <p:cNvPicPr/>
          <p:nvPr/>
        </p:nvPicPr>
        <p:blipFill>
          <a:blip r:embed="rId1"/>
          <a:stretch/>
        </p:blipFill>
        <p:spPr>
          <a:xfrm>
            <a:off x="5335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80720" y="228240"/>
            <a:ext cx="54104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Роман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«Наш маленький Париж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24080" y="1382760"/>
            <a:ext cx="5943600" cy="53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Это необычайное и удивительное произведение. Роман охватывает огромную эпоху жизни Кубани - от начала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XX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века до наших дней. В нем Лихоносов собрал всё самое важное: любовь к своему народу, тихие открытия одиночества и жизнь. Писатель старался в своем романе воскресить старую казачью Русь, ее быт, обычаи, нравы- то, что было отвергнуто нашей идеологие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Лихоносов пишет не только о казаках на Кубани, но и о тех, кто покинул Россию после расказачивания. В эмиграцию уехало много казаков, одними из них были Дементий Бурсак и Петр Толстопят. Трудно было жить вдали от дома, все хотели вернуться. Каждый молил об одном: «Дай, Боже, чтоб под этим флагом мы собрались в родной Кубани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" name="Рисунок 2" descr=""/>
          <p:cNvPicPr/>
          <p:nvPr/>
        </p:nvPicPr>
        <p:blipFill>
          <a:blip r:embed="rId1"/>
          <a:stretch/>
        </p:blipFill>
        <p:spPr>
          <a:xfrm>
            <a:off x="208080" y="1411200"/>
            <a:ext cx="2828880" cy="46245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560" y="380880"/>
            <a:ext cx="6553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«Что я позабыл, что потерял в этой Тамани?»  («Осень в Тамани»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85840" y="159984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Мне не очень хотелось портить вечер на вымаливание у старика какой-то тетрадки. Видел я разные тетрадки, и ничего путного в них не писалось. Почему я не жил здесь до войны! Жил бы, копался в огороде, рыбачил, ничего не сочинял, а только записывал рассказы самых мудрых и памятных таманцев. Зачем в мире столько придуманных книг? Одной лишь чуткой душе прощаются вымыслы. И что же я тут позабыл? Любовь? Старушки были моей любовью. Да тени великих.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Рисунок 1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971800" cy="46162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Спасибо за внимани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9360" y="576000"/>
            <a:ext cx="777708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«Проза у него светится, как у Бунина» 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(А. Твардовский)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1760" y="1980720"/>
            <a:ext cx="263052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33840" y="1981080"/>
            <a:ext cx="5052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Всё, что он написал, написано свежо, музыкально, очень точно, и всё проникнуто острой, даже какой-то восторженно- печальной любовью к человеку», - отмечал известный русский писатель Ю. Каза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647640" y="2046240"/>
            <a:ext cx="2951280" cy="38941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Биография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962160" y="1904760"/>
            <a:ext cx="4724280" cy="450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ктор Иванович Лихоносов родился 30 апреля 1936 года на станции Топки Кемеровской области. В 1943 г. на фронте погиб отец. Детство  и юность провел в Новосибирск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 1956 г. по 1961 г. учился В Краснодарском педагогическом институте, после чего учительствовал в станицах Кубани. В 1963 году вышел первый рассказ «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Брянски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, так было положено начало литературному творчеству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0" name="Объект 4" descr=""/>
          <p:cNvPicPr/>
          <p:nvPr/>
        </p:nvPicPr>
        <p:blipFill>
          <a:blip r:embed="rId1"/>
          <a:stretch/>
        </p:blipFill>
        <p:spPr>
          <a:xfrm>
            <a:off x="457200" y="1940040"/>
            <a:ext cx="29894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ворческий пут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дна за другой   выходят в свет его повести «Чалдонки», «Люблю тебя светло», «Вечера», «Что-то будет», «На долгую память», «Чистые глаза», роман «Когда же мы встретимся». Рассказы и повести В. Лихоносова переводятся на румынский, чешский, болгарский, немецкий, английский, польский и другие язы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« Значит, было время, что люди жили так…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43040" y="198108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1978 году замолкает на 10 лет, работая над романом о судьбе русского казачества «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Ненаписанные воспоминания. Наш маленький Париж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. В 1988г. за него В. Лихоносов получил Государственную премию РСФСР им. М. Горького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Как и многие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писатели-деревенщики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не принял перестройку. Опубликовал книгу «</a:t>
            </a:r>
            <a:r>
              <a:rPr b="0" i="1" lang="ru-RU" sz="2000" spc="-1" strike="noStrike">
                <a:solidFill>
                  <a:srgbClr val="ffffff"/>
                </a:solidFill>
                <a:latin typeface="Tahoma"/>
              </a:rPr>
              <a:t>Тоска-кручин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2003 году получил премию «Ясная Полян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4800600" y="175248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Место для изображения из Интернета 2" descr=""/>
          <p:cNvPicPr/>
          <p:nvPr/>
        </p:nvPicPr>
        <p:blipFill>
          <a:blip r:embed="rId1"/>
          <a:stretch/>
        </p:blipFill>
        <p:spPr>
          <a:xfrm>
            <a:off x="457200" y="211932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Творческий путь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984 году был выпущен двухтомник произведений писател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ff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986 году опубликован роман «Ненаписанные воспоминания. Наш маленький Париж», повествующий об истории Кубани. Роман-осмысление времени, эпохи, истори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«Знания… велики. Но накопленные без любви, они никого не согрели» 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038120" y="2133360"/>
            <a:ext cx="449604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прозе В. И. Лихоносова присутствуют 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элегические, лирические и романтические мотивы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Благодаря этому, его нельзя однозначно отнести к деревенским писателям, но и сам автор и его герои, как правило, из простого народа, и мысли их совпадают с нравственными императивами писателей-деревенщи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1" name="Рисунок 1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2590560" cy="395604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Подводим итог.Литературное творчество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23800" y="1987200"/>
            <a:ext cx="4851720" cy="38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63г.- первый рассказ «Брянски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66г.- книги «Вечера» и           «Что-то буде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67г.- сборник «Голоса в тишине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68г.- «Люблю тебя светло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69г.- повесть «На долгую память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73г.- «Чистые глаза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499"/>
              </a:spcBef>
              <a:buClr>
                <a:srgbClr val="ffff99"/>
              </a:buClr>
              <a:buSzPct val="6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986г.- «Ненаписанные воспоминания. Наш маленький Париж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Рисунок 3" descr=""/>
          <p:cNvPicPr/>
          <p:nvPr/>
        </p:nvPicPr>
        <p:blipFill>
          <a:blip r:embed="rId1"/>
          <a:stretch/>
        </p:blipFill>
        <p:spPr>
          <a:xfrm rot="20036400">
            <a:off x="1185480" y="2090520"/>
            <a:ext cx="1266840" cy="20826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"/>
          <p:cNvPicPr/>
          <p:nvPr/>
        </p:nvPicPr>
        <p:blipFill>
          <a:blip r:embed="rId2"/>
          <a:stretch/>
        </p:blipFill>
        <p:spPr>
          <a:xfrm rot="660600">
            <a:off x="2244240" y="2522520"/>
            <a:ext cx="1195560" cy="187344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5" descr=""/>
          <p:cNvPicPr/>
          <p:nvPr/>
        </p:nvPicPr>
        <p:blipFill>
          <a:blip r:embed="rId3"/>
          <a:stretch/>
        </p:blipFill>
        <p:spPr>
          <a:xfrm rot="20096400">
            <a:off x="845640" y="3404880"/>
            <a:ext cx="1409760" cy="195876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"/>
          <p:cNvPicPr/>
          <p:nvPr/>
        </p:nvPicPr>
        <p:blipFill>
          <a:blip r:embed="rId4"/>
          <a:stretch/>
        </p:blipFill>
        <p:spPr>
          <a:xfrm rot="2134200">
            <a:off x="2503080" y="3524040"/>
            <a:ext cx="1349280" cy="17254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7" descr=""/>
          <p:cNvPicPr/>
          <p:nvPr/>
        </p:nvPicPr>
        <p:blipFill>
          <a:blip r:embed="rId5"/>
          <a:stretch/>
        </p:blipFill>
        <p:spPr>
          <a:xfrm>
            <a:off x="1747800" y="4135320"/>
            <a:ext cx="1136520" cy="1663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7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8000"/>
                            </p:stCondLst>
                            <p:childTnLst>
                              <p:par>
                                <p:cTn id="73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«Когда же мы встретимся?»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080" y="1905120"/>
            <a:ext cx="48769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омане В. И. Лихоносова рассказывается о формировании характера людей, посвятивших себя искусству. Перед читателем предстает фигура талантливого киноактера Егора Телепнева, в начале 50-х годов приехавшего в Москву из Сибири поступать в Щепкинское училище. Знакомство с историей русского искусства и культуры помогло герою вырасти в человека с большим сердцем. И Егору, и многим его друзьям присуще чувство ответственности перед  своей страной, перед современниками за  «дело, которому они служат»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" name="Рисунок 1" descr=""/>
          <p:cNvPicPr/>
          <p:nvPr/>
        </p:nvPicPr>
        <p:blipFill>
          <a:blip r:embed="rId1"/>
          <a:stretch/>
        </p:blipFill>
        <p:spPr>
          <a:xfrm>
            <a:off x="463680" y="2057400"/>
            <a:ext cx="2792160" cy="383868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mya</cp:lastModifiedBy>
  <dcterms:modified xsi:type="dcterms:W3CDTF">2018-08-20T12:52:14Z</dcterms:modified>
  <cp:revision>7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