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EF8-96E7-44FD-82EB-8286D4BF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7F9-05AF-4850-8910-CB54AEA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2C9-7B02-4475-B556-A3F572CD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430-EF1B-4EF5-A9AF-93248037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3D94-2E20-4CDB-AD33-31435FAF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FCD7-9AFA-436C-B69D-70A34A1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AF12-8A3A-4AA1-A007-E6A76E8C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2A4-96BB-427F-BC16-2AC9D48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C7EB-1EF3-45D1-AC87-3C7AB17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0EE1-E742-44DA-8802-C41EB4E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F86-D724-4424-B993-E517D3B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28-E92D-40CA-92CD-F68B9C1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DC1-9510-49F5-AF4B-7A192B5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E5BD-58F7-4910-B06D-43110D3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6EF4-D21C-4E4A-8485-22CE2A8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FD2-062C-4F73-99D3-548A777D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91CC-7A43-44E9-B514-0BB6FE7E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559-A497-4284-8247-9EEA687D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1CF-1DF5-460E-B2B0-A7AEC3B9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E08-695E-4F1F-A2E0-E9FAB2E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65D-283D-4CF6-B66E-91CCE75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4DA-0AE4-4ACA-A710-A6CCDB4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FAE7-28A9-46E8-B9E3-5CFF6FC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7CA-ACAC-4D01-94B5-56DE422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C1FA-4D9B-4013-B2E9-69668E9154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31EB-055A-4EE6-8849-7E8D063C6E6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369800"/>
            <a:ext cx="7042320" cy="28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С какими проблемами сталкиваетесь вы и ваш ребёнок при выполнении домашних задани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952520"/>
            <a:ext cx="564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акурина Н. Л., учитель начальных классов МБОУ «СОШ № 1» г. Микун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190a36"/>
                </a:solidFill>
                <a:latin typeface="Showcard Gothic"/>
              </a:rPr>
              <a:t>Желаю успехов!</a:t>
            </a:r>
            <a:endParaRPr b="0" lang="en-US" sz="10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Трудно усадить ребёнка за урок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месте с ребёнком определите время начала выполнения работы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тарайтесь придерживаться этого времен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Трудно определить с чего начать выполнение работ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учше начинать выполнять работу с письменных занят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жду заданиями по разным предметам нужно делать небольшой переры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юбое начатое задание доводим до конца, не отвлекаем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длительным детям необходимо ориентироваться по час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бёнок не может выполнять  работу без помощи взросл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Можно вместе составить план работы по выполнению задания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степенно надо уменьшать вашу помощь, давать больше самостоятельности ребён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226800"/>
            <a:ext cx="75438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абота на черновике и переписывание на чистовик занимает много вре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514600"/>
            <a:ext cx="7386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ужно определить, в каки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лучаях черновик требуется обязательно, а в каких лучше сразу писать на чистови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дители постоянно недовольны работой ребё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905120"/>
            <a:ext cx="738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 ребёнка появляется неуверенность в себе и страх недовольства родителе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хвалить ребёнка за любые достижения, даже маленьк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замечать, что уже получилось, и анализировать, над чем ещё поработ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ерпеливо и спокойно проверяйте и направляйте ребёнка к правильному ответ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тарайтесь не давать оценочных суждений, если получили не тот ответ, который ожидал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бёнок, выполняя домашнюю работу постоянно допускает ошиб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2286000"/>
            <a:ext cx="7386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ы можете организовать проверку по план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  Прочитать задание и объяснить своими словами, что надо сделать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   Сравнить с образц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    Проанализировать, что получилось правильно и какие ошибки допущены.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  Объяснить, как исправить ошиб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   Подумать, чему необходимо научиться, чтобы не допускать ошибк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курины</cp:lastModifiedBy>
  <dcterms:modified xsi:type="dcterms:W3CDTF">2013-04-10T16:05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