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CB5-878B-49A5-BED2-7DB11477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F92-9490-4721-A600-F471AA71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D66-8E13-4E56-AA19-735E785D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31E-FF5C-40A2-9397-4E224B37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177F-AA84-4DBB-9ED7-2F74E158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5684-3784-4346-A8FE-C14CE4F4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DE08-4C39-49D5-9379-C9A0876B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5945-3210-4D90-B2A7-8E8131E4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9457-65F4-4A6D-A5F6-D7217D2C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812E-8B6D-4E03-B27C-6BD654A3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E862-8BBB-4A0D-9428-D678CA78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296-3557-4988-B67C-3698ED8A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6BF8-7AE9-467B-99FF-5C6BE803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17EB-456F-4DE5-ADA1-BC4D7DFE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EB82-7E5B-4CF5-BD81-F8EE8B1A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ACD3-0D76-4D3D-9944-34264191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D9C8-4E25-4CB8-938C-BCD044C4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2D9-EFA9-4B2E-BF0C-D28E4001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478-7AC5-48F1-AA9F-AA13A7C7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536-70D6-4EA1-962A-F77AE4B2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5FF-222D-49F9-AC95-5B972C9A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B42-09FF-4BDA-A015-8A795607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C25-D4B8-4F12-8B92-B5DEA8F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651-B7CD-4E06-B4E7-90CA2002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A82A-F49E-4D71-9E44-8F4DED57E1E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B9EF-FB11-40C2-B382-28638DE3615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369800"/>
            <a:ext cx="7042320" cy="28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С какими проблемами сталкиваетесь вы и ваш ребёнок при выполнении домашних заданий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4952520"/>
            <a:ext cx="564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езентацию подготовил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акурина Н. Л., учитель начальных классов МБОУ «СОШ № 1» г. Микун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190a36"/>
                </a:solidFill>
                <a:latin typeface="Showcard Gothic"/>
              </a:rPr>
              <a:t>Желаю успехов!</a:t>
            </a:r>
            <a:endParaRPr b="0" lang="en-US" sz="10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Трудно усадить ребёнка за уроки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месте с ребёнком определите время начала выполнения работы;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Старайтесь придерживаться этого времен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Трудно определить с чего начать выполнение работы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учше начинать выполнять работу с письменных заняти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жду заданиями по разным предметам нужно делать небольшой переры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юбое начатое задание доводим до конца, не отвлекаемс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длительным детям необходимо ориентироваться по часа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бёнок не может выполнять  работу без помощи взрослых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Можно вместе составить план работы по выполнению задания;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остепенно надо уменьшать вашу помощь, давать больше самостоятельности ребёнк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226800"/>
            <a:ext cx="75438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абота на черновике и переписывание на чистовик занимает много време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2514600"/>
            <a:ext cx="7386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Нужно определить, в каких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случаях черновик требуется обязательно, а в каких лучше сразу писать на чистови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дители постоянно недовольны работой ребён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905120"/>
            <a:ext cx="7386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 ребёнка появляется неуверенность в себе и страх недовольства родителе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ужно хвалить ребёнка за любые достижения, даже маленьки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ужно замечать, что уже получилось, и анализировать, над чем ещё поработа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Терпеливо и спокойно проверяйте и направляйте ребёнка к правильному ответ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Старайтесь не давать оценочных суждений, если получили не тот ответ, который ожидал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746748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бёнок, выполняя домашнюю работу постоянно допускает ошиб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2286000"/>
            <a:ext cx="7386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Вы можете организовать проверку по плану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   Прочитать задание и объяснить своими словами, что надо сделать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   Сравнить с образцо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    Проанализировать, что получилось правильно и какие ошибки допущены. 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.   Объяснить, как исправить ошиб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.    Подумать, чему необходимо научиться, чтобы не допускать ошибк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курины</cp:lastModifiedBy>
  <dcterms:modified xsi:type="dcterms:W3CDTF">2013-04-10T16:05:0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