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4.jpeg" ContentType="image/jpeg"/>
  <Override PartName="/ppt/media/image2.gif" ContentType="image/gif"/>
  <Override PartName="/ppt/media/image25.png" ContentType="image/png"/>
  <Override PartName="/ppt/media/image9.jpeg" ContentType="image/jpeg"/>
  <Override PartName="/ppt/media/image11.jpeg" ContentType="image/jpeg"/>
  <Override PartName="/ppt/media/image6.jpeg" ContentType="image/jpeg"/>
  <Override PartName="/ppt/media/image26.jpeg" ContentType="image/jpeg"/>
  <Override PartName="/ppt/media/image7.gif" ContentType="image/gif"/>
  <Override PartName="/ppt/media/image5.jpeg" ContentType="image/jpeg"/>
  <Override PartName="/ppt/media/image13.jpeg" ContentType="image/jpeg"/>
  <Override PartName="/ppt/media/image30.gif" ContentType="image/gif"/>
  <Override PartName="/ppt/media/image3.png" ContentType="image/png"/>
  <Override PartName="/ppt/media/image17.jpeg" ContentType="image/jpeg"/>
  <Override PartName="/ppt/media/image12.jpeg" ContentType="image/jpeg"/>
  <Override PartName="/ppt/media/image1.wmf" ContentType="image/x-wmf"/>
  <Override PartName="/ppt/media/image15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media/image20.jpeg" ContentType="image/jpeg"/>
  <Override PartName="/ppt/media/image22.jpeg" ContentType="image/jpeg"/>
  <Override PartName="/ppt/media/image23.jpeg" ContentType="image/jpeg"/>
  <Override PartName="/ppt/media/image24.jpeg" ContentType="image/jpeg"/>
  <Override PartName="/ppt/media/image27.png" ContentType="image/png"/>
  <Override PartName="/ppt/media/image28.jpeg" ContentType="image/jpeg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29CE-4B91-4F9F-82B7-27605D3A6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3413-D9A0-418B-A09F-262A922FC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ECA-3472-4817-B37D-77D71ED8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29A1-3EC6-4F24-82B4-38BC96237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3D85-958A-405A-AE50-5767DBE3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CD18-81BB-4101-A2AB-AE42B60D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E5F3-C585-4C3E-BABF-28D8F954B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6717-BB9C-4475-A2A6-2BDD39ED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3001-C8AF-4D39-AF83-11B347170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1C99-341E-44A5-B41A-14FED16A9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612A-F8F0-4AAC-88B6-CA8F7AB7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9054-2BF1-4571-905B-EB5834AC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DD4-058C-4480-BAEE-57A4BF800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12.xm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" Target="slide14.xml"/><Relationship Id="rId5" Type="http://schemas.openxmlformats.org/officeDocument/2006/relationships/slide" Target="slide1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" Target="slide17.xml"/><Relationship Id="rId4" Type="http://schemas.openxmlformats.org/officeDocument/2006/relationships/slide" Target="slide16.xm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4.xml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" Target="slide5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7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9.xm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" Target="slide10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Загадки</a:t>
            </a:r>
            <a:r>
              <a:rPr b="1" lang="en-US" sz="80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8000"/>
            </a:br>
            <a:r>
              <a:rPr b="1" lang="en-US" sz="8000" spc="-1" strike="noStrike">
                <a:solidFill>
                  <a:srgbClr val="ffff00"/>
                </a:solidFill>
                <a:latin typeface="Arial"/>
              </a:rPr>
              <a:t>по </a:t>
            </a:r>
            <a:br>
              <a:rPr sz="8000"/>
            </a:br>
            <a:r>
              <a:rPr b="1" lang="en-US" sz="8000" spc="-1" strike="noStrike">
                <a:solidFill>
                  <a:srgbClr val="008000"/>
                </a:solidFill>
                <a:latin typeface="Arial"/>
              </a:rPr>
              <a:t>ПДД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497800" cy="6191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08360" y="4941720"/>
            <a:ext cx="1762200" cy="10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велосипе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55640" y="2224080"/>
            <a:ext cx="48960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1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4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Высоких деревьев длинней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Травиночки маленькой ниж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С ней дали становятся ближе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8000"/>
                </a:solidFill>
                <a:latin typeface="Arial"/>
              </a:rPr>
              <a:t>И мир открывается с ней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0472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рог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116000" y="4653000"/>
            <a:ext cx="1455840" cy="1587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659640" y="4653000"/>
            <a:ext cx="1439640" cy="1547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519600" y="623736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крёс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3708360" y="4653000"/>
            <a:ext cx="1871640" cy="1546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42160" y="623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ни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rId4" action="ppaction://hlinksldjump"/>
          </p:cNvPr>
          <p:cNvSpPr/>
          <p:nvPr/>
        </p:nvSpPr>
        <p:spPr>
          <a:xfrm>
            <a:off x="1116000" y="4581360"/>
            <a:ext cx="1440000" cy="1656000"/>
          </a:xfrm>
          <a:custGeom>
            <a:avLst/>
            <a:gdLst>
              <a:gd name="textAreaLeft" fmla="*/ 93240 w 1440000"/>
              <a:gd name="textAreaRight" fmla="*/ 1346760 w 1440000"/>
              <a:gd name="textAreaTop" fmla="*/ 93240 h 1656000"/>
              <a:gd name="textAreaBottom" fmla="*/ 1562760 h 1656000"/>
            </a:gdLst>
            <a:ahLst/>
            <a:rect l="textAreaLeft" t="textAreaTop" r="textAreaRight" b="textAreaBottom"/>
            <a:pathLst>
              <a:path w="21600" h="24839">
                <a:moveTo>
                  <a:pt x="0" y="0"/>
                </a:moveTo>
                <a:lnTo>
                  <a:pt x="21600" y="0"/>
                </a:lnTo>
                <a:lnTo>
                  <a:pt x="21600" y="24839"/>
                </a:lnTo>
                <a:lnTo>
                  <a:pt x="0" y="24839"/>
                </a:lnTo>
                <a:close/>
              </a:path>
              <a:path fill="lightenLess" w="21600" h="248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839">
                <a:moveTo>
                  <a:pt x="21600" y="0"/>
                </a:moveTo>
                <a:lnTo>
                  <a:pt x="21600" y="24839"/>
                </a:lnTo>
                <a:lnTo>
                  <a:pt x="20200" y="23439"/>
                </a:lnTo>
                <a:lnTo>
                  <a:pt x="20200" y="1400"/>
                </a:lnTo>
                <a:close/>
              </a:path>
              <a:path fill="darkenLess" w="21600" h="24839">
                <a:moveTo>
                  <a:pt x="21600" y="24839"/>
                </a:moveTo>
                <a:lnTo>
                  <a:pt x="0" y="24839"/>
                </a:lnTo>
                <a:lnTo>
                  <a:pt x="1400" y="23439"/>
                </a:lnTo>
                <a:lnTo>
                  <a:pt x="20200" y="23439"/>
                </a:lnTo>
                <a:close/>
              </a:path>
              <a:path fill="lighten" w="21600" h="24839">
                <a:moveTo>
                  <a:pt x="0" y="248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43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5" action="ppaction://hlinksldjump"/>
          </p:cNvPr>
          <p:cNvSpPr/>
          <p:nvPr/>
        </p:nvSpPr>
        <p:spPr>
          <a:xfrm>
            <a:off x="3635280" y="4581360"/>
            <a:ext cx="1944720" cy="1656000"/>
          </a:xfrm>
          <a:custGeom>
            <a:avLst/>
            <a:gdLst>
              <a:gd name="textAreaLeft" fmla="*/ 107280 w 1944720"/>
              <a:gd name="textAreaRight" fmla="*/ 1837440 w 1944720"/>
              <a:gd name="textAreaTop" fmla="*/ 107280 h 1656000"/>
              <a:gd name="textAreaBottom" fmla="*/ 1548720 h 1656000"/>
            </a:gdLst>
            <a:ahLst/>
            <a:rect l="textAreaLeft" t="textAreaTop" r="textAreaRight" b="textAreaBottom"/>
            <a:pathLst>
              <a:path w="25365" h="21600">
                <a:moveTo>
                  <a:pt x="0" y="0"/>
                </a:moveTo>
                <a:lnTo>
                  <a:pt x="25365" y="0"/>
                </a:lnTo>
                <a:lnTo>
                  <a:pt x="25365" y="21600"/>
                </a:lnTo>
                <a:lnTo>
                  <a:pt x="0" y="21600"/>
                </a:lnTo>
                <a:close/>
              </a:path>
              <a:path fill="lightenLess" w="25365" h="21600">
                <a:moveTo>
                  <a:pt x="0" y="0"/>
                </a:moveTo>
                <a:lnTo>
                  <a:pt x="25365" y="0"/>
                </a:lnTo>
                <a:lnTo>
                  <a:pt x="23965" y="1400"/>
                </a:lnTo>
                <a:lnTo>
                  <a:pt x="1400" y="1400"/>
                </a:lnTo>
                <a:close/>
              </a:path>
              <a:path fill="darken" w="25365" h="21600">
                <a:moveTo>
                  <a:pt x="25365" y="0"/>
                </a:moveTo>
                <a:lnTo>
                  <a:pt x="25365" y="21600"/>
                </a:lnTo>
                <a:lnTo>
                  <a:pt x="23965" y="20200"/>
                </a:lnTo>
                <a:lnTo>
                  <a:pt x="23965" y="1400"/>
                </a:lnTo>
                <a:close/>
              </a:path>
              <a:path fill="darkenLess" w="25365" h="21600">
                <a:moveTo>
                  <a:pt x="253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965" y="20200"/>
                </a:lnTo>
                <a:close/>
              </a:path>
              <a:path fill="lighten" w="253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rId6" action="ppaction://hlinksldjump"/>
          </p:cNvPr>
          <p:cNvSpPr/>
          <p:nvPr/>
        </p:nvSpPr>
        <p:spPr>
          <a:xfrm>
            <a:off x="6659640" y="4653000"/>
            <a:ext cx="1512720" cy="1655640"/>
          </a:xfrm>
          <a:custGeom>
            <a:avLst/>
            <a:gdLst>
              <a:gd name="textAreaLeft" fmla="*/ 97920 w 1512720"/>
              <a:gd name="textAreaRight" fmla="*/ 1414800 w 1512720"/>
              <a:gd name="textAreaTop" fmla="*/ 97920 h 1655640"/>
              <a:gd name="textAreaBottom" fmla="*/ 1557720 h 1655640"/>
            </a:gdLst>
            <a:ahLst/>
            <a:rect l="textAreaLeft" t="textAreaTop" r="textAreaRight" b="textAreaBottom"/>
            <a:pathLst>
              <a:path w="21600" h="23640">
                <a:moveTo>
                  <a:pt x="0" y="0"/>
                </a:moveTo>
                <a:lnTo>
                  <a:pt x="21600" y="0"/>
                </a:lnTo>
                <a:lnTo>
                  <a:pt x="21600" y="23640"/>
                </a:lnTo>
                <a:lnTo>
                  <a:pt x="0" y="23640"/>
                </a:lnTo>
                <a:close/>
              </a:path>
              <a:path fill="lightenLess" w="21600" h="236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40">
                <a:moveTo>
                  <a:pt x="21600" y="0"/>
                </a:moveTo>
                <a:lnTo>
                  <a:pt x="21600" y="23640"/>
                </a:lnTo>
                <a:lnTo>
                  <a:pt x="20200" y="22240"/>
                </a:lnTo>
                <a:lnTo>
                  <a:pt x="20200" y="1400"/>
                </a:lnTo>
                <a:close/>
              </a:path>
              <a:path fill="darkenLess" w="21600" h="23640">
                <a:moveTo>
                  <a:pt x="21600" y="23640"/>
                </a:moveTo>
                <a:lnTo>
                  <a:pt x="0" y="23640"/>
                </a:lnTo>
                <a:lnTo>
                  <a:pt x="1400" y="22240"/>
                </a:lnTo>
                <a:lnTo>
                  <a:pt x="20200" y="22240"/>
                </a:lnTo>
                <a:close/>
              </a:path>
              <a:path fill="lighten" w="21600" h="23640">
                <a:moveTo>
                  <a:pt x="0" y="2364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дорог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4030560" cy="439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3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03640" y="4797360"/>
            <a:ext cx="3803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На двух колесах я качу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Двумя педалями верчу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За руль держусь, гляжу впере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И  вижу - скоро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395280" y="4797360"/>
            <a:ext cx="4206960" cy="174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52920" y="604044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382160" y="6093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rId3" action="ppaction://hlinksldjump"/>
          </p:cNvPr>
          <p:cNvSpPr/>
          <p:nvPr/>
        </p:nvSpPr>
        <p:spPr>
          <a:xfrm>
            <a:off x="4896000" y="479736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rId4" action="ppaction://hlinksldjump"/>
          </p:cNvPr>
          <p:cNvSpPr/>
          <p:nvPr/>
        </p:nvSpPr>
        <p:spPr>
          <a:xfrm>
            <a:off x="324000" y="4724280"/>
            <a:ext cx="4248000" cy="1727280"/>
          </a:xfrm>
          <a:custGeom>
            <a:avLst/>
            <a:gdLst>
              <a:gd name="textAreaLeft" fmla="*/ 111960 w 4248000"/>
              <a:gd name="textAreaRight" fmla="*/ 4136040 w 4248000"/>
              <a:gd name="textAreaTop" fmla="*/ 111960 h 1727280"/>
              <a:gd name="textAreaBottom" fmla="*/ 1615320 h 1727280"/>
            </a:gdLst>
            <a:ahLst/>
            <a:rect l="textAreaLeft" t="textAreaTop" r="textAreaRight" b="textAreaBottom"/>
            <a:pathLst>
              <a:path w="53116" h="21600">
                <a:moveTo>
                  <a:pt x="0" y="0"/>
                </a:moveTo>
                <a:lnTo>
                  <a:pt x="53116" y="0"/>
                </a:lnTo>
                <a:lnTo>
                  <a:pt x="53116" y="21600"/>
                </a:lnTo>
                <a:lnTo>
                  <a:pt x="0" y="21600"/>
                </a:lnTo>
                <a:close/>
              </a:path>
              <a:path fill="lightenLess" w="53116" h="21600">
                <a:moveTo>
                  <a:pt x="0" y="0"/>
                </a:moveTo>
                <a:lnTo>
                  <a:pt x="53116" y="0"/>
                </a:lnTo>
                <a:lnTo>
                  <a:pt x="51716" y="1400"/>
                </a:lnTo>
                <a:lnTo>
                  <a:pt x="1400" y="1400"/>
                </a:lnTo>
                <a:close/>
              </a:path>
              <a:path fill="darken" w="53116" h="21600">
                <a:moveTo>
                  <a:pt x="53116" y="0"/>
                </a:moveTo>
                <a:lnTo>
                  <a:pt x="53116" y="21600"/>
                </a:lnTo>
                <a:lnTo>
                  <a:pt x="51716" y="20200"/>
                </a:lnTo>
                <a:lnTo>
                  <a:pt x="51716" y="1400"/>
                </a:lnTo>
                <a:close/>
              </a:path>
              <a:path fill="darkenLess" w="53116" h="21600">
                <a:moveTo>
                  <a:pt x="531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716" y="20200"/>
                </a:lnTo>
                <a:close/>
              </a:path>
              <a:path fill="lighten" w="531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32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оворот 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826920" y="2708280"/>
            <a:ext cx="3803760" cy="3384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824560" y="5656320"/>
            <a:ext cx="133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воро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5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56" dur="500" autoRev="1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позаранку за окошком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Стук, и звон, и кутерьм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прямым стальным дорожк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Ходят красные дом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11280" y="4581360"/>
            <a:ext cx="240984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622764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rId4" action="ppaction://hlinksldjump"/>
          </p:cNvPr>
          <p:cNvSpPr/>
          <p:nvPr/>
        </p:nvSpPr>
        <p:spPr>
          <a:xfrm>
            <a:off x="539640" y="4508640"/>
            <a:ext cx="2519640" cy="1584360"/>
          </a:xfrm>
          <a:custGeom>
            <a:avLst/>
            <a:gdLst>
              <a:gd name="textAreaLeft" fmla="*/ 102600 w 2519640"/>
              <a:gd name="textAreaRight" fmla="*/ 2417040 w 251964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8" h="21600">
                <a:moveTo>
                  <a:pt x="0" y="0"/>
                </a:moveTo>
                <a:lnTo>
                  <a:pt x="34348" y="0"/>
                </a:lnTo>
                <a:lnTo>
                  <a:pt x="34348" y="21600"/>
                </a:lnTo>
                <a:lnTo>
                  <a:pt x="0" y="21600"/>
                </a:lnTo>
                <a:close/>
              </a:path>
              <a:path fill="lightenLess" w="34348" h="21600">
                <a:moveTo>
                  <a:pt x="0" y="0"/>
                </a:moveTo>
                <a:lnTo>
                  <a:pt x="34348" y="0"/>
                </a:lnTo>
                <a:lnTo>
                  <a:pt x="32948" y="1400"/>
                </a:lnTo>
                <a:lnTo>
                  <a:pt x="1400" y="1400"/>
                </a:lnTo>
                <a:close/>
              </a:path>
              <a:path fill="darken" w="34348" h="21600">
                <a:moveTo>
                  <a:pt x="34348" y="0"/>
                </a:moveTo>
                <a:lnTo>
                  <a:pt x="34348" y="21600"/>
                </a:lnTo>
                <a:lnTo>
                  <a:pt x="32948" y="20200"/>
                </a:lnTo>
                <a:lnTo>
                  <a:pt x="32948" y="1400"/>
                </a:lnTo>
                <a:close/>
              </a:path>
              <a:path fill="darkenLess" w="34348" h="21600">
                <a:moveTo>
                  <a:pt x="34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8" y="20200"/>
                </a:lnTo>
                <a:close/>
              </a:path>
              <a:path fill="lighten" w="34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581360"/>
            <a:ext cx="2376360" cy="1440000"/>
          </a:xfrm>
          <a:custGeom>
            <a:avLst/>
            <a:gdLst>
              <a:gd name="textAreaLeft" fmla="*/ 93240 w 2376360"/>
              <a:gd name="textAreaRight" fmla="*/ 2283120 w 237636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2" h="21600">
                <a:moveTo>
                  <a:pt x="0" y="0"/>
                </a:moveTo>
                <a:lnTo>
                  <a:pt x="35642" y="0"/>
                </a:lnTo>
                <a:lnTo>
                  <a:pt x="35642" y="21600"/>
                </a:lnTo>
                <a:lnTo>
                  <a:pt x="0" y="21600"/>
                </a:lnTo>
                <a:close/>
              </a:path>
              <a:path fill="lightenLess" w="35642" h="21600">
                <a:moveTo>
                  <a:pt x="0" y="0"/>
                </a:moveTo>
                <a:lnTo>
                  <a:pt x="35642" y="0"/>
                </a:lnTo>
                <a:lnTo>
                  <a:pt x="34242" y="1400"/>
                </a:lnTo>
                <a:lnTo>
                  <a:pt x="1400" y="1400"/>
                </a:lnTo>
                <a:close/>
              </a:path>
              <a:path fill="darken" w="35642" h="21600">
                <a:moveTo>
                  <a:pt x="35642" y="0"/>
                </a:moveTo>
                <a:lnTo>
                  <a:pt x="35642" y="21600"/>
                </a:lnTo>
                <a:lnTo>
                  <a:pt x="34242" y="20200"/>
                </a:lnTo>
                <a:lnTo>
                  <a:pt x="34242" y="1400"/>
                </a:lnTo>
                <a:close/>
              </a:path>
              <a:path fill="darkenLess" w="35642" h="21600">
                <a:moveTo>
                  <a:pt x="356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2" y="20200"/>
                </a:lnTo>
                <a:close/>
              </a:path>
              <a:path fill="lighten" w="356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27640" y="4653000"/>
            <a:ext cx="2376720" cy="1440000"/>
          </a:xfrm>
          <a:custGeom>
            <a:avLst/>
            <a:gdLst>
              <a:gd name="textAreaLeft" fmla="*/ 93240 w 2376720"/>
              <a:gd name="textAreaRight" fmla="*/ 2283480 w 2376720"/>
              <a:gd name="textAreaTop" fmla="*/ 93240 h 1440000"/>
              <a:gd name="textAreaBottom" fmla="*/ 1346760 h 1440000"/>
            </a:gdLst>
            <a:ahLst/>
            <a:rect l="textAreaLeft" t="textAreaTop" r="textAreaRight" b="textAreaBottom"/>
            <a:pathLst>
              <a:path w="35647" h="21600">
                <a:moveTo>
                  <a:pt x="0" y="0"/>
                </a:moveTo>
                <a:lnTo>
                  <a:pt x="35647" y="0"/>
                </a:lnTo>
                <a:lnTo>
                  <a:pt x="35647" y="21600"/>
                </a:lnTo>
                <a:lnTo>
                  <a:pt x="0" y="21600"/>
                </a:lnTo>
                <a:close/>
              </a:path>
              <a:path fill="lightenLess" w="35647" h="21600">
                <a:moveTo>
                  <a:pt x="0" y="0"/>
                </a:moveTo>
                <a:lnTo>
                  <a:pt x="35647" y="0"/>
                </a:lnTo>
                <a:lnTo>
                  <a:pt x="34247" y="1400"/>
                </a:lnTo>
                <a:lnTo>
                  <a:pt x="1400" y="1400"/>
                </a:lnTo>
                <a:close/>
              </a:path>
              <a:path fill="darken" w="35647" h="21600">
                <a:moveTo>
                  <a:pt x="35647" y="0"/>
                </a:moveTo>
                <a:lnTo>
                  <a:pt x="35647" y="21600"/>
                </a:lnTo>
                <a:lnTo>
                  <a:pt x="34247" y="20200"/>
                </a:lnTo>
                <a:lnTo>
                  <a:pt x="34247" y="1400"/>
                </a:lnTo>
                <a:close/>
              </a:path>
              <a:path fill="darkenLess" w="35647" h="21600">
                <a:moveTo>
                  <a:pt x="35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247" y="20200"/>
                </a:lnTo>
                <a:close/>
              </a:path>
              <a:path fill="lighten" w="35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1300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7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68" dur="500" autoRev="1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машины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телеги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У велосипеда — есть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Arial"/>
              </a:rPr>
              <a:t>А у поезда — не счесть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84360" y="4797360"/>
            <a:ext cx="1751040" cy="18702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3564000" y="4724280"/>
            <a:ext cx="1792080" cy="18734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6300720" y="4797360"/>
            <a:ext cx="184788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588000" y="479736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92360" y="4724280"/>
            <a:ext cx="1800360" cy="1800360"/>
          </a:xfrm>
          <a:custGeom>
            <a:avLst/>
            <a:gdLst>
              <a:gd name="textAreaLeft" fmla="*/ 116640 w 1800360"/>
              <a:gd name="textAreaRight" fmla="*/ 1683720 w 180036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797360"/>
            <a:ext cx="1800000" cy="1800360"/>
          </a:xfrm>
          <a:custGeom>
            <a:avLst/>
            <a:gdLst>
              <a:gd name="textAreaLeft" fmla="*/ 116640 w 1800000"/>
              <a:gd name="textAreaRight" fmla="*/ 1683360 w 1800000"/>
              <a:gd name="textAreaTop" fmla="*/ 116640 h 1800360"/>
              <a:gd name="textAreaBottom" fmla="*/ 1683720 h 1800360"/>
            </a:gdLst>
            <a:ahLst/>
            <a:rect l="textAreaLeft" t="textAreaTop" r="textAreaRight" b="textAreaBottom"/>
            <a:pathLst>
              <a:path w="21600" h="21604">
                <a:moveTo>
                  <a:pt x="0" y="0"/>
                </a:moveTo>
                <a:lnTo>
                  <a:pt x="21600" y="0"/>
                </a:lnTo>
                <a:lnTo>
                  <a:pt x="21600" y="21604"/>
                </a:lnTo>
                <a:lnTo>
                  <a:pt x="0" y="21604"/>
                </a:lnTo>
                <a:close/>
              </a:path>
              <a:path fill="lightenLess" w="21600" h="216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4">
                <a:moveTo>
                  <a:pt x="21600" y="0"/>
                </a:moveTo>
                <a:lnTo>
                  <a:pt x="21600" y="21604"/>
                </a:lnTo>
                <a:lnTo>
                  <a:pt x="20200" y="20204"/>
                </a:lnTo>
                <a:lnTo>
                  <a:pt x="20200" y="1400"/>
                </a:lnTo>
                <a:close/>
              </a:path>
              <a:path fill="darkenLess" w="21600" h="21604">
                <a:moveTo>
                  <a:pt x="21600" y="21604"/>
                </a:moveTo>
                <a:lnTo>
                  <a:pt x="0" y="21604"/>
                </a:lnTo>
                <a:lnTo>
                  <a:pt x="1400" y="20204"/>
                </a:lnTo>
                <a:lnTo>
                  <a:pt x="20200" y="20204"/>
                </a:lnTo>
                <a:close/>
              </a:path>
              <a:path fill="lighten" w="21600" h="21604">
                <a:moveTo>
                  <a:pt x="0" y="216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амвай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611280" y="2133720"/>
            <a:ext cx="5400720" cy="379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9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0" dur="500" autoRev="1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619280" y="1844640"/>
            <a:ext cx="6389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Через реку во всю шир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Лег огромный богатырь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Он лежит — не дрожи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о нему трамвай бежи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926520" y="6237360"/>
            <a:ext cx="74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9640" y="4653000"/>
            <a:ext cx="2808360" cy="1388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6156360" y="4653000"/>
            <a:ext cx="2665440" cy="13683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39212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734520" y="616572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57440" y="6237360"/>
            <a:ext cx="121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724280"/>
            <a:ext cx="2665440" cy="1297080"/>
          </a:xfrm>
          <a:custGeom>
            <a:avLst/>
            <a:gdLst>
              <a:gd name="textAreaLeft" fmla="*/ 83880 w 2665440"/>
              <a:gd name="textAreaRight" fmla="*/ 2581560 w 266544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4381" h="21600">
                <a:moveTo>
                  <a:pt x="0" y="0"/>
                </a:moveTo>
                <a:lnTo>
                  <a:pt x="44381" y="0"/>
                </a:lnTo>
                <a:lnTo>
                  <a:pt x="44381" y="21600"/>
                </a:lnTo>
                <a:lnTo>
                  <a:pt x="0" y="21600"/>
                </a:lnTo>
                <a:close/>
              </a:path>
              <a:path fill="lightenLess" w="44381" h="21600">
                <a:moveTo>
                  <a:pt x="0" y="0"/>
                </a:moveTo>
                <a:lnTo>
                  <a:pt x="44381" y="0"/>
                </a:lnTo>
                <a:lnTo>
                  <a:pt x="42981" y="1400"/>
                </a:lnTo>
                <a:lnTo>
                  <a:pt x="1400" y="1400"/>
                </a:lnTo>
                <a:close/>
              </a:path>
              <a:path fill="darken" w="44381" h="21600">
                <a:moveTo>
                  <a:pt x="44381" y="0"/>
                </a:moveTo>
                <a:lnTo>
                  <a:pt x="44381" y="21600"/>
                </a:lnTo>
                <a:lnTo>
                  <a:pt x="42981" y="20200"/>
                </a:lnTo>
                <a:lnTo>
                  <a:pt x="42981" y="1400"/>
                </a:lnTo>
                <a:close/>
              </a:path>
              <a:path fill="darkenLess" w="44381" h="21600">
                <a:moveTo>
                  <a:pt x="44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81" y="20200"/>
                </a:lnTo>
                <a:close/>
              </a:path>
              <a:path fill="lighten" w="44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3492360" y="4724280"/>
            <a:ext cx="2376720" cy="1297080"/>
          </a:xfrm>
          <a:custGeom>
            <a:avLst/>
            <a:gdLst>
              <a:gd name="textAreaLeft" fmla="*/ 83880 w 2376720"/>
              <a:gd name="textAreaRight" fmla="*/ 2292840 w 237672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39574" h="21600">
                <a:moveTo>
                  <a:pt x="0" y="0"/>
                </a:moveTo>
                <a:lnTo>
                  <a:pt x="39574" y="0"/>
                </a:lnTo>
                <a:lnTo>
                  <a:pt x="39574" y="21600"/>
                </a:lnTo>
                <a:lnTo>
                  <a:pt x="0" y="21600"/>
                </a:lnTo>
                <a:close/>
              </a:path>
              <a:path fill="lightenLess" w="39574" h="21600">
                <a:moveTo>
                  <a:pt x="0" y="0"/>
                </a:moveTo>
                <a:lnTo>
                  <a:pt x="39574" y="0"/>
                </a:lnTo>
                <a:lnTo>
                  <a:pt x="38174" y="1400"/>
                </a:lnTo>
                <a:lnTo>
                  <a:pt x="1400" y="1400"/>
                </a:lnTo>
                <a:close/>
              </a:path>
              <a:path fill="darken" w="39574" h="21600">
                <a:moveTo>
                  <a:pt x="39574" y="0"/>
                </a:moveTo>
                <a:lnTo>
                  <a:pt x="39574" y="21600"/>
                </a:lnTo>
                <a:lnTo>
                  <a:pt x="38174" y="20200"/>
                </a:lnTo>
                <a:lnTo>
                  <a:pt x="38174" y="1400"/>
                </a:lnTo>
                <a:close/>
              </a:path>
              <a:path fill="darkenLess" w="39574" h="21600">
                <a:moveTo>
                  <a:pt x="39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74" y="20200"/>
                </a:lnTo>
                <a:close/>
              </a:path>
              <a:path fill="lighten" w="39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27640" y="4724280"/>
            <a:ext cx="2592360" cy="1297080"/>
          </a:xfrm>
          <a:custGeom>
            <a:avLst/>
            <a:gdLst>
              <a:gd name="textAreaLeft" fmla="*/ 83880 w 2592360"/>
              <a:gd name="textAreaRight" fmla="*/ 2508480 w 2592360"/>
              <a:gd name="textAreaTop" fmla="*/ 83880 h 1297080"/>
              <a:gd name="textAreaBottom" fmla="*/ 1213200 h 1297080"/>
            </a:gdLst>
            <a:ahLst/>
            <a:rect l="textAreaLeft" t="textAreaTop" r="textAreaRight" b="textAreaBottom"/>
            <a:pathLst>
              <a:path w="43164" h="21600">
                <a:moveTo>
                  <a:pt x="0" y="0"/>
                </a:moveTo>
                <a:lnTo>
                  <a:pt x="43164" y="0"/>
                </a:lnTo>
                <a:lnTo>
                  <a:pt x="43164" y="21600"/>
                </a:lnTo>
                <a:lnTo>
                  <a:pt x="0" y="21600"/>
                </a:lnTo>
                <a:close/>
              </a:path>
              <a:path fill="lightenLess" w="43164" h="21600">
                <a:moveTo>
                  <a:pt x="0" y="0"/>
                </a:moveTo>
                <a:lnTo>
                  <a:pt x="43164" y="0"/>
                </a:lnTo>
                <a:lnTo>
                  <a:pt x="41764" y="1400"/>
                </a:lnTo>
                <a:lnTo>
                  <a:pt x="1400" y="1400"/>
                </a:lnTo>
                <a:close/>
              </a:path>
              <a:path fill="darken" w="43164" h="21600">
                <a:moveTo>
                  <a:pt x="43164" y="0"/>
                </a:moveTo>
                <a:lnTo>
                  <a:pt x="43164" y="21600"/>
                </a:lnTo>
                <a:lnTo>
                  <a:pt x="41764" y="20200"/>
                </a:lnTo>
                <a:lnTo>
                  <a:pt x="41764" y="1400"/>
                </a:lnTo>
                <a:close/>
              </a:path>
              <a:path fill="darkenLess" w="43164" h="21600">
                <a:moveTo>
                  <a:pt x="431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4" y="20200"/>
                </a:lnTo>
                <a:close/>
              </a:path>
              <a:path fill="lighten" w="431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мост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5472000" cy="33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1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92" dur="500" autoRev="1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4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Где бы нам через дорог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К магазину перейт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Вот за этими ларьками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Там, где стрелка у воро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Мы на стрелке этой с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Arial"/>
              </a:rPr>
              <a:t>Прочитали..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ш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05928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ере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445000"/>
            <a:ext cx="2232000" cy="863640"/>
          </a:xfrm>
          <a:prstGeom prst="rightArrow">
            <a:avLst>
              <a:gd name="adj1" fmla="val 50000"/>
              <a:gd name="adj2" fmla="val 6461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рохо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6360" y="5516640"/>
            <a:ext cx="2665440" cy="720720"/>
          </a:xfrm>
          <a:custGeom>
            <a:avLst/>
            <a:gdLst>
              <a:gd name="textAreaLeft" fmla="*/ 46440 w 2665440"/>
              <a:gd name="textAreaRight" fmla="*/ 2619000 w 266544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9854" h="21600">
                <a:moveTo>
                  <a:pt x="0" y="0"/>
                </a:moveTo>
                <a:lnTo>
                  <a:pt x="79854" y="0"/>
                </a:lnTo>
                <a:lnTo>
                  <a:pt x="79854" y="21600"/>
                </a:lnTo>
                <a:lnTo>
                  <a:pt x="0" y="21600"/>
                </a:lnTo>
                <a:close/>
              </a:path>
              <a:path fill="lightenLess" w="79854" h="21600">
                <a:moveTo>
                  <a:pt x="0" y="0"/>
                </a:moveTo>
                <a:lnTo>
                  <a:pt x="79854" y="0"/>
                </a:lnTo>
                <a:lnTo>
                  <a:pt x="78454" y="1400"/>
                </a:lnTo>
                <a:lnTo>
                  <a:pt x="1400" y="1400"/>
                </a:lnTo>
                <a:close/>
              </a:path>
              <a:path fill="darken" w="79854" h="21600">
                <a:moveTo>
                  <a:pt x="79854" y="0"/>
                </a:moveTo>
                <a:lnTo>
                  <a:pt x="79854" y="21600"/>
                </a:lnTo>
                <a:lnTo>
                  <a:pt x="78454" y="20200"/>
                </a:lnTo>
                <a:lnTo>
                  <a:pt x="78454" y="1400"/>
                </a:lnTo>
                <a:close/>
              </a:path>
              <a:path fill="darkenLess" w="79854" h="21600">
                <a:moveTo>
                  <a:pt x="798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54" y="20200"/>
                </a:lnTo>
                <a:close/>
              </a:path>
              <a:path fill="lighten" w="798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987640" y="5516640"/>
            <a:ext cx="2376360" cy="720720"/>
          </a:xfrm>
          <a:custGeom>
            <a:avLst/>
            <a:gdLst>
              <a:gd name="textAreaLeft" fmla="*/ 46440 w 2376360"/>
              <a:gd name="textAreaRight" fmla="*/ 2329920 w 237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195" h="21600">
                <a:moveTo>
                  <a:pt x="0" y="0"/>
                </a:moveTo>
                <a:lnTo>
                  <a:pt x="71195" y="0"/>
                </a:lnTo>
                <a:lnTo>
                  <a:pt x="71195" y="21600"/>
                </a:lnTo>
                <a:lnTo>
                  <a:pt x="0" y="21600"/>
                </a:lnTo>
                <a:close/>
              </a:path>
              <a:path fill="lightenLess" w="71195" h="21600">
                <a:moveTo>
                  <a:pt x="0" y="0"/>
                </a:moveTo>
                <a:lnTo>
                  <a:pt x="71195" y="0"/>
                </a:lnTo>
                <a:lnTo>
                  <a:pt x="69795" y="1400"/>
                </a:lnTo>
                <a:lnTo>
                  <a:pt x="1400" y="1400"/>
                </a:lnTo>
                <a:close/>
              </a:path>
              <a:path fill="darken" w="71195" h="21600">
                <a:moveTo>
                  <a:pt x="71195" y="0"/>
                </a:moveTo>
                <a:lnTo>
                  <a:pt x="71195" y="21600"/>
                </a:lnTo>
                <a:lnTo>
                  <a:pt x="69795" y="20200"/>
                </a:lnTo>
                <a:lnTo>
                  <a:pt x="69795" y="1400"/>
                </a:lnTo>
                <a:close/>
              </a:path>
              <a:path fill="darkenLess" w="71195" h="21600">
                <a:moveTo>
                  <a:pt x="711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795" y="20200"/>
                </a:lnTo>
                <a:close/>
              </a:path>
              <a:path fill="lighten" w="711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940360" y="5445000"/>
            <a:ext cx="2376720" cy="720720"/>
          </a:xfrm>
          <a:custGeom>
            <a:avLst/>
            <a:gdLst>
              <a:gd name="textAreaLeft" fmla="*/ 46440 w 2376720"/>
              <a:gd name="textAreaRight" fmla="*/ 2330280 w 237672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71206" h="21600">
                <a:moveTo>
                  <a:pt x="0" y="0"/>
                </a:moveTo>
                <a:lnTo>
                  <a:pt x="71206" y="0"/>
                </a:lnTo>
                <a:lnTo>
                  <a:pt x="71206" y="21600"/>
                </a:lnTo>
                <a:lnTo>
                  <a:pt x="0" y="21600"/>
                </a:lnTo>
                <a:close/>
              </a:path>
              <a:path fill="lightenLess" w="71206" h="21600">
                <a:moveTo>
                  <a:pt x="0" y="0"/>
                </a:moveTo>
                <a:lnTo>
                  <a:pt x="71206" y="0"/>
                </a:lnTo>
                <a:lnTo>
                  <a:pt x="69806" y="1400"/>
                </a:lnTo>
                <a:lnTo>
                  <a:pt x="1400" y="1400"/>
                </a:lnTo>
                <a:close/>
              </a:path>
              <a:path fill="darken" w="71206" h="21600">
                <a:moveTo>
                  <a:pt x="71206" y="0"/>
                </a:moveTo>
                <a:lnTo>
                  <a:pt x="71206" y="21600"/>
                </a:lnTo>
                <a:lnTo>
                  <a:pt x="69806" y="20200"/>
                </a:lnTo>
                <a:lnTo>
                  <a:pt x="69806" y="1400"/>
                </a:lnTo>
                <a:close/>
              </a:path>
              <a:path fill="darkenLess" w="71206" h="21600">
                <a:moveTo>
                  <a:pt x="7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806" y="20200"/>
                </a:lnTo>
                <a:close/>
              </a:path>
              <a:path fill="lighten" w="7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переход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611280" y="2205000"/>
            <a:ext cx="4535280" cy="3530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3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04" dur="500" autoRev="1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00000" y="1484280"/>
            <a:ext cx="712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Удивительный вагон!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Посудите сами: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Рельсы в воздухе, а он </a:t>
            </a:r>
            <a:br>
              <a:rPr sz="4400"/>
            </a:b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Держит их руками...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4000" y="4508640"/>
            <a:ext cx="2409840" cy="1517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2084400" cy="1536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6300720" y="4508640"/>
            <a:ext cx="2376720" cy="1511280"/>
          </a:xfrm>
          <a:prstGeom prst="rect">
            <a:avLst/>
          </a:prstGeom>
          <a:ln w="0">
            <a:noFill/>
          </a:ln>
        </p:spPr>
      </p:pic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324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334800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6" action="ppaction://hlinksldjump"/>
          </p:cNvPr>
          <p:cNvSpPr/>
          <p:nvPr/>
        </p:nvSpPr>
        <p:spPr>
          <a:xfrm>
            <a:off x="6156360" y="4508640"/>
            <a:ext cx="2519280" cy="1584360"/>
          </a:xfrm>
          <a:custGeom>
            <a:avLst/>
            <a:gdLst>
              <a:gd name="textAreaLeft" fmla="*/ 102600 w 2519280"/>
              <a:gd name="textAreaRight" fmla="*/ 2416680 w 2519280"/>
              <a:gd name="textAreaTop" fmla="*/ 102600 h 1584360"/>
              <a:gd name="textAreaBottom" fmla="*/ 1481760 h 1584360"/>
            </a:gdLst>
            <a:ahLst/>
            <a:rect l="textAreaLeft" t="textAreaTop" r="textAreaRight" b="textAreaBottom"/>
            <a:pathLst>
              <a:path w="34343" h="21600">
                <a:moveTo>
                  <a:pt x="0" y="0"/>
                </a:moveTo>
                <a:lnTo>
                  <a:pt x="34343" y="0"/>
                </a:lnTo>
                <a:lnTo>
                  <a:pt x="34343" y="21600"/>
                </a:lnTo>
                <a:lnTo>
                  <a:pt x="0" y="21600"/>
                </a:lnTo>
                <a:close/>
              </a:path>
              <a:path fill="lightenLess" w="34343" h="21600">
                <a:moveTo>
                  <a:pt x="0" y="0"/>
                </a:moveTo>
                <a:lnTo>
                  <a:pt x="34343" y="0"/>
                </a:lnTo>
                <a:lnTo>
                  <a:pt x="32943" y="1400"/>
                </a:lnTo>
                <a:lnTo>
                  <a:pt x="1400" y="1400"/>
                </a:lnTo>
                <a:close/>
              </a:path>
              <a:path fill="darken" w="34343" h="21600">
                <a:moveTo>
                  <a:pt x="34343" y="0"/>
                </a:moveTo>
                <a:lnTo>
                  <a:pt x="34343" y="21600"/>
                </a:lnTo>
                <a:lnTo>
                  <a:pt x="32943" y="20200"/>
                </a:lnTo>
                <a:lnTo>
                  <a:pt x="32943" y="1400"/>
                </a:lnTo>
                <a:close/>
              </a:path>
              <a:path fill="darkenLess" w="34343" h="21600">
                <a:moveTo>
                  <a:pt x="343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943" y="20200"/>
                </a:lnTo>
                <a:close/>
              </a:path>
              <a:path fill="lighten" w="343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332000" y="1125360"/>
            <a:ext cx="6985080" cy="21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олодец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1692360" y="3284640"/>
            <a:ext cx="5761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5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троллейбус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468360" y="1749600"/>
            <a:ext cx="5183280" cy="440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5280" y="1413000"/>
            <a:ext cx="828036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В два ряда дома стоят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есять, двадцать, сто подр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И квадратными глаз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Arial"/>
              </a:rPr>
              <a:t>Друг на друга глядят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50920" y="4149720"/>
            <a:ext cx="2789280" cy="21718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084720" y="4221000"/>
            <a:ext cx="2811600" cy="2103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203640" y="4149720"/>
            <a:ext cx="2665440" cy="2122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902160" y="6093000"/>
            <a:ext cx="141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25440" y="609300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Л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04360" y="609300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rId4" action="ppaction://hlinksldjump"/>
          </p:cNvPr>
          <p:cNvSpPr/>
          <p:nvPr/>
        </p:nvSpPr>
        <p:spPr>
          <a:xfrm>
            <a:off x="2509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rId5" action="ppaction://hlinksldjump"/>
          </p:cNvPr>
          <p:cNvSpPr/>
          <p:nvPr/>
        </p:nvSpPr>
        <p:spPr>
          <a:xfrm>
            <a:off x="3059280" y="4149720"/>
            <a:ext cx="2808000" cy="2232000"/>
          </a:xfrm>
          <a:custGeom>
            <a:avLst/>
            <a:gdLst>
              <a:gd name="textAreaLeft" fmla="*/ 144360 w 2808000"/>
              <a:gd name="textAreaRight" fmla="*/ 2663640 w 280800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3" h="21600">
                <a:moveTo>
                  <a:pt x="0" y="0"/>
                </a:moveTo>
                <a:lnTo>
                  <a:pt x="27173" y="0"/>
                </a:lnTo>
                <a:lnTo>
                  <a:pt x="27173" y="21600"/>
                </a:lnTo>
                <a:lnTo>
                  <a:pt x="0" y="21600"/>
                </a:lnTo>
                <a:close/>
              </a:path>
              <a:path fill="lightenLess" w="27173" h="21600">
                <a:moveTo>
                  <a:pt x="0" y="0"/>
                </a:moveTo>
                <a:lnTo>
                  <a:pt x="27173" y="0"/>
                </a:lnTo>
                <a:lnTo>
                  <a:pt x="25773" y="1400"/>
                </a:lnTo>
                <a:lnTo>
                  <a:pt x="1400" y="1400"/>
                </a:lnTo>
                <a:close/>
              </a:path>
              <a:path fill="darken" w="27173" h="21600">
                <a:moveTo>
                  <a:pt x="27173" y="0"/>
                </a:moveTo>
                <a:lnTo>
                  <a:pt x="27173" y="21600"/>
                </a:lnTo>
                <a:lnTo>
                  <a:pt x="25773" y="20200"/>
                </a:lnTo>
                <a:lnTo>
                  <a:pt x="25773" y="1400"/>
                </a:lnTo>
                <a:close/>
              </a:path>
              <a:path fill="darkenLess" w="27173" h="21600">
                <a:moveTo>
                  <a:pt x="271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3" y="20200"/>
                </a:lnTo>
                <a:close/>
              </a:path>
              <a:path fill="lighten" w="271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rId6" action="ppaction://hlinksldjump"/>
          </p:cNvPr>
          <p:cNvSpPr/>
          <p:nvPr/>
        </p:nvSpPr>
        <p:spPr>
          <a:xfrm>
            <a:off x="6084720" y="4149720"/>
            <a:ext cx="2808360" cy="2232000"/>
          </a:xfrm>
          <a:custGeom>
            <a:avLst/>
            <a:gdLst>
              <a:gd name="textAreaLeft" fmla="*/ 144360 w 2808360"/>
              <a:gd name="textAreaRight" fmla="*/ 2664000 w 2808360"/>
              <a:gd name="textAreaTop" fmla="*/ 144360 h 2232000"/>
              <a:gd name="textAreaBottom" fmla="*/ 2087640 h 2232000"/>
            </a:gdLst>
            <a:ahLst/>
            <a:rect l="textAreaLeft" t="textAreaTop" r="textAreaRight" b="textAreaBottom"/>
            <a:pathLst>
              <a:path w="27177" h="21600">
                <a:moveTo>
                  <a:pt x="0" y="0"/>
                </a:moveTo>
                <a:lnTo>
                  <a:pt x="27177" y="0"/>
                </a:lnTo>
                <a:lnTo>
                  <a:pt x="27177" y="21600"/>
                </a:lnTo>
                <a:lnTo>
                  <a:pt x="0" y="21600"/>
                </a:lnTo>
                <a:close/>
              </a:path>
              <a:path fill="lightenLess" w="27177" h="21600">
                <a:moveTo>
                  <a:pt x="0" y="0"/>
                </a:moveTo>
                <a:lnTo>
                  <a:pt x="27177" y="0"/>
                </a:lnTo>
                <a:lnTo>
                  <a:pt x="25777" y="1400"/>
                </a:lnTo>
                <a:lnTo>
                  <a:pt x="1400" y="1400"/>
                </a:lnTo>
                <a:close/>
              </a:path>
              <a:path fill="darken" w="27177" h="21600">
                <a:moveTo>
                  <a:pt x="27177" y="0"/>
                </a:moveTo>
                <a:lnTo>
                  <a:pt x="27177" y="21600"/>
                </a:lnTo>
                <a:lnTo>
                  <a:pt x="25777" y="20200"/>
                </a:lnTo>
                <a:lnTo>
                  <a:pt x="25777" y="1400"/>
                </a:lnTo>
                <a:close/>
              </a:path>
              <a:path fill="darkenLess" w="27177" h="21600">
                <a:moveTo>
                  <a:pt x="271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777" y="20200"/>
                </a:lnTo>
                <a:close/>
              </a:path>
              <a:path fill="lighten" w="271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Ошибаешься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63800" y="1413000"/>
            <a:ext cx="4432320" cy="5445000"/>
          </a:xfrm>
          <a:prstGeom prst="rect">
            <a:avLst/>
          </a:prstGeom>
          <a:ln w="0">
            <a:noFill/>
          </a:ln>
        </p:spPr>
      </p:pic>
      <p:sp>
        <p:nvSpPr>
          <p:cNvPr id="75" name="">
            <a:hlinkClick r:id="" action="ppaction://hlinkshowjump?jump=previousslide"/>
          </p:cNvPr>
          <p:cNvSpPr/>
          <p:nvPr/>
        </p:nvSpPr>
        <p:spPr>
          <a:xfrm>
            <a:off x="6588000" y="3645000"/>
            <a:ext cx="1584360" cy="1152360"/>
          </a:xfrm>
          <a:custGeom>
            <a:avLst/>
            <a:gdLst>
              <a:gd name="textAreaLeft" fmla="*/ 74520 w 1584360"/>
              <a:gd name="textAreaRight" fmla="*/ 1509840 w 1584360"/>
              <a:gd name="textAreaTop" fmla="*/ 74520 h 1152360"/>
              <a:gd name="textAreaBottom" fmla="*/ 1077840 h 1152360"/>
            </a:gdLst>
            <a:ahLst/>
            <a:rect l="textAreaLeft" t="textAreaTop" r="textAreaRight" b="textAreaBottom"/>
            <a:pathLst>
              <a:path w="29695" h="21600">
                <a:moveTo>
                  <a:pt x="0" y="0"/>
                </a:moveTo>
                <a:lnTo>
                  <a:pt x="29695" y="0"/>
                </a:lnTo>
                <a:lnTo>
                  <a:pt x="29695" y="21600"/>
                </a:lnTo>
                <a:lnTo>
                  <a:pt x="0" y="21600"/>
                </a:lnTo>
                <a:close/>
              </a:path>
              <a:path fill="lightenLess" w="29695" h="21600">
                <a:moveTo>
                  <a:pt x="0" y="0"/>
                </a:moveTo>
                <a:lnTo>
                  <a:pt x="29695" y="0"/>
                </a:lnTo>
                <a:lnTo>
                  <a:pt x="28295" y="1400"/>
                </a:lnTo>
                <a:lnTo>
                  <a:pt x="1400" y="1400"/>
                </a:lnTo>
                <a:close/>
              </a:path>
              <a:path fill="darken" w="29695" h="21600">
                <a:moveTo>
                  <a:pt x="29695" y="0"/>
                </a:moveTo>
                <a:lnTo>
                  <a:pt x="29695" y="21600"/>
                </a:lnTo>
                <a:lnTo>
                  <a:pt x="28295" y="20200"/>
                </a:lnTo>
                <a:lnTo>
                  <a:pt x="28295" y="1400"/>
                </a:lnTo>
                <a:close/>
              </a:path>
              <a:path fill="darkenLess" w="29695" h="21600">
                <a:moveTo>
                  <a:pt x="296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5" y="20200"/>
                </a:lnTo>
                <a:close/>
              </a:path>
              <a:path fill="lighten" w="296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5" h="21600">
                <a:moveTo>
                  <a:pt x="7841" y="7493"/>
                </a:moveTo>
                <a:lnTo>
                  <a:pt x="11349" y="7493"/>
                </a:lnTo>
                <a:lnTo>
                  <a:pt x="11349" y="12828"/>
                </a:lnTo>
                <a:cubicBezTo>
                  <a:pt x="11349" y="13751"/>
                  <a:pt x="12149" y="14482"/>
                  <a:pt x="13185" y="14482"/>
                </a:cubicBezTo>
                <a:lnTo>
                  <a:pt x="14847" y="14482"/>
                </a:lnTo>
                <a:cubicBezTo>
                  <a:pt x="15883" y="14482"/>
                  <a:pt x="16684" y="13751"/>
                  <a:pt x="16684" y="12828"/>
                </a:cubicBezTo>
                <a:lnTo>
                  <a:pt x="16684" y="7493"/>
                </a:lnTo>
                <a:lnTo>
                  <a:pt x="14847" y="7493"/>
                </a:lnTo>
                <a:lnTo>
                  <a:pt x="18355" y="3985"/>
                </a:lnTo>
                <a:lnTo>
                  <a:pt x="22028" y="7493"/>
                </a:lnTo>
                <a:lnTo>
                  <a:pt x="20192" y="7493"/>
                </a:lnTo>
                <a:lnTo>
                  <a:pt x="20192" y="12828"/>
                </a:lnTo>
                <a:cubicBezTo>
                  <a:pt x="20192" y="15596"/>
                  <a:pt x="17615" y="18155"/>
                  <a:pt x="14847" y="18155"/>
                </a:cubicBezTo>
                <a:lnTo>
                  <a:pt x="13185" y="18155"/>
                </a:lnTo>
                <a:cubicBezTo>
                  <a:pt x="10417" y="18155"/>
                  <a:pt x="7841" y="15596"/>
                  <a:pt x="7841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012000" y="5084640"/>
            <a:ext cx="280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aramond"/>
              </a:rPr>
              <a:t>Нажми кнопку и сделай еще одну попытк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alphaModFix amt="0"/>
          </a:blip>
          <a:srcRect l="5796" t="8661" r="5796" b="8661"/>
          <a:stretch/>
        </p:blipFill>
        <p:spPr>
          <a:xfrm>
            <a:off x="9144000" y="6597720"/>
            <a:ext cx="2308320" cy="302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Молодец! 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 Это улиц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7093080" y="3789360"/>
            <a:ext cx="792000" cy="719280"/>
          </a:xfrm>
          <a:custGeom>
            <a:avLst/>
            <a:gdLst>
              <a:gd name="textAreaLeft" fmla="*/ 46440 w 792000"/>
              <a:gd name="textAreaRight" fmla="*/ 745560 w 792000"/>
              <a:gd name="textAreaTop" fmla="*/ 46440 h 719280"/>
              <a:gd name="textAreaBottom" fmla="*/ 672840 h 719280"/>
            </a:gdLst>
            <a:ahLst/>
            <a:rect l="textAreaLeft" t="textAreaTop" r="textAreaRight" b="textAreaBottom"/>
            <a:pathLst>
              <a:path w="23783" h="21600">
                <a:moveTo>
                  <a:pt x="0" y="0"/>
                </a:moveTo>
                <a:lnTo>
                  <a:pt x="23783" y="0"/>
                </a:lnTo>
                <a:lnTo>
                  <a:pt x="23783" y="21600"/>
                </a:lnTo>
                <a:lnTo>
                  <a:pt x="0" y="21600"/>
                </a:lnTo>
                <a:close/>
              </a:path>
              <a:path fill="lightenLess" w="23783" h="21600">
                <a:moveTo>
                  <a:pt x="0" y="0"/>
                </a:moveTo>
                <a:lnTo>
                  <a:pt x="23783" y="0"/>
                </a:lnTo>
                <a:lnTo>
                  <a:pt x="22383" y="1400"/>
                </a:lnTo>
                <a:lnTo>
                  <a:pt x="1400" y="1400"/>
                </a:lnTo>
                <a:close/>
              </a:path>
              <a:path fill="darken" w="23783" h="21600">
                <a:moveTo>
                  <a:pt x="23783" y="0"/>
                </a:moveTo>
                <a:lnTo>
                  <a:pt x="23783" y="21600"/>
                </a:lnTo>
                <a:lnTo>
                  <a:pt x="22383" y="20200"/>
                </a:lnTo>
                <a:lnTo>
                  <a:pt x="22383" y="1400"/>
                </a:lnTo>
                <a:close/>
              </a:path>
              <a:path fill="darkenLess" w="23783" h="21600">
                <a:moveTo>
                  <a:pt x="23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83" y="20200"/>
                </a:lnTo>
                <a:close/>
              </a:path>
              <a:path fill="lighten" w="23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83" h="21600">
                <a:moveTo>
                  <a:pt x="4885" y="3794"/>
                </a:moveTo>
                <a:lnTo>
                  <a:pt x="18898" y="10800"/>
                </a:lnTo>
                <a:lnTo>
                  <a:pt x="4885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227640" y="472428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Garamond"/>
              </a:rPr>
              <a:t>Идем дальш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611280" y="2421000"/>
            <a:ext cx="521964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19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102,51)"/>
                                      </p:to>
                                    </p:set>
                                    <p:set>
                                      <p:cBhvr>
                                        <p:cTn id="20" dur="500" autoRev="1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0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971280" y="1628640"/>
            <a:ext cx="771516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Два колесика подря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Их ногами вертят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А поверх торчк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Сам хозяин крючко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6443640" y="4869000"/>
            <a:ext cx="2363760" cy="16272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2665440" cy="16318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419640" y="4869000"/>
            <a:ext cx="2376360" cy="157608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4" action="ppaction://hlinksldjump"/>
          </p:cNvPr>
          <p:cNvSpPr/>
          <p:nvPr/>
        </p:nvSpPr>
        <p:spPr>
          <a:xfrm>
            <a:off x="32400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rId5" action="ppaction://hlinksldjump"/>
          </p:cNvPr>
          <p:cNvSpPr/>
          <p:nvPr/>
        </p:nvSpPr>
        <p:spPr>
          <a:xfrm>
            <a:off x="3276720" y="4869000"/>
            <a:ext cx="2663640" cy="1655640"/>
          </a:xfrm>
          <a:custGeom>
            <a:avLst/>
            <a:gdLst>
              <a:gd name="textAreaLeft" fmla="*/ 107280 w 2663640"/>
              <a:gd name="textAreaRight" fmla="*/ 2556360 w 266364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48" h="21600">
                <a:moveTo>
                  <a:pt x="0" y="0"/>
                </a:moveTo>
                <a:lnTo>
                  <a:pt x="34748" y="0"/>
                </a:lnTo>
                <a:lnTo>
                  <a:pt x="34748" y="21600"/>
                </a:lnTo>
                <a:lnTo>
                  <a:pt x="0" y="21600"/>
                </a:lnTo>
                <a:close/>
              </a:path>
              <a:path fill="lightenLess" w="34748" h="21600">
                <a:moveTo>
                  <a:pt x="0" y="0"/>
                </a:moveTo>
                <a:lnTo>
                  <a:pt x="34748" y="0"/>
                </a:lnTo>
                <a:lnTo>
                  <a:pt x="33348" y="1400"/>
                </a:lnTo>
                <a:lnTo>
                  <a:pt x="1400" y="1400"/>
                </a:lnTo>
                <a:close/>
              </a:path>
              <a:path fill="darken" w="34748" h="21600">
                <a:moveTo>
                  <a:pt x="34748" y="0"/>
                </a:moveTo>
                <a:lnTo>
                  <a:pt x="34748" y="21600"/>
                </a:lnTo>
                <a:lnTo>
                  <a:pt x="33348" y="20200"/>
                </a:lnTo>
                <a:lnTo>
                  <a:pt x="33348" y="1400"/>
                </a:lnTo>
                <a:close/>
              </a:path>
              <a:path fill="darkenLess" w="34748" h="21600">
                <a:moveTo>
                  <a:pt x="347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48" y="20200"/>
                </a:lnTo>
                <a:close/>
              </a:path>
              <a:path fill="lighten" w="347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>
            <a:hlinkClick r:id="rId6" action="ppaction://hlinksldjump"/>
          </p:cNvPr>
          <p:cNvSpPr/>
          <p:nvPr/>
        </p:nvSpPr>
        <p:spPr>
          <a:xfrm>
            <a:off x="6084720" y="4869000"/>
            <a:ext cx="2664000" cy="1655640"/>
          </a:xfrm>
          <a:custGeom>
            <a:avLst/>
            <a:gdLst>
              <a:gd name="textAreaLeft" fmla="*/ 107280 w 2664000"/>
              <a:gd name="textAreaRight" fmla="*/ 2556720 w 2664000"/>
              <a:gd name="textAreaTop" fmla="*/ 107280 h 1655640"/>
              <a:gd name="textAreaBottom" fmla="*/ 1548360 h 1655640"/>
            </a:gdLst>
            <a:ahLst/>
            <a:rect l="textAreaLeft" t="textAreaTop" r="textAreaRight" b="textAreaBottom"/>
            <a:pathLst>
              <a:path w="34753" h="21600">
                <a:moveTo>
                  <a:pt x="0" y="0"/>
                </a:moveTo>
                <a:lnTo>
                  <a:pt x="34753" y="0"/>
                </a:lnTo>
                <a:lnTo>
                  <a:pt x="34753" y="21600"/>
                </a:lnTo>
                <a:lnTo>
                  <a:pt x="0" y="21600"/>
                </a:lnTo>
                <a:close/>
              </a:path>
              <a:path fill="lightenLess" w="34753" h="21600">
                <a:moveTo>
                  <a:pt x="0" y="0"/>
                </a:moveTo>
                <a:lnTo>
                  <a:pt x="34753" y="0"/>
                </a:lnTo>
                <a:lnTo>
                  <a:pt x="33353" y="1400"/>
                </a:lnTo>
                <a:lnTo>
                  <a:pt x="1400" y="1400"/>
                </a:lnTo>
                <a:close/>
              </a:path>
              <a:path fill="darken" w="34753" h="21600">
                <a:moveTo>
                  <a:pt x="34753" y="0"/>
                </a:moveTo>
                <a:lnTo>
                  <a:pt x="34753" y="21600"/>
                </a:lnTo>
                <a:lnTo>
                  <a:pt x="33353" y="20200"/>
                </a:lnTo>
                <a:lnTo>
                  <a:pt x="33353" y="1400"/>
                </a:lnTo>
                <a:close/>
              </a:path>
              <a:path fill="darkenLess" w="34753" h="21600">
                <a:moveTo>
                  <a:pt x="34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53" y="20200"/>
                </a:lnTo>
                <a:close/>
              </a:path>
              <a:path fill="lighten" w="34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Подумай и щелкни мышкой по картинк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19:18:37Z</dcterms:created>
  <dc:creator>FoM</dc:creator>
  <dc:description/>
  <dc:language>en-US</dc:language>
  <cp:lastModifiedBy>FoM</cp:lastModifiedBy>
  <dcterms:modified xsi:type="dcterms:W3CDTF">2008-02-14T19:48:08Z</dcterms:modified>
  <cp:revision>6</cp:revision>
  <dc:subject/>
  <dc:title>Загадки  по  ПДД</dc:title>
</cp:coreProperties>
</file>