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4.jpeg" ContentType="image/jpeg"/>
  <Override PartName="/ppt/media/image2.gif" ContentType="image/gif"/>
  <Override PartName="/ppt/media/image25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26.jpeg" ContentType="image/jpeg"/>
  <Override PartName="/ppt/media/image7.gif" ContentType="image/gif"/>
  <Override PartName="/ppt/media/image5.jpeg" ContentType="image/jpeg"/>
  <Override PartName="/ppt/media/image13.jpeg" ContentType="image/jpeg"/>
  <Override PartName="/ppt/media/image30.gif" ContentType="image/gif"/>
  <Override PartName="/ppt/media/image3.png" ContentType="image/png"/>
  <Override PartName="/ppt/media/image17.jpeg" ContentType="image/jpeg"/>
  <Override PartName="/ppt/media/image12.jpeg" ContentType="image/jpeg"/>
  <Override PartName="/ppt/media/image1.wmf" ContentType="image/x-wmf"/>
  <Override PartName="/ppt/media/image15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9.gif" ContentType="image/gif"/>
  <Override PartName="/ppt/media/image20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27.png" ContentType="image/png"/>
  <Override PartName="/ppt/media/image28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5E6-ED00-46E9-B69B-AC318434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340-F78B-4DB2-A8D5-45FBF373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D016-D31E-470E-8EA9-CFD5AEA9F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64C-546E-4640-BC14-C203C8E23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21B-E553-4543-B768-CDDAFF03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C5AB-5217-42CA-A46F-DAD2427D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D125-C2D9-4003-8D60-36E65E037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0658-8722-4E62-AA3A-401A1EB6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66EA-7B2A-4D07-8A65-D663B218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EC84-3E9B-4AD3-8C5A-BC3E66B0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F42E-13A2-40A3-A5F3-FA724DFF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9A59-0960-4AB5-A36B-53FB9F49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3386-8DF4-4181-9E04-EDA567ECC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2.xm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" Target="slide14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" Target="slide17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4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9.xm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Загадки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по </a:t>
            </a:r>
            <a:br>
              <a:rPr sz="8000"/>
            </a:br>
            <a:r>
              <a:rPr b="1" lang="en-US" sz="8000" spc="-1" strike="noStrike">
                <a:solidFill>
                  <a:srgbClr val="008000"/>
                </a:solidFill>
                <a:latin typeface="Arial"/>
              </a:rPr>
              <a:t>ПД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6191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08360" y="4941720"/>
            <a:ext cx="17622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велосипед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55640" y="2224080"/>
            <a:ext cx="489600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31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32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Высоких деревьев длинне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Травиночки маленькой ниж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С ней дали становятся ближ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И мир открывается с н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4720" y="61657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ро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4653000"/>
            <a:ext cx="1455840" cy="1587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659640" y="4653000"/>
            <a:ext cx="1439640" cy="1547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519600" y="623736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крё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708360" y="4653000"/>
            <a:ext cx="1871640" cy="1546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42160" y="62373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ни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1116000" y="4581360"/>
            <a:ext cx="1440000" cy="1656000"/>
          </a:xfrm>
          <a:custGeom>
            <a:avLst/>
            <a:gdLst>
              <a:gd name="textAreaLeft" fmla="*/ 93240 w 1440000"/>
              <a:gd name="textAreaRight" fmla="*/ 1346760 w 1440000"/>
              <a:gd name="textAreaTop" fmla="*/ 93240 h 1656000"/>
              <a:gd name="textAreaBottom" fmla="*/ 1562760 h 1656000"/>
            </a:gdLst>
            <a:ahLst/>
            <a:rect l="textAreaLeft" t="textAreaTop" r="textAreaRight" b="textAreaBottom"/>
            <a:pathLst>
              <a:path w="21600" h="24839">
                <a:moveTo>
                  <a:pt x="0" y="0"/>
                </a:moveTo>
                <a:lnTo>
                  <a:pt x="21600" y="0"/>
                </a:lnTo>
                <a:lnTo>
                  <a:pt x="21600" y="24839"/>
                </a:lnTo>
                <a:lnTo>
                  <a:pt x="0" y="24839"/>
                </a:lnTo>
                <a:close/>
              </a:path>
              <a:path fill="lightenLess" w="21600" h="248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39">
                <a:moveTo>
                  <a:pt x="21600" y="0"/>
                </a:moveTo>
                <a:lnTo>
                  <a:pt x="21600" y="24839"/>
                </a:lnTo>
                <a:lnTo>
                  <a:pt x="20200" y="23439"/>
                </a:lnTo>
                <a:lnTo>
                  <a:pt x="20200" y="1400"/>
                </a:lnTo>
                <a:close/>
              </a:path>
              <a:path fill="darkenLess" w="21600" h="24839">
                <a:moveTo>
                  <a:pt x="21600" y="24839"/>
                </a:moveTo>
                <a:lnTo>
                  <a:pt x="0" y="24839"/>
                </a:lnTo>
                <a:lnTo>
                  <a:pt x="1400" y="23439"/>
                </a:lnTo>
                <a:lnTo>
                  <a:pt x="20200" y="23439"/>
                </a:lnTo>
                <a:close/>
              </a:path>
              <a:path fill="lighten" w="21600" h="24839">
                <a:moveTo>
                  <a:pt x="0" y="248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3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5" action="ppaction://hlinksldjump"/>
          </p:cNvPr>
          <p:cNvSpPr/>
          <p:nvPr/>
        </p:nvSpPr>
        <p:spPr>
          <a:xfrm>
            <a:off x="3635280" y="4581360"/>
            <a:ext cx="1944720" cy="1656000"/>
          </a:xfrm>
          <a:custGeom>
            <a:avLst/>
            <a:gdLst>
              <a:gd name="textAreaLeft" fmla="*/ 107280 w 1944720"/>
              <a:gd name="textAreaRight" fmla="*/ 1837440 w 1944720"/>
              <a:gd name="textAreaTop" fmla="*/ 107280 h 1656000"/>
              <a:gd name="textAreaBottom" fmla="*/ 1548720 h 1656000"/>
            </a:gdLst>
            <a:ahLst/>
            <a:rect l="textAreaLeft" t="textAreaTop" r="textAreaRight" b="textAreaBottom"/>
            <a:pathLst>
              <a:path w="25365" h="21600">
                <a:moveTo>
                  <a:pt x="0" y="0"/>
                </a:moveTo>
                <a:lnTo>
                  <a:pt x="25365" y="0"/>
                </a:lnTo>
                <a:lnTo>
                  <a:pt x="25365" y="21600"/>
                </a:lnTo>
                <a:lnTo>
                  <a:pt x="0" y="21600"/>
                </a:lnTo>
                <a:close/>
              </a:path>
              <a:path fill="lightenLess" w="25365" h="21600">
                <a:moveTo>
                  <a:pt x="0" y="0"/>
                </a:moveTo>
                <a:lnTo>
                  <a:pt x="25365" y="0"/>
                </a:lnTo>
                <a:lnTo>
                  <a:pt x="23965" y="1400"/>
                </a:lnTo>
                <a:lnTo>
                  <a:pt x="1400" y="1400"/>
                </a:lnTo>
                <a:close/>
              </a:path>
              <a:path fill="darken" w="25365" h="21600">
                <a:moveTo>
                  <a:pt x="25365" y="0"/>
                </a:moveTo>
                <a:lnTo>
                  <a:pt x="25365" y="21600"/>
                </a:lnTo>
                <a:lnTo>
                  <a:pt x="23965" y="20200"/>
                </a:lnTo>
                <a:lnTo>
                  <a:pt x="23965" y="1400"/>
                </a:lnTo>
                <a:close/>
              </a:path>
              <a:path fill="darkenLess" w="25365" h="21600">
                <a:moveTo>
                  <a:pt x="25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65" y="20200"/>
                </a:lnTo>
                <a:close/>
              </a:path>
              <a:path fill="lighten" w="25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6" action="ppaction://hlinksldjump"/>
          </p:cNvPr>
          <p:cNvSpPr/>
          <p:nvPr/>
        </p:nvSpPr>
        <p:spPr>
          <a:xfrm>
            <a:off x="6659640" y="4653000"/>
            <a:ext cx="1512720" cy="1655640"/>
          </a:xfrm>
          <a:custGeom>
            <a:avLst/>
            <a:gdLst>
              <a:gd name="textAreaLeft" fmla="*/ 97920 w 1512720"/>
              <a:gd name="textAreaRight" fmla="*/ 1414800 w 1512720"/>
              <a:gd name="textAreaTop" fmla="*/ 97920 h 1655640"/>
              <a:gd name="textAreaBottom" fmla="*/ 1557720 h 1655640"/>
            </a:gdLst>
            <a:ahLst/>
            <a:rect l="textAreaLeft" t="textAreaTop" r="textAreaRight" b="textAreaBottom"/>
            <a:pathLst>
              <a:path w="21600" h="23640">
                <a:moveTo>
                  <a:pt x="0" y="0"/>
                </a:moveTo>
                <a:lnTo>
                  <a:pt x="21600" y="0"/>
                </a:lnTo>
                <a:lnTo>
                  <a:pt x="21600" y="23640"/>
                </a:lnTo>
                <a:lnTo>
                  <a:pt x="0" y="23640"/>
                </a:lnTo>
                <a:close/>
              </a:path>
              <a:path fill="lightenLess" w="21600" h="236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40">
                <a:moveTo>
                  <a:pt x="21600" y="0"/>
                </a:moveTo>
                <a:lnTo>
                  <a:pt x="21600" y="23640"/>
                </a:lnTo>
                <a:lnTo>
                  <a:pt x="20200" y="22240"/>
                </a:lnTo>
                <a:lnTo>
                  <a:pt x="20200" y="1400"/>
                </a:lnTo>
                <a:close/>
              </a:path>
              <a:path fill="darkenLess" w="21600" h="23640">
                <a:moveTo>
                  <a:pt x="21600" y="23640"/>
                </a:moveTo>
                <a:lnTo>
                  <a:pt x="0" y="23640"/>
                </a:lnTo>
                <a:lnTo>
                  <a:pt x="1400" y="22240"/>
                </a:lnTo>
                <a:lnTo>
                  <a:pt x="20200" y="22240"/>
                </a:lnTo>
                <a:close/>
              </a:path>
              <a:path fill="lighten" w="21600" h="23640">
                <a:moveTo>
                  <a:pt x="0" y="236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4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дорог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4030560" cy="439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43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44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03640" y="4797360"/>
            <a:ext cx="3803760" cy="1728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На двух колесах я качу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Двумя педалями верч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За руль держусь, гляжу впере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И  вижу - скор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82160" y="6093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о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4797360"/>
            <a:ext cx="4206960" cy="174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52920" y="604044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82160" y="6093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о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4896000" y="4797360"/>
            <a:ext cx="4248000" cy="1727280"/>
          </a:xfrm>
          <a:custGeom>
            <a:avLst/>
            <a:gdLst>
              <a:gd name="textAreaLeft" fmla="*/ 111960 w 4248000"/>
              <a:gd name="textAreaRight" fmla="*/ 4136040 w 4248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53116" h="21600">
                <a:moveTo>
                  <a:pt x="0" y="0"/>
                </a:moveTo>
                <a:lnTo>
                  <a:pt x="53116" y="0"/>
                </a:lnTo>
                <a:lnTo>
                  <a:pt x="53116" y="21600"/>
                </a:lnTo>
                <a:lnTo>
                  <a:pt x="0" y="21600"/>
                </a:lnTo>
                <a:close/>
              </a:path>
              <a:path fill="lightenLess" w="53116" h="21600">
                <a:moveTo>
                  <a:pt x="0" y="0"/>
                </a:moveTo>
                <a:lnTo>
                  <a:pt x="53116" y="0"/>
                </a:lnTo>
                <a:lnTo>
                  <a:pt x="51716" y="1400"/>
                </a:lnTo>
                <a:lnTo>
                  <a:pt x="1400" y="1400"/>
                </a:lnTo>
                <a:close/>
              </a:path>
              <a:path fill="darken" w="53116" h="21600">
                <a:moveTo>
                  <a:pt x="53116" y="0"/>
                </a:moveTo>
                <a:lnTo>
                  <a:pt x="53116" y="21600"/>
                </a:lnTo>
                <a:lnTo>
                  <a:pt x="51716" y="20200"/>
                </a:lnTo>
                <a:lnTo>
                  <a:pt x="51716" y="1400"/>
                </a:lnTo>
                <a:close/>
              </a:path>
              <a:path fill="darkenLess" w="53116" h="21600">
                <a:moveTo>
                  <a:pt x="53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16" y="20200"/>
                </a:lnTo>
                <a:close/>
              </a:path>
              <a:path fill="lighten" w="53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324000" y="4724280"/>
            <a:ext cx="4248000" cy="1727280"/>
          </a:xfrm>
          <a:custGeom>
            <a:avLst/>
            <a:gdLst>
              <a:gd name="textAreaLeft" fmla="*/ 111960 w 4248000"/>
              <a:gd name="textAreaRight" fmla="*/ 4136040 w 4248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53116" h="21600">
                <a:moveTo>
                  <a:pt x="0" y="0"/>
                </a:moveTo>
                <a:lnTo>
                  <a:pt x="53116" y="0"/>
                </a:lnTo>
                <a:lnTo>
                  <a:pt x="53116" y="21600"/>
                </a:lnTo>
                <a:lnTo>
                  <a:pt x="0" y="21600"/>
                </a:lnTo>
                <a:close/>
              </a:path>
              <a:path fill="lightenLess" w="53116" h="21600">
                <a:moveTo>
                  <a:pt x="0" y="0"/>
                </a:moveTo>
                <a:lnTo>
                  <a:pt x="53116" y="0"/>
                </a:lnTo>
                <a:lnTo>
                  <a:pt x="51716" y="1400"/>
                </a:lnTo>
                <a:lnTo>
                  <a:pt x="1400" y="1400"/>
                </a:lnTo>
                <a:close/>
              </a:path>
              <a:path fill="darken" w="53116" h="21600">
                <a:moveTo>
                  <a:pt x="53116" y="0"/>
                </a:moveTo>
                <a:lnTo>
                  <a:pt x="53116" y="21600"/>
                </a:lnTo>
                <a:lnTo>
                  <a:pt x="51716" y="20200"/>
                </a:lnTo>
                <a:lnTo>
                  <a:pt x="51716" y="1400"/>
                </a:lnTo>
                <a:close/>
              </a:path>
              <a:path fill="darkenLess" w="53116" h="21600">
                <a:moveTo>
                  <a:pt x="53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16" y="20200"/>
                </a:lnTo>
                <a:close/>
              </a:path>
              <a:path fill="lighten" w="53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поворот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26920" y="2708280"/>
            <a:ext cx="3803760" cy="3384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824560" y="565632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ор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55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Спозаранку за окошком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Стук, и звон, и кутерь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По прямым стальным дорож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Ходят красные дом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2409840" cy="1517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564000" y="4508640"/>
            <a:ext cx="2084400" cy="1536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227640" y="4508640"/>
            <a:ext cx="2376720" cy="15112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539640" y="4508640"/>
            <a:ext cx="2519640" cy="1584360"/>
          </a:xfrm>
          <a:custGeom>
            <a:avLst/>
            <a:gdLst>
              <a:gd name="textAreaLeft" fmla="*/ 102600 w 2519640"/>
              <a:gd name="textAreaRight" fmla="*/ 2417040 w 251964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8" h="21600">
                <a:moveTo>
                  <a:pt x="0" y="0"/>
                </a:moveTo>
                <a:lnTo>
                  <a:pt x="34348" y="0"/>
                </a:lnTo>
                <a:lnTo>
                  <a:pt x="34348" y="21600"/>
                </a:lnTo>
                <a:lnTo>
                  <a:pt x="0" y="21600"/>
                </a:lnTo>
                <a:close/>
              </a:path>
              <a:path fill="lightenLess" w="34348" h="21600">
                <a:moveTo>
                  <a:pt x="0" y="0"/>
                </a:moveTo>
                <a:lnTo>
                  <a:pt x="34348" y="0"/>
                </a:lnTo>
                <a:lnTo>
                  <a:pt x="32948" y="1400"/>
                </a:lnTo>
                <a:lnTo>
                  <a:pt x="1400" y="1400"/>
                </a:lnTo>
                <a:close/>
              </a:path>
              <a:path fill="darken" w="34348" h="21600">
                <a:moveTo>
                  <a:pt x="34348" y="0"/>
                </a:moveTo>
                <a:lnTo>
                  <a:pt x="34348" y="21600"/>
                </a:lnTo>
                <a:lnTo>
                  <a:pt x="32948" y="20200"/>
                </a:lnTo>
                <a:lnTo>
                  <a:pt x="32948" y="1400"/>
                </a:lnTo>
                <a:close/>
              </a:path>
              <a:path fill="darkenLess" w="34348" h="21600">
                <a:moveTo>
                  <a:pt x="34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8" y="20200"/>
                </a:lnTo>
                <a:close/>
              </a:path>
              <a:path fill="lighten" w="34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5" action="ppaction://hlinksldjump"/>
          </p:cNvPr>
          <p:cNvSpPr/>
          <p:nvPr/>
        </p:nvSpPr>
        <p:spPr>
          <a:xfrm>
            <a:off x="334800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6" action="ppaction://hlinksldjump"/>
          </p:cNvPr>
          <p:cNvSpPr/>
          <p:nvPr/>
        </p:nvSpPr>
        <p:spPr>
          <a:xfrm>
            <a:off x="615636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4581360"/>
            <a:ext cx="2376360" cy="1440000"/>
          </a:xfrm>
          <a:custGeom>
            <a:avLst/>
            <a:gdLst>
              <a:gd name="textAreaLeft" fmla="*/ 93240 w 2376360"/>
              <a:gd name="textAreaRight" fmla="*/ 2283120 w 237636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35642" h="21600">
                <a:moveTo>
                  <a:pt x="0" y="0"/>
                </a:moveTo>
                <a:lnTo>
                  <a:pt x="35642" y="0"/>
                </a:lnTo>
                <a:lnTo>
                  <a:pt x="35642" y="21600"/>
                </a:lnTo>
                <a:lnTo>
                  <a:pt x="0" y="21600"/>
                </a:lnTo>
                <a:close/>
              </a:path>
              <a:path fill="lightenLess" w="35642" h="21600">
                <a:moveTo>
                  <a:pt x="0" y="0"/>
                </a:moveTo>
                <a:lnTo>
                  <a:pt x="35642" y="0"/>
                </a:lnTo>
                <a:lnTo>
                  <a:pt x="34242" y="1400"/>
                </a:lnTo>
                <a:lnTo>
                  <a:pt x="1400" y="1400"/>
                </a:lnTo>
                <a:close/>
              </a:path>
              <a:path fill="darken" w="35642" h="21600">
                <a:moveTo>
                  <a:pt x="35642" y="0"/>
                </a:moveTo>
                <a:lnTo>
                  <a:pt x="35642" y="21600"/>
                </a:lnTo>
                <a:lnTo>
                  <a:pt x="34242" y="20200"/>
                </a:lnTo>
                <a:lnTo>
                  <a:pt x="34242" y="1400"/>
                </a:lnTo>
                <a:close/>
              </a:path>
              <a:path fill="darkenLess" w="35642" h="21600">
                <a:moveTo>
                  <a:pt x="35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2" y="20200"/>
                </a:lnTo>
                <a:close/>
              </a:path>
              <a:path fill="lighten" w="35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581360"/>
            <a:ext cx="2376360" cy="1440000"/>
          </a:xfrm>
          <a:custGeom>
            <a:avLst/>
            <a:gdLst>
              <a:gd name="textAreaLeft" fmla="*/ 93240 w 2376360"/>
              <a:gd name="textAreaRight" fmla="*/ 2283120 w 237636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35642" h="21600">
                <a:moveTo>
                  <a:pt x="0" y="0"/>
                </a:moveTo>
                <a:lnTo>
                  <a:pt x="35642" y="0"/>
                </a:lnTo>
                <a:lnTo>
                  <a:pt x="35642" y="21600"/>
                </a:lnTo>
                <a:lnTo>
                  <a:pt x="0" y="21600"/>
                </a:lnTo>
                <a:close/>
              </a:path>
              <a:path fill="lightenLess" w="35642" h="21600">
                <a:moveTo>
                  <a:pt x="0" y="0"/>
                </a:moveTo>
                <a:lnTo>
                  <a:pt x="35642" y="0"/>
                </a:lnTo>
                <a:lnTo>
                  <a:pt x="34242" y="1400"/>
                </a:lnTo>
                <a:lnTo>
                  <a:pt x="1400" y="1400"/>
                </a:lnTo>
                <a:close/>
              </a:path>
              <a:path fill="darken" w="35642" h="21600">
                <a:moveTo>
                  <a:pt x="35642" y="0"/>
                </a:moveTo>
                <a:lnTo>
                  <a:pt x="35642" y="21600"/>
                </a:lnTo>
                <a:lnTo>
                  <a:pt x="34242" y="20200"/>
                </a:lnTo>
                <a:lnTo>
                  <a:pt x="34242" y="1400"/>
                </a:lnTo>
                <a:close/>
              </a:path>
              <a:path fill="darkenLess" w="35642" h="21600">
                <a:moveTo>
                  <a:pt x="35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2" y="20200"/>
                </a:lnTo>
                <a:close/>
              </a:path>
              <a:path fill="lighten" w="35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4653000"/>
            <a:ext cx="2376720" cy="1440000"/>
          </a:xfrm>
          <a:custGeom>
            <a:avLst/>
            <a:gdLst>
              <a:gd name="textAreaLeft" fmla="*/ 93240 w 2376720"/>
              <a:gd name="textAreaRight" fmla="*/ 2283480 w 237672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35647" h="21600">
                <a:moveTo>
                  <a:pt x="0" y="0"/>
                </a:moveTo>
                <a:lnTo>
                  <a:pt x="35647" y="0"/>
                </a:lnTo>
                <a:lnTo>
                  <a:pt x="35647" y="21600"/>
                </a:lnTo>
                <a:lnTo>
                  <a:pt x="0" y="21600"/>
                </a:lnTo>
                <a:close/>
              </a:path>
              <a:path fill="lightenLess" w="35647" h="21600">
                <a:moveTo>
                  <a:pt x="0" y="0"/>
                </a:moveTo>
                <a:lnTo>
                  <a:pt x="35647" y="0"/>
                </a:lnTo>
                <a:lnTo>
                  <a:pt x="34247" y="1400"/>
                </a:lnTo>
                <a:lnTo>
                  <a:pt x="1400" y="1400"/>
                </a:lnTo>
                <a:close/>
              </a:path>
              <a:path fill="darken" w="35647" h="21600">
                <a:moveTo>
                  <a:pt x="35647" y="0"/>
                </a:moveTo>
                <a:lnTo>
                  <a:pt x="35647" y="21600"/>
                </a:lnTo>
                <a:lnTo>
                  <a:pt x="34247" y="20200"/>
                </a:lnTo>
                <a:lnTo>
                  <a:pt x="34247" y="1400"/>
                </a:lnTo>
                <a:close/>
              </a:path>
              <a:path fill="darkenLess" w="35647" h="21600">
                <a:moveTo>
                  <a:pt x="35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7" y="20200"/>
                </a:lnTo>
                <a:close/>
              </a:path>
              <a:path fill="lighten" w="35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13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трамва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5400720" cy="37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67" dur="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68" dur="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У машины — ес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У телеги — ес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У велосипеда — ес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А у поезда — не счест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1751040" cy="1870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564000" y="4724280"/>
            <a:ext cx="1792080" cy="1873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300720" y="4797360"/>
            <a:ext cx="1847880" cy="1800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588000" y="4797360"/>
            <a:ext cx="1800360" cy="1800360"/>
          </a:xfrm>
          <a:custGeom>
            <a:avLst/>
            <a:gdLst>
              <a:gd name="textAreaLeft" fmla="*/ 116640 w 1800360"/>
              <a:gd name="textAreaRight" fmla="*/ 1683720 w 1800360"/>
              <a:gd name="textAreaTop" fmla="*/ 116640 h 1800360"/>
              <a:gd name="textAreaBottom" fmla="*/ 1683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2360" y="4724280"/>
            <a:ext cx="1800360" cy="1800360"/>
          </a:xfrm>
          <a:custGeom>
            <a:avLst/>
            <a:gdLst>
              <a:gd name="textAreaLeft" fmla="*/ 116640 w 1800360"/>
              <a:gd name="textAreaRight" fmla="*/ 1683720 w 1800360"/>
              <a:gd name="textAreaTop" fmla="*/ 116640 h 1800360"/>
              <a:gd name="textAreaBottom" fmla="*/ 1683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4797360"/>
            <a:ext cx="1800000" cy="1800360"/>
          </a:xfrm>
          <a:custGeom>
            <a:avLst/>
            <a:gdLst>
              <a:gd name="textAreaLeft" fmla="*/ 116640 w 1800000"/>
              <a:gd name="textAreaRight" fmla="*/ 1683360 w 1800000"/>
              <a:gd name="textAreaTop" fmla="*/ 116640 h 1800360"/>
              <a:gd name="textAreaBottom" fmla="*/ 1683720 h 1800360"/>
            </a:gdLst>
            <a:ahLst/>
            <a:rect l="textAreaLeft" t="textAreaTop" r="textAreaRight" b="textAreaBottom"/>
            <a:pathLst>
              <a:path w="21600" h="21604">
                <a:moveTo>
                  <a:pt x="0" y="0"/>
                </a:moveTo>
                <a:lnTo>
                  <a:pt x="21600" y="0"/>
                </a:lnTo>
                <a:lnTo>
                  <a:pt x="21600" y="21604"/>
                </a:lnTo>
                <a:lnTo>
                  <a:pt x="0" y="21604"/>
                </a:lnTo>
                <a:close/>
              </a:path>
              <a:path fill="lightenLess" w="21600" h="216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4">
                <a:moveTo>
                  <a:pt x="21600" y="0"/>
                </a:moveTo>
                <a:lnTo>
                  <a:pt x="21600" y="21604"/>
                </a:lnTo>
                <a:lnTo>
                  <a:pt x="20200" y="20204"/>
                </a:lnTo>
                <a:lnTo>
                  <a:pt x="20200" y="1400"/>
                </a:lnTo>
                <a:close/>
              </a:path>
              <a:path fill="darkenLess" w="21600" h="21604">
                <a:moveTo>
                  <a:pt x="21600" y="21604"/>
                </a:moveTo>
                <a:lnTo>
                  <a:pt x="0" y="21604"/>
                </a:lnTo>
                <a:lnTo>
                  <a:pt x="1400" y="20204"/>
                </a:lnTo>
                <a:lnTo>
                  <a:pt x="20200" y="20204"/>
                </a:lnTo>
                <a:close/>
              </a:path>
              <a:path fill="lighten" w="21600" h="21604">
                <a:moveTo>
                  <a:pt x="0" y="216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трамва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5400720" cy="37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79" dur="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80" dur="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19280" y="1844640"/>
            <a:ext cx="6389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Через реку во всю ши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Лег огромный богаты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Он лежит — не дрожи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По нему трамвай беж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26520" y="623736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4653000"/>
            <a:ext cx="2808360" cy="1388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156360" y="4653000"/>
            <a:ext cx="2665440" cy="1368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564000" y="4653000"/>
            <a:ext cx="2303280" cy="1392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734520" y="61657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7440" y="62373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4724280"/>
            <a:ext cx="2665440" cy="1297080"/>
          </a:xfrm>
          <a:custGeom>
            <a:avLst/>
            <a:gdLst>
              <a:gd name="textAreaLeft" fmla="*/ 83880 w 2665440"/>
              <a:gd name="textAreaRight" fmla="*/ 2581560 w 266544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44381" h="21600">
                <a:moveTo>
                  <a:pt x="0" y="0"/>
                </a:moveTo>
                <a:lnTo>
                  <a:pt x="44381" y="0"/>
                </a:lnTo>
                <a:lnTo>
                  <a:pt x="44381" y="21600"/>
                </a:lnTo>
                <a:lnTo>
                  <a:pt x="0" y="21600"/>
                </a:lnTo>
                <a:close/>
              </a:path>
              <a:path fill="lightenLess" w="44381" h="21600">
                <a:moveTo>
                  <a:pt x="0" y="0"/>
                </a:moveTo>
                <a:lnTo>
                  <a:pt x="44381" y="0"/>
                </a:lnTo>
                <a:lnTo>
                  <a:pt x="42981" y="1400"/>
                </a:lnTo>
                <a:lnTo>
                  <a:pt x="1400" y="1400"/>
                </a:lnTo>
                <a:close/>
              </a:path>
              <a:path fill="darken" w="44381" h="21600">
                <a:moveTo>
                  <a:pt x="44381" y="0"/>
                </a:moveTo>
                <a:lnTo>
                  <a:pt x="44381" y="21600"/>
                </a:lnTo>
                <a:lnTo>
                  <a:pt x="42981" y="20200"/>
                </a:lnTo>
                <a:lnTo>
                  <a:pt x="42981" y="1400"/>
                </a:lnTo>
                <a:close/>
              </a:path>
              <a:path fill="darkenLess" w="44381" h="21600">
                <a:moveTo>
                  <a:pt x="44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81" y="20200"/>
                </a:lnTo>
                <a:close/>
              </a:path>
              <a:path fill="lighten" w="44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3492360" y="4724280"/>
            <a:ext cx="2376720" cy="1297080"/>
          </a:xfrm>
          <a:custGeom>
            <a:avLst/>
            <a:gdLst>
              <a:gd name="textAreaLeft" fmla="*/ 83880 w 2376720"/>
              <a:gd name="textAreaRight" fmla="*/ 2292840 w 237672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39574" h="21600">
                <a:moveTo>
                  <a:pt x="0" y="0"/>
                </a:moveTo>
                <a:lnTo>
                  <a:pt x="39574" y="0"/>
                </a:lnTo>
                <a:lnTo>
                  <a:pt x="39574" y="21600"/>
                </a:lnTo>
                <a:lnTo>
                  <a:pt x="0" y="21600"/>
                </a:lnTo>
                <a:close/>
              </a:path>
              <a:path fill="lightenLess" w="39574" h="21600">
                <a:moveTo>
                  <a:pt x="0" y="0"/>
                </a:moveTo>
                <a:lnTo>
                  <a:pt x="39574" y="0"/>
                </a:lnTo>
                <a:lnTo>
                  <a:pt x="38174" y="1400"/>
                </a:lnTo>
                <a:lnTo>
                  <a:pt x="1400" y="1400"/>
                </a:lnTo>
                <a:close/>
              </a:path>
              <a:path fill="darken" w="39574" h="21600">
                <a:moveTo>
                  <a:pt x="39574" y="0"/>
                </a:moveTo>
                <a:lnTo>
                  <a:pt x="39574" y="21600"/>
                </a:lnTo>
                <a:lnTo>
                  <a:pt x="38174" y="20200"/>
                </a:lnTo>
                <a:lnTo>
                  <a:pt x="38174" y="1400"/>
                </a:lnTo>
                <a:close/>
              </a:path>
              <a:path fill="darkenLess" w="39574" h="21600">
                <a:moveTo>
                  <a:pt x="39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4" y="20200"/>
                </a:lnTo>
                <a:close/>
              </a:path>
              <a:path fill="lighten" w="39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27640" y="4724280"/>
            <a:ext cx="2592360" cy="1297080"/>
          </a:xfrm>
          <a:custGeom>
            <a:avLst/>
            <a:gdLst>
              <a:gd name="textAreaLeft" fmla="*/ 83880 w 2592360"/>
              <a:gd name="textAreaRight" fmla="*/ 2508480 w 259236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мос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5472000" cy="33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5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91" dur="5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92" dur="5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Где бы нам через дорог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К магазину перей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Вот за этими ларькам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Там, где стрелка у воро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Мы на стрелке этой с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Прочитали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5445000"/>
            <a:ext cx="2232000" cy="863640"/>
          </a:xfrm>
          <a:prstGeom prst="rightArrow">
            <a:avLst>
              <a:gd name="adj1" fmla="val 50000"/>
              <a:gd name="adj2" fmla="val 646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шех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59280" y="5445000"/>
            <a:ext cx="2232000" cy="863640"/>
          </a:xfrm>
          <a:prstGeom prst="rightArrow">
            <a:avLst>
              <a:gd name="adj1" fmla="val 50000"/>
              <a:gd name="adj2" fmla="val 646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х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5445000"/>
            <a:ext cx="2232000" cy="863640"/>
          </a:xfrm>
          <a:prstGeom prst="rightArrow">
            <a:avLst>
              <a:gd name="adj1" fmla="val 50000"/>
              <a:gd name="adj2" fmla="val 646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ох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516640"/>
            <a:ext cx="2665440" cy="720720"/>
          </a:xfrm>
          <a:custGeom>
            <a:avLst/>
            <a:gdLst>
              <a:gd name="textAreaLeft" fmla="*/ 46440 w 2665440"/>
              <a:gd name="textAreaRight" fmla="*/ 2619000 w 2665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9854" h="21600">
                <a:moveTo>
                  <a:pt x="0" y="0"/>
                </a:moveTo>
                <a:lnTo>
                  <a:pt x="79854" y="0"/>
                </a:lnTo>
                <a:lnTo>
                  <a:pt x="79854" y="21600"/>
                </a:lnTo>
                <a:lnTo>
                  <a:pt x="0" y="21600"/>
                </a:lnTo>
                <a:close/>
              </a:path>
              <a:path fill="lightenLess" w="79854" h="21600">
                <a:moveTo>
                  <a:pt x="0" y="0"/>
                </a:moveTo>
                <a:lnTo>
                  <a:pt x="79854" y="0"/>
                </a:lnTo>
                <a:lnTo>
                  <a:pt x="78454" y="1400"/>
                </a:lnTo>
                <a:lnTo>
                  <a:pt x="1400" y="1400"/>
                </a:lnTo>
                <a:close/>
              </a:path>
              <a:path fill="darken" w="79854" h="21600">
                <a:moveTo>
                  <a:pt x="79854" y="0"/>
                </a:moveTo>
                <a:lnTo>
                  <a:pt x="79854" y="21600"/>
                </a:lnTo>
                <a:lnTo>
                  <a:pt x="78454" y="20200"/>
                </a:lnTo>
                <a:lnTo>
                  <a:pt x="78454" y="1400"/>
                </a:lnTo>
                <a:close/>
              </a:path>
              <a:path fill="darkenLess" w="79854" h="21600">
                <a:moveTo>
                  <a:pt x="79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454" y="20200"/>
                </a:lnTo>
                <a:close/>
              </a:path>
              <a:path fill="lighten" w="79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6360" y="5516640"/>
            <a:ext cx="2665440" cy="720720"/>
          </a:xfrm>
          <a:custGeom>
            <a:avLst/>
            <a:gdLst>
              <a:gd name="textAreaLeft" fmla="*/ 46440 w 2665440"/>
              <a:gd name="textAreaRight" fmla="*/ 2619000 w 2665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9854" h="21600">
                <a:moveTo>
                  <a:pt x="0" y="0"/>
                </a:moveTo>
                <a:lnTo>
                  <a:pt x="79854" y="0"/>
                </a:lnTo>
                <a:lnTo>
                  <a:pt x="79854" y="21600"/>
                </a:lnTo>
                <a:lnTo>
                  <a:pt x="0" y="21600"/>
                </a:lnTo>
                <a:close/>
              </a:path>
              <a:path fill="lightenLess" w="79854" h="21600">
                <a:moveTo>
                  <a:pt x="0" y="0"/>
                </a:moveTo>
                <a:lnTo>
                  <a:pt x="79854" y="0"/>
                </a:lnTo>
                <a:lnTo>
                  <a:pt x="78454" y="1400"/>
                </a:lnTo>
                <a:lnTo>
                  <a:pt x="1400" y="1400"/>
                </a:lnTo>
                <a:close/>
              </a:path>
              <a:path fill="darken" w="79854" h="21600">
                <a:moveTo>
                  <a:pt x="79854" y="0"/>
                </a:moveTo>
                <a:lnTo>
                  <a:pt x="79854" y="21600"/>
                </a:lnTo>
                <a:lnTo>
                  <a:pt x="78454" y="20200"/>
                </a:lnTo>
                <a:lnTo>
                  <a:pt x="78454" y="1400"/>
                </a:lnTo>
                <a:close/>
              </a:path>
              <a:path fill="darkenLess" w="79854" h="21600">
                <a:moveTo>
                  <a:pt x="79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454" y="20200"/>
                </a:lnTo>
                <a:close/>
              </a:path>
              <a:path fill="lighten" w="79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5516640"/>
            <a:ext cx="2376360" cy="720720"/>
          </a:xfrm>
          <a:custGeom>
            <a:avLst/>
            <a:gdLst>
              <a:gd name="textAreaLeft" fmla="*/ 46440 w 2376360"/>
              <a:gd name="textAreaRight" fmla="*/ 2329920 w 237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1195" h="21600">
                <a:moveTo>
                  <a:pt x="0" y="0"/>
                </a:moveTo>
                <a:lnTo>
                  <a:pt x="71195" y="0"/>
                </a:lnTo>
                <a:lnTo>
                  <a:pt x="71195" y="21600"/>
                </a:lnTo>
                <a:lnTo>
                  <a:pt x="0" y="21600"/>
                </a:lnTo>
                <a:close/>
              </a:path>
              <a:path fill="lightenLess" w="71195" h="21600">
                <a:moveTo>
                  <a:pt x="0" y="0"/>
                </a:moveTo>
                <a:lnTo>
                  <a:pt x="71195" y="0"/>
                </a:lnTo>
                <a:lnTo>
                  <a:pt x="69795" y="1400"/>
                </a:lnTo>
                <a:lnTo>
                  <a:pt x="1400" y="1400"/>
                </a:lnTo>
                <a:close/>
              </a:path>
              <a:path fill="darken" w="71195" h="21600">
                <a:moveTo>
                  <a:pt x="71195" y="0"/>
                </a:moveTo>
                <a:lnTo>
                  <a:pt x="71195" y="21600"/>
                </a:lnTo>
                <a:lnTo>
                  <a:pt x="69795" y="20200"/>
                </a:lnTo>
                <a:lnTo>
                  <a:pt x="69795" y="1400"/>
                </a:lnTo>
                <a:close/>
              </a:path>
              <a:path fill="darkenLess" w="71195" h="21600">
                <a:moveTo>
                  <a:pt x="71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95" y="20200"/>
                </a:lnTo>
                <a:close/>
              </a:path>
              <a:path fill="lighten" w="71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5516640"/>
            <a:ext cx="2376360" cy="720720"/>
          </a:xfrm>
          <a:custGeom>
            <a:avLst/>
            <a:gdLst>
              <a:gd name="textAreaLeft" fmla="*/ 46440 w 2376360"/>
              <a:gd name="textAreaRight" fmla="*/ 2329920 w 237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1195" h="21600">
                <a:moveTo>
                  <a:pt x="0" y="0"/>
                </a:moveTo>
                <a:lnTo>
                  <a:pt x="71195" y="0"/>
                </a:lnTo>
                <a:lnTo>
                  <a:pt x="71195" y="21600"/>
                </a:lnTo>
                <a:lnTo>
                  <a:pt x="0" y="21600"/>
                </a:lnTo>
                <a:close/>
              </a:path>
              <a:path fill="lightenLess" w="71195" h="21600">
                <a:moveTo>
                  <a:pt x="0" y="0"/>
                </a:moveTo>
                <a:lnTo>
                  <a:pt x="71195" y="0"/>
                </a:lnTo>
                <a:lnTo>
                  <a:pt x="69795" y="1400"/>
                </a:lnTo>
                <a:lnTo>
                  <a:pt x="1400" y="1400"/>
                </a:lnTo>
                <a:close/>
              </a:path>
              <a:path fill="darken" w="71195" h="21600">
                <a:moveTo>
                  <a:pt x="71195" y="0"/>
                </a:moveTo>
                <a:lnTo>
                  <a:pt x="71195" y="21600"/>
                </a:lnTo>
                <a:lnTo>
                  <a:pt x="69795" y="20200"/>
                </a:lnTo>
                <a:lnTo>
                  <a:pt x="69795" y="1400"/>
                </a:lnTo>
                <a:close/>
              </a:path>
              <a:path fill="darkenLess" w="71195" h="21600">
                <a:moveTo>
                  <a:pt x="71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95" y="20200"/>
                </a:lnTo>
                <a:close/>
              </a:path>
              <a:path fill="lighten" w="71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5445000"/>
            <a:ext cx="2376720" cy="720720"/>
          </a:xfrm>
          <a:custGeom>
            <a:avLst/>
            <a:gdLst>
              <a:gd name="textAreaLeft" fmla="*/ 46440 w 2376720"/>
              <a:gd name="textAreaRight" fmla="*/ 2330280 w 237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1206" h="21600">
                <a:moveTo>
                  <a:pt x="0" y="0"/>
                </a:moveTo>
                <a:lnTo>
                  <a:pt x="71206" y="0"/>
                </a:lnTo>
                <a:lnTo>
                  <a:pt x="71206" y="21600"/>
                </a:lnTo>
                <a:lnTo>
                  <a:pt x="0" y="21600"/>
                </a:lnTo>
                <a:close/>
              </a:path>
              <a:path fill="lightenLess" w="71206" h="21600">
                <a:moveTo>
                  <a:pt x="0" y="0"/>
                </a:moveTo>
                <a:lnTo>
                  <a:pt x="71206" y="0"/>
                </a:lnTo>
                <a:lnTo>
                  <a:pt x="69806" y="1400"/>
                </a:lnTo>
                <a:lnTo>
                  <a:pt x="1400" y="1400"/>
                </a:lnTo>
                <a:close/>
              </a:path>
              <a:path fill="darken" w="71206" h="21600">
                <a:moveTo>
                  <a:pt x="71206" y="0"/>
                </a:moveTo>
                <a:lnTo>
                  <a:pt x="71206" y="21600"/>
                </a:lnTo>
                <a:lnTo>
                  <a:pt x="69806" y="20200"/>
                </a:lnTo>
                <a:lnTo>
                  <a:pt x="69806" y="1400"/>
                </a:lnTo>
                <a:close/>
              </a:path>
              <a:path fill="darkenLess" w="71206" h="21600">
                <a:moveTo>
                  <a:pt x="71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806" y="20200"/>
                </a:lnTo>
                <a:close/>
              </a:path>
              <a:path fill="lighten" w="71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переход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11280" y="2205000"/>
            <a:ext cx="4535280" cy="35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5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103" dur="5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104" dur="5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00000" y="1484280"/>
            <a:ext cx="7128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Удивительный вагон!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Посудите сами: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Рельсы в воздухе, а он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Держит их руками..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2409840" cy="151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64000" y="4508640"/>
            <a:ext cx="2084400" cy="1536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00720" y="4508640"/>
            <a:ext cx="2376720" cy="151128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32400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334800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6" action="ppaction://hlinksldjump"/>
          </p:cNvPr>
          <p:cNvSpPr/>
          <p:nvPr/>
        </p:nvSpPr>
        <p:spPr>
          <a:xfrm>
            <a:off x="615636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332000" y="1125360"/>
            <a:ext cx="698508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692360" y="3284640"/>
            <a:ext cx="5761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троллейбус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68360" y="1749600"/>
            <a:ext cx="5183280" cy="44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413000"/>
            <a:ext cx="82803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В два ряда дома стоя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Десять, двадцать, сто подря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И квадратными глаз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Друг на друга глядят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2789280" cy="2171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2811600" cy="2103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203640" y="4149720"/>
            <a:ext cx="2665440" cy="2122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2160" y="609300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5440" y="609300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04360" y="609300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Р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4" action="ppaction://hlinksldjump"/>
          </p:cNvPr>
          <p:cNvSpPr/>
          <p:nvPr/>
        </p:nvSpPr>
        <p:spPr>
          <a:xfrm>
            <a:off x="250920" y="4149720"/>
            <a:ext cx="2808360" cy="2232000"/>
          </a:xfrm>
          <a:custGeom>
            <a:avLst/>
            <a:gdLst>
              <a:gd name="textAreaLeft" fmla="*/ 144360 w 2808360"/>
              <a:gd name="textAreaRight" fmla="*/ 2664000 w 2808360"/>
              <a:gd name="textAreaTop" fmla="*/ 144360 h 2232000"/>
              <a:gd name="textAreaBottom" fmla="*/ 2087640 h 2232000"/>
            </a:gdLst>
            <a:ahLst/>
            <a:rect l="textAreaLeft" t="textAreaTop" r="textAreaRight" b="textAreaBottom"/>
            <a:pathLst>
              <a:path w="27177" h="21600">
                <a:moveTo>
                  <a:pt x="0" y="0"/>
                </a:moveTo>
                <a:lnTo>
                  <a:pt x="27177" y="0"/>
                </a:lnTo>
                <a:lnTo>
                  <a:pt x="27177" y="21600"/>
                </a:lnTo>
                <a:lnTo>
                  <a:pt x="0" y="21600"/>
                </a:lnTo>
                <a:close/>
              </a:path>
              <a:path fill="lightenLess" w="27177" h="21600">
                <a:moveTo>
                  <a:pt x="0" y="0"/>
                </a:moveTo>
                <a:lnTo>
                  <a:pt x="27177" y="0"/>
                </a:lnTo>
                <a:lnTo>
                  <a:pt x="25777" y="1400"/>
                </a:lnTo>
                <a:lnTo>
                  <a:pt x="1400" y="1400"/>
                </a:lnTo>
                <a:close/>
              </a:path>
              <a:path fill="darken" w="27177" h="21600">
                <a:moveTo>
                  <a:pt x="27177" y="0"/>
                </a:moveTo>
                <a:lnTo>
                  <a:pt x="27177" y="21600"/>
                </a:lnTo>
                <a:lnTo>
                  <a:pt x="25777" y="20200"/>
                </a:lnTo>
                <a:lnTo>
                  <a:pt x="25777" y="1400"/>
                </a:lnTo>
                <a:close/>
              </a:path>
              <a:path fill="darkenLess" w="27177" h="21600">
                <a:moveTo>
                  <a:pt x="271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77" y="20200"/>
                </a:lnTo>
                <a:close/>
              </a:path>
              <a:path fill="lighten" w="271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5" action="ppaction://hlinksldjump"/>
          </p:cNvPr>
          <p:cNvSpPr/>
          <p:nvPr/>
        </p:nvSpPr>
        <p:spPr>
          <a:xfrm>
            <a:off x="3059280" y="4149720"/>
            <a:ext cx="2808000" cy="2232000"/>
          </a:xfrm>
          <a:custGeom>
            <a:avLst/>
            <a:gdLst>
              <a:gd name="textAreaLeft" fmla="*/ 144360 w 2808000"/>
              <a:gd name="textAreaRight" fmla="*/ 2663640 w 2808000"/>
              <a:gd name="textAreaTop" fmla="*/ 144360 h 2232000"/>
              <a:gd name="textAreaBottom" fmla="*/ 2087640 h 2232000"/>
            </a:gdLst>
            <a:ahLst/>
            <a:rect l="textAreaLeft" t="textAreaTop" r="textAreaRight" b="textAreaBottom"/>
            <a:pathLst>
              <a:path w="27173" h="21600">
                <a:moveTo>
                  <a:pt x="0" y="0"/>
                </a:moveTo>
                <a:lnTo>
                  <a:pt x="27173" y="0"/>
                </a:lnTo>
                <a:lnTo>
                  <a:pt x="27173" y="21600"/>
                </a:lnTo>
                <a:lnTo>
                  <a:pt x="0" y="21600"/>
                </a:lnTo>
                <a:close/>
              </a:path>
              <a:path fill="lightenLess" w="27173" h="21600">
                <a:moveTo>
                  <a:pt x="0" y="0"/>
                </a:moveTo>
                <a:lnTo>
                  <a:pt x="27173" y="0"/>
                </a:lnTo>
                <a:lnTo>
                  <a:pt x="25773" y="1400"/>
                </a:lnTo>
                <a:lnTo>
                  <a:pt x="1400" y="1400"/>
                </a:lnTo>
                <a:close/>
              </a:path>
              <a:path fill="darken" w="27173" h="21600">
                <a:moveTo>
                  <a:pt x="27173" y="0"/>
                </a:moveTo>
                <a:lnTo>
                  <a:pt x="27173" y="21600"/>
                </a:lnTo>
                <a:lnTo>
                  <a:pt x="25773" y="20200"/>
                </a:lnTo>
                <a:lnTo>
                  <a:pt x="25773" y="1400"/>
                </a:lnTo>
                <a:close/>
              </a:path>
              <a:path fill="darkenLess" w="27173" h="21600">
                <a:moveTo>
                  <a:pt x="27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73" y="20200"/>
                </a:lnTo>
                <a:close/>
              </a:path>
              <a:path fill="lighten" w="27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6" action="ppaction://hlinksldjump"/>
          </p:cNvPr>
          <p:cNvSpPr/>
          <p:nvPr/>
        </p:nvSpPr>
        <p:spPr>
          <a:xfrm>
            <a:off x="6084720" y="4149720"/>
            <a:ext cx="2808360" cy="2232000"/>
          </a:xfrm>
          <a:custGeom>
            <a:avLst/>
            <a:gdLst>
              <a:gd name="textAreaLeft" fmla="*/ 144360 w 2808360"/>
              <a:gd name="textAreaRight" fmla="*/ 2664000 w 2808360"/>
              <a:gd name="textAreaTop" fmla="*/ 144360 h 2232000"/>
              <a:gd name="textAreaBottom" fmla="*/ 2087640 h 2232000"/>
            </a:gdLst>
            <a:ahLst/>
            <a:rect l="textAreaLeft" t="textAreaTop" r="textAreaRight" b="textAreaBottom"/>
            <a:pathLst>
              <a:path w="27177" h="21600">
                <a:moveTo>
                  <a:pt x="0" y="0"/>
                </a:moveTo>
                <a:lnTo>
                  <a:pt x="27177" y="0"/>
                </a:lnTo>
                <a:lnTo>
                  <a:pt x="27177" y="21600"/>
                </a:lnTo>
                <a:lnTo>
                  <a:pt x="0" y="21600"/>
                </a:lnTo>
                <a:close/>
              </a:path>
              <a:path fill="lightenLess" w="27177" h="21600">
                <a:moveTo>
                  <a:pt x="0" y="0"/>
                </a:moveTo>
                <a:lnTo>
                  <a:pt x="27177" y="0"/>
                </a:lnTo>
                <a:lnTo>
                  <a:pt x="25777" y="1400"/>
                </a:lnTo>
                <a:lnTo>
                  <a:pt x="1400" y="1400"/>
                </a:lnTo>
                <a:close/>
              </a:path>
              <a:path fill="darken" w="27177" h="21600">
                <a:moveTo>
                  <a:pt x="27177" y="0"/>
                </a:moveTo>
                <a:lnTo>
                  <a:pt x="27177" y="21600"/>
                </a:lnTo>
                <a:lnTo>
                  <a:pt x="25777" y="20200"/>
                </a:lnTo>
                <a:lnTo>
                  <a:pt x="25777" y="1400"/>
                </a:lnTo>
                <a:close/>
              </a:path>
              <a:path fill="darkenLess" w="27177" h="21600">
                <a:moveTo>
                  <a:pt x="271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77" y="20200"/>
                </a:lnTo>
                <a:close/>
              </a:path>
              <a:path fill="lighten" w="271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улиц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11280" y="2421000"/>
            <a:ext cx="521964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71280" y="1628640"/>
            <a:ext cx="771516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Два колесика подря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Их ногами вертя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А поверх торчк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Сам хозяин крючк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2363760" cy="1627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4869000"/>
            <a:ext cx="2665440" cy="1631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2376360" cy="15760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324000" y="4869000"/>
            <a:ext cx="2663640" cy="1655640"/>
          </a:xfrm>
          <a:custGeom>
            <a:avLst/>
            <a:gdLst>
              <a:gd name="textAreaLeft" fmla="*/ 107280 w 2663640"/>
              <a:gd name="textAreaRight" fmla="*/ 2556360 w 266364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34748" h="21600">
                <a:moveTo>
                  <a:pt x="0" y="0"/>
                </a:moveTo>
                <a:lnTo>
                  <a:pt x="34748" y="0"/>
                </a:lnTo>
                <a:lnTo>
                  <a:pt x="34748" y="21600"/>
                </a:lnTo>
                <a:lnTo>
                  <a:pt x="0" y="21600"/>
                </a:lnTo>
                <a:close/>
              </a:path>
              <a:path fill="lightenLess" w="34748" h="21600">
                <a:moveTo>
                  <a:pt x="0" y="0"/>
                </a:moveTo>
                <a:lnTo>
                  <a:pt x="34748" y="0"/>
                </a:lnTo>
                <a:lnTo>
                  <a:pt x="33348" y="1400"/>
                </a:lnTo>
                <a:lnTo>
                  <a:pt x="1400" y="1400"/>
                </a:lnTo>
                <a:close/>
              </a:path>
              <a:path fill="darken" w="34748" h="21600">
                <a:moveTo>
                  <a:pt x="34748" y="0"/>
                </a:moveTo>
                <a:lnTo>
                  <a:pt x="34748" y="21600"/>
                </a:lnTo>
                <a:lnTo>
                  <a:pt x="33348" y="20200"/>
                </a:lnTo>
                <a:lnTo>
                  <a:pt x="33348" y="1400"/>
                </a:lnTo>
                <a:close/>
              </a:path>
              <a:path fill="darkenLess" w="34748" h="21600">
                <a:moveTo>
                  <a:pt x="34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48" y="20200"/>
                </a:lnTo>
                <a:close/>
              </a:path>
              <a:path fill="lighten" w="34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5" action="ppaction://hlinksldjump"/>
          </p:cNvPr>
          <p:cNvSpPr/>
          <p:nvPr/>
        </p:nvSpPr>
        <p:spPr>
          <a:xfrm>
            <a:off x="3276720" y="4869000"/>
            <a:ext cx="2663640" cy="1655640"/>
          </a:xfrm>
          <a:custGeom>
            <a:avLst/>
            <a:gdLst>
              <a:gd name="textAreaLeft" fmla="*/ 107280 w 2663640"/>
              <a:gd name="textAreaRight" fmla="*/ 2556360 w 266364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34748" h="21600">
                <a:moveTo>
                  <a:pt x="0" y="0"/>
                </a:moveTo>
                <a:lnTo>
                  <a:pt x="34748" y="0"/>
                </a:lnTo>
                <a:lnTo>
                  <a:pt x="34748" y="21600"/>
                </a:lnTo>
                <a:lnTo>
                  <a:pt x="0" y="21600"/>
                </a:lnTo>
                <a:close/>
              </a:path>
              <a:path fill="lightenLess" w="34748" h="21600">
                <a:moveTo>
                  <a:pt x="0" y="0"/>
                </a:moveTo>
                <a:lnTo>
                  <a:pt x="34748" y="0"/>
                </a:lnTo>
                <a:lnTo>
                  <a:pt x="33348" y="1400"/>
                </a:lnTo>
                <a:lnTo>
                  <a:pt x="1400" y="1400"/>
                </a:lnTo>
                <a:close/>
              </a:path>
              <a:path fill="darken" w="34748" h="21600">
                <a:moveTo>
                  <a:pt x="34748" y="0"/>
                </a:moveTo>
                <a:lnTo>
                  <a:pt x="34748" y="21600"/>
                </a:lnTo>
                <a:lnTo>
                  <a:pt x="33348" y="20200"/>
                </a:lnTo>
                <a:lnTo>
                  <a:pt x="33348" y="1400"/>
                </a:lnTo>
                <a:close/>
              </a:path>
              <a:path fill="darkenLess" w="34748" h="21600">
                <a:moveTo>
                  <a:pt x="34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48" y="20200"/>
                </a:lnTo>
                <a:close/>
              </a:path>
              <a:path fill="lighten" w="34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6" action="ppaction://hlinksldjump"/>
          </p:cNvPr>
          <p:cNvSpPr/>
          <p:nvPr/>
        </p:nvSpPr>
        <p:spPr>
          <a:xfrm>
            <a:off x="6084720" y="4869000"/>
            <a:ext cx="2664000" cy="1655640"/>
          </a:xfrm>
          <a:custGeom>
            <a:avLst/>
            <a:gdLst>
              <a:gd name="textAreaLeft" fmla="*/ 107280 w 2664000"/>
              <a:gd name="textAreaRight" fmla="*/ 2556720 w 2664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34753" h="21600">
                <a:moveTo>
                  <a:pt x="0" y="0"/>
                </a:moveTo>
                <a:lnTo>
                  <a:pt x="34753" y="0"/>
                </a:lnTo>
                <a:lnTo>
                  <a:pt x="34753" y="21600"/>
                </a:lnTo>
                <a:lnTo>
                  <a:pt x="0" y="21600"/>
                </a:lnTo>
                <a:close/>
              </a:path>
              <a:path fill="lightenLess" w="34753" h="21600">
                <a:moveTo>
                  <a:pt x="0" y="0"/>
                </a:moveTo>
                <a:lnTo>
                  <a:pt x="34753" y="0"/>
                </a:lnTo>
                <a:lnTo>
                  <a:pt x="33353" y="1400"/>
                </a:lnTo>
                <a:lnTo>
                  <a:pt x="1400" y="1400"/>
                </a:lnTo>
                <a:close/>
              </a:path>
              <a:path fill="darken" w="34753" h="21600">
                <a:moveTo>
                  <a:pt x="34753" y="0"/>
                </a:moveTo>
                <a:lnTo>
                  <a:pt x="34753" y="21600"/>
                </a:lnTo>
                <a:lnTo>
                  <a:pt x="33353" y="20200"/>
                </a:lnTo>
                <a:lnTo>
                  <a:pt x="33353" y="1400"/>
                </a:lnTo>
                <a:close/>
              </a:path>
              <a:path fill="darkenLess" w="34753" h="21600">
                <a:moveTo>
                  <a:pt x="34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53" y="20200"/>
                </a:lnTo>
                <a:close/>
              </a:path>
              <a:path fill="lighten" w="34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9:18:37Z</dcterms:created>
  <dc:creator>FoM</dc:creator>
  <dc:description/>
  <dc:language>en-US</dc:language>
  <cp:lastModifiedBy>FoM</cp:lastModifiedBy>
  <dcterms:modified xsi:type="dcterms:W3CDTF">2008-02-14T19:48:08Z</dcterms:modified>
  <cp:revision>6</cp:revision>
  <dc:subject/>
  <dc:title>Загадки  по  ПДД</dc:title>
</cp:coreProperties>
</file>