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58C-7907-4202-AC86-F74FE3B6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A94-751B-46D7-803C-8FBD56AA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C95-CEEE-41D3-9404-6ACF2C1A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D01-F00B-4F7E-BECE-D1899196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CF1-DAC3-4B35-A7A2-5F8C0569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CAA-844F-440C-A96C-FD05FC1E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858-1E65-40D7-A91F-24CE005B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87F-4E31-481B-B8D0-74809BF1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CAB-30CD-44F5-BE8C-894E922E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C287-4E7B-458F-9F48-9FAF3EB0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CE8-2B5E-4574-8553-EC71EAB4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BBA-190E-412B-B1B7-5544F713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20B5-C2BD-46CA-B7E8-48091DEA6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7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0066"/>
                </a:solidFill>
                <a:latin typeface="Monotype Corsiva"/>
              </a:rPr>
              <a:t>Средневековая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7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0066"/>
                </a:solidFill>
                <a:latin typeface="Monotype Corsiva"/>
              </a:rPr>
              <a:t>философ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7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0066"/>
                </a:solidFill>
                <a:latin typeface="Monotype Corsiva"/>
              </a:rPr>
              <a:t>(</a:t>
            </a:r>
            <a:r>
              <a:rPr b="1" lang="en-US" sz="9600" spc="-1" strike="noStrike">
                <a:solidFill>
                  <a:srgbClr val="660066"/>
                </a:solidFill>
                <a:latin typeface="Monotype Corsiva"/>
              </a:rPr>
              <a:t>II – XV</a:t>
            </a:r>
            <a:r>
              <a:rPr b="1" lang="ru-RU" sz="9600" spc="-1" strike="noStrike">
                <a:solidFill>
                  <a:srgbClr val="660066"/>
                </a:solidFill>
                <a:latin typeface="Monotype Corsiva"/>
              </a:rPr>
              <a:t> вв.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7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Monotype Corsiva"/>
              </a:rPr>
              <a:t>Философия Просвещ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252072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ьт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694 -17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843280" y="981000"/>
            <a:ext cx="334800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ан Жак Рус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712 -17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5229360"/>
            <a:ext cx="30592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Если бы бога не существовало, его следовало бы выдумать</a:t>
            </a: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Работа избавляет нас от трех великих зол: скуки, порока, нужды</a:t>
            </a: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6156360" y="5300640"/>
            <a:ext cx="298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Каждый человек богат или беден в зависимости от количества того труда, которым он может распоряжаться или которое он может купить</a:t>
            </a: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64360" y="981000"/>
            <a:ext cx="28796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дам См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723 -17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Adam Smith The Muir portrait.jpg"/>
          <p:cNvPicPr/>
          <p:nvPr/>
        </p:nvPicPr>
        <p:blipFill>
          <a:blip r:embed="rId1"/>
          <a:stretch/>
        </p:blipFill>
        <p:spPr>
          <a:xfrm>
            <a:off x="6443640" y="2133720"/>
            <a:ext cx="2381400" cy="3057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СОВКИ и ДОЛБАНЫЕ СИСИЛИСТЫ!"/>
          <p:cNvPicPr/>
          <p:nvPr/>
        </p:nvPicPr>
        <p:blipFill>
          <a:blip r:embed="rId2"/>
          <a:stretch/>
        </p:blipFill>
        <p:spPr>
          <a:xfrm>
            <a:off x="324000" y="2133720"/>
            <a:ext cx="2430360" cy="2997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Раннее развитие: взгляд из разных эпох - интернет-магазин Умный ребенок"/>
          <p:cNvPicPr/>
          <p:nvPr/>
        </p:nvPicPr>
        <p:blipFill>
          <a:blip r:embed="rId3"/>
          <a:stretch/>
        </p:blipFill>
        <p:spPr>
          <a:xfrm>
            <a:off x="3348000" y="2133720"/>
            <a:ext cx="2414520" cy="3025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987640" y="5214600"/>
            <a:ext cx="3024360" cy="18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Жить - это не значит дышать, это значит действова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Тысячи путей ведут                     к заблуждению,                                 к истине - только один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Monotype Corsiva"/>
              </a:rPr>
              <a:t>Философия Просвещ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403848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798 -185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56000" y="980640"/>
            <a:ext cx="4788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енс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820 -19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5084640"/>
            <a:ext cx="4140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очи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О теле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О человек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О гражданин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572000" y="5084640"/>
            <a:ext cx="4392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очи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Письма о веротерпимости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Опыт о человеческом разумен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Herbert Spencer.jpg"/>
          <p:cNvPicPr/>
          <p:nvPr/>
        </p:nvPicPr>
        <p:blipFill>
          <a:blip r:embed="rId1"/>
          <a:stretch/>
        </p:blipFill>
        <p:spPr>
          <a:xfrm>
            <a:off x="6156360" y="2349360"/>
            <a:ext cx="2095560" cy="3229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uguste Comte.jpg"/>
          <p:cNvPicPr/>
          <p:nvPr/>
        </p:nvPicPr>
        <p:blipFill>
          <a:blip r:embed="rId2"/>
          <a:stretch/>
        </p:blipFill>
        <p:spPr>
          <a:xfrm>
            <a:off x="611280" y="2637000"/>
            <a:ext cx="20955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59920" y="324648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нсимон фурье оуэн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к т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п мировоззрения эпохи Возрождения -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ая философская проблема эпохи Возрождения – проблема 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чник творческого вдохновения  эпохи Возрождения - ___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Monotype Corsiva"/>
              </a:rPr>
              <a:t>Средневековая философ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252720" y="1773360"/>
            <a:ext cx="38163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ша и м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в их взаимосвяз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724000" y="1773000"/>
            <a:ext cx="34196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казательство бытия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отношение веры и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worldreligions.ru/spaw2/uploads/images/jesus1.jpg"/>
          <p:cNvPicPr/>
          <p:nvPr/>
        </p:nvPicPr>
        <p:blipFill>
          <a:blip r:embed="rId1"/>
          <a:stretch/>
        </p:blipFill>
        <p:spPr>
          <a:xfrm>
            <a:off x="3492360" y="1125360"/>
            <a:ext cx="2148120" cy="2953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1052640"/>
            <a:ext cx="24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Arial"/>
              </a:rPr>
              <a:t>Предм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6000" y="1052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Arial"/>
              </a:rPr>
              <a:t>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435560"/>
            <a:ext cx="914400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ализм (двумирность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оцентризм (Бог – центр мирозда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ационизм (сотворение мира Богом из нич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виденциализм (всеми событиями управляет                     божественное прови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59280" y="4005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00"/>
                </a:solidFill>
                <a:uFillTx/>
                <a:latin typeface="Arial"/>
              </a:rPr>
              <a:t>Учения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Monotype Corsiva"/>
              </a:rPr>
              <a:t>Основные этапы развития философии средневековь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032360" cy="47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АТРИСТИКА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(учение «отцов церкв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X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в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и оформление основного содержания христианской философии на основе религиозного учения Иисуса Христа и философской системы Плат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6000" y="1773360"/>
            <a:ext cx="4103640" cy="47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ХОЛА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(от лат.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chola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– шко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X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XV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в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ьно-университетская дисциплина, имевшая целью философское обоснование религиозного учения под влиянием философского наследия Аристо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396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релий Августин Блаженный 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54-430 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4842000"/>
            <a:ext cx="41403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очи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Исповедь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О граде Божь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Изображение “http://www.disser.ru/img/philosophia/ph8-augustin.gif” не может быть показано, так как содержит ошибки.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789120" y="1773360"/>
            <a:ext cx="2558880" cy="3024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Фома Аквинский - биография + цитаты + лучшее видео Культурно-исторический календарь Украины"/>
          <p:cNvPicPr/>
          <p:nvPr/>
        </p:nvPicPr>
        <p:blipFill>
          <a:blip r:embed="rId2"/>
          <a:stretch/>
        </p:blipFill>
        <p:spPr>
          <a:xfrm>
            <a:off x="5508720" y="1773360"/>
            <a:ext cx="2519280" cy="3024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4643280" y="274680"/>
            <a:ext cx="404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ма Аквински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225 - 127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4941720"/>
            <a:ext cx="36007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очи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Сумма теологий», «Сумма философ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580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п мировоззрения философии Средневековья -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ее видный представитель патристики -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ее видный представитель схоластики - ________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тологический принцип средневековой философии - 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0" y="6237360"/>
            <a:ext cx="54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. Боттичелли. «Рождение Вене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Monotype Corsiva"/>
              </a:rPr>
              <a:t>Философия Возрожд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403848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ртин Лютер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4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4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56000" y="980640"/>
            <a:ext cx="4788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коло Макиавел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469-15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Фотография Мартин Лютер (Photo of Martin Luther)"/>
          <p:cNvPicPr/>
          <p:nvPr/>
        </p:nvPicPr>
        <p:blipFill>
          <a:blip r:embed="rId1"/>
          <a:srcRect l="16630" t="0" r="12496" b="0"/>
          <a:stretch/>
        </p:blipFill>
        <p:spPr>
          <a:xfrm>
            <a:off x="755640" y="2133720"/>
            <a:ext cx="2616120" cy="30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Portrait of Niccolò Machiavelli by Santi di Tito.jpg"/>
          <p:cNvPicPr/>
          <p:nvPr/>
        </p:nvPicPr>
        <p:blipFill>
          <a:blip r:embed="rId2"/>
          <a:stretch/>
        </p:blipFill>
        <p:spPr>
          <a:xfrm>
            <a:off x="5546880" y="2060640"/>
            <a:ext cx="2408040" cy="3097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0" y="5300640"/>
            <a:ext cx="414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очи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95 тезисов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О свободе христиан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572000" y="5300640"/>
            <a:ext cx="414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очи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Государь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История Флорен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7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0066"/>
                </a:solidFill>
                <a:latin typeface="Monotype Corsiva"/>
              </a:rPr>
              <a:t>Философ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7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0066"/>
                </a:solidFill>
                <a:latin typeface="Monotype Corsiva"/>
              </a:rPr>
              <a:t>Нового времен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7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0066"/>
                </a:solidFill>
                <a:latin typeface="Monotype Corsiva"/>
              </a:rPr>
              <a:t>(</a:t>
            </a:r>
            <a:r>
              <a:rPr b="1" lang="en-US" sz="9600" spc="-1" strike="noStrike">
                <a:solidFill>
                  <a:srgbClr val="660066"/>
                </a:solidFill>
                <a:latin typeface="Monotype Corsiva"/>
              </a:rPr>
              <a:t>XVI</a:t>
            </a:r>
            <a:r>
              <a:rPr b="1" lang="ru-RU" sz="9600" spc="-1" strike="noStrike">
                <a:solidFill>
                  <a:srgbClr val="660066"/>
                </a:solidFill>
                <a:latin typeface="Monotype Corsiva"/>
              </a:rPr>
              <a:t>-</a:t>
            </a:r>
            <a:r>
              <a:rPr b="1" lang="en-US" sz="9600" spc="-1" strike="noStrike">
                <a:solidFill>
                  <a:srgbClr val="660066"/>
                </a:solidFill>
                <a:latin typeface="Monotype Corsiva"/>
              </a:rPr>
              <a:t>XIX </a:t>
            </a:r>
            <a:r>
              <a:rPr b="1" lang="ru-RU" sz="9600" spc="-1" strike="noStrike">
                <a:solidFill>
                  <a:srgbClr val="660066"/>
                </a:solidFill>
                <a:latin typeface="Monotype Corsiva"/>
              </a:rPr>
              <a:t>вв.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7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Monotype Corsiva"/>
              </a:rPr>
              <a:t>Философия Нового времен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403848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мас Гоббс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588 -167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56000" y="980640"/>
            <a:ext cx="4788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жон Лок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632 -17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5084640"/>
            <a:ext cx="4140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очи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О теле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О человек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О гражданин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572000" y="5084640"/>
            <a:ext cx="4392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очи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Письма о веротерпимости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Опыт о человеческом разумен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Thomas Hobbes (portrait).jpg"/>
          <p:cNvPicPr/>
          <p:nvPr/>
        </p:nvPicPr>
        <p:blipFill>
          <a:blip r:embed="rId1"/>
          <a:stretch/>
        </p:blipFill>
        <p:spPr>
          <a:xfrm>
            <a:off x="755640" y="2205000"/>
            <a:ext cx="2595600" cy="2736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john locke video - john locke videoları - - Bilgibende.com"/>
          <p:cNvPicPr/>
          <p:nvPr/>
        </p:nvPicPr>
        <p:blipFill>
          <a:blip r:embed="rId2"/>
          <a:stretch/>
        </p:blipFill>
        <p:spPr>
          <a:xfrm>
            <a:off x="5651640" y="2205000"/>
            <a:ext cx="24192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4:53:47Z</dcterms:created>
  <dc:creator>ольга</dc:creator>
  <dc:description/>
  <dc:language>en-US</dc:language>
  <cp:lastModifiedBy>qwe</cp:lastModifiedBy>
  <dcterms:modified xsi:type="dcterms:W3CDTF">2015-04-16T10:52:57Z</dcterms:modified>
  <cp:revision>162</cp:revision>
  <dc:subject/>
  <dc:title>Философия</dc:title>
</cp:coreProperties>
</file>