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E26-D729-4E00-8955-736CD375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746-9478-407D-A32F-238AFFF4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6E5-1C4E-466F-B91D-35461A91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3AF8-DAE4-45D8-80CD-B90457FF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DB357-C421-43CA-B0A3-02BD24F5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E2C3E-DB38-40A9-A1AA-B23CF31E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86F66-2B6D-42B2-B397-B74486CD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9BB81-E416-4AD7-9267-4875ECD3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AA0A9-9FA2-4670-AC06-374D8186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-31680"/>
            <a:ext cx="82263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44E16-8282-4B9B-B53E-B972B91D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A5A92-F236-441E-A995-A4C197C0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38EE-A92C-49A8-81E2-49F6D102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39250-A46E-427E-B0AD-90340111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AB3E6-E3C0-4BAC-9943-D0D8C4A1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854CD-1417-4BB6-8621-251A66BA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D6C8D-BAD2-4A71-BA21-991D3F7C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FCCCB-12F4-4106-A2A5-8A24D267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B1CB-8E5F-477F-BA77-A6F05082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7FE-A755-4949-8E5D-0F3BF30B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841-511A-4633-9872-25652ECA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31680"/>
            <a:ext cx="82263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E73-3B08-4D94-A151-42EE971A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1B3-E192-45E7-AEBE-B0EEAE63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1AD-A3D1-4FA5-A47E-4D3350AF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93F-43CD-436B-9E70-64927F55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31680"/>
            <a:ext cx="82263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5336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280" y="645336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67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6F651-4290-4574-86E2-1F8469FFD00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769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1080" y="6245280"/>
            <a:ext cx="582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9F8E69-9A19-4083-8505-88C76469F2E3}" type="slidenum">
              <a:rPr b="0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C4D5A-E380-4C61-B1CE-9F7C62CB06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55E74FBD-C8E8-4CD3-BBAE-D177E2CCE438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-31680"/>
            <a:ext cx="82281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Дивизиональная структура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869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  <a:ea typeface="Arial"/>
              </a:rPr>
              <a:t>Первому лицу подчинены дирекции, которые разделены по продуктовому  или географическому принципу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  <a:ea typeface="Arial"/>
              </a:rPr>
              <a:t>В рамках каждого блока может быть использована               любая организационная структура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>
            <a:lum bright="-42000"/>
          </a:blip>
          <a:stretch/>
        </p:blipFill>
        <p:spPr>
          <a:xfrm>
            <a:off x="1619280" y="1268280"/>
            <a:ext cx="612144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-31680"/>
            <a:ext cx="82281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icrosoft YaHei"/>
              </a:rPr>
              <a:t>Функциональная структура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08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Microsoft YaHei"/>
                <a:ea typeface="Arial"/>
              </a:rPr>
              <a:t>Позволяет привлечь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Microsoft YaHei"/>
                <a:ea typeface="Arial"/>
              </a:rPr>
              <a:t>квалифицированных специалистов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Microsoft YaHei"/>
                <a:ea typeface="Arial"/>
              </a:rPr>
              <a:t>Нарушается единство управления</a:t>
            </a:r>
            <a:r>
              <a:rPr b="0" lang="ru-RU" sz="2400" spc="-1" strike="noStrike">
                <a:solidFill>
                  <a:srgbClr val="3333cc"/>
                </a:solidFill>
                <a:latin typeface="Microsoft YaHei"/>
                <a:ea typeface="Arial"/>
              </a:rPr>
              <a:t>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Microsoft YaHei"/>
                <a:ea typeface="Arial"/>
              </a:rPr>
              <a:t>Снижается ответственность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755640" y="1268280"/>
            <a:ext cx="77770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2040"/>
            <a:ext cx="82281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ые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ставляющие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205ff6"/>
                </a:solidFill>
                <a:uFillTx/>
                <a:latin typeface="Microsoft YaHei"/>
              </a:rPr>
              <a:t>Организация</a:t>
            </a:r>
            <a:r>
              <a:rPr b="1" i="1" lang="ru-RU" sz="2800" spc="-1" strike="noStrike" u="sng">
                <a:solidFill>
                  <a:srgbClr val="205ff6"/>
                </a:solidFill>
                <a:uFillTx/>
                <a:latin typeface="Microsoft YaHei"/>
              </a:rPr>
              <a:t>(структура управления)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Штабная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Линейная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Матричная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Дивизиональная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Функциональная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205ff6"/>
                </a:solidFill>
                <a:uFillTx/>
                <a:latin typeface="Microsoft YaHei"/>
              </a:rPr>
              <a:t>Мотивация </a:t>
            </a:r>
            <a:r>
              <a:rPr b="1" i="1" lang="ru-RU" sz="2800" spc="-1" strike="noStrike" u="sng">
                <a:solidFill>
                  <a:srgbClr val="205ff6"/>
                </a:solidFill>
                <a:uFillTx/>
                <a:latin typeface="Microsoft YaHei"/>
              </a:rPr>
              <a:t>(заинтересованность работников)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4869000"/>
            <a:ext cx="3168720" cy="1152360"/>
          </a:xfrm>
          <a:prstGeom prst="rect">
            <a:avLst/>
          </a:prstGeom>
          <a:solidFill>
            <a:srgbClr val="ffff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Деньги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Признан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Перспектива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4869000"/>
            <a:ext cx="3097080" cy="1008000"/>
          </a:xfrm>
          <a:prstGeom prst="rect">
            <a:avLst/>
          </a:prstGeom>
          <a:solidFill>
            <a:srgbClr val="ffff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Свободное время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Интересная работа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Лучшие условия труда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8540" t="9061" r="26831" b="46341"/>
          <a:stretch/>
        </p:blipFill>
        <p:spPr>
          <a:xfrm>
            <a:off x="6732720" y="1989000"/>
            <a:ext cx="1712880" cy="1773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24000" y="210996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1680"/>
            <a:ext cx="8228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ункци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205ff6"/>
                </a:solidFill>
                <a:uFillTx/>
                <a:latin typeface="Microsoft YaHei"/>
              </a:rPr>
              <a:t>Координация </a:t>
            </a:r>
            <a:r>
              <a:rPr b="1" i="1" lang="ru-RU" sz="2400" spc="-1" strike="noStrike" u="sng">
                <a:solidFill>
                  <a:srgbClr val="205ff6"/>
                </a:solidFill>
                <a:uFillTx/>
                <a:latin typeface="Microsoft YaHei"/>
              </a:rPr>
              <a:t>(отношения между работниками)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205ff6"/>
                </a:solidFill>
                <a:uFillTx/>
                <a:latin typeface="Microsoft YaHei"/>
              </a:rPr>
              <a:t>Контроль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Предварительный        Заключительный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Microsoft YaHei"/>
              </a:rPr>
              <a:t>Текущий                         Комплексный (ревизия)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773360"/>
            <a:ext cx="450072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рия Х: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и изначально не любя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иться и при любо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можности избегаю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ы; у них нет честолюбия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ни стараются избавитьс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ответственности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очитая, чтобы и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ли другие;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всего люди хотя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щищенности, и чтоб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ставить их трудиться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о …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19640" y="1700280"/>
            <a:ext cx="3672000" cy="27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рия У: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 – процесс естественный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если условия благоприятны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и готовы принять на себ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ственность; работник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интересованы в целя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и, значительная часть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х обладает способностью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творческому решению проблем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ующие этой теор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и в управлени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ют …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что?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581360"/>
            <a:ext cx="37432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спользовать принуждение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онтроль и угрозу наказан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365720"/>
            <a:ext cx="4788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пособность персонал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бсуждать, принимать и предлага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ешения, цели и задачи предприят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0520000">
            <a:off x="5506560" y="2925360"/>
            <a:ext cx="3168720" cy="576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мократический стиль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20460000">
            <a:off x="682200" y="3284280"/>
            <a:ext cx="3168720" cy="57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вторитарный стиль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5013360"/>
            <a:ext cx="1284120" cy="13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1680"/>
            <a:ext cx="8228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Записи в тетради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Выполнить задания по тексту                       или написать эссе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5040360" cy="3883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08720" y="1484280"/>
            <a:ext cx="334800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Microsoft YaHei"/>
              </a:rPr>
              <a:t>система управл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Microsoft YaHei"/>
              </a:rPr>
              <a:t>производством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Microsoft YaHei"/>
              </a:rPr>
              <a:t>применяемая с целью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Microsoft YaHei"/>
              </a:rPr>
              <a:t>повыш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Microsoft YaHei"/>
              </a:rPr>
              <a:t>его эффектив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Microsoft YaHei"/>
              </a:rPr>
              <a:t>и увеличения прибыл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84720" y="3573360"/>
            <a:ext cx="21528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едж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5508720" y="4292640"/>
            <a:ext cx="33112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33cc33"/>
              </a:gs>
            </a:gsLst>
            <a:lin ang="135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Microsoft YaHei"/>
              </a:rPr>
              <a:t>специалис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Microsoft YaHei"/>
              </a:rPr>
              <a:t>по управлению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Microsoft YaHei"/>
              </a:rPr>
              <a:t>фирмой и персоналом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Microsoft YaHei"/>
              </a:rPr>
              <a:t>обладающий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 право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принимать ре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51280" y="404640"/>
            <a:ext cx="504036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неджмент 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ровн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4681440" cy="3338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84720" y="1484280"/>
            <a:ext cx="4537080" cy="12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сши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председатель совета директоров,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генеральный директор,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2924280"/>
            <a:ext cx="3744720" cy="194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редний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заместители руководителя: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«директор по маркетингу»,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«директор по персоналу»,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чальники цехов,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руководители отделов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5013360"/>
            <a:ext cx="5832360" cy="1293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зово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руководители первичных подразделений: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чальники участков,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946840" y="1268280"/>
            <a:ext cx="3197160" cy="5113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1680"/>
            <a:ext cx="8228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ункции 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Microsoft YaHei"/>
              </a:rPr>
              <a:t>постановка целей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Microsoft YaHei"/>
              </a:rPr>
              <a:t>планирование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Microsoft YaHei"/>
              </a:rPr>
              <a:t>организация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05ff6"/>
                </a:solidFill>
                <a:latin typeface="Microsoft YaHei"/>
              </a:rPr>
              <a:t>  </a:t>
            </a:r>
            <a:r>
              <a:rPr b="1" i="1" lang="ru-RU" sz="2800" spc="-1" strike="noStrike">
                <a:solidFill>
                  <a:srgbClr val="205ff6"/>
                </a:solidFill>
                <a:latin typeface="Microsoft YaHei"/>
              </a:rPr>
              <a:t>(структура управления)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Microsoft YaHei"/>
              </a:rPr>
              <a:t>мотивация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05ff6"/>
                </a:solidFill>
                <a:latin typeface="Microsoft YaHei"/>
              </a:rPr>
              <a:t>  </a:t>
            </a:r>
            <a:r>
              <a:rPr b="1" i="1" lang="ru-RU" sz="2800" spc="-1" strike="noStrike">
                <a:solidFill>
                  <a:srgbClr val="205ff6"/>
                </a:solidFill>
                <a:latin typeface="Microsoft YaHei"/>
              </a:rPr>
              <a:t>(заинтересованность работников)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Microsoft YaHei"/>
              </a:rPr>
              <a:t>координация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Microsoft YaHei"/>
              </a:rPr>
              <a:t>   </a:t>
            </a:r>
            <a:r>
              <a:rPr b="1" i="1" lang="ru-RU" sz="2800" spc="-1" strike="noStrike">
                <a:solidFill>
                  <a:srgbClr val="205ff6"/>
                </a:solidFill>
                <a:latin typeface="Microsoft YaHei"/>
              </a:rPr>
              <a:t>(отношения между работниками)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Microsoft YaHei"/>
              </a:rPr>
              <a:t>контроль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1680"/>
            <a:ext cx="8228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ункции 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7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205ff6"/>
                </a:solidFill>
                <a:uFillTx/>
                <a:latin typeface="Microsoft YaHei"/>
              </a:rPr>
              <a:t>Постановка целей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icrosoft YaHei"/>
              </a:rPr>
              <a:t>Что? Как? Для кого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205ff6"/>
                </a:solidFill>
                <a:uFillTx/>
                <a:latin typeface="Microsoft YaHei"/>
              </a:rPr>
              <a:t>Планирование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icrosoft YaHei"/>
              </a:rPr>
              <a:t>корпоративное, подразделенческое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icrosoft YaHei"/>
              </a:rPr>
              <a:t>производственное, финансовое, кадровое, маркетинговое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icrosoft YaHei"/>
              </a:rPr>
              <a:t>кратко-, средне-, долгосрочное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icrosoft YaHei"/>
              </a:rPr>
              <a:t>стратегическое и тактическое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1680"/>
            <a:ext cx="82281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ункци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7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205ff6"/>
                </a:solidFill>
                <a:uFillTx/>
                <a:latin typeface="Microsoft YaHei"/>
              </a:rPr>
              <a:t>Организация</a:t>
            </a:r>
            <a:r>
              <a:rPr b="1" i="1" lang="ru-RU" sz="2800" spc="-1" strike="noStrike" u="sng">
                <a:solidFill>
                  <a:srgbClr val="205ff6"/>
                </a:solidFill>
                <a:uFillTx/>
                <a:latin typeface="Microsoft YaHei"/>
              </a:rPr>
              <a:t>(структура управления)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icrosoft YaHei"/>
              </a:rPr>
              <a:t>Штабна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icrosoft YaHei"/>
              </a:rPr>
              <a:t>Линейна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icrosoft YaHei"/>
              </a:rPr>
              <a:t>Матрична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icrosoft YaHei"/>
              </a:rPr>
              <a:t>Дивизиональна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icrosoft YaHei"/>
              </a:rPr>
              <a:t>Функциональна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210996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8540" t="9061" r="26831" b="46341"/>
          <a:stretch/>
        </p:blipFill>
        <p:spPr>
          <a:xfrm>
            <a:off x="6732720" y="1989000"/>
            <a:ext cx="171288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Штабная структура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7072560" cy="3133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0" y="4581360"/>
            <a:ext cx="91440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 – директор; ФН - функциональный начальник; ФП – функциональные подразделения; ОП – подразделения основного производств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  <a:ea typeface="Arial"/>
              </a:rPr>
              <a:t>Штаб состоит из ячеек, отвечающих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  <a:ea typeface="Arial"/>
              </a:rPr>
              <a:t>за конкретные функц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  <a:ea typeface="Arial"/>
              </a:rPr>
              <a:t>Решение принимает непосредственно начальник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-31680"/>
            <a:ext cx="82281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Линейная структура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714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  <a:ea typeface="Arial"/>
              </a:rPr>
              <a:t>Эффективна при узком круге проблем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  <a:ea typeface="Arial"/>
              </a:rPr>
              <a:t>Обеспечивает полную ответственность руководител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  <a:ea typeface="Arial"/>
              </a:rPr>
              <a:t>за результат работы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  <a:ea typeface="Arial"/>
              </a:rPr>
              <a:t>Обеспечивает единство управления сверху донизу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900000" y="1268280"/>
            <a:ext cx="73454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6028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атричная структура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07664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Microsoft JhengHei"/>
                <a:ea typeface="Arial"/>
              </a:rPr>
              <a:t>Удобна при разработке новой продукции  или технолог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Microsoft JhengHei"/>
                <a:ea typeface="Arial"/>
              </a:rPr>
              <a:t>Руководители проектов непосредственно руководят цехами, а функциональные подразделения обеспечивают кадровое, финансовое и экономическое сопровождение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Microsoft JhengHei"/>
                <a:ea typeface="Arial"/>
              </a:rPr>
              <a:t>Позволяет освободить высшие органы управления                     от оперативного руководства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1403280" y="1268280"/>
            <a:ext cx="6481800" cy="28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55:41Z</dcterms:created>
  <dc:creator>Надежда</dc:creator>
  <dc:description/>
  <dc:language>en-US</dc:language>
  <cp:lastModifiedBy>qwe</cp:lastModifiedBy>
  <dcterms:modified xsi:type="dcterms:W3CDTF">2014-02-09T12:12:37Z</dcterms:modified>
  <cp:revision>10</cp:revision>
  <dc:subject/>
  <dc:title>Менеджме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