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441-4BE2-4145-B1FD-98E30483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4AF-4009-4522-AF44-9BB8E126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790-A232-435C-8DAA-C482B56B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0DC-2A34-419B-B75E-BD377CA9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398-5D23-4B33-B867-8E6A292F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94F-0F30-4BE1-BF11-DB8C31F0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120-3A96-4E7A-A8F6-34ED26B8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02F-515F-4A22-8019-D2688720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F66-0BA4-4C97-AD21-0300B235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D37-F3C5-46F3-AE89-B23AF800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C21-45C5-41BE-90C7-08F543C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F8F-7BE2-4DC0-A0AB-E7FB618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AE9B-9737-4199-8A17-35A692840E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mq0q700v18" TargetMode="External"/><Relationship Id="rId2" Type="http://schemas.openxmlformats.org/officeDocument/2006/relationships/hyperlink" Target="https://learningapps.org/display?v=phkyoi0rj18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Правила совместной рабо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. Взаимопонимание и довер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. Слушать, говорить, спори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. Быть актив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. Стремиться к успех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ыцарский орден </a:t>
            </a: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это сообщество воинов Христовых в странах Западной Европ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60280"/>
            <a:ext cx="8280360" cy="61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Кто стоял во главе швед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Какой русский князь правил в это время в Новгород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Каковы были действия русских в данной ситу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В каком году произошла знаменитая би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Чем завершилась Невская би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Какое  прозвище получил Александ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981000"/>
          <a:ext cx="8642160" cy="3456000"/>
        </p:xfrm>
        <a:graphic>
          <a:graphicData uri="http://schemas.openxmlformats.org/drawingml/2006/table">
            <a:tbl>
              <a:tblPr/>
              <a:tblGrid>
                <a:gridCol w="1020600"/>
                <a:gridCol w="1100160"/>
                <a:gridCol w="1200240"/>
                <a:gridCol w="1201680"/>
                <a:gridCol w="2271600"/>
                <a:gridCol w="1847880"/>
              </a:tblGrid>
              <a:tr h="1123920"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Би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Место бит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Построение вой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Ит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08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981000"/>
          <a:ext cx="8642160" cy="3456000"/>
        </p:xfrm>
        <a:graphic>
          <a:graphicData uri="http://schemas.openxmlformats.org/drawingml/2006/table">
            <a:tbl>
              <a:tblPr/>
              <a:tblGrid>
                <a:gridCol w="1020600"/>
                <a:gridCol w="1100160"/>
                <a:gridCol w="1200240"/>
                <a:gridCol w="1201680"/>
                <a:gridCol w="2271600"/>
                <a:gridCol w="1847880"/>
              </a:tblGrid>
              <a:tr h="1123920"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Бит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Место бит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Учас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Построение вой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Ит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08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5 апреля 1242г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Ледовое побоищ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Чудское озе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Русские, немецкие рыца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Рыцари построены в форме клина («свиньи»), в центре пехота, по бокам конниц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Русские – фланги - конниц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161616"/>
                          </a:solidFill>
                          <a:latin typeface="Times New Roman"/>
                          <a:ea typeface="Calibri"/>
                        </a:rPr>
                        <a:t>Немецкие рыцари разби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ccff"/>
                </a:solidFill>
                <a:uFillTx/>
                <a:latin typeface="Times New Roman"/>
                <a:ea typeface="Calibri"/>
                <a:hlinkClick r:id="rId1"/>
              </a:rPr>
              <a:t>https://learningapps.org/display?v=pmq0q700v18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ccff"/>
                </a:solidFill>
                <a:uFillTx/>
                <a:latin typeface="Times New Roman"/>
                <a:ea typeface="Calibri"/>
                <a:hlinkClick r:id="rId2"/>
              </a:rPr>
              <a:t>https://learningapps.org/display?v=phkyoi0rj18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Выучить §17, составить по 3 «тонких» вопроса и по 3 «толстых вопроса»; нарисовать немецкого рыцаря и русского дружинника,  сравнить и сделать выв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06436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1) Поход на запад возглавил внук Чингисхана.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Бат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2) Первое русское княжество, которое было разгромлено монголами в 1237г.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Рязанско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3) Сколько дней Рязань отражала непрерывные атаки монгол</a:t>
            </a:r>
            <a:r>
              <a:rPr b="1" lang="ru-RU" sz="2400" spc="-1" strike="noStrike">
                <a:solidFill>
                  <a:srgbClr val="7e2a00"/>
                </a:solidFill>
                <a:latin typeface="Times New Roman"/>
                <a:ea typeface="Calibri"/>
              </a:rPr>
              <a:t>?</a:t>
            </a: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ш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4) Боярин, герой – защитник Ряза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Евпатий Коловр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15000"/>
              </a:lnSpc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Calibri"/>
              </a:rPr>
              <a:t>5) Город, который монголы прозвали «злым». </a:t>
            </a:r>
            <a:r>
              <a:rPr b="1" i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(Козельск</a:t>
            </a:r>
            <a:r>
              <a:rPr b="1" lang="ru-RU" sz="2400" spc="-1" strike="noStrike">
                <a:solidFill>
                  <a:srgbClr val="1f1f2e"/>
                </a:solidFill>
                <a:latin typeface="Times New Roman"/>
                <a:ea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6" descr="Рисунок2 копия"/>
          <p:cNvPicPr/>
          <p:nvPr/>
        </p:nvPicPr>
        <p:blipFill>
          <a:blip r:embed="rId2"/>
          <a:stretch/>
        </p:blipFill>
        <p:spPr>
          <a:xfrm>
            <a:off x="6588000" y="4941720"/>
            <a:ext cx="1640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5» 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- всё вер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- 1-2 ошиб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- 3 ошиб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4 и более ошибок –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ужно ещё поработать.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564000" y="4005360"/>
            <a:ext cx="2241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Monotype Corsiva"/>
              </a:rPr>
              <a:t>Северо-Западная Русь между Востоком и Западо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облемный вопрос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чём состояла угроза с Запада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кое она имело значение на Рус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Times New Roman"/>
                <a:ea typeface="Calibri"/>
              </a:rPr>
              <a:t>Задание  1 групп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Calibri"/>
              </a:rPr>
              <a:t>Что привлекало правителей Шведского королевства на Рус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Calibri"/>
              </a:rPr>
              <a:t>Как вы думаете, почему шведы решились на захват новгородских владени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Times New Roman"/>
                <a:ea typeface="Calibri"/>
              </a:rPr>
              <a:t>Задание  2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Calibri"/>
              </a:rPr>
              <a:t>1) Кто поддержал поход шведов на Русь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Calibri"/>
              </a:rPr>
              <a:t>2)  Какую цель преследовала Католическая церков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Times New Roman"/>
                <a:ea typeface="Calibri"/>
              </a:rPr>
              <a:t>Задание  3 груп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то объявил крестовый поход против народов Прибалтики? Кто отважился им помоч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) Какие ордены были образова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Times New Roman"/>
                <a:ea typeface="Calibri"/>
              </a:rPr>
              <a:t>3) Кто пришёл на помощь местному населен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00"/>
                </a:solidFill>
                <a:uFillTx/>
                <a:latin typeface="Times New Roman"/>
                <a:ea typeface="Calibri"/>
              </a:rPr>
              <a:t>Задание  4 групп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чему орден Меченосцев объединился с Тевтонским ордено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) Какое название получил новый орден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7:48:21Z</dcterms:created>
  <dc:creator>user</dc:creator>
  <dc:description/>
  <dc:language>en-US</dc:language>
  <cp:lastModifiedBy>777</cp:lastModifiedBy>
  <dcterms:modified xsi:type="dcterms:W3CDTF">2018-04-05T14:43:36Z</dcterms:modified>
  <cp:revision>59</cp:revision>
  <dc:subject/>
  <dc:title>Нашествие монголо-татар  на Русь</dc:title>
</cp:coreProperties>
</file>