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538-AFDF-45BA-B372-2B2BAB0A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B68-BD3E-4BC3-BE54-A7682E89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274-863E-4607-B8F0-11173BAD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688-F700-4244-9109-DD13B30C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374-071A-4BBB-8444-EDD6672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5C7-1526-43DE-8A75-A53FC63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1C2-6873-4AB3-BAF3-DC9F47E0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23A-DB4E-4A9B-B382-E6C2067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FDF-618F-4666-9B36-FB9AF8A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56F-8133-4BAE-BB46-23AB618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FAA-81E5-4A16-A1E1-0B92C58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174-7B5E-4DCA-AE30-61D9134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053-27E0-47A6-B657-30FA2513EB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mq0q700v18" TargetMode="External"/><Relationship Id="rId2" Type="http://schemas.openxmlformats.org/officeDocument/2006/relationships/hyperlink" Target="https://learningapps.org/display?v=phkyoi0rj18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Правила совместной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Взаимопонимание и довер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Слушать, говорить, спор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Быть актив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Стремиться к успех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ыцарский орден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это сообщество воинов Христовых в странах Западной Европ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60280"/>
            <a:ext cx="828036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то стоял во главе швед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й русский князь правил в это время в Новгоро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вы были действия русских в данной ситу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В каком году произошла знаменитая би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Чем завершилась Невская би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е  прозвище получил Александ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981000"/>
          <a:ext cx="8642160" cy="3456000"/>
        </p:xfrm>
        <a:graphic>
          <a:graphicData uri="http://schemas.openxmlformats.org/drawingml/2006/table">
            <a:tbl>
              <a:tblPr/>
              <a:tblGrid>
                <a:gridCol w="1020600"/>
                <a:gridCol w="1100160"/>
                <a:gridCol w="1200240"/>
                <a:gridCol w="1201680"/>
                <a:gridCol w="2271600"/>
                <a:gridCol w="1847880"/>
              </a:tblGrid>
              <a:tr h="112392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Б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Место бит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Построение вой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0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981000"/>
          <a:ext cx="8642160" cy="3456000"/>
        </p:xfrm>
        <a:graphic>
          <a:graphicData uri="http://schemas.openxmlformats.org/drawingml/2006/table">
            <a:tbl>
              <a:tblPr/>
              <a:tblGrid>
                <a:gridCol w="1020600"/>
                <a:gridCol w="1100160"/>
                <a:gridCol w="1200240"/>
                <a:gridCol w="1201680"/>
                <a:gridCol w="2271600"/>
                <a:gridCol w="1847880"/>
              </a:tblGrid>
              <a:tr h="112392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Б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Место бит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Построение вой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0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5 апреля 1242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Ледовое побоищ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Чудское озе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усские, немецкие рыца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ыцари построены в форме клина («свиньи»), в центре пехота, по бокам конниц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усские – фланги - конн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Немецкие рыцари разби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ff"/>
                </a:solidFill>
                <a:uFillTx/>
                <a:latin typeface="Times New Roman"/>
                <a:ea typeface="Calibri"/>
                <a:hlinkClick r:id="rId1"/>
              </a:rPr>
              <a:t>https://learningapps.org/display?v=pmq0q700v18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ff"/>
                </a:solidFill>
                <a:uFillTx/>
                <a:latin typeface="Times New Roman"/>
                <a:ea typeface="Calibri"/>
                <a:hlinkClick r:id="rId2"/>
              </a:rPr>
              <a:t>https://learningapps.org/display?v=phkyoi0rj18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Выучить §17, составить по 3 «тонких» вопроса и по 3 «толстых вопроса»; нарисовать немецкого рыцаря и русского дружинника,  сравнить и сделать выв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0643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1) Поход на запад возглавил внук Чингисхана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Бат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2) Первое русское княжество, которое было разгромлено монголами в 1237г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Рязанско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3) Сколько дней Рязань отражала непрерывные атаки монгол</a:t>
            </a:r>
            <a:r>
              <a:rPr b="1" lang="ru-RU" sz="2400" spc="-1" strike="noStrike">
                <a:solidFill>
                  <a:srgbClr val="7e2a00"/>
                </a:solidFill>
                <a:latin typeface="Times New Roman"/>
                <a:ea typeface="Calibri"/>
              </a:rPr>
              <a:t>?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ш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4) Боярин, герой – защитник Ряз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Евпатий Коловр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5) Город, который монголы прозвали «злым»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Козельск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Рисунок2 копия"/>
          <p:cNvPicPr/>
          <p:nvPr/>
        </p:nvPicPr>
        <p:blipFill>
          <a:blip r:embed="rId2"/>
          <a:stretch/>
        </p:blipFill>
        <p:spPr>
          <a:xfrm>
            <a:off x="6588000" y="4941720"/>
            <a:ext cx="1640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5»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- всё вер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- 1-2 ошиб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- 3 ошиб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4 и более ошибок –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ужно ещё поработать.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564000" y="4005360"/>
            <a:ext cx="2241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Monotype Corsiva"/>
              </a:rPr>
              <a:t>Северо-Западная Русь между Востоком и Запад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блемный вопро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чём состояла угроза с Запада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ое она имело значение на Ру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1 груп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Что привлекало правителей Шведского королевства на Рус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 вы думаете, почему шведы решились на захват новгородских владени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2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1) Кто поддержал поход шведов на Русь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2)  Какую цель преследовала Католическая церков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3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объявил крестовый поход против народов Прибалтики? Кто отважился им помоч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) Какие ордены были образов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3) Кто пришёл на помощь местному населен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4 групп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чему орден Меченосцев объединился с Тевтонским орден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) Какое название получил новый орден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48:21Z</dcterms:created>
  <dc:creator>user</dc:creator>
  <dc:description/>
  <dc:language>en-US</dc:language>
  <cp:lastModifiedBy>777</cp:lastModifiedBy>
  <dcterms:modified xsi:type="dcterms:W3CDTF">2018-04-05T14:43:36Z</dcterms:modified>
  <cp:revision>59</cp:revision>
  <dc:subject/>
  <dc:title>Нашествие монголо-татар  на Русь</dc:title>
</cp:coreProperties>
</file>