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A9C-9325-429D-884F-311AE61F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369-ACFD-4AC4-9E40-B27C8E90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FCC-764F-4809-B673-5BFA4F26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CB0-C232-46CC-BBBA-10CBFCA7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550-C9F9-472F-B5FF-6B757EA1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CB8-D1FA-4E9D-929F-D077E898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F9C-6597-4D5B-9C7F-997699BF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6FF-26C7-4317-B3D6-53411ED9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503-94E0-4D56-A1E8-13985D73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3EE-FA4B-4C4B-AA87-5B622473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5D6-B61D-49AB-8143-A9D91651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153-FCFF-42D9-B1E6-EE73A518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D76E-C71E-4673-9FD2-EA2382D211DD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ÐÐ°ÑÑÐ¸Ð½ÐºÐ¸ Ð¿Ð¾ Ð·Ð°Ð¿ÑÐ¾ÑÑ Ð±Ð°ÑÐ¼Ð°ÑÐºÐ¸Ð½"/>
          <p:cNvPicPr/>
          <p:nvPr/>
        </p:nvPicPr>
        <p:blipFill>
          <a:blip r:embed="rId1"/>
          <a:stretch/>
        </p:blipFill>
        <p:spPr>
          <a:xfrm>
            <a:off x="142920" y="260280"/>
            <a:ext cx="88138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шинел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4" descr="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642960" y="1214280"/>
            <a:ext cx="8143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aramond"/>
              </a:rPr>
              <a:t>1.Какие перемены вносит появление шинели в жизнь героя?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aramond"/>
              </a:rPr>
              <a:t>2.Какой эпизод является кульминационным?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Акакий Акакиевич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шинел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ÐÐ°ÑÑÐ¸Ð½ÐºÐ¸ Ð¿Ð¾ Ð·Ð°Ð¿ÑÐ¾ÑÑ Ð±Ð°ÑÐ¼Ð°ÑÐºÐ¸Ð½"/>
          <p:cNvPicPr/>
          <p:nvPr/>
        </p:nvPicPr>
        <p:blipFill>
          <a:blip r:embed="rId2"/>
          <a:stretch/>
        </p:blipFill>
        <p:spPr>
          <a:xfrm>
            <a:off x="4572000" y="619200"/>
            <a:ext cx="3990960" cy="571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ÐÐ°ÑÑÐ¸Ð½ÐºÐ¸ Ð¿Ð¾ Ð·Ð°Ð¿ÑÐ¾ÑÑ Ð±Ð°ÑÐ¼Ð°ÑÐºÐ¸Ð½"/>
          <p:cNvPicPr/>
          <p:nvPr/>
        </p:nvPicPr>
        <p:blipFill>
          <a:blip r:embed="rId3"/>
          <a:stretch/>
        </p:blipFill>
        <p:spPr>
          <a:xfrm>
            <a:off x="395280" y="623880"/>
            <a:ext cx="381636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5" descr="шинел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ÐÐ°ÑÑÐ¸Ð½ÐºÐ¸ Ð¿Ð¾ Ð·Ð°Ð¿ÑÐ¾ÑÑ ÑÐ¸Ð½ÐµÐ»Ñ Ð³Ð¾Ð³Ð¾Ð»Ñ"/>
          <p:cNvPicPr/>
          <p:nvPr/>
        </p:nvPicPr>
        <p:blipFill>
          <a:blip r:embed="rId2"/>
          <a:stretch/>
        </p:blipFill>
        <p:spPr>
          <a:xfrm>
            <a:off x="0" y="1268280"/>
            <a:ext cx="910908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финал.wm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612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4" descr="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714240" y="2286000"/>
            <a:ext cx="764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aramond"/>
              </a:rPr>
              <a:t>Почему автор  вводит</a:t>
            </a:r>
            <a:r>
              <a:rPr b="0" lang="en-US" sz="48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Garamond"/>
              </a:rPr>
              <a:t>элемент фантастики в  финал повести?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шинел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0" y="571680"/>
            <a:ext cx="9144000" cy="3110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Garamond"/>
              </a:rPr>
              <a:t>Бедный чиновник или 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Garamond"/>
              </a:rPr>
              <a:t>бедный человек?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0" y="4429080"/>
            <a:ext cx="9144000" cy="19832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БЕДНЫ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.Малоимущий,  малообеспечен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.Несчастный, вызывающий сочувствие, сострада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28760" y="357120"/>
          <a:ext cx="8429400" cy="5929560"/>
        </p:xfrm>
        <a:graphic>
          <a:graphicData uri="http://schemas.openxmlformats.org/drawingml/2006/table">
            <a:tbl>
              <a:tblPr/>
              <a:tblGrid>
                <a:gridCol w="3341520"/>
                <a:gridCol w="5087880"/>
              </a:tblGrid>
              <a:tr h="2746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ментар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  относится Башмачкин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к служб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В чем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смысл жизн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героя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 вы считаете, осознает ли он себя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личностью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ем стала для Акакия Акакиевича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идея приобретения шинел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меняется жизнь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Башмачкина с покупкой новой шинел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 эпизод является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кульминационным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в повест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ие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перемен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роизошли в характере Башмачкина после потери шинел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чем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причины гибел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Акакия Акакиевича Башмачкина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-408960" y="720"/>
            <a:ext cx="103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Calibri"/>
              </a:rPr>
              <a:t>1.Аналитическая работа с текстом повести Н.В.Гоголя «Шинель».  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  <a:ea typeface="Calibri"/>
              </a:rPr>
              <a:t>(Заполните таблицу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285840" y="628668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2.Актуальна ли проблема «маленького человека» в наши дни?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Поразмышляйте над этим вопросом письменно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-667080" y="-43560"/>
            <a:ext cx="1055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  <a:ea typeface="Calibri"/>
              </a:rPr>
              <a:t>Аналитическая работа с текстом повести Н.В.Гоголя «Шинель»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85840" y="357120"/>
          <a:ext cx="8358120" cy="6342120"/>
        </p:xfrm>
        <a:graphic>
          <a:graphicData uri="http://schemas.openxmlformats.org/drawingml/2006/table">
            <a:tbl>
              <a:tblPr/>
              <a:tblGrid>
                <a:gridCol w="4178160"/>
                <a:gridCol w="4179960"/>
              </a:tblGrid>
              <a:tr h="21024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мент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Как  относится Башмачкин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к служб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он служил с любовью». Занятия писаря он не оставляет и дома, спать ложится, «улыбаясь заранее при мысли о завтрашнем дне: что-то Бог пошлет переписывать завтра?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В чем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смысл жиз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героя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мысл жизни - в переписывании бума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Как вы считаете, осознает ли он себя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личностью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ивет без перспектив, личностью себя не осозна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Чем стала для Акакия Акакиевича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идея приобретения шинел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дея расцвечивает жизнь, наполняет ее особым содержанием. С появлением этой  мечты изменяются неприметная внешность и поведение Башмачки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Как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меняется жизнь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Башмачкина с покупкой новой шинел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инель изменяет не только самооценку Акакия Акакиевича, но и привычный ход его жизни. Теперь герой близок к настоящим чиновникам, почти такой, как все. Изменилось и отношение чиновников к не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Какой эпизод является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кульминационны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в повест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ажа шине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300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Какие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перемен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роизошли в характере Башмачкина после потери шинел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азу после ограбления Акакий Акакиевич, который «отличался всегда тихостью голоса», подбежал к будочнику и стал «кричать, что он спит и ни за чем не смотрит, не видит, как грабят человека». Он впервые поставил личную надобность выше службы: не пошел в департамент, а отправился к частному. Даже «значительному лицу» осмелился сказать, что «секретари того… ненадежный народ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В чем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причины гибел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Акакия Акакиевича Башмачки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шмачкин умирает не из-за кражи шинели, он умирает из-за грубости, равнодушия и цинизма окружающего мира. Герой поздно осознал в себе человеческое достоинство, без которого невозможно становление лич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шинел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29200" y="2928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0" y="21337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Garamond"/>
              </a:rPr>
              <a:t>  </a:t>
            </a:r>
            <a:r>
              <a:rPr b="1" lang="ru-RU" sz="5400" spc="-1" strike="noStrike">
                <a:solidFill>
                  <a:srgbClr val="17375e"/>
                </a:solidFill>
                <a:latin typeface="Garamond"/>
              </a:rPr>
              <a:t>Башмачкин – посмешище или несчастный человек?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Garamond"/>
              </a:rPr>
              <a:t>(по   повести Н.В.Гоголя «Шинель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Garamond"/>
              </a:rPr>
              <a:t>/презентация к  уроку  литературы в 8 класс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Garamond"/>
              </a:rPr>
              <a:t>                                          </a:t>
            </a:r>
            <a:r>
              <a:rPr b="1" lang="ru-RU" sz="2400" spc="-1" strike="noStrike">
                <a:solidFill>
                  <a:srgbClr val="17375e"/>
                </a:solidFill>
                <a:latin typeface="Garamond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Garamond"/>
              </a:rPr>
              <a:t>                                      </a:t>
            </a:r>
            <a:r>
              <a:rPr b="1" lang="ru-RU" sz="2400" spc="-1" strike="noStrike">
                <a:solidFill>
                  <a:srgbClr val="17375e"/>
                </a:solidFill>
                <a:latin typeface="Garamond"/>
              </a:rPr>
              <a:t>ГБОУ школа № 456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Garamond"/>
              </a:rPr>
              <a:t>                                    </a:t>
            </a:r>
            <a:r>
              <a:rPr b="1" lang="ru-RU" sz="2400" spc="-1" strike="noStrike">
                <a:solidFill>
                  <a:srgbClr val="17375e"/>
                </a:solidFill>
                <a:latin typeface="Garamond"/>
              </a:rPr>
              <a:t>Бородулина Н.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85840" y="1571760"/>
            <a:ext cx="8858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aramond"/>
              </a:rPr>
              <a:t>1839 – 1841 гг. – 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«Повесть о чиновнике, крадущем шинели»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aramond"/>
              </a:rPr>
              <a:t>главный герой – Тишкевич.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aramond"/>
              </a:rPr>
              <a:t>1842 – 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«Шинель»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aramond"/>
              </a:rPr>
              <a:t>главный герой – Башмачкин.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714240" y="257184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aramond"/>
              </a:rPr>
              <a:t>Психологический портрет Акакия Акакиевича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шинел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670040" y="3720960"/>
            <a:ext cx="2111400" cy="300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Мультфильм Шинель"/>
          <p:cNvPicPr/>
          <p:nvPr/>
        </p:nvPicPr>
        <p:blipFill>
          <a:blip r:embed="rId3"/>
          <a:stretch/>
        </p:blipFill>
        <p:spPr>
          <a:xfrm>
            <a:off x="731880" y="476280"/>
            <a:ext cx="4105080" cy="307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ÐÐ°ÑÑÐ¸Ð½ÐºÐ¸ Ð¿Ð¾ Ð·Ð°Ð¿ÑÐ¾ÑÑ Ð±Ð°ÑÐ¼Ð°ÑÐºÐ¸Ð½"/>
          <p:cNvPicPr/>
          <p:nvPr/>
        </p:nvPicPr>
        <p:blipFill>
          <a:blip r:embed="rId4"/>
          <a:stretch/>
        </p:blipFill>
        <p:spPr>
          <a:xfrm>
            <a:off x="5076720" y="457200"/>
            <a:ext cx="377352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4" descr="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714240" y="257184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aramond"/>
              </a:rPr>
              <a:t>Как относится Акакий Акакиевич к службе?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экономия.wm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4768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714240" y="257184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aramond"/>
              </a:rPr>
              <a:t>Как относятся к Акакию Акакиевичу сослуживцы?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издевательства.wm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9592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2:40:15Z</dcterms:created>
  <dc:creator>zxc</dc:creator>
  <dc:description/>
  <dc:language>en-US</dc:language>
  <cp:lastModifiedBy>HomePC</cp:lastModifiedBy>
  <dcterms:modified xsi:type="dcterms:W3CDTF">2018-09-09T16:15:21Z</dcterms:modified>
  <cp:revision>81</cp:revision>
  <dc:subject/>
  <dc:title>Образ Башмачкина в повести Н.В.Гоголя «Шинель».</dc:title>
</cp:coreProperties>
</file>