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564-92DE-4B73-A49F-24927606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EA7-EDEE-4D44-9217-5BB863D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1F4-BC1A-45FC-A3BD-DC239479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40C-6392-417F-9CDB-112577CD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801-A924-44BF-9BC8-A72AE7F8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352-FD44-4ADD-8AD8-39EF7C5F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917-EB79-47D2-9561-FA3D8B83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553-3155-4235-8BA7-1A07C5A9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E96-AB80-49F8-8CEE-CB5D52AD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F6B-B6B0-4DB6-A701-02E76397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97A-B967-4525-B028-A1BFADB8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5E3-6496-4640-A318-4EB5C3B9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98A1-F393-4587-AA62-CB18F7D234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phil.ru/index.php?option=com_content&amp;task=view&amp;id=691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ТУАЛЬНЫЕ ПРОБЛЕМЫ ИЗУЧЕНИЯ  И ПРЕПОДАВАНИЯ ПРЕДМЕТОВ «ИСТОРИЯ» И «ОБЩЕСТВОЗНАНИЕ» В КОНТЕКСТЕ ТРЕБОВАНИЙ ФГОС ОО И ИКС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САГИРОВА Г.Н.-МБОУ «ТАТАРСКО-БУРНАЕВСКАЯ ООШ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«Муниципальная система образования: проблемы формирования и перспективы развития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684360" y="620640"/>
            <a:ext cx="784836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ФГОС = изменение основы образовательного процесса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ереход от «педагогики знаний»  к педагогик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деятельностного  и компетентностного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дхо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зменение целей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= от форм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истемы знаний к формированию компетентной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омпетентн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- способность применять знания, умения  в жизни (знания в опыте их примене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лючевые компетентности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се выпускники школ должны освои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лючевые компетент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о-политическ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оммуникативн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нформационн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личност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знавательная компетентность – «способность учиться всю жизнь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Это требования информационного обще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403280" y="1247760"/>
            <a:ext cx="698508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Современная модель содержания исторического   образования   в контексте ФГ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соответствие традиционных целей образования (познание мира через усвоение научно-организованной информации)  задачам приобщения человека к основным ценностям культурно-исторического развития общества, социализации и инкультурации  личности школьника (освоению личностью норм и ценностей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16000" y="836640"/>
          <a:ext cx="7343640" cy="5040360"/>
        </p:xfrm>
        <a:graphic>
          <a:graphicData uri="http://schemas.openxmlformats.org/drawingml/2006/table">
            <a:tbl>
              <a:tblPr/>
              <a:tblGrid>
                <a:gridCol w="3081240"/>
                <a:gridCol w="4262400"/>
              </a:tblGrid>
              <a:tr h="311040"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аметры модели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ипологические призна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36560"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чностные – социальные результа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циально-направл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 элементами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чностно-ориентирован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536760"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авная це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риентирована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 создание целостной системы исторического зн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11040"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днокомпонентная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ФГО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736560"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язательные курсы – курсы по выбор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еткая регламентация и преобладани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язательных компонентов содержания образ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536760"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рядок и логика развертывания содерж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центрическая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 линейной структурой внутр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цент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50880"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дущий элемент (знания – умения – опыт творческой деятельности – опыт ценностного восприят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оретические зн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65000"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минанта образовательн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обретение знан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 элементами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актико-ориентированного и ценностного под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55760"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ой принцип познавательн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2640" rIns="62640" tIns="31320" bIns="313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формационно-объясните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165276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547640" y="801720"/>
            <a:ext cx="633744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Calibri"/>
              </a:rPr>
              <a:t>Современная мод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Академиче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(педагогическая модель исторической науки; цель – «получить знания…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Репродуктивн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(характер деятельности учителя и учащихся; тип учебника и его роль в образовательном процессе; предметные результаты; формат итоговой аттестации и др.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относительно комплексная и многоаспектн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(элементы личностно-ориентированный модели; курсы по выбору; концентры; профильный уровень; вариативные УМК; портфолио и др.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84360" y="907920"/>
            <a:ext cx="7704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Следствия и проблемы академической мод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ысокие требования 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едметным результата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школьников, которые  не предполагают профессиональную деятельность  в социально-гуманитарной сфер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изкая  мотивация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школьников к  изучению истории и  обществозн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федеральный инвариан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е стимулиру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овани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личностно значимой образовательной траектории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региональный и школьный  компонен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фактически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упразднены или отнесены к сфере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сновная образовательная программа школы  позволяет формирова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вариативный компонен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одержания образования, но педагоги 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администрац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е обладаю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пытом реализации этого подхо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900000" y="706320"/>
            <a:ext cx="720108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Цел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социально-гуманитарного  образования в мировом контек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ервая тенденция -  теснее связать обучение истори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м лич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, с формированием умений самостоятельного творческого критического мышления  и качеств,  позволяющих любому гражданину  делать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ознательный выбор жизненной позиции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ектировать свою траектор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торая тенденция- на первый план выдвигаются «государственнические» традиции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атриотические ценности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ли национальная исключительность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(национальная идентичность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95280" y="476280"/>
            <a:ext cx="8497800" cy="60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Задачи  модернизации системы школьного исторического и обществоведческого образования в современной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ереосмысление целей, задач исторического и обществоведческого образования в контексте формирования российской идентичности школьн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ая задача – формирование гражданина Росс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теории и методологии исторического и обществоведческого образования с учетом современного уровня развития социально-гуманитарных на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теории и методологии социально-гуманитарного образования с учетом значимости  исторического и обществоведческого образования для    формирования гражданской идентичности школьников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работка и внедрение ФГОС ОО. Внедрение ИК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форм и методов оценки образовательных достижений учащихся по истории и обществознанию. Дополнение ЕГЭ другими формами аттестации –  «портфолио» и др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 профильного  обучения в старших классах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684360" y="476280"/>
            <a:ext cx="8280360" cy="60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ко-культурный стандарт внес изменения в содержание исторического образова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изации истори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 историческому периоду соответствует раздел в ИКС, который состоит из следующих составных частей: краткая характеристика периода, включающая основные события, явления, процессы, их оценка; список понятий и терминов; список персоналий; список источников; список основных дат. Каждая из названных частей несёт в себе значительный объём информации, обязательной для изучения в шко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ись новые понят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ликая Российская революция, ордынская зависимость др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делены «трудные вопросы» исто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которые в обучении истории необходимо обратить особое внима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КС име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ую направле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в частности, проявляется в повышенном внимании к изучению истории Великой Отечественной вой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собо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Историко-культурном стандарт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яется изучению вопросов культ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ко-культурный стандарт внес изменения в организацию обучения истории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 переход к линейной системе обучения истории (5-10 кл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95280" y="765000"/>
            <a:ext cx="849780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 содержания ИКС должна сопровождаться изменения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ологических подход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60360"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ым представл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тории: сочетание истории Российского государства и населяющих его народов, истории регионов и локальной историю (прошлое родного города, села)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ая мировоззренческая задача курса истории России заключается в раскрытии как своеобразия и неповторимости российской истории, так и ее связи с ведущими процессами мировой истории. Это достиг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синхронизации курсов истории России и всеобщей исто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поставления ключевых событий и процессов российской и мировой истории, введения в содержание образования элементов компаративных характеристик, раскрытие  контактов России и ее взаимодействия с другими странами во всех сферах – от экономики и политики до культуры, приобретает особое зна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684360" y="333360"/>
            <a:ext cx="835164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аспектном (многофакторном) подход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крытия разных сторон исторического процесса. Речь идет об экономике, о внутренней и внешней политике государства, о взаимоотношениях власти и общества, о социальной стратификации, общественных представлениях и повседневной жизни людей, о военном деле и защите своего Отечества, о развитии в стране науки, образования, духовной и художественной культуры, о церкви и религиозных учениях и др. Относительно подробное рассмотрение ключевых событий и процессов отечественной истории позволяет проследить, как в них переплетались политические и экономические интересы, нравственные, религиозные и иные мотивы участ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ко-антропологически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сутствие человека в конкретных событиях, расширение материала о повседневной жизни людей в различные исторические эпох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ко-культур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арактеристика многообразия и взаимодействия культур народов, вошедших на разных этапах истории в состав многонационального Российского государства. Трансляции традиций и ценностей российского общ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755640" y="1859040"/>
            <a:ext cx="756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стема исторического образования в условиях ФЗ «Об образовании в Российской Федерации», ФГОС, Историко-культур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Ценность и цель образования в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XXI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век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здание наиболее благоприятных условий для социализации школьник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ния российской национально-гражданской идентичност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я личности школьник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39640" y="836640"/>
            <a:ext cx="8353440" cy="44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 учителя  истории по освоению ИК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ра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ь учебно-методический комплекс, состоящего из учебной программы курса, учебника, методических пособий, книг для учителя, родителей,  комплекта карт, электронных приложений  и  электронного учеб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условия для получения выпускниками прочных знаний по истории России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представление об основных этапах развития многонационального российского государ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казать историю России как неотъемлемую часть мирового исторического процесса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крыть суть исторического процесса как совокупности усилий множества поколений россия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ствовать овладению учениками исследовательскими приемами, развитию их критического мышления, обучая анализу текстов, способам поиска и отбора информации, сопоставлению разных точек зрения, различению фактов и их интерпрета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971640" y="1343160"/>
            <a:ext cx="705636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 – ключевая фигура реформирования образования. «В деле обучения и воспитания, во всем школьном деле ничего нельзя улучшить,  минуя голову учителя» (К.Д. Ушинский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стремительно меняющемся открытом мире главным  профессиональным качеством, которое педагог должен постоянно демонстрировать своим ученикам, становится умение учиться (Профессиональный стандарт педагог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826920" y="1052640"/>
            <a:ext cx="72010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ff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Принципы государственной политики в области образ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1)гуманистический характер образования, приоритет  общечеловеческих ценностей, жизни и здоровья человека, свободного  развития личности. Воспитание гражданственности, трудолюбия, уважения к  правам и свободам человека, любви к окружающей природе, Родине, сем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2) единство федерального культурного и образовательного пространства. Защита и развитие системой  образования национальных культур, региональных культурных традиций и особенностей в условиях многонационального государства;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 3) общедоступность образования;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 4)светский характер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5)свобода и плюрализм в образован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  6)демократический, государственно-общественный характер управления образованием. Автономность образовательных учрежд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332000" y="1268280"/>
            <a:ext cx="7343640" cy="48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Приоритеты государственной политики в сфере социально-гуманитарного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ервой попыткой сформулировать государственные требования к системе исторического и обществоведческого образования стала разработк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федерального компонента государственного образовательного стандарта (ФК ГОС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и его утверждение приказом Минобразования  России (2004 г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 настоящее время внедряется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ФГОС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 котором сформулированы  три группы требований к общему образованию, включая историческ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работа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онцепция нового учебно-методического комплекса по отечественной истор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, которая отражает научно-педагогические    приоритеты системы общего исторического образов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042920" y="1438200"/>
            <a:ext cx="7345440" cy="32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Уровень социально-гуманитарной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 образованности россия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стиж знаний в обществе резко упал. По опросам социологов свыше 93% жителей России не могут назвать ни одного современного учен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О Дмитрии Лихачеве и Жоресе Алферове слышали порядка 1% наших сограждан  (с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://vphil.ru/index.php?option=com_content&amp;task=view&amp;id=69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042920" y="1343160"/>
            <a:ext cx="698508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Структура досуга граждан в  2000-е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изошло обеднение структуры досуга граждан, его «одомашнивание»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ся страна «уселась у телеэкрана». В свободное время около 60% россиян предпочитают дома смотреть телевизор [ВЦИОМ, 2008]. Телевидение абсолютно доминирует в структуре досуга жителей страны как по затрачиваемому на просмотр телепередач времени, так и по числу людей, занимающих ежедневно места перед экранами телевизор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611280" y="333360"/>
            <a:ext cx="74898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Информационные револю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)  5-6 тыс. лет назад – появление пись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2)  3.5 тыс. лет назад – изобретение рукописной кни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3) Изобретение Иогганом Гутенбергом (1450-1455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гг.)    ручног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печатного станка и наборного шрифт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, формирование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информационного пространст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Я.А. Коменский (ХУП в.)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дея использовани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ечатных учебнико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, что эффективно для индустриального общества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4)  Информационное общество - эпоха информационных телекоммуникационных  технологий (ИКТ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стиндустриальное общество – «общество  знаний!»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 человека – поиск, осмысление, анализ информации, перевод её в знание, применение знаний, обмен ими  и распространение в профессиональном сообществе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облем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человеческого капитала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Информационно-образовательное пространство - единство информации, средств её хранения и производства, методов и технологий  работы, обеспечивающих получение информации субъектами в целях образов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11280" y="549360"/>
            <a:ext cx="813744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Дидактика в ХХ1 в.: вызов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Дискуссии о  статусе дидактики как направления педагоги: наука или искусство?  Большинство считает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гуманитарная  нау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!- которая изучает сложные объекты – личность, общество, культура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о каждый ученик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еповторимая  индивидуальн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 Поэтому в педагогической деятельности есть признаки искус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етодологические противоречия в дидакт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 нет однозначных, общепринятых   определений дидактических понятий (процесс обучения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 нет признанных педагогическим сообществом закономерностей процесса обу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 преобладание в дидактических исследованиях методов естественных нау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 проведение исследований в русле традиционного академического «знаниевого» подхода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 недостаточная исследованность личностно ориентированного, компетентностного и других подходов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06:17:28Z</dcterms:created>
  <dc:creator>Админ</dc:creator>
  <dc:description/>
  <dc:language>en-US</dc:language>
  <cp:lastModifiedBy>Админ</cp:lastModifiedBy>
  <dcterms:modified xsi:type="dcterms:W3CDTF">2016-08-17T07:46:14Z</dcterms:modified>
  <cp:revision>7</cp:revision>
  <dc:subject/>
  <dc:title>«Актуальные проблемы изучения  и преподавания предметов «История» и «Обществознание» в контексте требований ФГОС ОО и ИКС» (Минсагирова Г.Н.-Т.Бурнаевская ООШ)</dc:title>
</cp:coreProperties>
</file>