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CA5-F15B-40C0-9956-417DED55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FC57-17FD-4026-B725-46EBDF1E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D56-E793-4E78-BF2D-18891C73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579-1EDC-4767-8ABF-2942AF33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2B23-B4FE-4EFA-9111-984EC695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0226-C495-4FA2-A2CB-A2E62603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1E39-AFFE-479D-A5E8-BDF270D1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1F70-694E-4FA3-BB38-3753867C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9834-CDDA-4318-A2AE-3077EB94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40D8-7BD4-4806-A022-2AD3BD5B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2228-699F-4AB4-AE86-FCF74AD8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7D0-92EE-46C4-B980-926880BE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372D-55F9-4C6B-8DF7-562C15BD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1A5B-A01F-460B-940F-ABDEAA28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AEDD-AD07-412A-843C-83A95577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EC05-2D99-42CD-B1D9-FE1E6AFB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9FB5-69E8-4749-BA13-BE1611D4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D16-3307-40D6-A030-913229D5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E92-E110-4654-BC15-94E0B1F4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8291-DA22-410E-82E8-48D9800B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2FE1-8F05-4BC5-9A57-4E0C25C1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D1E-38B0-41C8-8A5B-576BC9CF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4468-A1B7-4E2E-87BF-A035134A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142-DF19-4123-8882-AB5FED1B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F8AA-90B6-4BAA-B1DA-11FC48C3972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B8AA-857D-4916-A6CD-01C0B26A4B99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two-schoolsev.ucoz.ru/images/img122.gif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3206880" y="-6480"/>
            <a:ext cx="6070320" cy="40118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74b29636946801718e2379564c887d1d.jpg"/>
          <p:cNvPicPr/>
          <p:nvPr/>
        </p:nvPicPr>
        <p:blipFill>
          <a:blip r:embed="rId2"/>
          <a:stretch/>
        </p:blipFill>
        <p:spPr>
          <a:xfrm>
            <a:off x="6715080" y="4143240"/>
            <a:ext cx="1785960" cy="24735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4408560" y="474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85880" y="5214960"/>
            <a:ext cx="8358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ехорошева Наталья Владимировн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МБОУ «Гимназия имени Подольских курсантов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1" name="Picture 9" descr="Картинка 24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143000"/>
            <a:ext cx="3718080" cy="3892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i?id=144054370-07"/>
          <p:cNvPicPr/>
          <p:nvPr/>
        </p:nvPicPr>
        <p:blipFill>
          <a:blip r:embed="rId5"/>
          <a:stretch/>
        </p:blipFill>
        <p:spPr>
          <a:xfrm>
            <a:off x="1857240" y="4357800"/>
            <a:ext cx="7207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900000" y="1125360"/>
            <a:ext cx="82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На русский язык глагол </a:t>
            </a:r>
            <a:r>
              <a:rPr b="1" lang="ru-RU" sz="2800" spc="-1" strike="noStrike">
                <a:solidFill>
                  <a:srgbClr val="cc0099"/>
                </a:solidFill>
                <a:latin typeface="Constantia"/>
              </a:rPr>
              <a:t>to be</a:t>
            </a: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 переводится как "быть, находиться, есть, существовать, являться"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Этот глагол изменяется по лицам и числам, каждое лицо и число имеет свою форму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1357200" y="2928960"/>
            <a:ext cx="76075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I</a:t>
            </a:r>
            <a:r>
              <a:rPr b="1" lang="en-US" sz="32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Constantia"/>
              </a:rPr>
              <a:t>am</a:t>
            </a:r>
            <a:r>
              <a:rPr b="1" lang="en-US" sz="32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    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38420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2536560" y="270000"/>
            <a:ext cx="503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99"/>
                </a:solidFill>
                <a:latin typeface="Arial"/>
              </a:rPr>
              <a:t>Глагол « </a:t>
            </a:r>
            <a:r>
              <a:rPr b="0" lang="en-US" sz="5400" spc="-1" strike="noStrike">
                <a:solidFill>
                  <a:srgbClr val="cc0099"/>
                </a:solidFill>
                <a:latin typeface="Arial"/>
              </a:rPr>
              <a:t>to be</a:t>
            </a:r>
            <a:r>
              <a:rPr b="0" lang="ru-RU" sz="5400" spc="-1" strike="noStrike">
                <a:solidFill>
                  <a:srgbClr val="cc0099"/>
                </a:solidFill>
                <a:latin typeface="Arial"/>
              </a:rPr>
              <a:t>»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4929120" y="392904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oo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Прямоугольник 6"/>
          <p:cNvSpPr/>
          <p:nvPr/>
        </p:nvSpPr>
        <p:spPr>
          <a:xfrm>
            <a:off x="1428840" y="4357800"/>
            <a:ext cx="43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, too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0080" y="102960"/>
            <a:ext cx="814392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Verdana"/>
              </a:rPr>
              <a:t>Порядок слов в специальных вопросах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785760" y="1600200"/>
            <a:ext cx="5357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Специальное вопросительное слово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What, Where, Why, How, How old, Who. . .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2. Глагол «глагол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to be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аm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re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.подлежащее (сущ. или       местоимение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3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 дополнение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214200" y="3143160"/>
            <a:ext cx="328608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Verdana"/>
              </a:rPr>
              <a:t>Порядок слов в специальных вопросах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48000" y="1599840"/>
            <a:ext cx="579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1. What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m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Кто я? (профессия)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2. Where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ou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from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Откуда ты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             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3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Where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is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he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Где она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. </a:t>
            </a: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Why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ar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we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Почему мы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457200" y="2290680"/>
            <a:ext cx="30351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Verdana"/>
              </a:rPr>
              <a:t>Порядок слов в специальных вопросах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928960" y="1599840"/>
            <a:ext cx="621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5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Who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he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Кто он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6. How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Как ты (вы)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7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How old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Сколько лет тебе (вам)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8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How old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they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Сколько лет им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-214200" y="2357280"/>
            <a:ext cx="30351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4:58:07Z</dcterms:created>
  <dc:creator>1</dc:creator>
  <dc:description/>
  <dc:language>en-US</dc:language>
  <cp:lastModifiedBy>АНГЛИЙСКИЙ ЯЗЫК</cp:lastModifiedBy>
  <dcterms:modified xsi:type="dcterms:W3CDTF">2018-09-25T07:02:18Z</dcterms:modified>
  <cp:revision>36</cp:revision>
  <dc:subject/>
  <dc:title>Глагол “to be” в английском языке</dc:title>
</cp:coreProperties>
</file>