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B90-F293-42B5-A07A-6A8A4D6B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27B-080E-4D46-B597-FCCA4002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380-1E03-4750-A7E0-1BCFA8D1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4B6-6434-425C-910C-00618DAD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D9EB-3FD2-4EF8-9185-C1329FAC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DCEF-C640-484F-9788-B5EB0279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BC00-882B-4C3F-A432-2DB508DA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AFED-23EA-4BE8-8EAF-890582BA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5A5E-877E-467E-9290-CCB828DF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D96A-DFC6-405F-BCD6-6308CEF7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940C-791C-4163-94CA-588D5D21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D30-9E18-4CBF-B612-C5A8EA86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DB3A-DAA7-4D68-98EE-63E33A99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BC6A-3591-4719-9969-31BC8729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736A-D1C2-4A69-8EA5-83EBE353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2ED8-55C7-4E36-9CAE-A7306DC0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B4D8-D3A3-4D03-BF32-80B30C9D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650-1806-4EDC-A163-7F66285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A5A-3CA0-439A-9B27-04BCB8AB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99E-C726-4DAD-B6E3-43B58D9B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AA9-7CD8-4605-B5E8-56F9CF32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3E2-E7D3-46ED-9FEA-7956909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118-7BD9-4233-AA3F-323444AC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8EE-BC7F-4EE9-B806-051FC1E1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173A-F78C-4E84-BCBD-6DFB1AAA22D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DA79-614A-4C7D-96EC-E49857CEDDDE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two-schoolsev.ucoz.ru/images/img122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3206880" y="-6480"/>
            <a:ext cx="6070320" cy="4011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6715080" y="4143240"/>
            <a:ext cx="1785960" cy="24735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85880" y="521496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ехорошева Наталья Владимиров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БОУ «Гимназия имени Подольских курсантов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43000"/>
            <a:ext cx="3718080" cy="3892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5"/>
          <a:stretch/>
        </p:blipFill>
        <p:spPr>
          <a:xfrm>
            <a:off x="1857240" y="4357800"/>
            <a:ext cx="7207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357200" y="2928960"/>
            <a:ext cx="76075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536560" y="270000"/>
            <a:ext cx="503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Глагол « </a:t>
            </a: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to be</a:t>
            </a: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4929120" y="392904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o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1428840" y="435780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, too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0080" y="102960"/>
            <a:ext cx="8143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специальных вопросах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85760" y="1600200"/>
            <a:ext cx="5357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Специальное вопросительное слово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hat, Where, Why, How, How old, Who. . .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2. Глагол «глагол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to be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аm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re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.подлежащее (сущ. или       местоимение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 дополнение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214200" y="3143160"/>
            <a:ext cx="328608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специальных вопросах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48000" y="1599840"/>
            <a:ext cx="57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1. What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Кто я? (профессия)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2. Where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from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Откуда ты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     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3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Where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h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Где она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. </a:t>
            </a: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Why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w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Почему мы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57200" y="2290680"/>
            <a:ext cx="30351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специальных вопросах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28960" y="1599840"/>
            <a:ext cx="621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5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Who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Кто он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6. How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Как ты (вы)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7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How old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колько лет тебе (вам)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8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How old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they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колько лет им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-214200" y="2357280"/>
            <a:ext cx="30351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АНГЛИЙСКИЙ ЯЗЫК</cp:lastModifiedBy>
  <dcterms:modified xsi:type="dcterms:W3CDTF">2018-09-25T07:02:18Z</dcterms:modified>
  <cp:revision>36</cp:revision>
  <dc:subject/>
  <dc:title>Глагол “to be” в английском языке</dc:title>
</cp:coreProperties>
</file>