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D842-01F6-49C7-A471-F118B78E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07CA-6412-4E09-96B8-45298D87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206F-0932-4597-87AC-D3C4E71F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5FC1-D332-4A98-A5AA-9828DCC6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1033-FE5A-4002-953F-AF5F5E7E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2F3E-AD32-4ACD-8937-CD5DA4CD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2B21-F0F2-4F1F-880C-FE4955DE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60EB-A1F6-4DC4-8933-B6C3BC2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85C2-F750-4529-A416-9C5438D0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1D64-3239-4A6A-9A73-E61AEDAB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11A5-F3D6-4204-A876-7E36871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0E3D-F34B-461C-951C-0D661EF4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CF8-D76C-45E1-85AC-BC54EF2E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D922-72D8-4178-8E8A-44446B10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4FAE-A9AD-4DB8-A885-6733654D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7803-8193-4AE4-87F2-EDE96E32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E13A-EA31-46C2-9F5E-FFC94305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69F4-064F-4A18-BFDE-5BDEE449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8CBF-F783-4592-8687-8F85A2F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AE70-F8BE-42DB-B264-A59CBA4B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866B-20BF-4AE0-B7ED-5EBD8A0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6984-0F7F-4735-898A-D3F27B6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887E-E16F-4607-BD68-3299A53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2BF1-2318-48D6-9712-E69C763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67AF-1210-4228-9739-8EECDA6984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E4EC-9237-49D9-909C-2B26264B83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1773000"/>
            <a:ext cx="741708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184640"/>
                <a:tab algn="l" pos="836928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уроку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ой культуры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«Баскетбол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640" y="4508280"/>
            <a:ext cx="592632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oper Black"/>
              </a:rPr>
              <a:t>Для учащихся начальной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Рисунок (14)"/>
          <p:cNvPicPr/>
          <p:nvPr/>
        </p:nvPicPr>
        <p:blipFill>
          <a:blip r:embed="rId1"/>
          <a:stretch/>
        </p:blipFill>
        <p:spPr>
          <a:xfrm>
            <a:off x="7451640" y="333360"/>
            <a:ext cx="106380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Рисунок (14)"/>
          <p:cNvPicPr/>
          <p:nvPr/>
        </p:nvPicPr>
        <p:blipFill>
          <a:blip r:embed="rId2"/>
          <a:stretch/>
        </p:blipFill>
        <p:spPr>
          <a:xfrm>
            <a:off x="7451640" y="333360"/>
            <a:ext cx="106380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Рисунок (14)"/>
          <p:cNvPicPr/>
          <p:nvPr/>
        </p:nvPicPr>
        <p:blipFill>
          <a:blip r:embed="rId3"/>
          <a:stretch/>
        </p:blipFill>
        <p:spPr>
          <a:xfrm>
            <a:off x="7451640" y="333360"/>
            <a:ext cx="10638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Рисунок (14)"/>
          <p:cNvPicPr/>
          <p:nvPr/>
        </p:nvPicPr>
        <p:blipFill>
          <a:blip r:embed="rId4"/>
          <a:stretch/>
        </p:blipFill>
        <p:spPr>
          <a:xfrm>
            <a:off x="7451640" y="333360"/>
            <a:ext cx="106380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1403280" y="33336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дение мя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46696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е осуществляется толчками мяча в пол за счет движения предплечья, кисти и паль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Рисунок (12)"/>
          <p:cNvPicPr/>
          <p:nvPr/>
        </p:nvPicPr>
        <p:blipFill>
          <a:blip r:embed="rId1"/>
          <a:stretch/>
        </p:blipFill>
        <p:spPr>
          <a:xfrm>
            <a:off x="3157560" y="1125360"/>
            <a:ext cx="2935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дение мя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1595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я руки при ведении должны походить не на шлепки по мячу, а на толчки вниз расслабленными пальцами. Движения руки должны быть плавными, с акцентом на заключительное движение паль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801880" y="1197000"/>
            <a:ext cx="3459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2704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дение мя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57337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одводящее упражнение позволяет избежать шлепков по мячу при ведении с низким отскоком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530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ение ловле и передачам мяча на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ение ведению мяча на месте и при передвижении ш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овать овладению техническими приемами игры в баске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блокнота Пив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еводе с английского – ЦЕНТРО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 чемпионата Европы по баскетб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Рисунок (14)"/>
          <p:cNvPicPr/>
          <p:nvPr/>
        </p:nvPicPr>
        <p:blipFill>
          <a:blip r:embed="rId1"/>
          <a:stretch/>
        </p:blipFill>
        <p:spPr>
          <a:xfrm>
            <a:off x="2700360" y="981000"/>
            <a:ext cx="3843360" cy="468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Рисунок (14)"/>
          <p:cNvPicPr/>
          <p:nvPr/>
        </p:nvPicPr>
        <p:blipFill>
          <a:blip r:embed="rId2"/>
          <a:stretch/>
        </p:blipFill>
        <p:spPr>
          <a:xfrm>
            <a:off x="2700360" y="981000"/>
            <a:ext cx="3843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ика первого чемпионата по баскетболу в России – 1923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264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жание мя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ч держится кистями рук с широко расставленными слегка согнутыми пальцами с б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А"/>
          <p:cNvPicPr/>
          <p:nvPr/>
        </p:nvPicPr>
        <p:blipFill>
          <a:blip r:embed="rId1"/>
          <a:stretch/>
        </p:blipFill>
        <p:spPr>
          <a:xfrm>
            <a:off x="1979640" y="1052640"/>
            <a:ext cx="5111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ржание мя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альцы лежат сверху – сзади на мяче под углом друг к другу. Основания ладоней направлены назад. Ладони мяча не касаются. Мяч удерживается подушечками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Рисунок (10)"/>
          <p:cNvPicPr/>
          <p:nvPr/>
        </p:nvPicPr>
        <p:blipFill>
          <a:blip r:embed="rId1"/>
          <a:stretch/>
        </p:blipFill>
        <p:spPr>
          <a:xfrm>
            <a:off x="2124000" y="1225440"/>
            <a:ext cx="475308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ржание рук при ловле мя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580500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и с широко расставленными пальцами обращены в направлении летящего мяча и образуют ловуш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А"/>
          <p:cNvPicPr/>
          <p:nvPr/>
        </p:nvPicPr>
        <p:blipFill>
          <a:blip r:embed="rId1"/>
          <a:stretch/>
        </p:blipFill>
        <p:spPr>
          <a:xfrm>
            <a:off x="2411280" y="1197000"/>
            <a:ext cx="4386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хват мяча кончиками паль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5159160"/>
            <a:ext cx="821844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ч, встречаясь с кончиками пальцев, захватывается ими и в дальнейшем уступающим движением рук и шагом назад гасится скорость полета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Рисунок"/>
          <p:cNvPicPr/>
          <p:nvPr/>
        </p:nvPicPr>
        <p:blipFill>
          <a:blip r:embed="rId1"/>
          <a:stretch/>
        </p:blipFill>
        <p:spPr>
          <a:xfrm>
            <a:off x="2268360" y="1125360"/>
            <a:ext cx="45370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мяча двумя руками от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1595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ча двумя руками от груди используется чаще, чем какая-либо другая передача. Мяч просто толкается вперед от верхней части груди ударным движением рук и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2830680" y="1557360"/>
            <a:ext cx="3348000" cy="360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34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1:17:46Z</dcterms:created>
  <dc:creator>Тамуля</dc:creator>
  <dc:description/>
  <dc:language>en-US</dc:language>
  <cp:lastModifiedBy>Наташа</cp:lastModifiedBy>
  <dcterms:modified xsi:type="dcterms:W3CDTF">2013-09-25T07:28:36Z</dcterms:modified>
  <cp:revision>56</cp:revision>
  <dc:subject/>
  <dc:title>Слайд 1</dc:title>
</cp:coreProperties>
</file>